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8D0A3-002B-4510-A29C-2823397F6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7555-E074-457C-9733-A92B50BE6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E561B-0CBB-4D34-B2E9-DF7C8AB63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D0EEF-3CC6-4A83-95B8-44D7ABBC1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6A7B7-4FE0-4793-B490-D1F2567A3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2C1AC-AD9B-4D5F-832C-D1DC907EF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31C64-FEE2-46A8-AEAC-BAA3DE50F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75C03-2A75-46EB-963A-A1657FD45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93545-4221-4407-B4AA-B0B4F0A14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60BA7-30F2-40AE-A9EF-EC4D31D31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68F79-2EAA-4EC5-A670-73CA34FBA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1DDB-747C-4DEE-BD4C-7653C718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0116F-A342-4542-B5FB-EC0D49798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60FDB-06F3-4C5E-A5F0-6AF7F115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6D5EE-8C8F-4592-884C-AFFE5DA8F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E4ECA-E775-480F-8297-7F180E62C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D58AD-23C0-4469-9BF3-9EC11B15C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EFB47-5D7D-43F2-951A-4A5ED973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1AEE1-D301-4D05-A854-88C288A5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DFC1-E3C1-49EE-A7E2-BE2F46BCC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56236-01BF-45B1-9834-539B5169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10D7-A515-408E-BAD7-1D342D175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33252-EBC2-41B0-AAC2-BE0B6FA80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7871-27F2-46DA-83E7-07444D38C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AFA7-749A-4F8E-B185-3BED23B9FBC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3C01-B5E2-4659-BAB1-357EFACADDF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886200"/>
            <a:ext cx="77724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9  – Naming &amp; Evaluating Our Emotions</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562720" y="228600"/>
            <a:ext cx="3371760" cy="2251080"/>
          </a:xfrm>
          <a:prstGeom prst="rect">
            <a:avLst/>
          </a:prstGeom>
          <a:ln w="0">
            <a:noFill/>
          </a:ln>
        </p:spPr>
      </p:pic>
      <p:sp>
        <p:nvSpPr>
          <p:cNvPr id="4" name="PlaceHolder 3"/>
          <p:cNvSpPr>
            <a:spLocks noGrp="1"/>
          </p:cNvSpPr>
          <p:nvPr>
            <p:ph type="sldNum" idx="6"/>
          </p:nvPr>
        </p:nvSpPr>
        <p:spPr/>
        <p:txBody>
          <a:bodyPr/>
          <a:p>
            <a:fld id="{C2B75397-BB8C-492A-AC96-BDE55716188A}"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ild Of Natur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Child of Nature</a:t>
            </a:r>
            <a:r>
              <a:rPr b="0" lang="en-US" sz="2000" spc="-1" strike="noStrike">
                <a:solidFill>
                  <a:srgbClr val="000000"/>
                </a:solidFill>
                <a:latin typeface="Tahoma"/>
              </a:rPr>
              <a:t> is still living in the Garden of Eden and feels free to express all kinds of emotion. Spontaneity, freedom, expressiveness, artistic skill and creativity are high on the agenda.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d:</a:t>
            </a:r>
            <a:r>
              <a:rPr b="0" lang="en-US" sz="2000" spc="-1" strike="noStrike">
                <a:solidFill>
                  <a:srgbClr val="000000"/>
                </a:solidFill>
                <a:latin typeface="Tahoma"/>
              </a:rPr>
              <a:t> Nearly all emotions are freely expressed. Creativity, joy, freedom. The inner child is given freedom to pla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Discernment, wisdom, truth and responsibility. Can be undisciplined and immature emotionally.</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overly sensual and fall into moral disorder. There is a tendency to anarchy and irresponsibility. Lacks power and authority.</a:t>
            </a:r>
            <a:r>
              <a:rPr b="0" lang="en-US" sz="1800" spc="-1" strike="noStrike">
                <a:solidFill>
                  <a:srgbClr val="000000"/>
                </a:solidFill>
                <a:latin typeface="Arial Narrow"/>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E358D25-D9FC-4748-A726-F3839A186C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crificial Servants</a:t>
            </a:r>
            <a:endParaRPr b="0" lang="en-US" sz="4400" spc="-1" strike="noStrike">
              <a:solidFill>
                <a:srgbClr val="333399"/>
              </a:solidFill>
              <a:latin typeface="Tahoma"/>
            </a:endParaRPr>
          </a:p>
        </p:txBody>
      </p:sp>
      <p:sp>
        <p:nvSpPr>
          <p:cNvPr id="121" name="PlaceHolder 2"/>
          <p:cNvSpPr>
            <a:spLocks noGrp="1"/>
          </p:cNvSpPr>
          <p:nvPr>
            <p:ph/>
          </p:nvPr>
        </p:nvSpPr>
        <p:spPr>
          <a:xfrm>
            <a:off x="228600" y="2133720"/>
            <a:ext cx="815328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acrificial Servant:.</a:t>
            </a:r>
            <a:r>
              <a:rPr b="0" lang="en-US" sz="2000" spc="-1" strike="noStrike">
                <a:solidFill>
                  <a:srgbClr val="000000"/>
                </a:solidFill>
                <a:latin typeface="Tahoma"/>
              </a:rPr>
              <a:t> Its what you give up for God that counts. The Christian “has no rights and is there to “spend themselves for God” and “burn out for Jesus”. Spiritual indicators include remoteness of where one serves and the poverty of conditions. David Brainerd is a model examp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Enthusiasm and passion for God and devotion to the cau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Most emotions are repressed or sublimated including most natural affec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At times is the stuff of cults. Tends to love God alone and sacrifices self, family and neighbour to the cause. Sacrifices can backfire later on and be like  “dynamite on the alt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AE56C07-D951-43E9-B329-0634BDD6F0E5}"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ene Saint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erene Saint:</a:t>
            </a:r>
            <a:r>
              <a:rPr b="0" lang="en-US" sz="2000" spc="-1" strike="noStrike">
                <a:solidFill>
                  <a:srgbClr val="000000"/>
                </a:solidFill>
                <a:latin typeface="Tahoma"/>
              </a:rPr>
              <a:t> Like Yoda in Star Wars these are the unruffled and wise contemplatives full of peace and deep emotions. Their goal is tranquility of soul and union with God and self-master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quility and peace, gentle emotions, prayerful devotion, saintly emotions, merc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and most intense emotions including sexuality are re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Can be weak at critical moments and fail to tackle issues of justice and practical issues of life. Can become very selfish and inwar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1C75AAF-5A39-42D3-903B-6E5CE7A212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adical Revolutionaries</a:t>
            </a:r>
            <a:endParaRPr b="0" lang="en-US" sz="4400" spc="-1" strike="noStrike">
              <a:solidFill>
                <a:srgbClr val="333399"/>
              </a:solidFill>
              <a:latin typeface="Tahoma"/>
            </a:endParaRPr>
          </a:p>
        </p:txBody>
      </p:sp>
      <p:sp>
        <p:nvSpPr>
          <p:cNvPr id="125" name="PlaceHolder 2"/>
          <p:cNvSpPr>
            <a:spLocks noGrp="1"/>
          </p:cNvSpPr>
          <p:nvPr>
            <p:ph/>
          </p:nvPr>
        </p:nvSpPr>
        <p:spPr>
          <a:xfrm>
            <a:off x="228600" y="2209320"/>
            <a:ext cx="876312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adical Revolutionary:</a:t>
            </a:r>
            <a:r>
              <a:rPr b="0" lang="en-US" sz="2000" spc="-1" strike="noStrike">
                <a:solidFill>
                  <a:srgbClr val="000000"/>
                </a:solidFill>
                <a:latin typeface="Tahoma"/>
              </a:rPr>
              <a:t> Enjoys turning over the tables in the Temple. Seeking after justice they identify with the Old Testament prophets. The ideal Christian is a counter-culture revolutionary who brings transformation to socie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ighteous anger, passion for justice, indignation , wrath. Vision, hope and even optimism may also be pres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to be overly serious and lose natural playfulness and joy. Gentleness and meekness may also be lack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In some contexts this is very much needed in others it is totally inappropriate. Not a whole of life perspective for most peopl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A5BCD77-7B27-44CA-88E6-ABBAFBA79A60}"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ergetic Evangelists</a:t>
            </a:r>
            <a:endParaRPr b="0" lang="en-US" sz="4400" spc="-1" strike="noStrike">
              <a:solidFill>
                <a:srgbClr val="333399"/>
              </a:solidFill>
              <a:latin typeface="Tahoma"/>
            </a:endParaRPr>
          </a:p>
        </p:txBody>
      </p:sp>
      <p:sp>
        <p:nvSpPr>
          <p:cNvPr id="127"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nergetic Evangelist:</a:t>
            </a:r>
            <a:r>
              <a:rPr b="0" lang="en-US" sz="2000" spc="-1" strike="noStrike">
                <a:solidFill>
                  <a:srgbClr val="000000"/>
                </a:solidFill>
                <a:latin typeface="Tahoma"/>
              </a:rPr>
              <a:t> The ideal Christian sees many people saved. They are master communicators who are always witnessing. They have strong personalities are enthusiastic and clear sight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Black and white emotions. Enthusiasm, passion for the lost, joy, exubera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Reflective quiet emotions are often seen as impract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Lacks any understanding of ambiguities and complexity, a very confined and narrow model that only works for people with one spiritual gif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4B3FC87-FB7D-4620-AC74-2ACAD3B55B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gressive Apologists</a:t>
            </a:r>
            <a:endParaRPr b="0" lang="en-US" sz="4400" spc="-1" strike="noStrike">
              <a:solidFill>
                <a:srgbClr val="333399"/>
              </a:solidFill>
              <a:latin typeface="Tahoma"/>
            </a:endParaRPr>
          </a:p>
        </p:txBody>
      </p:sp>
      <p:sp>
        <p:nvSpPr>
          <p:cNvPr id="129" name="PlaceHolder 2"/>
          <p:cNvSpPr>
            <a:spLocks noGrp="1"/>
          </p:cNvSpPr>
          <p:nvPr>
            <p:ph/>
          </p:nvPr>
        </p:nvSpPr>
        <p:spPr>
          <a:xfrm>
            <a:off x="380880" y="2057400"/>
            <a:ext cx="822960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Aggressive Apologist</a:t>
            </a:r>
            <a:r>
              <a:rPr b="0" lang="en-US" sz="2000" spc="-1" strike="noStrike">
                <a:solidFill>
                  <a:srgbClr val="000000"/>
                </a:solidFill>
                <a:latin typeface="Tahoma"/>
              </a:rPr>
              <a:t> defends the faith from error at every turn and exposes heresy, cults, witchcraft and deception as well as contending with other belief systems. The ideal Christian is knowledgeable , theologically correct, logical and able to debate others so that they convert to Christianity or correct their way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logic, righteous indignation, anger, forcefulness, suspic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Playfulness, gentleness, creativity, sympathy, merc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distrust emotional expression and be overly logical and dry. Can make a person very rigid in their later yea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552EDB9-3D0E-4E94-A36D-D10F5898FD49}"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cstatic Enthusiast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cstatic Enthusiast:</a:t>
            </a:r>
            <a:r>
              <a:rPr b="0" lang="en-US" sz="2000" spc="-1" strike="noStrike">
                <a:solidFill>
                  <a:srgbClr val="000000"/>
                </a:solidFill>
                <a:latin typeface="Tahoma"/>
              </a:rPr>
              <a:t> Led by the Spirit they are “on the move for God” and express strong enthusiasm for spiritual things. Spiritual ecstasy is a sign of God’s presenc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ce states, ecstasy, passion, enthusiasm, joy, exuberance, praise, thanksgiv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Critical faculties, analysis, contemplation, thinking, reflection and negative emotions such as pain, grief and disappoint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Tends to spiritual burn-out and can be very unstable and insufficiently critical. Tends to fall for fads and is too simplistic for many of life’s deeper practical issu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A6FC442-EFB3-4B31-8892-5BA39BC0E6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304560"/>
            <a:ext cx="7792920" cy="14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asonable Man</a:t>
            </a:r>
            <a:endParaRPr b="0" lang="en-US" sz="4400" spc="-1" strike="noStrike">
              <a:solidFill>
                <a:srgbClr val="333399"/>
              </a:solidFill>
              <a:latin typeface="Tahoma"/>
            </a:endParaRPr>
          </a:p>
        </p:txBody>
      </p:sp>
      <p:sp>
        <p:nvSpPr>
          <p:cNvPr id="133" name="PlaceHolder 2"/>
          <p:cNvSpPr>
            <a:spLocks noGrp="1"/>
          </p:cNvSpPr>
          <p:nvPr>
            <p:ph/>
          </p:nvPr>
        </p:nvSpPr>
        <p:spPr>
          <a:xfrm>
            <a:off x="228240" y="2133720"/>
            <a:ext cx="800100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easonable Man:</a:t>
            </a:r>
            <a:r>
              <a:rPr b="0" lang="en-US" sz="2000" spc="-1" strike="noStrike">
                <a:solidFill>
                  <a:srgbClr val="000000"/>
                </a:solidFill>
                <a:latin typeface="Tahoma"/>
              </a:rPr>
              <a:t> Wisdom and Reason are the voices of the Spirit who leads Christians into a balanced and moderate life that reflects proper priorities and which is well adjusted to the social context the believer lives in. Extremes are interpreted as a sign of a dysfunctional personal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analysis, ethical reflection, conventions and social mores, well-tempered emotions, kindness, gentleness, reasonableness. “Moderation in all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emotion of all kinds is disapproved of as well as any major breach of social standar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worldliness and spiritual skepticis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34821D0-856C-430F-BF1F-60C690492DCA}"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Man</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fect Man:</a:t>
            </a:r>
            <a:r>
              <a:rPr b="0" lang="en-US" sz="2000" spc="-1" strike="noStrike">
                <a:solidFill>
                  <a:srgbClr val="000000"/>
                </a:solidFill>
                <a:latin typeface="Tahoma"/>
              </a:rPr>
              <a:t> Like Confucius’ concept the perfect man is without inappropriate emotion or any visible faults. Emotion is carefully guarded and kept under control. The perfect man is upright, ethical, has perfect manners and social perception, and is extremely humble and mee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Proper behavior, loyalty, humility, meekness, convention, submission, restraint, ethics, duty. “Being without fault in one’s conduct in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pain, intimacy, vulnerability, affe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Because how others perceive the Christian is of ultimate importance it can produce harshness and hypocrisy. Can be cold and dista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05369F-7E74-4867-9A6E-4AFAB8752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Samaritans</a:t>
            </a:r>
            <a:endParaRPr b="0" lang="en-US" sz="4400" spc="-1" strike="noStrike">
              <a:solidFill>
                <a:srgbClr val="333399"/>
              </a:solidFill>
              <a:latin typeface="Tahoma"/>
            </a:endParaRPr>
          </a:p>
        </p:txBody>
      </p:sp>
      <p:sp>
        <p:nvSpPr>
          <p:cNvPr id="137" name="PlaceHolder 2"/>
          <p:cNvSpPr>
            <a:spLocks noGrp="1"/>
          </p:cNvSpPr>
          <p:nvPr>
            <p:ph/>
          </p:nvPr>
        </p:nvSpPr>
        <p:spPr>
          <a:xfrm>
            <a:off x="228240" y="2362320"/>
            <a:ext cx="792468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Good Samaritan</a:t>
            </a:r>
            <a:r>
              <a:rPr b="0" lang="en-US" sz="2000" spc="-1" strike="noStrike">
                <a:solidFill>
                  <a:srgbClr val="000000"/>
                </a:solidFill>
                <a:latin typeface="Tahoma"/>
              </a:rPr>
              <a:t> Love of neighbor expressed as social action and deeds of mercy mark the true Christian. Kindness, gentleness, mercy and helpfulness are the premier virtu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ercy, gentleness, kindness, hospitality, inclusion, practical deeds of love and compa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xclusion, rejection, unkindness of any sort, tries to develop a very inclusive and non-theological fait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Has much merit but can become just social work without a true saving gospel being proclaim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9ADDE95-CED0-47C5-BC3B-D3A0F3C0164B}"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s And Emotions</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it or not God has made us to be emotional beings. He wants us to have emotions – His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weep over the lost, be moved with compassion for the oppressed, be outraged by injustice, provoked by idolatry and angry at the hard of hear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love the sheep in our charge, be caught up in the agony of intercession and have hearts full of hop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ristian life, properly lived, is awash in emotion. However it is not merely sentimental, trite or unsta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ly Christian emotions have a majesty about them. They resonate with the Kingdom and participate in and agree with the Trut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070D0DD-1935-476F-8990-09BE27D31522}"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ncipled Idealist</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he Principled Idealist</a:t>
            </a:r>
            <a:r>
              <a:rPr b="0" lang="en-US" sz="1800" spc="-1" strike="noStrike">
                <a:solidFill>
                  <a:srgbClr val="000000"/>
                </a:solidFill>
                <a:latin typeface="Tahoma"/>
              </a:rPr>
              <a:t> is characterized by seeking the high and noble life lived by principles and virtue and self-renunciation for the Ideal Good. People are valued by their principles, intentions and ideals without reference to a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High ideals and aspirations, concepts, ideas, justice, philosophies, ambition, personal striving for high goals, vis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The mundane, earthy, concrete details of daily life, attention to detail, diligence. Earthiness and pragmatism are perceived to be un-spiritua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ness:</a:t>
            </a:r>
            <a:r>
              <a:rPr b="0" lang="en-US" sz="1800" spc="-1" strike="noStrike">
                <a:solidFill>
                  <a:srgbClr val="000000"/>
                </a:solidFill>
                <a:latin typeface="Tahoma"/>
              </a:rPr>
              <a:t> Frequently disorganized. Often so focused on the external goals that they lose personal insight and can become dishonest and treacherou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2039999-3BE3-4A6D-B342-83589A7AA0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erceptive Pragmatists</a:t>
            </a:r>
            <a:endParaRPr b="0" lang="en-US" sz="3600" spc="-1" strike="noStrike">
              <a:solidFill>
                <a:srgbClr val="333399"/>
              </a:solidFill>
              <a:latin typeface="Tahoma"/>
            </a:endParaRPr>
          </a:p>
        </p:txBody>
      </p:sp>
      <p:sp>
        <p:nvSpPr>
          <p:cNvPr id="141" name="PlaceHolder 2"/>
          <p:cNvSpPr>
            <a:spLocks noGrp="1"/>
          </p:cNvSpPr>
          <p:nvPr>
            <p:ph/>
          </p:nvPr>
        </p:nvSpPr>
        <p:spPr>
          <a:xfrm>
            <a:off x="228600" y="2133360"/>
            <a:ext cx="7848720" cy="3886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ceptive Pragmatist</a:t>
            </a:r>
            <a:r>
              <a:rPr b="0" lang="en-US" sz="2000" spc="-1" strike="noStrike">
                <a:solidFill>
                  <a:srgbClr val="000000"/>
                </a:solidFill>
                <a:latin typeface="Tahoma"/>
              </a:rPr>
              <a:t> is able to sum up life quickly and fix problems on the spot. A Christian is measured by their skills in analysis and implementation.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Analysis, evaluation, enthusiasm, practical knowledge, authority, wisdom, toughness, shrewdness, energy.</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mpathy, kindness, compassion, mercy. Most emotions are not felt deeply and they tend to be deemed as irrelevant.</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 to come unstuck in mid-life and feel a deep sense of meaninglessness. May neglect relationships. May see virtue as impractical.</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4ED132C-43F4-4B77-9C68-38E9074E8624}"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lligent Instructor</a:t>
            </a:r>
            <a:endParaRPr b="0" lang="en-US" sz="4400" spc="-1" strike="noStrike">
              <a:solidFill>
                <a:srgbClr val="333399"/>
              </a:solidFill>
              <a:latin typeface="Tahoma"/>
            </a:endParaRPr>
          </a:p>
        </p:txBody>
      </p:sp>
      <p:sp>
        <p:nvSpPr>
          <p:cNvPr id="143"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telligent Instructor</a:t>
            </a:r>
            <a:r>
              <a:rPr b="0" lang="en-US" sz="2000" spc="-1" strike="noStrike">
                <a:solidFill>
                  <a:srgbClr val="000000"/>
                </a:solidFill>
                <a:latin typeface="Tahoma"/>
              </a:rPr>
              <a:t> is a learned Christian who teaches well and can exegete the difficult verses of Scripture. The goal is knowledge of God and wisdom and knowledge are equated with progress in the Christian life. Academic prowess is prized and church is often made into a classroom. Ezra is a model.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oderate emotions suitable for the classroom - Balance, evaluation, discipline, kindness, gentleness, logic, intelligence, knowledge, reasoning, humor.</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passions are suspect. Practicality may be lacking. Distrusts the subjective and non-cognitive areas of the Christian life. Often lacks celebration and prais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dry, dull and overly rational. Praise and worship tend to be seen as only teaching too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2A39D32-EB9E-4D19-97EE-065ED1B59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ll These Models Are Incomplete!</a:t>
            </a:r>
            <a:endParaRPr b="0" lang="en-US" sz="40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above emotional models can work for all believer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right model” in that lis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all incorrect at some point or oth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ng in a group that only honors one of these models can be difficult and confining.</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sus as our model transcends all these “boxes” that we try to put people into.</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7D95EA9-9A0D-4568-B996-6806C788A919}"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d Will Challenge Your Model</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will not be satisfied with you being less than Christ-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ill work on the difference between the model of faith you have adopted and Christ as revealed in and by the Scripture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 mental model of the ideal Christian undoubtedly has many Scriptures that support it – but here and there it can be improved and in fact needs to be improved if you are to be fully like Jesu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y Christian life I have had to do a major revision of my faith about every seven years or so.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move from a certain model to a more Christ-like one then that in turn is challenged and revised and so the process goes 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2B90A10-6861-40CB-9F70-898E5149CD2D}"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Our Mental Model</a:t>
            </a:r>
            <a:endParaRPr b="0" lang="en-US" sz="4400" spc="-1" strike="noStrike">
              <a:solidFill>
                <a:srgbClr val="333399"/>
              </a:solidFill>
              <a:latin typeface="Tahoma"/>
            </a:endParaRPr>
          </a:p>
        </p:txBody>
      </p:sp>
      <p:sp>
        <p:nvSpPr>
          <p:cNvPr id="149" name="PlaceHolder 2"/>
          <p:cNvSpPr>
            <a:spLocks noGrp="1"/>
          </p:cNvSpPr>
          <p:nvPr>
            <p:ph/>
          </p:nvPr>
        </p:nvSpPr>
        <p:spPr>
          <a:xfrm>
            <a:off x="457200" y="2057040"/>
            <a:ext cx="8229600" cy="43434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hen do we correct our mental model of the Christian faith – particularly one we are quite committed to?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 one of the gospels and note the difference between how you act and react - and how Jesus acts and rea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ould you be happy being a friend of publicans and sinners? Would you let a prostitute touch your feet? Would you say “You cannot serve God and Mammon” with convi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those points where your model and the gospel model disagree you must decide to change and become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clues are inner discontent with where you are at (maybe its your model of Christianity that’s wrong), or a desire for something mor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 with your questions seeking their answers in the Scripture and “brick by brick” you will build up a more mature idea of what it means to be a Christ-like pers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46C7BA8-404A-422C-B561-06B858C3C52B}"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 &amp; Upbringing</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may need to make a calculated decision to move beyond your culture and upbringing, accepting that which is good and rejecting that which is evil and moving to maturity in Chri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Jewish Christians in the book of Acts had a most difficult time doing this because they were so sure of then superiority of Jewish culture and practices and of the need to be circumcis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model of Jesus was that He was “a good Jewish boy who kept the Law” – and He di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He also accepted Gentil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ten to fifteen of the book of Acts detail with the terrible tension Peter and the Jewish Christians faced when the Gentiles accepted the gospel. A church-wide conference had to be called to resolve the issu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anging models of faith was not easy then and its not easy now.</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A485BED-132A-4EFF-A4D1-8BA179F6633A}"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far we have seen that…</a:t>
            </a:r>
            <a:endParaRPr b="0" lang="en-US" sz="4400" spc="-1" strike="noStrike">
              <a:solidFill>
                <a:srgbClr val="333399"/>
              </a:solidFill>
              <a:latin typeface="Tahoma"/>
            </a:endParaRPr>
          </a:p>
        </p:txBody>
      </p:sp>
      <p:sp>
        <p:nvSpPr>
          <p:cNvPr id="15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able to identify individual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become aware of emotions we tend to quickly judge them as good or b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use an “emotional model” to do this – which we get from our family, our culture or our churc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odel tells us which emotions to express and which emotions to repr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ange that model to a more Christ-like model of emotional expre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y involve difficult cultural and personal chan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FB85CE1-C330-49B3-B223-5DE88F072A3C}" type="slidenum">
              <a:t>27</a:t>
            </a:fld>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cting To Strong Emotions</a:t>
            </a:r>
            <a:endParaRPr b="0" lang="en-US" sz="4400" spc="-1" strike="noStrike">
              <a:solidFill>
                <a:srgbClr val="333399"/>
              </a:solidFill>
              <a:latin typeface="Tahoma"/>
            </a:endParaRPr>
          </a:p>
        </p:txBody>
      </p:sp>
      <p:sp>
        <p:nvSpPr>
          <p:cNvPr id="155"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xt section will deal with how we react to, evaluate, and manage strong emotions, including strong religious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main spiritual errors when it comes to the expression of strong emotions in the Christian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is </a:t>
            </a:r>
            <a:r>
              <a:rPr b="1" lang="en-US" sz="2000" spc="-1" strike="noStrike">
                <a:solidFill>
                  <a:srgbClr val="1c1c1c"/>
                </a:solidFill>
                <a:latin typeface="Tahoma"/>
              </a:rPr>
              <a:t>giving expression to carnal emotions</a:t>
            </a:r>
            <a:r>
              <a:rPr b="0" lang="en-US" sz="2000" spc="-1" strike="noStrike">
                <a:solidFill>
                  <a:srgbClr val="000000"/>
                </a:solidFill>
                <a:latin typeface="Tahoma"/>
              </a:rPr>
              <a:t> such as wrath, bitterness and clamour. This is called </a:t>
            </a:r>
            <a:r>
              <a:rPr b="1" lang="en-US" sz="2000" spc="-1" strike="noStrike">
                <a:solidFill>
                  <a:srgbClr val="333399"/>
                </a:solidFill>
                <a:latin typeface="Tahoma"/>
              </a:rPr>
              <a:t>“grieving the Spirit”</a:t>
            </a:r>
            <a:r>
              <a:rPr b="0" lang="en-US" sz="2000" spc="-1" strike="noStrike">
                <a:solidFill>
                  <a:srgbClr val="000000"/>
                </a:solidFill>
                <a:latin typeface="Tahoma"/>
              </a:rPr>
              <a:t> and is mentioned in Ephesians 4:30,31.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cond error is </a:t>
            </a:r>
            <a:r>
              <a:rPr b="1" lang="en-US" sz="2000" spc="-1" strike="noStrike">
                <a:solidFill>
                  <a:srgbClr val="1c1c1c"/>
                </a:solidFill>
                <a:latin typeface="Tahoma"/>
              </a:rPr>
              <a:t>the repressing of holy emotions</a:t>
            </a:r>
            <a:r>
              <a:rPr b="0" lang="en-US" sz="2000" spc="-1" strike="noStrike">
                <a:solidFill>
                  <a:srgbClr val="000000"/>
                </a:solidFill>
                <a:latin typeface="Tahoma"/>
              </a:rPr>
              <a:t> that arise within us because of the work of the Spirit. This is called </a:t>
            </a:r>
            <a:r>
              <a:rPr b="1" lang="en-US" sz="2000" spc="-1" strike="noStrike">
                <a:solidFill>
                  <a:srgbClr val="333399"/>
                </a:solidFill>
                <a:latin typeface="Tahoma"/>
              </a:rPr>
              <a:t>“quenching” the Spirit</a:t>
            </a:r>
            <a:r>
              <a:rPr b="0" lang="en-US" sz="2000" spc="-1" strike="noStrike">
                <a:solidFill>
                  <a:srgbClr val="000000"/>
                </a:solidFill>
                <a:latin typeface="Tahoma"/>
              </a:rPr>
              <a:t> and is mentioned in 1 Thessalonians 5:19.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A4E7F40-544C-4CDC-8D8C-29502BE2DF91}"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nd Strong Emotions</a:t>
            </a:r>
            <a:endParaRPr b="0" lang="en-US" sz="4400" spc="-1" strike="noStrike">
              <a:solidFill>
                <a:srgbClr val="333399"/>
              </a:solidFill>
              <a:latin typeface="Tahoma"/>
            </a:endParaRPr>
          </a:p>
        </p:txBody>
      </p:sp>
      <p:sp>
        <p:nvSpPr>
          <p:cNvPr id="157" name="PlaceHolder 2"/>
          <p:cNvSpPr>
            <a:spLocks noGrp="1"/>
          </p:cNvSpPr>
          <p:nvPr>
            <p:ph/>
          </p:nvPr>
        </p:nvSpPr>
        <p:spPr>
          <a:xfrm>
            <a:off x="228240" y="2133720"/>
            <a:ext cx="845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om incidents such as His cleansing of the temple, His cursing of the fig-tree, His groans at Lazarus’ tomb, His rebukes of His disciples, His blazing anger at the hard hearts of the Pharisees and His rejoicing at the return of the disciples from their ministry trip; we can say Jesus had many strong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a fully emotional Jewish man filled with the Holy Spirit and sent on a holy mission for the glory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trength of Jesus’ emotions flowed from the power of His perceptions and the strength of His belief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you are filled with the Spirit, and see Heaven opened, and know the truth, and believe the Scriptures, and are truly on a mission from the Lord then your emotions will be strong and clear and grow in strength and grandeur.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erse is not true, strong emotions do not mean you are spiritual. People can be gripped by all sorts of strong and yet fleshly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trong emotions can be both godly and fleshly. Jesus was powerfully emotional but was without sin. How did He do it? He exercised </a:t>
            </a:r>
            <a:r>
              <a:rPr b="1" lang="en-US" sz="1800" spc="-1" strike="noStrike">
                <a:solidFill>
                  <a:srgbClr val="000000"/>
                </a:solidFill>
                <a:latin typeface="Arial Narrow"/>
              </a:rPr>
              <a:t>self-control</a:t>
            </a:r>
            <a:r>
              <a:rPr b="0" lang="en-US" sz="1800" spc="-1" strike="noStrike">
                <a:solidFill>
                  <a:srgbClr val="000000"/>
                </a:solidFill>
                <a:latin typeface="Arial Narrow"/>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0965C6D-25B2-45EF-AC06-0D7162CF5925}"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Quality Of Our Emotion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nd their emotions are like bell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people are like alarm bells going off anxiously and loudly. Some are chipped and cracked and when they “ring” the sound seems painful or like the bells on old-fashioned trams noisy, clanging, rattling.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like shop bells being rung by everyone that enters their life. Some are like a carillon, gentle, and beautiful and silvery; finally there are those that are deep and resonant and summon the countryside to worship.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im of  Biblical EQ is to produce people who ring true and ring deeply with the emotions of God. People whose very emotional presence is a declaration of the Kingdom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do this we must get a handle on our emotions, we must be able to name them and we must start to choose which emotions we will express and which emotions we should deny.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F1626C8-87B9-4870-BDD8-36891BF95F4E}"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al Self-Control</a:t>
            </a:r>
            <a:endParaRPr b="0" lang="en-US" sz="4400" spc="-1" strike="noStrike">
              <a:solidFill>
                <a:srgbClr val="333399"/>
              </a:solidFill>
              <a:latin typeface="Tahoma"/>
            </a:endParaRPr>
          </a:p>
        </p:txBody>
      </p:sp>
      <p:sp>
        <p:nvSpPr>
          <p:cNvPr id="159" name="PlaceHolder 2"/>
          <p:cNvSpPr>
            <a:spLocks noGrp="1"/>
          </p:cNvSpPr>
          <p:nvPr>
            <p:ph/>
          </p:nvPr>
        </p:nvSpPr>
        <p:spPr>
          <a:xfrm>
            <a:off x="609480" y="2285640"/>
            <a:ext cx="8345520" cy="384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openly expressed holy and righteous feelin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ompletely controlled all tempting, fleshly and wrong emo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almly accepted as part of life human emotions such as tiredness and being troubled in spiri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was fully aware of his emotions and made choices about how to handle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did not express every emotion, nor did He repress all emotion, rather He lived in a Spirit-filled balan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2AA6C8E-DE73-44D7-AAFF-DA96D77BAEB9}"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sion &amp; Permission</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sion is the </a:t>
            </a:r>
            <a:r>
              <a:rPr b="1" i="1" lang="en-US" sz="2000" spc="-1" strike="noStrike">
                <a:solidFill>
                  <a:srgbClr val="000000"/>
                </a:solidFill>
                <a:latin typeface="Tahoma"/>
              </a:rPr>
              <a:t>opposite of self-control</a:t>
            </a:r>
            <a:r>
              <a:rPr b="0" lang="en-US" sz="2000" spc="-1" strike="noStrike">
                <a:solidFill>
                  <a:srgbClr val="000000"/>
                </a:solidFill>
                <a:latin typeface="Tahoma"/>
              </a:rPr>
              <a:t> because it denies the existence of the emotion and does not enable us to control it in any way at 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why people who use repression of emotion as a main device in their Christian life are often subject to outbursts of rag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 fact have no real control of their emotions and no insight onto their emotional stat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d gives us permission to feel any and all emotions</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he requires that we </a:t>
            </a:r>
            <a:r>
              <a:rPr b="1" lang="en-US" sz="2000" spc="-1" strike="noStrike">
                <a:solidFill>
                  <a:srgbClr val="000000"/>
                </a:solidFill>
                <a:latin typeface="Tahoma"/>
              </a:rPr>
              <a:t>outwardly express only those that are edifying.</a:t>
            </a:r>
            <a:r>
              <a:rPr b="0" lang="en-US" sz="2000" spc="-1" strike="noStrike">
                <a:solidFill>
                  <a:srgbClr val="000000"/>
                </a:solidFill>
                <a:latin typeface="Tahoma"/>
              </a:rPr>
              <a:t> “Be angry, but do not sin”</a:t>
            </a:r>
            <a:r>
              <a:rPr b="0" lang="en-US" sz="2800" spc="-1" strike="noStrike">
                <a:solidFill>
                  <a:srgbClr val="000000"/>
                </a:solidFill>
                <a:latin typeface="Tahoma"/>
              </a:rPr>
              <a:t> </a:t>
            </a:r>
            <a:br>
              <a:rPr sz="2800"/>
            </a:br>
            <a:r>
              <a:rPr b="0" lang="en-US" sz="1800" spc="-1" strike="noStrike">
                <a:solidFill>
                  <a:srgbClr val="000000"/>
                </a:solidFill>
                <a:latin typeface="Tahoma"/>
              </a:rPr>
              <a:t>(Ephesians 4:26)</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4BAB8CB-383B-480F-AEDB-ABE6BFCD92D6}"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vering Repressed Emotions</a:t>
            </a:r>
            <a:endParaRPr b="0" lang="en-US" sz="4400" spc="-1" strike="noStrike">
              <a:solidFill>
                <a:srgbClr val="333399"/>
              </a:solidFill>
              <a:latin typeface="Tahoma"/>
            </a:endParaRPr>
          </a:p>
        </p:txBody>
      </p:sp>
      <p:sp>
        <p:nvSpPr>
          <p:cNvPr id="163" name="PlaceHolder 2"/>
          <p:cNvSpPr>
            <a:spLocks noGrp="1"/>
          </p:cNvSpPr>
          <p:nvPr>
            <p:ph/>
          </p:nvPr>
        </p:nvSpPr>
        <p:spPr>
          <a:xfrm>
            <a:off x="533160" y="2209320"/>
            <a:ext cx="784836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people are told from a young age to keep emotions, particularly negative emotions, completely under wrap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may have to give themselves “permission to feel” those emotions that they have denied themselves over the year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emotions may include sensual emotions, pleasure, anger, disappointment and grief.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ually coming to feel long lost emotions can take some time. There is frequently a deep fear that control will be lo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needs to be remembered by such people that they have successfully controlled that emotion for perhaps thirty or more years. They know how to put the lid on the box when they have to.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most unlikely they will truly lose control but the experience will feel new and a bit scary at fir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ually the recovered emotions will lead to the deeper resonances of life and a fuller and more meaningful existenc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B58E869-E172-493E-BEF6-6AD736D43608}" type="slidenum">
              <a:t>32</a:t>
            </a:fld>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Self-Control</a:t>
            </a:r>
            <a:endParaRPr b="0" lang="en-US" sz="4400" spc="-1" strike="noStrike">
              <a:solidFill>
                <a:srgbClr val="333399"/>
              </a:solidFill>
              <a:latin typeface="Tahoma"/>
            </a:endParaRPr>
          </a:p>
        </p:txBody>
      </p:sp>
      <p:sp>
        <p:nvSpPr>
          <p:cNvPr id="165" name="PlaceHolder 2"/>
          <p:cNvSpPr>
            <a:spLocks noGrp="1"/>
          </p:cNvSpPr>
          <p:nvPr>
            <p:ph/>
          </p:nvPr>
        </p:nvSpPr>
        <p:spPr>
          <a:xfrm>
            <a:off x="533520" y="20570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need to move from repression and denial of emotion to proper self-control of emotion.</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the Holy Spirit will not </a:t>
            </a:r>
            <a:r>
              <a:rPr b="1" i="1" lang="en-US" sz="1800" spc="-1" strike="noStrike">
                <a:solidFill>
                  <a:srgbClr val="000000"/>
                </a:solidFill>
                <a:latin typeface="Tahoma"/>
              </a:rPr>
              <a:t>quenched</a:t>
            </a:r>
            <a:r>
              <a:rPr b="0" lang="en-US" sz="1800" spc="-1" strike="noStrike">
                <a:solidFill>
                  <a:srgbClr val="000000"/>
                </a:solidFill>
                <a:latin typeface="Tahoma"/>
              </a:rPr>
              <a:t> by being good emotions being stifled; or </a:t>
            </a:r>
            <a:r>
              <a:rPr b="1" i="1" lang="en-US" sz="1800" spc="-1" strike="noStrike">
                <a:solidFill>
                  <a:srgbClr val="000000"/>
                </a:solidFill>
                <a:latin typeface="Tahoma"/>
              </a:rPr>
              <a:t>grieved</a:t>
            </a:r>
            <a:r>
              <a:rPr b="0" lang="en-US" sz="1800" spc="-1" strike="noStrike">
                <a:solidFill>
                  <a:srgbClr val="000000"/>
                </a:solidFill>
                <a:latin typeface="Tahoma"/>
              </a:rPr>
              <a:t> by inappropriate emotions such as wrath or bitterness being expressed.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kes the person of the Holy Spirit absolutely central to the Christian’s true experience of emotion.  It is as He is released in His fullness that we move into the emotional life of our Savior.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control is a fruit of the Holy Spirit and operates under the leading of the Holy Spirit so that we enter into holy emotions and forsake fleshly passions and ungodly wrath and dissension. </a:t>
            </a:r>
            <a:endParaRPr b="0" lang="en-US" sz="18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ugh the leading of the Holy Spirit and His infilling we become a joyous, loving, holy and zealous people filled with holy emotions and the fruits of the Spirit. (Ephesians 5:18-21, Colossians 3:16-17, Galatians 5:16-23)</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12690A13-742E-4181-8BDE-D3E0BE88E4B5}" type="slidenum">
              <a:t>33</a:t>
            </a:fld>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ive In The Spirit</a:t>
            </a:r>
            <a:endParaRPr b="0" lang="en-US" sz="4400" spc="-1" strike="noStrike">
              <a:solidFill>
                <a:srgbClr val="333399"/>
              </a:solidFill>
              <a:latin typeface="Tahoma"/>
            </a:endParaRPr>
          </a:p>
        </p:txBody>
      </p:sp>
      <p:sp>
        <p:nvSpPr>
          <p:cNvPr id="16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Holy Spirit led self-control is neither apathetic nor stoical on one hand or irresponsible and indulgent on the othe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leads us to express emotion wisely and truthfully but also joyously and with depth and intensity.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llow sentimentality is not found in the Scriptur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of faith are deep, resonant and have a grounded-ness about them.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ople of the Living God are most fully alive. That is what makes Christianity attractiv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say of the time they first met Christians “they had something about them, a joy that I really want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filled believer is emotionally alive and emotionally substanti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09DCDE2-3E93-4265-BCFB-CE0B11103939}" type="slidenum">
              <a:t>34</a:t>
            </a:fld>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otions Do Not Define The Truth</a:t>
            </a:r>
            <a:endParaRPr b="0" lang="en-US" sz="3600" spc="-1" strike="noStrike">
              <a:solidFill>
                <a:srgbClr val="333399"/>
              </a:solidFill>
              <a:latin typeface="Tahoma"/>
            </a:endParaRPr>
          </a:p>
        </p:txBody>
      </p:sp>
      <p:sp>
        <p:nvSpPr>
          <p:cNvPr id="169" name="PlaceHolder 2"/>
          <p:cNvSpPr>
            <a:spLocks noGrp="1"/>
          </p:cNvSpPr>
          <p:nvPr>
            <p:ph/>
          </p:nvPr>
        </p:nvSpPr>
        <p:spPr>
          <a:xfrm>
            <a:off x="304560" y="2209680"/>
            <a:ext cx="84978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le the Holy Spirit produces joy and peace, the presence of joy and peace does not necessarily indicate the presence of the Holy Spirit.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can feel at peace after a bottle or two of wine! People experience joy and peace when they convert to Buddhism, a New Age group or even to Islam.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join cults because they feel better there than at church. Cults can feel warm, loving, tranquil and enlightened. Cults often meet the emotional needs that were not met in the local church and someone has said “Cults are the unpaid bills of the Churc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good feelings are no guide to good theology. The opposite may also be true, bad feelings are no guide to bad theology.  The prophets – who spoke the truth – found many people reacting negatively to them. </a:t>
            </a:r>
            <a:endParaRPr b="0" lang="en-US" sz="1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 emotions are no indication of error and positive emotions are no indication of truth. Thus good emotions are not a guide to good theology neither are difficult emotions an indication of wrong theolog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00710E5-63ED-4EDD-8F81-3D6B6C0C50C4}" type="slidenum">
              <a:t>35</a:t>
            </a:fld>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Express The Truth</a:t>
            </a:r>
            <a:endParaRPr b="0" lang="en-US" sz="4400" spc="-1" strike="noStrike">
              <a:solidFill>
                <a:srgbClr val="333399"/>
              </a:solidFill>
              <a:latin typeface="Tahoma"/>
            </a:endParaRPr>
          </a:p>
        </p:txBody>
      </p:sp>
      <p:sp>
        <p:nvSpPr>
          <p:cNvPr id="17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Emotions are a valid response to truth but not a valid guide to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reacted emotionally as He perceived the truth but Jesus did not arrive at the truth via His emotions. He arrived at the truth via Scrip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wept when He saw His friends grieving as Lazarus’s grave. He was moved by compassion when He saw people sick, harassed and lost. His emotions were a response to His perceptions in a framework filled with God’s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Jesus never said “I feel X therefore I will believe 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moved Him to act however His actions were based on truth revealed from the Fath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did not show Him what was true or false – they just moved Him to act on what He already knew (from Scripture) was true or fals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We do not follow our emotions, rather we need to follow the truth – and express emotion as we do so.</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DD3644C-1420-4AF8-BF59-135DE4C79E96}" type="slidenum">
              <a:t>36</a:t>
            </a:fld>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werful Good Feelings Can Lead Us Astray</a:t>
            </a:r>
            <a:endParaRPr b="0" lang="en-US" sz="2800" spc="-1" strike="noStrike">
              <a:solidFill>
                <a:srgbClr val="333399"/>
              </a:solidFill>
              <a:latin typeface="Tahoma"/>
            </a:endParaRPr>
          </a:p>
        </p:txBody>
      </p:sp>
      <p:sp>
        <p:nvSpPr>
          <p:cNvPr id="173" name="PlaceHolder 2"/>
          <p:cNvSpPr>
            <a:spLocks noGrp="1"/>
          </p:cNvSpPr>
          <p:nvPr>
            <p:ph/>
          </p:nvPr>
        </p:nvSpPr>
        <p:spPr>
          <a:xfrm>
            <a:off x="380520" y="2017800"/>
            <a:ext cx="8574120" cy="4611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ood feelings can be intense, global and very convincing. There is such a thing as very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wonderful” emotions that can lead us into adultery, drugs and alcohol addiction, gambling, and acts of self-destruc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emotions feel true, authentic and valid at the 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may even feel “cosmic” and like a form of self-awareness, self-discovery or enlightenmen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fairs can seem totally “right” in their initial phase, the first drink for an alcoholic “feels terrific”, the guru makes people feel “at one with the Univer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less there is a solid examination of the truth and awareness of the consequences these powerful emotions can lead people to shipwreck their liv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16791AD-0FEC-46EC-ADD4-47AE5897834F}" type="slidenum">
              <a:t>37</a:t>
            </a:fld>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isting Emotional Entanglement</a:t>
            </a:r>
            <a:endParaRPr b="0" lang="en-US" sz="3600" spc="-1" strike="noStrike">
              <a:solidFill>
                <a:srgbClr val="333399"/>
              </a:solidFill>
              <a:latin typeface="Tahoma"/>
            </a:endParaRPr>
          </a:p>
        </p:txBody>
      </p:sp>
      <p:sp>
        <p:nvSpPr>
          <p:cNvPr id="175" name="PlaceHolder 2"/>
          <p:cNvSpPr>
            <a:spLocks noGrp="1"/>
          </p:cNvSpPr>
          <p:nvPr>
            <p:ph/>
          </p:nvPr>
        </p:nvSpPr>
        <p:spPr>
          <a:xfrm>
            <a:off x="456840" y="2133720"/>
            <a:ext cx="7924680" cy="44193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Rather than repressing our emotions and unmet needs we need to be aware of our heart and discipline it according to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a mid-life crisis the best advice is “acknowledge your feelings but follow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perfectly Ok to acknowledge to yourself that, “I am strongly tempted to have an affair” as long as you stare that fact in the face and decide to refuse the temptation because you love God.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also help to look at the consequences and say, “I will not do so because that is wrong and destructive and would make shipwreck of my life.”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acknowledging the temptation and refusing it you can grow in emotional and spiritual maturity.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knowledge how you are feeling – then make a godly decis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1C53D4C-0AB0-4F51-A143-1A106EED5DC3}" type="slidenum">
              <a:t>38</a:t>
            </a:fld>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stinctive Reactions</a:t>
            </a:r>
            <a:endParaRPr b="0" lang="en-US" sz="4400" spc="-1" strike="noStrike">
              <a:solidFill>
                <a:srgbClr val="333399"/>
              </a:solidFill>
              <a:latin typeface="Tahoma"/>
            </a:endParaRPr>
          </a:p>
        </p:txBody>
      </p:sp>
      <p:sp>
        <p:nvSpPr>
          <p:cNvPr id="177" name="PlaceHolder 2"/>
          <p:cNvSpPr>
            <a:spLocks noGrp="1"/>
          </p:cNvSpPr>
          <p:nvPr>
            <p:ph/>
          </p:nvPr>
        </p:nvSpPr>
        <p:spPr>
          <a:xfrm>
            <a:off x="380880" y="2209680"/>
            <a:ext cx="8229600" cy="3276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place for hunches, gut feelings, emotional signals and awareness of emotional atmospher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s are able to reduce a very complex situation down to a certain feeling or impulse and they do this very quickly and efficient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young man sees a lady and feels “Wow, she is the one.” this judgment may be made in a second or two.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judgment however will need a lot of further examination before it can validly lead to marriag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2E951FC-508F-427F-98C0-A90BEB178C8C}" type="slidenum">
              <a:t>39</a:t>
            </a:fld>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Our Emotions</a:t>
            </a:r>
            <a:endParaRPr b="0" lang="en-US" sz="4400" spc="-1" strike="noStrike">
              <a:solidFill>
                <a:srgbClr val="333399"/>
              </a:solidFill>
              <a:latin typeface="Tahoma"/>
            </a:endParaRPr>
          </a:p>
        </p:txBody>
      </p:sp>
      <p:sp>
        <p:nvSpPr>
          <p:cNvPr id="10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people cannot clearly identify their emotions. They simply use general words and phrases such as “good”, “bad”, “up” and “OK”, instead of more specific and useful words like “disconsolate”, “elated” and “perplexed”.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others feelings are just a confused blur.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so hurt that pain overwhelms all other finer feelings and for those people the emotional choice is constant pain or oblivion.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chose oblivion via drugs, alcohol, or promiscuity and increasingly they escape into the total oblivion of death through suicide.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need help. They need to untangle their emotions and work through to peace. </a:t>
            </a:r>
            <a:endParaRPr b="0" lang="en-US" sz="1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being able to “feel their feelings” and being able to identify and name their emotions is a crucial first step.</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F4174F8-A7F1-413E-A814-B9911C870F76}" type="slidenum">
              <a:t>4</a:t>
            </a:fld>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nd Our Thinking</a:t>
            </a:r>
            <a:endParaRPr b="0" lang="en-US" sz="4400" spc="-1" strike="noStrike">
              <a:solidFill>
                <a:srgbClr val="333399"/>
              </a:solidFill>
              <a:latin typeface="Tahoma"/>
            </a:endParaRPr>
          </a:p>
        </p:txBody>
      </p:sp>
      <p:sp>
        <p:nvSpPr>
          <p:cNvPr id="17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act as swift initial assessments of complex situations – but only as initial assessment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useful in that our emotions select the situations that our reason will go to work on and analyz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young man cannot analyze the suitability of every young lady he meets – that would be impractical. Rather he thinks about those he is attracted to. Thus his emotions select first and his thorough evaluation follows la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make us attracted, suspicious, repelled, guarded, curious or astonished at a given situation.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this initial impression is validated by further thought at other times it is proved totally wrong.</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2E64714-5414-4114-9845-15B3E93EE7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amage And Mistakes</a:t>
            </a:r>
            <a:endParaRPr b="0" lang="en-US" sz="4000" spc="-1" strike="noStrike">
              <a:solidFill>
                <a:srgbClr val="333399"/>
              </a:solidFill>
              <a:latin typeface="Tahoma"/>
            </a:endParaRPr>
          </a:p>
        </p:txBody>
      </p:sp>
      <p:sp>
        <p:nvSpPr>
          <p:cNvPr id="181" name="PlaceHolder 2"/>
          <p:cNvSpPr>
            <a:spLocks noGrp="1"/>
          </p:cNvSpPr>
          <p:nvPr>
            <p:ph/>
          </p:nvPr>
        </p:nvSpPr>
        <p:spPr>
          <a:xfrm>
            <a:off x="228240" y="2133360"/>
            <a:ext cx="8650440" cy="4343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emotions are damaged the ability to form accurate impressions of situations also suffer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ally damaged people tend to be prone to mistakes in judgment. They rush into love, they hold back from friendship, they gamble on foolish ventures, and they run from shadow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who have been emotionally damaged should not enter into a significant relationship or project until they have healed to the point where they have functional and accurate discernment.</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should look at their decision-making and be careful – seeking the advice of friends and family and striving to be as objective as possibl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if their ability to assess situations was good before it will not be as good now.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loss of judgment can be alarming but it is temporary and will pass in time as emotional healing takes plac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38D8429-14D9-4809-B034-062FF6C85543}" type="slidenum">
              <a:t>41</a:t>
            </a:fld>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Spirituality</a:t>
            </a:r>
            <a:endParaRPr b="0" lang="en-US" sz="4400" spc="-1" strike="noStrike">
              <a:solidFill>
                <a:srgbClr val="333399"/>
              </a:solidFill>
              <a:latin typeface="Tahoma"/>
            </a:endParaRPr>
          </a:p>
        </p:txBody>
      </p:sp>
      <p:sp>
        <p:nvSpPr>
          <p:cNvPr id="183" name="PlaceHolder 2"/>
          <p:cNvSpPr>
            <a:spLocks noGrp="1"/>
          </p:cNvSpPr>
          <p:nvPr>
            <p:ph/>
          </p:nvPr>
        </p:nvSpPr>
        <p:spPr>
          <a:xfrm>
            <a:off x="228600" y="2017800"/>
            <a:ext cx="8726400" cy="4535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iritual life and the emotional life are thus very closely connected and our meaningful spiritual experiences are nearly always highly charged with emotion.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for the believer is real and living and meaningful and the discovery of truth – those great “Aha!” moments are  frequently deeply emotional.</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n Ezra read the Law the Jews wept (Nehemiah 8:1-9). Truth and emotion went hand in hand.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ientific age with its view of truth as clinical and unemotional is rooted in Greek Platonism not in biblical (and especially Hebrew) reality.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West it has led to false dichotomy between theology and emotionality that is even reflected at the level of denominational differences.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the appeal of the New Age is having teaching that is expected to be emotionally and existentially meaningfu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52BE013-0BE7-4E6F-BE7E-E95E2524096F}" type="slidenum">
              <a:t>42</a:t>
            </a:fld>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ernment</a:t>
            </a:r>
            <a:endParaRPr b="0" lang="en-US" sz="4400" spc="-1" strike="noStrike">
              <a:solidFill>
                <a:srgbClr val="333399"/>
              </a:solidFill>
              <a:latin typeface="Tahoma"/>
            </a:endParaRPr>
          </a:p>
        </p:txBody>
      </p:sp>
      <p:sp>
        <p:nvSpPr>
          <p:cNvPr id="185"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is not concerned with the volume of our emotions as He is with the channel we are listening to: The Spirit or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are highly emotional, others are quiet. That is f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important is that we do not quench godly movements of the Spirit or give way to fleshly outburs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discerning of our spiritual experienc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dreams, visions and experiences can be the Holy Spirit. They can also be from deceiving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eck them against Scrip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ic counterfeits tend to be either: inflating, accusing, terrifying or seduct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ly dreams and visions tend to be Scriptural, clear, specific, wise, insightful and ho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4F1A3F7-C591-4FB8-85C6-E42B07B35004}" type="slidenum">
              <a:t>43</a:t>
            </a:fld>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re Not The Boss</a:t>
            </a:r>
            <a:endParaRPr b="0" lang="en-US" sz="4400" spc="-1" strike="noStrike">
              <a:solidFill>
                <a:srgbClr val="333399"/>
              </a:solidFill>
              <a:latin typeface="Tahoma"/>
            </a:endParaRPr>
          </a:p>
        </p:txBody>
      </p:sp>
      <p:sp>
        <p:nvSpPr>
          <p:cNvPr id="18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emotions are not in charge. Your mind is the decision-maker.</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ever compulsory to follow an emotion - even a very powerful emotio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do not have to rush after every emotional impulse thinking it is a leading of the Holy Spirit.</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such impulses must first  be weighed up by the Spirit-filled, Scripture-soaked min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cknowledge the emotion.  You then make a decision about it using your mind – whether to express it, or whether to rein it i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y by day you will become a stronger person not tossed here and there by every strong emotion that comes your wa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ill hop off the roller-coaster of your own emotions and start to take charge of yourself and your destin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 of all you will learn to be a Spirit-filled Christian and be able to consistently demonstrate the fruits of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0385971-493E-4063-88B3-9FA64217F2EF}" type="slidenum">
              <a:t>44</a:t>
            </a:fld>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9" name="PlaceHolder 2"/>
          <p:cNvSpPr>
            <a:spLocks noGrp="1"/>
          </p:cNvSpPr>
          <p:nvPr>
            <p:ph/>
          </p:nvPr>
        </p:nvSpPr>
        <p:spPr>
          <a:xfrm>
            <a:off x="609480" y="2514600"/>
            <a:ext cx="7772400" cy="3465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1"/>
              </a:rPr>
              <a:t>http://www.aibi.ph/beq/</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2BD170A-C4BE-47F9-B425-F6A8743AF5F8}"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Accuracy</a:t>
            </a:r>
            <a:endParaRPr b="0" lang="en-US" sz="4400" spc="-1" strike="noStrike">
              <a:solidFill>
                <a:srgbClr val="333399"/>
              </a:solidFill>
              <a:latin typeface="Tahoma"/>
            </a:endParaRPr>
          </a:p>
        </p:txBody>
      </p:sp>
      <p:sp>
        <p:nvSpPr>
          <p:cNvPr id="109"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other reason why good emotional identification is important is that mistaken emotional identification can lead to spiritual disas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xample take the common confusion between love and lust. A young person who confuses these two can end up in a disastrous relationship.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ve and lust are opposites as looking at 1 Corinthians 13 soon reveals: “Love is patient (but lust is impatient), love is kind (but lust is cruel), love does not envy (but lust envies much), love does not parade itself (but lust is an exhibitionist)… and so 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think we are feeling one thing but are in fact feeling its opposite all sorts of havoc can be unleash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ret and repentance can seem similar. However regretting being found out is far different from repenting from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we can correctly identify emotions in ourselves and others we can make serious mistakes in judgmen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C82DC3C-4F09-43EE-B18E-493DFCCE545A}"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udying Our Emotio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information about emotions and the fine differences between them the Psalms, classic poetry, novels and good literature are excellent sources. The portrayal of emotions by great authors helps us to get in touch with our feelings and to discriminate between th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 course writing our own poetry, keeping a diary, painting, joining a drama group or attending a 12 step group or workshop can also be ways to get in touch with buried feelings and gradually sort out the emotional knots within.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we do so it is initially important to simply accept the emotions that surface rather than leaping to spiritual judgments before the process is complet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spiritual judgments about the emotions we experience is often counter-productive and causes us to express some emotions and repress others to conform to a spiritual standard or model that we have been taught in church.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FACBC9E-0905-469A-B141-191185C3A778}"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Believer</a:t>
            </a:r>
            <a:endParaRPr b="0" lang="en-US" sz="4400" spc="-1" strike="noStrike">
              <a:solidFill>
                <a:srgbClr val="333399"/>
              </a:solidFill>
              <a:latin typeface="Tahoma"/>
            </a:endParaRPr>
          </a:p>
        </p:txBody>
      </p:sp>
      <p:sp>
        <p:nvSpPr>
          <p:cNvPr id="113" name="PlaceHolder 2"/>
          <p:cNvSpPr>
            <a:spLocks noGrp="1"/>
          </p:cNvSpPr>
          <p:nvPr>
            <p:ph/>
          </p:nvPr>
        </p:nvSpPr>
        <p:spPr>
          <a:xfrm>
            <a:off x="304560" y="198072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lessed Believer</a:t>
            </a:r>
            <a:r>
              <a:rPr b="0" lang="en-US" sz="1800" spc="-1" strike="noStrike">
                <a:solidFill>
                  <a:srgbClr val="000000"/>
                </a:solidFill>
                <a:latin typeface="Tahoma"/>
              </a:rPr>
              <a:t>: The ideal Christian is a person of great faith who prays fervently and receives great blessing from God and lives in abundance and happiness free from anxiety and turmoil. Salvation is easily and joyously and often instantly received. Abraham, Isaac, David and Solomon are seen as models Can easily focus on material blessings as a sign of God’s approval.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Praise, gratitude, thankfulness, joy and contentment. “Rejoice in the Lord always”. Salvation is from misery to happiness. Happiness is a sign that Jesus is in your hear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Sorrow, depression, grief, anxiety, genuine doubt, feelings of weakness and inadequacy, disappointment , any sense that life has treated them in an unfair manner. Negative emotions are construed as indicating a “lack of victory”.</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l fails when</a:t>
            </a:r>
            <a:r>
              <a:rPr b="0" lang="en-US" sz="1800" spc="-1" strike="noStrike">
                <a:solidFill>
                  <a:srgbClr val="000000"/>
                </a:solidFill>
                <a:latin typeface="Tahoma"/>
              </a:rPr>
              <a:t> life appears to be far less than blessed such as when life appears to be unjust or unfair or when pain is overwhelming or during grief and sorrow. Job is the classical example of a blessed believer being</a:t>
            </a:r>
            <a:r>
              <a:rPr b="0" lang="en-US" sz="2200" spc="-1" strike="noStrike">
                <a:solidFill>
                  <a:srgbClr val="000000"/>
                </a:solidFill>
                <a:latin typeface="Tahoma"/>
              </a:rPr>
              <a:t> </a:t>
            </a:r>
            <a:r>
              <a:rPr b="0" lang="en-US" sz="1800" spc="-1" strike="noStrike">
                <a:solidFill>
                  <a:srgbClr val="000000"/>
                </a:solidFill>
                <a:latin typeface="Tahoma"/>
              </a:rPr>
              <a:t>challenged by lif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C482A56-C776-44D4-8B47-A05F90E4697C}"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nitent Pilgrim</a:t>
            </a:r>
            <a:endParaRPr b="0" lang="en-US" sz="4400" spc="-1" strike="noStrike">
              <a:solidFill>
                <a:srgbClr val="333399"/>
              </a:solidFill>
              <a:latin typeface="Tahoma"/>
            </a:endParaRPr>
          </a:p>
        </p:txBody>
      </p:sp>
      <p:sp>
        <p:nvSpPr>
          <p:cNvPr id="11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enitent Pilgrim:</a:t>
            </a:r>
            <a:r>
              <a:rPr b="0" lang="en-US" sz="1800" spc="-1" strike="noStrike">
                <a:solidFill>
                  <a:srgbClr val="000000"/>
                </a:solidFill>
                <a:latin typeface="Tahoma"/>
              </a:rPr>
              <a:t> The pilgrim is escaping judgment and heading away from the World which is doomed. The Christian life involves separation from sin and worldliness and the serious pursuit of salvation which only relatively few attain and which is a perilous journey. Pilgrim’s Progress. Lot escaping Sodom. Jame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Sorrow for sin, seriousness, self-examination, correction of faults, penitence, intense prayer, travail, joy over forgiveness, righteous anger, woe, and pessimism over the worl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Frivolity, laughter, flippancy, playfulness, sensuality, attraction to worldly things, sexuality, pride over achievement, romance. Positive emotions are treated with suspicion.</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 Area:</a:t>
            </a:r>
            <a:r>
              <a:rPr b="0" lang="en-US" sz="1800" spc="-1" strike="noStrike">
                <a:solidFill>
                  <a:srgbClr val="000000"/>
                </a:solidFill>
                <a:latin typeface="Tahoma"/>
              </a:rPr>
              <a:t> Can become legalistic and joyless. Fails to give proper place to the goodness of Creation and creates rebellion in people brought up in this system who learn life is not as grim as portrayed.</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CDF6540-A02B-4CC7-820B-31CA80A88086}"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dependent Achievers </a:t>
            </a:r>
            <a:endParaRPr b="0" lang="en-US" sz="3200" spc="-1" strike="noStrike">
              <a:solidFill>
                <a:srgbClr val="333399"/>
              </a:solidFill>
              <a:latin typeface="Tahoma"/>
            </a:endParaRPr>
          </a:p>
        </p:txBody>
      </p:sp>
      <p:sp>
        <p:nvSpPr>
          <p:cNvPr id="117" name="PlaceHolder 2"/>
          <p:cNvSpPr>
            <a:spLocks noGrp="1"/>
          </p:cNvSpPr>
          <p:nvPr>
            <p:ph/>
          </p:nvPr>
        </p:nvSpPr>
        <p:spPr>
          <a:xfrm>
            <a:off x="228240" y="2057400"/>
            <a:ext cx="838188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dependent Achiever:</a:t>
            </a:r>
            <a:r>
              <a:rPr b="0" lang="en-US" sz="2000" spc="-1" strike="noStrike">
                <a:solidFill>
                  <a:srgbClr val="000000"/>
                </a:solidFill>
                <a:latin typeface="Tahoma"/>
              </a:rPr>
              <a:t> Emphasizes being in ministry and achieving things for God. A Christian is measured by the size of his or her ministry and how they achieved it alone as their personal vision. Strategic thinking, business skills and personal success are highly prized. Models include Nehemiah and the apostle Pau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Faith, hope, vision, optimism, joy, and the emotions of the will and the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not to be artistic and may lack compassion at times. They avoid necessary introspection and reflection. Doubt and fear are repressed rather than fa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lead to burn-out. Works for some people but can destroy others. Their spouses often suff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4A53A31-13BE-4987-8997-4ADE09E5DE32}"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3:04:47Z</dcterms:created>
  <dc:creator>John Edmiston</dc:creator>
  <dc:description/>
  <dc:language>en-US</dc:language>
  <cp:lastModifiedBy>John Edmiston</cp:lastModifiedBy>
  <dcterms:modified xsi:type="dcterms:W3CDTF">2004-05-01T15:24:47Z</dcterms:modified>
  <cp:revision>42</cp:revision>
  <dc:subject/>
  <dc:title>Biblical EQ www.aibi.ph/beq/</dc:title>
</cp:coreProperties>
</file>