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760C5-6D3C-4B5F-84DA-5DE408B9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23896-132D-4FFF-9CF9-FE42E3FBB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7D417-9CDE-4D4F-9138-8E67F6A6A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0B0D-B563-4364-BF88-C2A9E1CEC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6FB1D-CB59-447F-AE96-ADEE0F7F6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A018F-BEC4-4A6A-AA1B-F08692E91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24E04-3AAC-4010-8FB8-DBED0B8CF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4589B-C366-445F-9AB8-BA623463C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A30CF-9CBC-4643-879D-CF8FC23B9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BE9B5-2683-46A5-A050-A372A9E55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06AE-D8FE-4CFB-AF59-7BAD2CF85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98E0C-5855-4970-BF98-12C5C7BE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A56DA-9C4D-4FC2-9433-1C5597ACC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7F61E-9D8E-4B87-A8F5-254E579A7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3EB6F-3875-4408-A8D2-672DF2DBB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2F856-89DB-405E-B228-0325A71B9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B8D58-D7EE-4FDC-AD18-BA06D4D65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D00C5-3FDA-4DFB-AAE8-0217D824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1117-585E-4F6E-812E-05B0A35E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F09A-384E-41C6-A4CC-9DD42EB4C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35329-932C-46FD-91CA-D688244B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0CD3-6321-44FE-BAB3-42DCBBA1A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BA27A-C89E-48D6-B858-DA91518C5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1523-BCB7-4A3D-824C-9AEBF064B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E623-1CAC-49B8-89E7-05566393E66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E733-A42C-4D5E-8A42-56B7D216344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ZapfChan Bd BT"/>
              </a:rPr>
              <a:t>Part 3 –</a:t>
            </a:r>
            <a:r>
              <a:rPr b="1" i="1" lang="en-US" sz="3200" spc="-1" strike="noStrike">
                <a:solidFill>
                  <a:srgbClr val="000000"/>
                </a:solidFill>
                <a:latin typeface="ZapfChan Bd BT"/>
              </a:rPr>
              <a:t> </a:t>
            </a:r>
            <a:r>
              <a:rPr b="1" i="1" lang="en-US" sz="3200" spc="-1" strike="noStrike">
                <a:solidFill>
                  <a:srgbClr val="333399"/>
                </a:solidFill>
                <a:latin typeface="ZapfChan Bd BT"/>
              </a:rPr>
              <a:t>Testing The Theory</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410080" y="228600"/>
            <a:ext cx="337212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1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gative emotions are temporary "weeping may last for a night but joy comes in the morning".</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is a righteous resolution of the emotions, a giving of thanks in the end.</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emotions are primarily directed towards God in a private and appropriate fashion. (They are not “acted out” or dumped on others.)</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There is a wide range of appropriate emotions from joy to a troubled spirit. The emotional thermostat is not stuck in just one position e.g. deep gloom or constant happin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21" name="PlaceHolder 2"/>
          <p:cNvSpPr>
            <a:spLocks noGrp="1"/>
          </p:cNvSpPr>
          <p:nvPr>
            <p:ph/>
          </p:nvPr>
        </p:nvSpPr>
        <p:spPr>
          <a:xfrm>
            <a:off x="380520" y="2017440"/>
            <a:ext cx="8574120" cy="4459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bility to see good in God in the midst of it all - to sing praise and give thanks. The spiritual perspective is not los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no stifling of emotions, they are expressed in spiritual terms "that my glory may sing praise to You and not be silen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repentance of false perspectives and beliefs. "Now in my prosperity I said 'I shall not be moved..". When God challenges this David repents of his self-sufficiency. People who are out of balance emotionally do the opposite and cling to their self-defeating perspectiv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expression of emotions there is genuine dignity and beauty. This psalm is poet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Temperaments</a:t>
            </a:r>
            <a:endParaRPr b="0" lang="en-US" sz="4400" spc="-1" strike="noStrike">
              <a:solidFill>
                <a:srgbClr val="333399"/>
              </a:solidFill>
              <a:latin typeface="Tahoma"/>
            </a:endParaRPr>
          </a:p>
        </p:txBody>
      </p:sp>
      <p:sp>
        <p:nvSpPr>
          <p:cNvPr id="123" name="PlaceHolder 2"/>
          <p:cNvSpPr>
            <a:spLocks noGrp="1"/>
          </p:cNvSpPr>
          <p:nvPr>
            <p:ph/>
          </p:nvPr>
        </p:nvSpPr>
        <p:spPr>
          <a:xfrm>
            <a:off x="228240" y="1980720"/>
            <a:ext cx="8458200" cy="39625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temperaments have different uses within the Kingdom of God. Barnabas was a great encourager of the brethren, </a:t>
            </a:r>
            <a:br>
              <a:rPr sz="1800"/>
            </a:br>
            <a:r>
              <a:rPr b="0" lang="en-US" sz="1800" spc="-1" strike="noStrike">
                <a:solidFill>
                  <a:srgbClr val="000000"/>
                </a:solidFill>
                <a:latin typeface="Tahoma"/>
              </a:rPr>
              <a:t>Peter's high emotionality made him a master preacher and evangelist, </a:t>
            </a:r>
            <a:br>
              <a:rPr sz="1800"/>
            </a:br>
            <a:r>
              <a:rPr b="0" lang="en-US" sz="1800" spc="-1" strike="noStrike">
                <a:solidFill>
                  <a:srgbClr val="000000"/>
                </a:solidFill>
                <a:latin typeface="Tahoma"/>
              </a:rPr>
              <a:t>Paul's razor sharp mind made him a great one for attending to the operational details and theology of church life, </a:t>
            </a:r>
            <a:br>
              <a:rPr sz="1800"/>
            </a:br>
            <a:r>
              <a:rPr b="0" lang="en-US" sz="1800" spc="-1" strike="noStrike">
                <a:solidFill>
                  <a:srgbClr val="000000"/>
                </a:solidFill>
                <a:latin typeface="Tahoma"/>
              </a:rPr>
              <a:t>John's mystical temperament pointed to the deep abiding spiritual realities and resulted in wonderful teaching on prayer. </a:t>
            </a:r>
            <a:br>
              <a:rPr sz="1800"/>
            </a:br>
            <a:r>
              <a:rPr b="0" lang="en-US" sz="1800" spc="-1" strike="noStrike">
                <a:solidFill>
                  <a:srgbClr val="000000"/>
                </a:solidFill>
                <a:latin typeface="Tahoma"/>
              </a:rPr>
              <a:t>Titus seems to have been a born trouble-shooter,  </a:t>
            </a:r>
            <a:br>
              <a:rPr sz="1800"/>
            </a:br>
            <a:r>
              <a:rPr b="0" lang="en-US" sz="1800" spc="-1" strike="noStrike">
                <a:solidFill>
                  <a:srgbClr val="000000"/>
                </a:solidFill>
                <a:latin typeface="Tahoma"/>
              </a:rPr>
              <a:t>Timothy was the sensitive and caring pastor par excellence.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will use your basic temperament that He has built into you - and even some of your weaknesses for when you are weak then you are strong! Your basic God-created and renewed self is OK! God can and will use it and has accepted it in Christ Jesus (Romans 14:7).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formed Temperament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ng accepted does not mean being unchang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will take certain parts of your basic emotional temperament and refine them into the image of Christ Jes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matured in tolerance and lo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ter became stable and reli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othy had to overcome his timidity and learn to suffer hardship as a good soldier of Christ Jesu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the Holy Spirit convicts you and teaches you and ministers to you a slow but sure transformation will take place that will increase your maturity in Christ and your usefulness to the Mast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During Revivals</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emotions are frequently generated during reviva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I was enforcing these words "Be still and know that I am God" (Ps 46:10), God began to bare His arm, not in private but in the open air and before more than two thousand witnesses. One then another, and yet another was struck to the earth, greatly trembling at the presence of God's power. Others loudly and bitterly cried "What must we do to be saved?" (John Wesley)</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y-Products Of Grace</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ew revivals have been without great emotion.</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ivalist Jonathan Edwards wrote a famous treatise on "Religious Affections.." which established that the emotions were a by-product of grace not its chief aim.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aim of the godly evangelist is not an emotional audience but a repentant and believing audience.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the emotions expressed so powerfully indicate that repentance is taking place and that people are meeting with God and having their souls transformed then that emotion is a good thing.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if it is simply emotionality, hype, manipulated sentimentality etc. and no work of God is taking place then it is unprofitable.</a:t>
            </a:r>
            <a:endParaRPr b="0" lang="en-US" sz="1800" spc="-1" strike="noStrike">
              <a:solidFill>
                <a:srgbClr val="000000"/>
              </a:solidFill>
              <a:latin typeface="Tahoma"/>
            </a:endParaRPr>
          </a:p>
          <a:p>
            <a:pPr marL="339480" indent="-339480">
              <a:lnSpc>
                <a:spcPct val="100000"/>
              </a:lnSpc>
              <a:spcBef>
                <a:spcPts val="1250"/>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otions accompany grace and may be an outward sign of an inward work of God – but they are not compulsory</a:t>
            </a:r>
            <a:r>
              <a:rPr b="0" lang="en-US" sz="2000" spc="-1" strike="noStrike">
                <a:solidFill>
                  <a:srgbClr val="000000"/>
                </a:solidFill>
                <a:latin typeface="Arial Narrow"/>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urity &amp; Emotions</a:t>
            </a:r>
            <a:endParaRPr b="0" lang="en-US" sz="4400" spc="-1" strike="noStrike">
              <a:solidFill>
                <a:srgbClr val="333399"/>
              </a:solidFill>
              <a:latin typeface="Tahoma"/>
            </a:endParaRPr>
          </a:p>
        </p:txBody>
      </p:sp>
      <p:sp>
        <p:nvSpPr>
          <p:cNvPr id="131"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maturity is often portrayed as unemotional, dull and bureaucratic.</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urity is not the loss of emotions but their deepening, enriching and appropriate expressio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emotional maturity does involve emotional stability - we are not "tossed to and fro…by every wind of doctrine".</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also involves "growing up" in all things and becoming a person participating in the stature and fullness of Christ.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it involves the stability of Christ it also involves the passion and zeal of Christ (John 2:17, Titus 2:14) and His ability to bless and to care.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act part of the purpose of our redemption is to become a people “zealous for good deeds”.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EQ of Carnal Christians</a:t>
            </a:r>
            <a:endParaRPr b="0" lang="en-US" sz="4400" spc="-1" strike="noStrike">
              <a:solidFill>
                <a:srgbClr val="333399"/>
              </a:solidFill>
              <a:latin typeface="Tahoma"/>
            </a:endParaRPr>
          </a:p>
        </p:txBody>
      </p:sp>
      <p:sp>
        <p:nvSpPr>
          <p:cNvPr id="133"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our model stands the test, then those who resist the Holy Spirit, those who are unspiritual, should be emotionally unformed and immature. If, as our theory predicts, the Holy Spirit is essential for full emotional formation, then unspiritual Christians should be emotional wrecks, or at the least quite shallow and indifferent emotionally.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arnal Christian is characterized by an astonishing lack of spiritual maturity to the point where they cannot be addressed as spiritual people. Carnal Christians behave like "mere men" and are indistinguishable from the surrounding culture with their actions and reactions. Using our model we can again make certain predictions about the emotional life of those who do not give the Holy Spirit full lordship of their liv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Carnal Christians</a:t>
            </a:r>
            <a:endParaRPr b="0" lang="en-US" sz="4400" spc="-1" strike="noStrike">
              <a:solidFill>
                <a:srgbClr val="333399"/>
              </a:solidFill>
              <a:latin typeface="Tahoma"/>
            </a:endParaRPr>
          </a:p>
        </p:txBody>
      </p:sp>
      <p:sp>
        <p:nvSpPr>
          <p:cNvPr id="135"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will see the world in much the same terms as the surrounding culture. For them the Kingdom perspective will be rare and they will be mainly self-centr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will be unable to see into the hearts of men and women and even empathy will be rare. They will not speak accurately to the human conditi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will be baffled by dreams, visions and symbolic language. They will be bored by the prophetic and struggle with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C.C.</a:t>
            </a:r>
            <a:endParaRPr b="0" lang="en-US" sz="4400" spc="-1" strike="noStrike">
              <a:solidFill>
                <a:srgbClr val="333399"/>
              </a:solidFill>
              <a:latin typeface="Tahoma"/>
            </a:endParaRPr>
          </a:p>
        </p:txBody>
      </p:sp>
      <p:sp>
        <p:nvSpPr>
          <p:cNvPr id="13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will mainly have beliefs that the surrounding culture has taught them. They will not hold beliefs that the culture opposes vehemently, and will have few beliefs that only God could have taught them.</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will have a very weak sense of what is righteous and what is unrighteous and rarely react to social evil. They would tolerate the selling of doves in the Temple. Zeal will be unusual for them and even undesirable. They will not be consumed by kingdom interests. </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ey will not have unusual poise and power in crisis situations like Jesus in the storm but rather will be prone to anxiety.</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They will not resonate with and be emotionally drawn to those who are of great faith. Rather they will feel more at home with the world and with other carnal Christian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es The Theory Work?</a:t>
            </a:r>
            <a:endParaRPr b="0" lang="en-US" sz="4400" spc="-1" strike="noStrike">
              <a:solidFill>
                <a:srgbClr val="333399"/>
              </a:solidFill>
              <a:latin typeface="Tahoma"/>
            </a:endParaRPr>
          </a:p>
        </p:txBody>
      </p:sp>
      <p:sp>
        <p:nvSpPr>
          <p:cNvPr id="103" name="PlaceHolder 2"/>
          <p:cNvSpPr>
            <a:spLocks noGrp="1"/>
          </p:cNvSpPr>
          <p:nvPr>
            <p:ph/>
          </p:nvPr>
        </p:nvSpPr>
        <p:spPr>
          <a:xfrm>
            <a:off x="609480" y="2057400"/>
            <a:ext cx="7772400" cy="36576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Biblical EQ is true, and non-trivial, it should predict how people process their emotio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emotional integrity is closely related to the work of the Holy Spirit then there should be very different results for a) apostles and great Christian leaders verses b) carnal Christia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wo groups should have very different emotional lives. The great Christian leaders should have a much higher EQ than the carnal Christia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 C.C.</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will not have deep, vivid and stable emotions like those of Jesus Christ. They will instead be characterized by shallow sentimental spiritual feelings that vary with every wind of doctrin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ill have little sense of their emotions being God's emotions. They will often be unaware of what they are feeling and will be unable to name their emotions clearly.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will not be people of authentic emotional expressi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ysical Nature - C.C.</a:t>
            </a:r>
            <a:endParaRPr b="0" lang="en-US" sz="4400" spc="-1" strike="noStrike">
              <a:solidFill>
                <a:srgbClr val="333399"/>
              </a:solidFill>
              <a:latin typeface="Tahoma"/>
            </a:endParaRPr>
          </a:p>
        </p:txBody>
      </p:sp>
      <p:sp>
        <p:nvSpPr>
          <p:cNvPr id="14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will not demonstrate victory over addictions and sexual tempt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will fail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ward Expression – C.C.</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ir spiritual emotions will rarely lead to righteous actions. Compassion for the lost or the poor will rarely be felt and if felt will not move them to action.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will be detached from real life and b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will not demonstrate an ever-increasing wisdom in emotional expression. They will go from bad to worse and become increasingly discordant like " a clanging gong and a clashing cymbal" if they should continue as carnal Christia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 Corinth</a:t>
            </a:r>
            <a:endParaRPr b="0" lang="en-US" sz="4400" spc="-1" strike="noStrike">
              <a:solidFill>
                <a:srgbClr val="333399"/>
              </a:solidFill>
              <a:latin typeface="Tahoma"/>
            </a:endParaRPr>
          </a:p>
        </p:txBody>
      </p:sp>
      <p:sp>
        <p:nvSpPr>
          <p:cNvPr id="145" name="PlaceHolder 2"/>
          <p:cNvSpPr>
            <a:spLocks noGrp="1"/>
          </p:cNvSpPr>
          <p:nvPr>
            <p:ph/>
          </p:nvPr>
        </p:nvSpPr>
        <p:spPr>
          <a:xfrm>
            <a:off x="533520" y="2057400"/>
            <a:ext cx="8229600" cy="4495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arnality of the Corinthian church is reflected in a long list of very serious sins – the first four chapters detail division, intellectual and spiritual pride, factions, and infighting.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five and six show they were visiting prostitutes, and engaging in sexual immorality, and ince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seven discusses marriage, divorce and the basics of sexually appropriate behavio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eight to eleven correct gross disorder such as being drunk at the Lord's Supper, not waiting for one another so one goes hungry while another is full, and participation in idolatrous feasts in pagan templ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12- 14 reveal a paganisation of the spiritual gifts and their use in competitive, unloving and chaotic way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15 finds them denying the resurrection and being in major error over basic doctrin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mes &amp; Hebrews</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urch James wrote to may have even been worse! There they murdered one another (James 4:2) and treated the poor with contempt (James 2:1-13).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riter to the Hebrews calls his audience in various turns - sluggish, unfruitful, dull of hearing, immature, like children, and says they were neglectful of their salvation, in danger of drifting away from the faith and hardening their hearts to God's Word and on the point of having "evil, unbelieving, hearts" (Heb 3: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hapter 10 the writer goes on to say they are neglecting meeting together and on the verge of giving up the faith, returning to sin and being judged by the living Go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Happened?</a:t>
            </a:r>
            <a:endParaRPr b="0" lang="en-US" sz="4400" spc="-1" strike="noStrike">
              <a:solidFill>
                <a:srgbClr val="333399"/>
              </a:solidFill>
              <a:latin typeface="Tahoma"/>
            </a:endParaRPr>
          </a:p>
        </p:txBody>
      </p:sp>
      <p:sp>
        <p:nvSpPr>
          <p:cNvPr id="14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me churches visited by apostles could end up such a m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hurches committed various sins against the Holy Spiri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Holy Spirit remains within the believer but is sinned against. Several terms are used such as: Grieved (Ephesians 4:30), quenched (1 Thessalonians 5:19) lied to (Acts 5:4), put to the test (Acts 5:9), insulted / outraged (Hebrews 10:29), made jealous (James 4:5), blasphemed (Matthew 12:31) and resisted (Acts 7:51). In Jude the divisive people are said to be "devoid of the Spirit" (Jude 1:19).</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s Against The Holy Spirit</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807696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rieved </a:t>
            </a:r>
            <a:r>
              <a:rPr b="0" lang="en-US" sz="1800" spc="-1" strike="noStrike">
                <a:solidFill>
                  <a:srgbClr val="000000"/>
                </a:solidFill>
                <a:latin typeface="Tahoma"/>
              </a:rPr>
              <a:t>(Ephesians 4:30) - by unnecessary and immature interpersonal conflict such as bitterness, wrath, slander and malice. The Spirit is a Spirit of love and is grieved by that which is opposed to love. Carnal behavior such as divisiveness and quarreling is anti-love, and causes grief to the Holy Spirit who is constantly trying to mature us in love.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nched</a:t>
            </a:r>
            <a:r>
              <a:rPr b="0" lang="en-US" sz="1800" spc="-1" strike="noStrike">
                <a:solidFill>
                  <a:srgbClr val="000000"/>
                </a:solidFill>
                <a:latin typeface="Tahoma"/>
              </a:rPr>
              <a:t> (1 Thessalonians 5:18-21) - by despising the gifts of the Spirit especially prophesy. It implies that his fire - His inspirational activity in prophecy and revival is resisted - perhaps in the name of order, and "cold water" is thrown on attempts to minister in spiritual power.</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ed To</a:t>
            </a:r>
            <a:r>
              <a:rPr b="0" lang="en-US" sz="1800" spc="-1" strike="noStrike">
                <a:solidFill>
                  <a:srgbClr val="000000"/>
                </a:solidFill>
                <a:latin typeface="Tahoma"/>
              </a:rPr>
              <a:t> (Acts 5:4): Ananias and Sapphira conspired in an act of financial deception of the apostles. This was seen as not deceiving men but God and lying to the Holy Spirit. (Acts 5:4) and resulted in them being carried out dea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Sins…</a:t>
            </a:r>
            <a:endParaRPr b="0" lang="en-US" sz="4400" spc="-1" strike="noStrike">
              <a:solidFill>
                <a:srgbClr val="333399"/>
              </a:solidFill>
              <a:latin typeface="Tahoma"/>
            </a:endParaRPr>
          </a:p>
        </p:txBody>
      </p:sp>
      <p:sp>
        <p:nvSpPr>
          <p:cNvPr id="153" name="PlaceHolder 2"/>
          <p:cNvSpPr>
            <a:spLocks noGrp="1"/>
          </p:cNvSpPr>
          <p:nvPr>
            <p:ph/>
          </p:nvPr>
        </p:nvSpPr>
        <p:spPr>
          <a:xfrm>
            <a:off x="380520" y="2057040"/>
            <a:ext cx="7696440" cy="48006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t To The Test</a:t>
            </a:r>
            <a:r>
              <a:rPr b="0" lang="en-US" sz="1800" spc="-1" strike="noStrike">
                <a:solidFill>
                  <a:srgbClr val="000000"/>
                </a:solidFill>
                <a:latin typeface="Arial Narrow"/>
              </a:rPr>
              <a:t> (Acts 5:9): Again refers to Ananias and Sapphira and refers to their testing the omniscience of the Holy Spirit by thinking they could deceive those He had filled with power and anointed.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de Jealous</a:t>
            </a:r>
            <a:r>
              <a:rPr b="0" lang="en-US" sz="1800" spc="-1" strike="noStrike">
                <a:solidFill>
                  <a:srgbClr val="000000"/>
                </a:solidFill>
                <a:latin typeface="Arial Narrow"/>
              </a:rPr>
              <a:t> (James 4:4,5):</a:t>
            </a:r>
            <a:r>
              <a:rPr b="0" i="1" lang="en-US" sz="1800" spc="-1" strike="noStrike">
                <a:solidFill>
                  <a:srgbClr val="000000"/>
                </a:solidFill>
                <a:latin typeface="Arial Narrow"/>
              </a:rPr>
              <a:t>Adulterers and adulteresses! Do you not know that friendship with the world is enmity with God? …Or do you think that the Scripture says in vain, "The Spirit who dwells in us yearns jealously"?</a:t>
            </a:r>
            <a:r>
              <a:rPr b="0" lang="en-US" sz="1800" spc="-1" strike="noStrike">
                <a:solidFill>
                  <a:srgbClr val="000000"/>
                </a:solidFill>
                <a:latin typeface="Arial Narrow"/>
              </a:rPr>
              <a:t> Friendship with “the world”, is seen as spiritual adultery and makes the Spirit jealous. If we love the world (as in worldliness, not as in John 3:16) we enrage the Holy Spirit. Worldliness is often characteristic of carnal Christians and does great damage to their relationship with God.</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ulted/Outraged/Do Despite Unto</a:t>
            </a:r>
            <a:r>
              <a:rPr b="0" lang="en-US" sz="1800" spc="-1" strike="noStrike">
                <a:solidFill>
                  <a:srgbClr val="000000"/>
                </a:solidFill>
                <a:latin typeface="Arial Narrow"/>
              </a:rPr>
              <a:t> (Hebrews 10:29): Refers to someone who turns back from Christianity to Judaism (or to any other religion) and thus says that the work of the Spirit of grace in his or her life was of no value to them. These are apostate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lse Teachers &amp; The Holy Spirit</a:t>
            </a:r>
            <a:endParaRPr b="0" lang="en-US" sz="4000" spc="-1" strike="noStrike">
              <a:solidFill>
                <a:srgbClr val="333399"/>
              </a:solidFill>
              <a:latin typeface="Tahoma"/>
            </a:endParaRPr>
          </a:p>
        </p:txBody>
      </p:sp>
      <p:sp>
        <p:nvSpPr>
          <p:cNvPr id="15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oid Of The Spirit</a:t>
            </a:r>
            <a:r>
              <a:rPr b="0" lang="en-US" sz="1800" spc="-1" strike="noStrike">
                <a:solidFill>
                  <a:srgbClr val="000000"/>
                </a:solidFill>
                <a:latin typeface="Tahoma"/>
              </a:rPr>
              <a:t> (Jude 1:19): Refers to false teachers who joined into Christian groups and created division leading people away to their own groups. These are probably not even believers to start with.</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isted</a:t>
            </a:r>
            <a:r>
              <a:rPr b="0" lang="en-US" sz="1800" spc="-1" strike="noStrike">
                <a:solidFill>
                  <a:srgbClr val="000000"/>
                </a:solidFill>
                <a:latin typeface="Tahoma"/>
              </a:rPr>
              <a:t> (Acts 7:51): Refers to the unbelieving Jews who were stoning Stephen and resisting the clear testimony of the Holy Spirit. Later God said to one of those resistant Jews "Saul, Saul, it must be hard for you to kick against the goads..". This term is not used of believer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sphemed</a:t>
            </a:r>
            <a:r>
              <a:rPr b="0" lang="en-US" sz="1800" spc="-1" strike="noStrike">
                <a:solidFill>
                  <a:srgbClr val="000000"/>
                </a:solidFill>
                <a:latin typeface="Tahoma"/>
              </a:rPr>
              <a:t> (Matthew 12:31): Is used of those unbelieving Jews who so deeply resisted the Holy Spirit that they saw the miraculous ministry of Jesus Christ as the work of the Devil and attributed His power to Satan. Again it is never used of Christia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ice Of Sin</a:t>
            </a:r>
            <a:endParaRPr b="0" lang="en-US" sz="4400" spc="-1" strike="noStrike">
              <a:solidFill>
                <a:srgbClr val="333399"/>
              </a:solidFill>
              <a:latin typeface="Tahoma"/>
            </a:endParaRPr>
          </a:p>
        </p:txBody>
      </p:sp>
      <p:sp>
        <p:nvSpPr>
          <p:cNvPr id="15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otional consequences of sinning against the Holy Spirit are dire indee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people sin against the Holy Spirit the nastier they becom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above verses we see them pilfering, murdering lying, fighting and quarreling.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Holy Spirit is quenched, grieved and resisted His love departs and hatred enters into the person.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Apostles &amp; Leaders</a:t>
            </a:r>
            <a:endParaRPr b="0" lang="en-US" sz="4400" spc="-1" strike="noStrike">
              <a:solidFill>
                <a:srgbClr val="333399"/>
              </a:solidFill>
              <a:latin typeface="Tahoma"/>
            </a:endParaRPr>
          </a:p>
        </p:txBody>
      </p:sp>
      <p:sp>
        <p:nvSpPr>
          <p:cNvPr id="105" name="PlaceHolder 2"/>
          <p:cNvSpPr>
            <a:spLocks noGrp="1"/>
          </p:cNvSpPr>
          <p:nvPr>
            <p:ph/>
          </p:nvPr>
        </p:nvSpPr>
        <p:spPr>
          <a:xfrm>
            <a:off x="533160" y="2209680"/>
            <a:ext cx="7924680" cy="32004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should see the world differently from the rest of us. For them the Kingdom perspective will be the only true perspectiv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should be able from time to time to see into the hearts of men and women and to speak accurately to their condition.</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should be conversant with dreams, visions and symbolic language. They should readily grasp the prophetic and be excited by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ity and Low EQ</a:t>
            </a:r>
            <a:endParaRPr b="0" lang="en-US" sz="4400" spc="-1" strike="noStrike">
              <a:solidFill>
                <a:srgbClr val="333399"/>
              </a:solidFill>
              <a:latin typeface="Tahoma"/>
            </a:endParaRPr>
          </a:p>
        </p:txBody>
      </p:sp>
      <p:sp>
        <p:nvSpPr>
          <p:cNvPr id="159" name="PlaceHolder 2"/>
          <p:cNvSpPr>
            <a:spLocks noGrp="1"/>
          </p:cNvSpPr>
          <p:nvPr>
            <p:ph/>
          </p:nvPr>
        </p:nvSpPr>
        <p:spPr>
          <a:xfrm>
            <a:off x="228600" y="2133720"/>
            <a:ext cx="8229600" cy="4419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oor control carnal Christians have over their emotional life is due to their lack of co-operation with the Holy Spirit and can be seen in:</a:t>
            </a:r>
            <a:br>
              <a:rPr sz="1800"/>
            </a:b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Impulse Control:</a:t>
            </a:r>
            <a:r>
              <a:rPr b="0" lang="en-US" sz="1800" spc="-1" strike="noStrike">
                <a:solidFill>
                  <a:srgbClr val="000000"/>
                </a:solidFill>
                <a:latin typeface="Arial Narrow"/>
              </a:rPr>
              <a:t> Giving in to sexual immorality, drunkenness and even in the disorder of their worship.</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Anger Management:</a:t>
            </a:r>
            <a:r>
              <a:rPr b="0" lang="en-US" sz="1800" spc="-1" strike="noStrike">
                <a:solidFill>
                  <a:srgbClr val="000000"/>
                </a:solidFill>
                <a:latin typeface="Arial Narrow"/>
              </a:rPr>
              <a:t> Most notably the congregation that James wrote to which were murdering each other (James 4:2) and the Galatians which were "biting and devouring" each other. (Galatians 5:15)</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sintegrating Relationships</a:t>
            </a:r>
            <a:r>
              <a:rPr b="0" lang="en-US" sz="1800" spc="-1" strike="noStrike">
                <a:solidFill>
                  <a:srgbClr val="000000"/>
                </a:solidFill>
                <a:latin typeface="Arial Narrow"/>
              </a:rPr>
              <a:t>: Envying, factions, strife and contentions. ( 1 Cor 3:3</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w Levels of Personal Motivation:</a:t>
            </a:r>
            <a:r>
              <a:rPr b="0" lang="en-US" sz="1800" spc="-1" strike="noStrike">
                <a:solidFill>
                  <a:srgbClr val="000000"/>
                </a:solidFill>
                <a:latin typeface="Arial Narrow"/>
              </a:rPr>
              <a:t> They are variously described as evil beasts and lazy gluttons (Titus 1:12-14) , neglectful, dull of hearing, and in danger of drifting.</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xic Tongues…</a:t>
            </a:r>
            <a:endParaRPr b="0" lang="en-US" sz="4400" spc="-1" strike="noStrike">
              <a:solidFill>
                <a:srgbClr val="333399"/>
              </a:solidFill>
              <a:latin typeface="Tahoma"/>
            </a:endParaRPr>
          </a:p>
        </p:txBody>
      </p:sp>
      <p:sp>
        <p:nvSpPr>
          <p:cNvPr id="16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stability:</a:t>
            </a:r>
            <a:r>
              <a:rPr b="0" lang="en-US" sz="1800" spc="-1" strike="noStrike">
                <a:solidFill>
                  <a:srgbClr val="000000"/>
                </a:solidFill>
                <a:latin typeface="Tahoma"/>
              </a:rPr>
              <a:t> Following after "the latest" false teachers particularly if they were good talkers and emotionally persuasive (2 Corinthians 11) and being tossed around by every wind of doctrine.</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ck Of Basic Empathy and Compassion:</a:t>
            </a:r>
            <a:r>
              <a:rPr b="0" lang="en-US" sz="1800" spc="-1" strike="noStrike">
                <a:solidFill>
                  <a:srgbClr val="000000"/>
                </a:solidFill>
                <a:latin typeface="Tahoma"/>
              </a:rPr>
              <a:t> Such as saying to a person who was without food or shelter "be warm and filled" and not doing anything! Or dishonoring the poor by making them sit in lowly places in church. (James 2).</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Toxic Tongue:</a:t>
            </a:r>
            <a:r>
              <a:rPr b="0" lang="en-US" sz="1800" spc="-1" strike="noStrike">
                <a:solidFill>
                  <a:srgbClr val="000000"/>
                </a:solidFill>
                <a:latin typeface="Tahoma"/>
              </a:rPr>
              <a:t> Gossip, slander, and the like that proceeds from out of control emotions. (James 3)</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Poisonous Personality:</a:t>
            </a:r>
            <a:r>
              <a:rPr b="0" lang="en-US" sz="1800" spc="-1" strike="noStrike">
                <a:solidFill>
                  <a:srgbClr val="000000"/>
                </a:solidFill>
                <a:latin typeface="Tahoma"/>
              </a:rPr>
              <a:t> Such people are described as a "root of bitterness that defiles many" or like the emotionally rigid Diotrephes who "like to put himself first" and controlled the church (3 Joh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ure For Carnality</a:t>
            </a:r>
            <a:endParaRPr b="0" lang="en-US" sz="4400" spc="-1" strike="noStrike">
              <a:solidFill>
                <a:srgbClr val="333399"/>
              </a:solidFill>
              <a:latin typeface="Tahoma"/>
            </a:endParaRPr>
          </a:p>
        </p:txBody>
      </p:sp>
      <p:sp>
        <p:nvSpPr>
          <p:cNvPr id="163" name="PlaceHolder 2"/>
          <p:cNvSpPr>
            <a:spLocks noGrp="1"/>
          </p:cNvSpPr>
          <p:nvPr>
            <p:ph/>
          </p:nvPr>
        </p:nvSpPr>
        <p:spPr>
          <a:xfrm>
            <a:off x="533520" y="2209320"/>
            <a:ext cx="8229600" cy="34290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ul still wrote to, taught and cared for carnal Christia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eaching about Christ and the Holy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filled with the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centered on Christ – not themselve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accountable relationships of grac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 five step model accurately predicts the emotional state of both saintly Christians and carnal Christia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Emotional authenticity is entirely a work of the Holy Spirit . However it can occur to some extent in non-believers who seek it as a work of </a:t>
            </a:r>
            <a:r>
              <a:rPr b="0" i="1" lang="en-US" sz="2000" spc="-1" strike="noStrike">
                <a:solidFill>
                  <a:srgbClr val="000000"/>
                </a:solidFill>
                <a:latin typeface="Tahoma"/>
              </a:rPr>
              <a:t>common grace</a:t>
            </a:r>
            <a:r>
              <a:rPr b="0" lang="en-US" sz="2000" spc="-1" strike="noStrike">
                <a:solidFill>
                  <a:srgbClr val="000000"/>
                </a:solidFill>
                <a:latin typeface="Tahoma"/>
              </a:rPr>
              <a:t>. More commonly it is found in Spirit-filled believers who are walking in holines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motional functionality and authenticity come about through the person co-operating with the Holy Spirit as He forms spiritual perspectives and a Christ-like belief system in the pers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6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Resisting this work of the Holy Spirit results in emotional catastroph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Emotionally undeveloped Christians who remain close to God can grow into emotionally adept people just as it seems the originally abrasive Paul did.</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o-operating with God means not grieving or quenching the Holy Spirit and being careful to avoid worldlines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Big Lesson</a:t>
            </a:r>
            <a:endParaRPr b="0" lang="en-US" sz="4400" spc="-1" strike="noStrike">
              <a:solidFill>
                <a:srgbClr val="333399"/>
              </a:solidFill>
              <a:latin typeface="Tahoma"/>
            </a:endParaRPr>
          </a:p>
        </p:txBody>
      </p:sp>
      <p:sp>
        <p:nvSpPr>
          <p:cNvPr id="16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key factor in real, authentic, godly, emotional development is your relationship with God through the Holy Spiri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ristians need to be born-again and Spirit-filled and obediently walking in the Spirit on a day-to-day bas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should have beliefs that the surrounding culture has not taught them or which it opposes vehemently, beliefs that only God can have taught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ose beliefs should give them a sense of what is righteous and what is unrighteous like Jesus had when He cleansed the temple and their beliefs should create an unusual zeal within them that consumes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ose beliefs should give them unusual poise and power in crisis situations like Jesus in the stor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As a result of those beliefs they should resonate with and be emotionally drawn to others who are of great faith, like Jesus resonated with the Roman centurion</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Emotion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They should have deep and vivid emotions like those of Jesus Chris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They should have a sense of their emotions being God's emotions and be aware of what they are feeling and able to name it clearly as Jesus did with His emotion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They should be people of authentic and powerful emotional expression - groans, tears, crying, and rejoicing.</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hysical Nature</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should demonstrate victory over addictions and sexual temptations and have a renewed physical na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should be able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utward Expression</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3" name="PlaceHolder 2"/>
          <p:cNvSpPr>
            <a:spLocks noGrp="1"/>
          </p:cNvSpPr>
          <p:nvPr>
            <p:ph/>
          </p:nvPr>
        </p:nvSpPr>
        <p:spPr>
          <a:xfrm>
            <a:off x="457200" y="2017800"/>
            <a:ext cx="81532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se righteous emotions should lead to righteous actions such as when Jesus' compassion moved Him to ac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should be an integral part of being a righteous person. Not detached from lif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should demonstrate an ever-increasing wisdom in emotional expression as if God were teaching them how to say thing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 these predictions hold?</a:t>
            </a:r>
            <a:br>
              <a:rPr sz="4400"/>
            </a:b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ostles and great Christian leaders do indeed show a different order of perceptions, beliefs, emotions, physical victory and gracious outward express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Scripture and history tell us that the Holy Spirit did indeed produce these things in people who were submitted most fully to Hi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0663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ivid Emotions Vs. Immature Emotions</a:t>
            </a:r>
            <a:endParaRPr b="0" lang="en-US" sz="3200" spc="-1" strike="noStrike">
              <a:solidFill>
                <a:srgbClr val="333399"/>
              </a:solidFill>
              <a:latin typeface="Tahoma"/>
            </a:endParaRPr>
          </a:p>
        </p:txBody>
      </p:sp>
      <p:sp>
        <p:nvSpPr>
          <p:cNvPr id="117" name="PlaceHolder 2"/>
          <p:cNvSpPr>
            <a:spLocks noGrp="1"/>
          </p:cNvSpPr>
          <p:nvPr>
            <p:ph/>
          </p:nvPr>
        </p:nvSpPr>
        <p:spPr>
          <a:xfrm>
            <a:off x="340920" y="2057040"/>
            <a:ext cx="8193240" cy="39625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salms 30 NKJV) I will </a:t>
            </a:r>
            <a:r>
              <a:rPr b="1" i="1" lang="en-US" sz="1800" spc="-1" strike="noStrike">
                <a:solidFill>
                  <a:srgbClr val="000000"/>
                </a:solidFill>
                <a:latin typeface="Arial Narrow"/>
              </a:rPr>
              <a:t>extol You</a:t>
            </a:r>
            <a:r>
              <a:rPr b="0" lang="en-US" sz="1800" spc="-1" strike="noStrike">
                <a:solidFill>
                  <a:srgbClr val="000000"/>
                </a:solidFill>
                <a:latin typeface="Arial Narrow"/>
              </a:rPr>
              <a:t>, O LORD, for You have lifted me up, And have not let my foes rejoice over me. </a:t>
            </a:r>
            <a:r>
              <a:rPr b="1" i="1" lang="en-US" sz="1800" spc="-1" strike="noStrike">
                <a:solidFill>
                  <a:srgbClr val="000000"/>
                </a:solidFill>
                <a:latin typeface="Arial Narrow"/>
              </a:rPr>
              <a:t>{2} O LORD my God, I cried out to You, </a:t>
            </a:r>
            <a:r>
              <a:rPr b="0" lang="en-US" sz="1800" spc="-1" strike="noStrike">
                <a:solidFill>
                  <a:srgbClr val="000000"/>
                </a:solidFill>
                <a:latin typeface="Arial Narrow"/>
              </a:rPr>
              <a:t>And You healed me.</a:t>
            </a:r>
            <a:r>
              <a:rPr b="1" i="1" lang="en-US" sz="1800" spc="-1" strike="noStrike">
                <a:solidFill>
                  <a:srgbClr val="000000"/>
                </a:solidFill>
                <a:latin typeface="Arial Narrow"/>
              </a:rPr>
              <a:t> </a:t>
            </a:r>
            <a:r>
              <a:rPr b="0" lang="en-US" sz="1800" spc="-1" strike="noStrike">
                <a:solidFill>
                  <a:srgbClr val="000000"/>
                </a:solidFill>
                <a:latin typeface="Arial Narrow"/>
              </a:rPr>
              <a:t>{3} O LORD, You brought my soul up from the grave; You have kept me alive, that I should not go down to the pit. {4} </a:t>
            </a:r>
            <a:r>
              <a:rPr b="1" i="1" lang="en-US" sz="1800" spc="-1" strike="noStrike">
                <a:solidFill>
                  <a:srgbClr val="000000"/>
                </a:solidFill>
                <a:latin typeface="Arial Narrow"/>
              </a:rPr>
              <a:t>Sing praise to the LORD,</a:t>
            </a:r>
            <a:r>
              <a:rPr b="0" lang="en-US" sz="1800" spc="-1" strike="noStrike">
                <a:solidFill>
                  <a:srgbClr val="000000"/>
                </a:solidFill>
                <a:latin typeface="Arial Narrow"/>
              </a:rPr>
              <a:t> You saints of His, And </a:t>
            </a:r>
            <a:r>
              <a:rPr b="1" i="1" lang="en-US" sz="1800" spc="-1" strike="noStrike">
                <a:solidFill>
                  <a:srgbClr val="000000"/>
                </a:solidFill>
                <a:latin typeface="Arial Narrow"/>
              </a:rPr>
              <a:t>give thanks</a:t>
            </a:r>
            <a:r>
              <a:rPr b="0" lang="en-US" sz="1800" spc="-1" strike="noStrike">
                <a:solidFill>
                  <a:srgbClr val="000000"/>
                </a:solidFill>
                <a:latin typeface="Arial Narrow"/>
              </a:rPr>
              <a:t> at the remembrance of His holy name. {5} For His anger is but for a moment, His favor is for life; </a:t>
            </a:r>
            <a:r>
              <a:rPr b="1" i="1" lang="en-US" sz="1800" spc="-1" strike="noStrike">
                <a:solidFill>
                  <a:srgbClr val="000000"/>
                </a:solidFill>
                <a:latin typeface="Arial Narrow"/>
              </a:rPr>
              <a:t>Weeping may endure for a night, But joy comes in the morning.</a:t>
            </a:r>
            <a:r>
              <a:rPr b="0" lang="en-US" sz="1800" spc="-1" strike="noStrike">
                <a:solidFill>
                  <a:srgbClr val="000000"/>
                </a:solidFill>
                <a:latin typeface="Arial Narrow"/>
              </a:rPr>
              <a:t> {6} Now in my prosperity I said, "I shall never be moved." {7} LORD, by Your favor You have made my mountain stand strong; You hid Your face, and</a:t>
            </a:r>
            <a:r>
              <a:rPr b="1" i="1" lang="en-US" sz="1800" spc="-1" strike="noStrike">
                <a:solidFill>
                  <a:srgbClr val="000000"/>
                </a:solidFill>
                <a:latin typeface="Arial Narrow"/>
              </a:rPr>
              <a:t> I was troubled.</a:t>
            </a:r>
            <a:r>
              <a:rPr b="0" lang="en-US" sz="1800" spc="-1" strike="noStrike">
                <a:solidFill>
                  <a:srgbClr val="000000"/>
                </a:solidFill>
                <a:latin typeface="Arial Narrow"/>
              </a:rPr>
              <a:t> {8} </a:t>
            </a:r>
            <a:r>
              <a:rPr b="1" i="1" lang="en-US" sz="1800" spc="-1" strike="noStrike">
                <a:solidFill>
                  <a:srgbClr val="000000"/>
                </a:solidFill>
                <a:latin typeface="Arial Narrow"/>
              </a:rPr>
              <a:t>I cried out to You,</a:t>
            </a:r>
            <a:r>
              <a:rPr b="0" lang="en-US" sz="1800" spc="-1" strike="noStrike">
                <a:solidFill>
                  <a:srgbClr val="000000"/>
                </a:solidFill>
                <a:latin typeface="Arial Narrow"/>
              </a:rPr>
              <a:t> O LORD; And to the LORD I </a:t>
            </a:r>
            <a:r>
              <a:rPr b="1" i="1" lang="en-US" sz="1800" spc="-1" strike="noStrike">
                <a:solidFill>
                  <a:srgbClr val="000000"/>
                </a:solidFill>
                <a:latin typeface="Arial Narrow"/>
              </a:rPr>
              <a:t>made supplication</a:t>
            </a:r>
            <a:r>
              <a:rPr b="0" lang="en-US" sz="1800" spc="-1" strike="noStrike">
                <a:solidFill>
                  <a:srgbClr val="000000"/>
                </a:solidFill>
                <a:latin typeface="Arial Narrow"/>
              </a:rPr>
              <a:t>: {9} "What profit is there in my blood, When I go down to the pit? Will the dust praise You? Will it declare Your truth? {10} Hear, O LORD, and </a:t>
            </a:r>
            <a:r>
              <a:rPr b="1" i="1" lang="en-US" sz="1800" spc="-1" strike="noStrike">
                <a:solidFill>
                  <a:srgbClr val="000000"/>
                </a:solidFill>
                <a:latin typeface="Arial Narrow"/>
              </a:rPr>
              <a:t>have mercy on me</a:t>
            </a:r>
            <a:r>
              <a:rPr b="0" lang="en-US" sz="1800" spc="-1" strike="noStrike">
                <a:solidFill>
                  <a:srgbClr val="000000"/>
                </a:solidFill>
                <a:latin typeface="Arial Narrow"/>
              </a:rPr>
              <a:t>; LORD, be my helper!" {11} You have turned for me </a:t>
            </a:r>
            <a:r>
              <a:rPr b="1" i="1" lang="en-US" sz="1800" spc="-1" strike="noStrike">
                <a:solidFill>
                  <a:srgbClr val="000000"/>
                </a:solidFill>
                <a:latin typeface="Arial Narrow"/>
              </a:rPr>
              <a:t>my mourning into dancing</a:t>
            </a:r>
            <a:r>
              <a:rPr b="0" lang="en-US" sz="1800" spc="-1" strike="noStrike">
                <a:solidFill>
                  <a:srgbClr val="000000"/>
                </a:solidFill>
                <a:latin typeface="Arial Narrow"/>
              </a:rPr>
              <a:t>; You have put off my sackcloth and clothed me with </a:t>
            </a:r>
            <a:r>
              <a:rPr b="1" i="1" lang="en-US" sz="1800" spc="-1" strike="noStrike">
                <a:solidFill>
                  <a:srgbClr val="000000"/>
                </a:solidFill>
                <a:latin typeface="Arial Narrow"/>
              </a:rPr>
              <a:t>gladness</a:t>
            </a:r>
            <a:r>
              <a:rPr b="0" lang="en-US" sz="1800" spc="-1" strike="noStrike">
                <a:solidFill>
                  <a:srgbClr val="000000"/>
                </a:solidFill>
                <a:latin typeface="Arial Narrow"/>
              </a:rPr>
              <a:t>, {12} To the end that my glory may sing </a:t>
            </a:r>
            <a:r>
              <a:rPr b="1" i="1" lang="en-US" sz="1800" spc="-1" strike="noStrike">
                <a:solidFill>
                  <a:srgbClr val="000000"/>
                </a:solidFill>
                <a:latin typeface="Arial Narrow"/>
              </a:rPr>
              <a:t>praise</a:t>
            </a:r>
            <a:r>
              <a:rPr b="0" lang="en-US" sz="1800" spc="-1" strike="noStrike">
                <a:solidFill>
                  <a:srgbClr val="000000"/>
                </a:solidFill>
                <a:latin typeface="Arial Narrow"/>
              </a:rPr>
              <a:t> to You and not be silent. O LORD my God, I will give </a:t>
            </a:r>
            <a:r>
              <a:rPr b="1" i="1" lang="en-US" sz="1800" spc="-1" strike="noStrike">
                <a:solidFill>
                  <a:srgbClr val="000000"/>
                </a:solidFill>
                <a:latin typeface="Arial Narrow"/>
              </a:rPr>
              <a:t>thanks </a:t>
            </a:r>
            <a:r>
              <a:rPr b="0" lang="en-US" sz="1800" spc="-1" strike="noStrike">
                <a:solidFill>
                  <a:srgbClr val="000000"/>
                </a:solidFill>
                <a:latin typeface="Arial Narrow"/>
              </a:rPr>
              <a:t>to You forever.</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9:26:10Z</dcterms:created>
  <dc:creator>John Edmiston</dc:creator>
  <dc:description/>
  <dc:language>en-US</dc:language>
  <cp:lastModifiedBy>John Edmiston</cp:lastModifiedBy>
  <dcterms:modified xsi:type="dcterms:W3CDTF">2004-05-01T15:49:08Z</dcterms:modified>
  <cp:revision>44</cp:revision>
  <dc:subject/>
  <dc:title>PowerPoint Presentation</dc:title>
</cp:coreProperties>
</file>