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D3F7C-4BD0-4EB0-A274-BDEBBD4B8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306B8-890E-40AB-8F6D-E83F74169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60EB6-31A3-468B-96BC-227D22E95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9630D-787C-4CDD-BAAC-E2A1CC9D0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9EC2C-62F5-424D-9E4F-0F88DA882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010FF-96C7-42C5-AEFF-534C3EA8D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34B3-CB20-4293-8B41-6FB2C3E8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65AD7-92B6-467C-A0E7-9F23422F1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75049-DCFC-4D73-846D-F80FA75BE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CEBBD-D3E0-4CBA-8BF3-0C0D8A616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83369-2374-401C-9A6B-9E243ACB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2CD37-5905-4317-8020-7B54C0C04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713E8-13C6-43BC-BD02-95E7AF6E3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9430A-AD12-4C9D-92FF-0E7AEBAA4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367F1-C865-45C1-9578-047434100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F7D8F-BF04-4702-A7B1-B267C66A9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A0EBC-76D4-499B-A648-6E10256F9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61BC-8EE9-4F88-9CA3-7D088DA88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DA69-2ABF-4F91-8055-5DA7CF1F7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A879-C83A-4755-8BFB-A5A38CF5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5366-3B81-4475-8FE1-370A47620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CEE6-AB31-4E9C-9F5D-05D075F7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AF72-410A-4404-81C9-1885002A5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A38E-BD59-4F3A-AC6C-4DEFD5DEC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19F3-4050-435B-AC1A-3046A00D4D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7586-668C-496C-B342-7415724409C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2 –</a:t>
            </a:r>
            <a:r>
              <a:rPr b="1" i="1" lang="en-US" sz="2800" spc="-1" strike="noStrike">
                <a:solidFill>
                  <a:srgbClr val="000000"/>
                </a:solidFill>
                <a:latin typeface="ZapfChan Bd BT"/>
              </a:rPr>
              <a:t> </a:t>
            </a:r>
            <a:r>
              <a:rPr b="1" i="1" lang="en-US" sz="2800" spc="-1" strike="noStrike">
                <a:solidFill>
                  <a:srgbClr val="333399"/>
                </a:solidFill>
                <a:latin typeface="ZapfChan Bd BT"/>
              </a:rPr>
              <a:t>The Role Of The Holy Spirit</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3341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Knew The Heart of Things</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judged life's situations with a spirit of wisdom and understanding, counsel and knowledge that saw into the heart of thing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pecial perception that Jesus had shows in many of the gospel encounters and is neatly summarized by the apostle John who writes: </a:t>
            </a:r>
            <a:r>
              <a:rPr b="0" lang="en-US" sz="1800" spc="-1" strike="noStrike">
                <a:solidFill>
                  <a:srgbClr val="333399"/>
                </a:solidFill>
                <a:latin typeface="Tahoma"/>
              </a:rPr>
              <a:t>(John 2:24 NKJV) But Jesus did not commit Himself to them, because He knew all men.</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Matthew 9:4, 12:25, Mark 5:30, 12:15 Luke 11;17, John 5:6, 6:61, 64 , 13:1-3, 18:4)</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power of insight was from the Holy Spiri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Flowed From His Spiritual Insights</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perceptions of situations </a:t>
            </a:r>
            <a:r>
              <a:rPr b="0" lang="en-US" sz="1800" spc="-1" strike="noStrike">
                <a:solidFill>
                  <a:srgbClr val="000000"/>
                </a:solidFill>
                <a:latin typeface="Symbol"/>
                <a:ea typeface="Symbol"/>
              </a:rPr>
              <a:t></a:t>
            </a:r>
            <a:r>
              <a:rPr b="0" lang="en-US" sz="1800" spc="-1" strike="noStrike">
                <a:solidFill>
                  <a:srgbClr val="000000"/>
                </a:solidFill>
                <a:latin typeface="Tahoma"/>
              </a:rPr>
              <a:t> then led to His emotional reactions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nsing the darkness of His impending death </a:t>
            </a:r>
            <a:r>
              <a:rPr b="0" lang="en-US" sz="1800" spc="-1" strike="noStrike">
                <a:solidFill>
                  <a:srgbClr val="000000"/>
                </a:solidFill>
                <a:latin typeface="Symbol"/>
                <a:ea typeface="Symbol"/>
              </a:rPr>
              <a:t></a:t>
            </a:r>
            <a:r>
              <a:rPr b="0" lang="en-US" sz="1800" spc="-1" strike="noStrike">
                <a:solidFill>
                  <a:srgbClr val="000000"/>
                </a:solidFill>
                <a:latin typeface="Tahoma"/>
              </a:rPr>
              <a:t> His soul was troubled unto deat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eing the grief at Lazarus's tomb </a:t>
            </a:r>
            <a:r>
              <a:rPr b="0" lang="en-US" sz="1800" spc="-1" strike="noStrike">
                <a:solidFill>
                  <a:srgbClr val="000000"/>
                </a:solidFill>
                <a:latin typeface="Symbol"/>
                <a:ea typeface="Symbol"/>
              </a:rPr>
              <a:t></a:t>
            </a:r>
            <a:r>
              <a:rPr b="0" lang="en-US" sz="1800" spc="-1" strike="noStrike">
                <a:solidFill>
                  <a:srgbClr val="000000"/>
                </a:solidFill>
                <a:latin typeface="Tahoma"/>
              </a:rPr>
              <a:t> He groaned in spirit and was troubl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e disciples returned victorious </a:t>
            </a:r>
            <a:r>
              <a:rPr b="0" lang="en-US" sz="1800" spc="-1" strike="noStrike">
                <a:solidFill>
                  <a:srgbClr val="000000"/>
                </a:solidFill>
                <a:latin typeface="Symbol"/>
                <a:ea typeface="Symbol"/>
              </a:rPr>
              <a:t></a:t>
            </a:r>
            <a:r>
              <a:rPr b="0" lang="en-US" sz="1800" spc="-1" strike="noStrike">
                <a:solidFill>
                  <a:srgbClr val="000000"/>
                </a:solidFill>
                <a:latin typeface="Tahoma"/>
              </a:rPr>
              <a:t>  He rejoic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He perceived the hardness of heart of the Pharisees </a:t>
            </a:r>
            <a:r>
              <a:rPr b="0" lang="en-US" sz="1800" spc="-1" strike="noStrike">
                <a:solidFill>
                  <a:srgbClr val="000000"/>
                </a:solidFill>
                <a:latin typeface="Symbol"/>
                <a:ea typeface="Symbol"/>
              </a:rPr>
              <a:t></a:t>
            </a:r>
            <a:r>
              <a:rPr b="0" lang="en-US" sz="1800" spc="-1" strike="noStrike">
                <a:solidFill>
                  <a:srgbClr val="000000"/>
                </a:solidFill>
                <a:latin typeface="Tahoma"/>
              </a:rPr>
              <a:t> He became angr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hen He sees masses of people coming out after healing and teaching </a:t>
            </a:r>
            <a:r>
              <a:rPr b="0" lang="en-US" sz="1800" spc="-1" strike="noStrike">
                <a:solidFill>
                  <a:srgbClr val="000000"/>
                </a:solidFill>
                <a:latin typeface="Symbol"/>
                <a:ea typeface="Symbol"/>
              </a:rPr>
              <a:t></a:t>
            </a:r>
            <a:r>
              <a:rPr b="0" lang="en-US" sz="1800" spc="-1" strike="noStrike">
                <a:solidFill>
                  <a:srgbClr val="000000"/>
                </a:solidFill>
                <a:latin typeface="Tahoma"/>
              </a:rPr>
              <a:t> He is moved with compassion.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then expressed these emotions powerfully but appropriatel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always great dignity in the reactions of Jesus Christ. His emotionality was deep and expressive - never trivial, sentimental or chaotic.</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 Our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ay Jesus formed and expressed His emotions shows us how we should form and express our emotion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Perceive life spiritually, righteously, truthfully and with a Kingdom perspectiv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React in our soul and spirit. Be moved by life. Not aloof and detached or cold and har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Express those reactions with dignity, power and poise. Be full-hearted emotionally but also be wise in express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eliefs Were Important In Forming  His Emotion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iefs lie behind many emo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you believe about a situation affects how you feel about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think iron pyrites (Fool’s Gold) is real gold, you will believe you are rich and be happ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 about the sacredness of the Temple caused Him to become angry about the moneychang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the spiritual life caused Him to rejoice greatly at the faith of the centur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His powers led Him to be calm in the stor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ive Stages of Emotion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tuation </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ception of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Beliefs about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Emotion Generated</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 with our physical predisposi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ward expression of the emotional reaction</a:t>
            </a: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each of these was controlled by the Holy Spirit. </a:t>
            </a:r>
            <a:br>
              <a:rPr sz="1800"/>
            </a:br>
            <a:r>
              <a:rPr b="0" lang="en-US" sz="1800" spc="-1" strike="noStrike">
                <a:solidFill>
                  <a:srgbClr val="000000"/>
                </a:solidFill>
                <a:latin typeface="Tahoma"/>
              </a:rPr>
              <a:t>Christians also need to allow the Holy Spirit to transform each of these five step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t Each Stag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erception:</a:t>
            </a:r>
            <a:r>
              <a:rPr b="0" lang="en-US" sz="1800" spc="-1" strike="noStrike">
                <a:solidFill>
                  <a:srgbClr val="000000"/>
                </a:solidFill>
                <a:latin typeface="Tahoma"/>
              </a:rPr>
              <a:t> Jesus perceives by both His Spirit and the Holy Spirit who brings these realities to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Beliefs:</a:t>
            </a:r>
            <a:r>
              <a:rPr b="0" lang="en-US" sz="1800" spc="-1" strike="noStrike">
                <a:solidFill>
                  <a:srgbClr val="000000"/>
                </a:solidFill>
                <a:latin typeface="Tahoma"/>
              </a:rPr>
              <a:t> The Holy Spirit writes the law of God on our minds and hearts and forms our beliefs within us as our teacher and the One who shows us the things that God has prepared for those who believe and reveals to us the deep things of God. Here are just a few direct references to His teaching ministry. (John 6:45, 14:26, Galatians 1;11,12 , 1 Corinthians 2:9-16, Ephesians 4:21, 1 Thessalonians 4:9, Hebrews 8;10-11, 1 John 2:20,27 )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nal Emotions:</a:t>
            </a:r>
            <a:r>
              <a:rPr b="0" lang="en-US" sz="1800" spc="-1" strike="noStrike">
                <a:solidFill>
                  <a:srgbClr val="000000"/>
                </a:solidFill>
                <a:latin typeface="Tahoma"/>
              </a:rPr>
              <a:t> Emotions can proceed directly from our spirit under the influence of the Holy Spirit " and Jesus rejoiced in His spirit.." and emotions such as love, joy and peace are called the fruit of the Spirit (Galatians 5:22,23).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2057400"/>
            <a:ext cx="7772400" cy="3733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action With Physical Disposition:</a:t>
            </a:r>
            <a:r>
              <a:rPr b="0" lang="en-US" sz="1800" spc="-1" strike="noStrike">
                <a:solidFill>
                  <a:srgbClr val="000000"/>
                </a:solidFill>
                <a:latin typeface="Tahoma"/>
              </a:rPr>
              <a:t> The indwelling Holy Spirit gives life to our mortal bodies that we may be renewed and cry out "Abba Father!" (Romans 8:11-15) to our gracious Heavenly Father. His powerful work can break the domination of our lives by sin and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utward Expression Of The Emotional Reaction:</a:t>
            </a:r>
            <a:r>
              <a:rPr b="0" lang="en-US" sz="1800" spc="-1" strike="noStrike">
                <a:solidFill>
                  <a:srgbClr val="000000"/>
                </a:solidFill>
                <a:latin typeface="Tahoma"/>
              </a:rPr>
              <a:t> The spiritual basis for revelation that culminates in teaching is shown in </a:t>
            </a:r>
            <a:r>
              <a:rPr b="0" lang="en-US" sz="1800" spc="-1" strike="noStrike">
                <a:solidFill>
                  <a:srgbClr val="333399"/>
                </a:solidFill>
                <a:latin typeface="Tahoma"/>
              </a:rPr>
              <a:t>1 Corinthians 2:13…</a:t>
            </a:r>
            <a:r>
              <a:rPr b="1" lang="en-US" sz="1800" spc="-1" strike="noStrike">
                <a:solidFill>
                  <a:srgbClr val="ffcf01"/>
                </a:solidFill>
                <a:latin typeface="Tahoma"/>
              </a:rPr>
              <a:t>These things we also speak, not in words which man's wisdom teaches but which the Holy Spirit teaches, comparing spiritual things with spiritual.</a:t>
            </a:r>
            <a:r>
              <a:rPr b="0" lang="en-US" sz="1800" spc="-1" strike="noStrike">
                <a:solidFill>
                  <a:srgbClr val="00e4a8"/>
                </a:solidFill>
                <a:latin typeface="Tahoma"/>
              </a:rPr>
              <a:t> </a:t>
            </a:r>
            <a:br>
              <a:rPr sz="1800"/>
            </a:br>
            <a:r>
              <a:rPr b="0" lang="en-US" sz="1800" spc="-1" strike="noStrike">
                <a:solidFill>
                  <a:srgbClr val="000000"/>
                </a:solidFill>
                <a:latin typeface="Tahoma"/>
              </a:rPr>
              <a:t>(see also John 8:28)</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Your EQ</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amp; Your EQ</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formed the body, mind, soul ,spirit and  beliefs of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roduced powerful godly emotions in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also form the emotions of Christia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change the way we se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help create more functional and true beliefs which underlie our healthy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irectly generate godly and spiritual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eal with difficult fleshly impuls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teach us what to say and how to say i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315200" cy="32767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God, resident in the human personality, with the power to chang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has the wisdom, power and knowledge to make us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Jesus i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you and I are, at the deepest leve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creative &amp; powerful. He is perfectly able to do the seemingly impossible job of making us ho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the source of Christ-like emotion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mp; Jesu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04812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conceived by the Holy Spirit. </a:t>
            </a:r>
            <a:r>
              <a:rPr b="0" lang="en-US" sz="1600" spc="-1" strike="noStrike">
                <a:solidFill>
                  <a:srgbClr val="000000"/>
                </a:solidFill>
                <a:latin typeface="Tahoma"/>
              </a:rPr>
              <a:t>(Matthew 1:2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brews says that the Holy Spirit prepared the body of Jesus to do the will of God. </a:t>
            </a:r>
            <a:r>
              <a:rPr b="0" lang="en-US" sz="1600" spc="-1" strike="noStrike">
                <a:solidFill>
                  <a:srgbClr val="000000"/>
                </a:solidFill>
                <a:latin typeface="Tahoma"/>
              </a:rPr>
              <a:t>(Hebrews 10:5-7)</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ave wisdom and power to Jesus. </a:t>
            </a:r>
            <a:r>
              <a:rPr b="0" lang="en-US" sz="1600" spc="-1" strike="noStrike">
                <a:solidFill>
                  <a:srgbClr val="000000"/>
                </a:solidFill>
                <a:latin typeface="Tahoma"/>
              </a:rPr>
              <a:t>(Isaiah 11:1-5)</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came evident after His baptism in the Jorda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hange was so great that the people of Nazareth wondered at it. </a:t>
            </a:r>
            <a:r>
              <a:rPr b="0" lang="en-US" sz="1600" spc="-1" strike="noStrike">
                <a:solidFill>
                  <a:srgbClr val="000000"/>
                </a:solidFill>
                <a:latin typeface="Tahoma"/>
              </a:rPr>
              <a:t>(Matthew 13:54-58</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ody, mind and spirit of Jesus were brought into perfect harmony and obedience to God by the Spiri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Works In Us </a:t>
            </a:r>
            <a:endParaRPr b="0" lang="en-US" sz="4400" spc="-1" strike="noStrike">
              <a:solidFill>
                <a:srgbClr val="333399"/>
              </a:solidFill>
              <a:latin typeface="Tahoma"/>
            </a:endParaRPr>
          </a:p>
        </p:txBody>
      </p:sp>
      <p:sp>
        <p:nvSpPr>
          <p:cNvPr id="10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minds. </a:t>
            </a:r>
            <a:r>
              <a:rPr b="0" lang="en-US" sz="1600" spc="-1" strike="noStrike">
                <a:solidFill>
                  <a:srgbClr val="000000"/>
                </a:solidFill>
                <a:latin typeface="Tahoma"/>
              </a:rPr>
              <a:t>(Romans 8:4-6, 12:1,2)</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life to our mortal bodies – which are the source of many of our emotions. </a:t>
            </a:r>
            <a:r>
              <a:rPr b="0" lang="en-US" sz="1600" spc="-1" strike="noStrike">
                <a:solidFill>
                  <a:srgbClr val="000000"/>
                </a:solidFill>
                <a:latin typeface="Tahoma"/>
              </a:rPr>
              <a:t>(Romans 8:1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emotions bringing love, joy, peace etc. to bear fruit in our lives. </a:t>
            </a:r>
            <a:r>
              <a:rPr b="0" lang="en-US" sz="1600" spc="-1" strike="noStrike">
                <a:solidFill>
                  <a:srgbClr val="000000"/>
                </a:solidFill>
                <a:latin typeface="Tahoma"/>
              </a:rPr>
              <a:t>(Galatians 5:22,23)</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ours the love of God into us </a:t>
            </a:r>
            <a:r>
              <a:rPr b="0" lang="en-US" sz="1600" spc="-1" strike="noStrike">
                <a:solidFill>
                  <a:srgbClr val="000000"/>
                </a:solidFill>
                <a:latin typeface="Tahoma"/>
              </a:rPr>
              <a:t>(Romans 5:5)</a:t>
            </a:r>
            <a:r>
              <a:rPr b="0" lang="en-US" sz="1800" spc="-1" strike="noStrike">
                <a:solidFill>
                  <a:srgbClr val="000000"/>
                </a:solidFill>
                <a:latin typeface="Tahoma"/>
              </a:rPr>
              <a:t> so we can endure trials (Romans 5:3,4) become strong and grow into the image of Jesus Christ. </a:t>
            </a:r>
            <a:r>
              <a:rPr b="0" lang="en-US" sz="1600" spc="-1" strike="noStrike">
                <a:solidFill>
                  <a:srgbClr val="000000"/>
                </a:solidFill>
                <a:latin typeface="Tahoma"/>
              </a:rPr>
              <a:t>(Ephesians 3:14-2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our Counselor, Helper and Teacher </a:t>
            </a:r>
            <a:r>
              <a:rPr b="0" lang="en-US" sz="1600" spc="-1" strike="noStrike">
                <a:solidFill>
                  <a:srgbClr val="000000"/>
                </a:solidFill>
                <a:latin typeface="Tahoma"/>
              </a:rPr>
              <a:t>(John 14:26, 1 John 2:20,27, 1 Corinthians 2:10-16)</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us power for ministry. </a:t>
            </a:r>
            <a:r>
              <a:rPr b="0" lang="en-US" sz="1600" spc="-1" strike="noStrike">
                <a:solidFill>
                  <a:srgbClr val="000000"/>
                </a:solidFill>
                <a:latin typeface="Tahoma"/>
              </a:rPr>
              <a:t>(Acts 1: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Changes Us</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NKJV) Do you not know that the unrighteous will not inherit the kingdom of God? Do not be deceived. Neither fornicators, nor idolaters, nor adulterers, nor homosexuals, nor sodomites, {10} nor thieves, nor covetous, nor drunkards, nor revilers, nor extortioners will inherit the kingdom of God. </a:t>
            </a:r>
            <a:br>
              <a:rPr sz="1800"/>
            </a:br>
            <a:r>
              <a:rPr b="0" lang="en-US" sz="1800" spc="-1" strike="noStrike">
                <a:solidFill>
                  <a:srgbClr val="000000"/>
                </a:solidFill>
                <a:latin typeface="Tahoma"/>
              </a:rPr>
              <a:t>{11} </a:t>
            </a:r>
            <a:r>
              <a:rPr b="1" lang="en-US" sz="1800" spc="-1" strike="noStrike">
                <a:solidFill>
                  <a:srgbClr val="ffcf01"/>
                </a:solidFill>
                <a:latin typeface="Tahoma"/>
              </a:rPr>
              <a:t>And such were some of you. But you were washed, but you were sanctified, but you were justified in the name of the Lord Jesus and by the Spirit of our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hing Is Impossible!</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2361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says that even life-long patterns of sin such as homosexuality, drunkenness, sexual addiction, and criminality can be dealt with by the  cleansing power of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changes may seem “impossible to man” but are not impossible to God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 who was involved in the creation the world, can even deal with the physical and medical basis of addictions and si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Your Body</a:t>
            </a:r>
            <a:endParaRPr b="0" lang="en-US" sz="4400" spc="-1" strike="noStrike">
              <a:solidFill>
                <a:srgbClr val="333399"/>
              </a:solidFill>
              <a:latin typeface="Tahoma"/>
            </a:endParaRPr>
          </a:p>
        </p:txBody>
      </p:sp>
      <p:sp>
        <p:nvSpPr>
          <p:cNvPr id="11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reated the body of Jesus to perfectly express the will of God and be free from the tendency to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can do this for your body as wel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bring life to your mortal body. (Romans 8:11)</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deal with the flesh in both its spiritual and biological aspe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re not left at the mercy of our genetics or our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overcome the flesh (Galatians 5:16-18)</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put to death” sinful physical tendencies. (Romans 8:11-13)</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God did in Christ, He also wants to do for those who follow Him, who are “in Chris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amp; The Soul of Jesu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11 references to the soul &amp; spirit of Jesus in the gospels: </a:t>
            </a:r>
            <a:br>
              <a:rPr sz="1800"/>
            </a:br>
            <a:r>
              <a:rPr b="0" lang="en-US" sz="1600" spc="-1" strike="noStrike">
                <a:solidFill>
                  <a:srgbClr val="000000"/>
                </a:solidFill>
                <a:latin typeface="Tahoma"/>
              </a:rPr>
              <a:t>Matthew 26:38, 27:50;  Mark 2:8, 8:12, 14:34; Luke 10:21, 23:46; John 11:33, 12:27, 13:21, 19:30</a:t>
            </a:r>
            <a:endParaRPr b="0" lang="en-US" sz="1600" spc="-1" strike="noStrike">
              <a:solidFill>
                <a:srgbClr val="000000"/>
              </a:solidFill>
              <a:latin typeface="Tahoma"/>
            </a:endParaRPr>
          </a:p>
          <a:p>
            <a:pPr marL="533520" indent="-5335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things especially stand ou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perceived life's situations with His Spiri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was moved on the basis of those perceptions.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candidly expressed His emotions to those closest to Hi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Perceived Life Spiritually</a:t>
            </a:r>
            <a:endParaRPr b="0" lang="en-US" sz="4400" spc="-1" strike="noStrike">
              <a:solidFill>
                <a:srgbClr val="333399"/>
              </a:solidFill>
              <a:latin typeface="Tahoma"/>
            </a:endParaRPr>
          </a:p>
        </p:txBody>
      </p:sp>
      <p:sp>
        <p:nvSpPr>
          <p:cNvPr id="117"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ark 2:8 Jesus "perceived in His spir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the spirit was the true organ for the perception of real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aiah 11:2.3 NKJV) The Spirit of the LORD shall rest upon Him, The Spirit of wisdom and understanding, The Spirit of counsel and might, The Spirit of knowledge and of the fear of the LORD. {3} His delight is in the fear of the LORD, And He shall not judge by the sight of His eyes, Nor decide by the hearing of His ea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ence of the Holy Spirit upon Jesus gave Him extraordinary knowledge and wisdom so that He judged situations righteously and truthfully and inwardly. He did not judge situations as they appeared to the eyes and ears or to mere sense perception. </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6:03:27Z</dcterms:created>
  <dc:creator>John Edmiston</dc:creator>
  <dc:description/>
  <dc:language>en-US</dc:language>
  <cp:lastModifiedBy>John Edmiston</cp:lastModifiedBy>
  <dcterms:modified xsi:type="dcterms:W3CDTF">2004-05-01T15:48:37Z</dcterms:modified>
  <cp:revision>15</cp:revision>
  <dc:subject/>
  <dc:title>Biblical EQ www.aibi.ph/beq/</dc:title>
</cp:coreProperties>
</file>