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817E6-692B-4210-A18E-99DA77B74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6FC8F-5B0E-438D-9DA0-07387B317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55A27-35DD-42E3-BD4F-B0010E629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2FE09-8526-4A09-AACD-F4B0BDD2E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F3E09-0488-4121-8C4E-BDB6C4585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F6AFC-770E-46A3-8B9C-94E9C9EE9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8815D-F1A4-4AD8-AF24-130EBC70B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E9CD6-5CEF-40AE-B44C-2A612F38E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5FDCD-CADD-473E-9BAB-80FD0EB07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9BB07-8604-41CA-A398-2BD4CFDE5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4FC0A-542A-496C-AF40-CC79CF898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7B56F-2EF4-4218-824A-AD9CF0169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3F2C7-82A2-46B9-98F8-A2195025D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31D83-8B5C-4D2E-B185-1E1BBB1D1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F634E-9D2A-46B0-B932-56143C20B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68E61-3E68-4632-8872-9363E525E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62007-81A1-42DA-870F-A36EFE3C1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27D904-3A80-4C2B-9505-6AC4ED7E03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4DF11B-A24C-4A0D-8776-0CEBC3ABF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19029-FE3F-4DB2-BA56-533604575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4A3A3-B55E-4465-A164-7D09218DA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B851DD-FC0E-424B-AA99-B33C38867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8763-111D-469A-B961-539CFAE1F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C43B7C-A71C-4DBF-87C7-7FE711477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94567-BC82-489B-A0D6-4AA64BA35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17C69-2827-4A4D-A5D1-F2CF342A1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CFF04-745D-4352-A66E-6B38D0B3E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E1EEF2-D1D1-4BB5-9D59-63EEC9AE3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370CC0-F129-4DE4-ACFD-3ED21C8BF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DF807D-52C7-4672-B93A-2E8BB73A3E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4A060F-D0FB-42CC-8862-975CE0BD5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7FE025-2E42-438C-B112-7EF492013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28A4E0-8775-4085-859C-EB53403087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6FBB9-D6CC-4690-AFF9-74F8C21A4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9AA06-C6C5-4279-A558-6AC9233B31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9CA36-88FF-48E2-964D-F70AA3A70C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FB746-7ADD-440B-A883-97BC2E07EA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E88BD-EF32-4571-A477-498220521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98955B-AB38-4291-8F47-BB31452D97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63A84D-C6A7-42BB-907B-248FEB5FB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0A235-D84D-411C-AACB-312192DBC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95B1A3-5A40-4925-917F-140000A351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939420-8C72-4BB3-BDE4-1A1E028B64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D1461C-4F16-4D02-AC26-3AF1505FC2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9F67E-F167-4078-A0EF-E990CD2E5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A8C53-2B2E-4BFB-8B0C-638FEBB168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5C0F31-C6AF-425A-BE24-9B03000D14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831548-6862-4795-BDE2-FD6928E80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C441B-6640-477D-A498-928EDBEED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E646E-67A0-43D1-97ED-E82A4AE20E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31A77-CEFC-47A8-9A37-B15C15A39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35515C-AA97-4D2C-81A1-D099458A3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62CDB9-CD2B-4158-8FB4-72A4999C6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4172A-C46F-4ACB-9637-445FAA5240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D7A1B7-F8F7-4934-A62C-5F1F1C7747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387A5-5D71-4577-AAF3-27CF522C6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29617B-4F21-44E0-90D7-B30B9AD99E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2C42F2-2938-47DE-B17B-6228CAC3A8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1D6C47-9241-4F97-A09F-3E471EBD81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E3DAF4-996D-4956-9FD0-303468595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95D70E-7E82-422C-AD89-3208AF1309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229215-2A45-4807-A607-B7E25601FD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8D144-8B47-4DD6-BCDE-5A878C6839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47065-2ADF-445E-A434-8C6A5C51A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A83C2-5AE2-4B9D-9672-456EA8D54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CE35D-109F-4C6D-8232-C674CE02E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F278A-58D6-43FB-BB26-98D485E1A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12722-7237-4F82-AC5F-2BD5F231B7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059447-701F-4FD2-BFB2-F5F8CAD002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0865A5-09C1-462F-96D7-5E0A373309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FFFE29-AB73-4A51-A779-329F368B43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F24D4E-621E-4610-B40C-74E7749ABA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49798-142B-4DD2-A5E5-3E87002EE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B6789-4DE5-4A43-990C-03BEEDA1CC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1D90E9-8BCC-4372-AD1A-4CEDC6D7F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88D8BB-C2A7-4235-A9C8-5B3AD8025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7DE1B5-EC6E-4A08-87D7-40F3A561A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AA66A-CF7D-41E1-97DF-B0CEE90E9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BEAAB0-9A93-47D9-B901-1D2846CACE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A5878-C299-4A9C-BB8C-90E3AB224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BB9217-42B0-42C9-B1C0-B7DB9779ED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EBD9A7-21FD-449D-91E6-F2D4DAFD59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E4C4A9-7F88-4E0A-A191-DA74E4ED8F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99351A-CD67-45DC-860F-9306CC240D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F07001-40B2-4019-B6F2-91F32EF33F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ECA04F-9914-4910-89D5-29ADA8C1BF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1045EB-6582-4F31-9784-0947BBFC0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A08D57-F648-440B-809F-8C311D0BE2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489B-2D39-4287-8B4B-D54E795FA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C4B91C-327D-4486-97AD-935A43CC04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4C5B89-EBE6-4990-AAA5-62CD396BC0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B838B-CED7-4C63-81DC-7B764A93DF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590FE6-9D01-49CA-9D95-D037D80EDC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8D65E7-2B14-44FD-A1BD-D03E013386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B3449E-F7F6-4E6F-9236-60C11BC2B0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8A724F-F94E-415C-997D-B67F2D9DEF4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FC6D-8CC0-40CA-BF57-FBB7C37FD2C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8FC1-DAD6-4A14-BEB1-3969F7D1659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136B-E166-41F5-A2C7-5343F369835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D863-567D-4F2D-8EF2-5E34D39004B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A781-E396-4246-8E7D-4CDFAB87D3D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68D1-D2B3-400E-B7AE-5D569998CC1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4D8A-2548-49C2-B2FB-DD6334A8AAE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C922-FA0B-4FB3-A4CB-6BC8D2A3274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omiletics</a:t>
            </a:r>
            <a:r>
              <a:rPr b="0" lang="en-US" sz="3200" spc="-1" strike="noStrike">
                <a:solidFill>
                  <a:srgbClr val="000000"/>
                </a:solidFill>
                <a:latin typeface="Bookman Old Style"/>
              </a:rPr>
              <a:t>	</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by Dedications</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Children’s &amp; Youth Ministr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wareness &amp; Child Safety</a:t>
            </a:r>
            <a:endParaRPr b="0" lang="en-US" sz="3200" spc="-1" strike="noStrike">
              <a:solidFill>
                <a:srgbClr val="464653"/>
              </a:solidFill>
              <a:latin typeface="Bookman Old Style"/>
            </a:endParaRPr>
          </a:p>
        </p:txBody>
      </p:sp>
      <p:sp>
        <p:nvSpPr>
          <p:cNvPr id="371" name=""/>
          <p:cNvSpPr txBox="1"/>
          <p:nvPr/>
        </p:nvSpPr>
        <p:spPr>
          <a:xfrm>
            <a:off x="457200" y="1142640"/>
            <a:ext cx="8229600" cy="5181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e aware of potential dangers that were probably not around when you were a child</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ugs: both illegal and prescription drug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lue sniffing (use child-safe glue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bestos and lead paint hazards,  plastic bags, ropes, things small children may choke on.</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ernet chat-rooms, stranger danger,  “sexting” (even among pre-teens), use of cell-phone camera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lored ‘sex bracelets’, over-sexualized clothing</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est, child-abuse,  kids always bruised, etc.</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 predators applying to be teachers</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or height policy,  always two teachers in a room etc.</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police and fire-brigade instruct your teachers each year</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some teachers who are First-Aid certified</a:t>
            </a:r>
            <a:endParaRPr b="0" lang="en-US" sz="2400" spc="-1" strike="noStrike">
              <a:solidFill>
                <a:srgbClr val="000000"/>
              </a:solidFill>
              <a:latin typeface="Gill Sans MT"/>
            </a:endParaRPr>
          </a:p>
          <a:p>
            <a:pPr marL="264600" indent="-2646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ources</a:t>
            </a:r>
            <a:endParaRPr b="0" lang="en-US" sz="3200" spc="-1" strike="noStrike">
              <a:solidFill>
                <a:srgbClr val="464653"/>
              </a:solidFill>
              <a:latin typeface="Bookman Old Style"/>
            </a:endParaRPr>
          </a:p>
        </p:txBody>
      </p:sp>
      <p:sp>
        <p:nvSpPr>
          <p:cNvPr id="373" name=""/>
          <p:cNvSpPr txBox="1"/>
          <p:nvPr/>
        </p:nvSpPr>
        <p:spPr>
          <a:xfrm>
            <a:off x="457200" y="1294920"/>
            <a:ext cx="8229600" cy="4830840"/>
          </a:xfrm>
          <a:prstGeom prst="rect">
            <a:avLst/>
          </a:prstGeom>
          <a:noFill/>
          <a:ln w="0">
            <a:noFill/>
          </a:ln>
        </p:spPr>
        <p:txBody>
          <a:bodyPr lIns="90000" rIns="90000" tIns="46800" bIns="46800"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ible translations suitable for children should be simple English but fairly literal e.g CEV, GNB, BBE and definitely not paraphrase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atch / monitor resources before using them as some teach very poor theology / social concept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ve parents participate in selecting resources so there are no shocks / “inappropriate material” sent home etc.</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high quality, age-appropriate curriculum that goes through the whole Bible /whole gospel in a systematic fashion e.g 3 year cycle.  Have a quality educator examine the material first.</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eep resource costs within the range of all families.</a:t>
            </a: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usic</a:t>
            </a:r>
            <a:endParaRPr b="0" lang="en-US" sz="3200" spc="-1" strike="noStrike">
              <a:solidFill>
                <a:srgbClr val="464653"/>
              </a:solidFill>
              <a:latin typeface="Bookman Old Style"/>
            </a:endParaRPr>
          </a:p>
        </p:txBody>
      </p:sp>
      <p:sp>
        <p:nvSpPr>
          <p:cNvPr id="375" name=""/>
          <p:cNvSpPr txBox="1"/>
          <p:nvPr/>
        </p:nvSpPr>
        <p:spPr>
          <a:xfrm>
            <a:off x="456840" y="1447920"/>
            <a:ext cx="8534520" cy="4876560"/>
          </a:xfrm>
          <a:prstGeom prst="rect">
            <a:avLst/>
          </a:prstGeom>
          <a:noFill/>
          <a:ln w="0">
            <a:noFill/>
          </a:ln>
        </p:spPr>
        <p:txBody>
          <a:bodyPr lIns="90000" rIns="90000" tIns="46800" bIns="46800"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sic should teach (in a fun way) not just entertai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yrics  should be memorizable </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unes should be “sing-able” even by average childre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rticipatory – everyone gets a simple instrument</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t new kids have a lot of fun and use the singing time as a way to bring them into the group</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n’t use worship to “play favorites” or to select only the best looking as part of the worship team</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ember copyright law!</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physical movement – many children learn as they move.</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haust them! Then they will sit down and learn better later!</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ible Passages</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ut 4:9,10;  6:4-11; 11:18-21;</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18:1-14</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19:13-15, Mk 9:33-37, Lk 9:46-48</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tt 21:15-16; Mk 10:13-16, Lk 18:15-17</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uke 2:21-52</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cts 2:38,39</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Cor 7:14</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ph 6:1-4, Col 3:20,21</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aby Dedication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ke it person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now the nam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peak to the child directl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sk God for direction, wisdom, knowledge and blessing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nect with the paren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nect with the congrega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     </a:t>
            </a:r>
            <a:r>
              <a:rPr b="0" lang="en-US" sz="3600" spc="-1" strike="noStrike">
                <a:solidFill>
                  <a:srgbClr val="464653"/>
                </a:solidFill>
                <a:latin typeface="Bookman Old Style"/>
              </a:rPr>
              <a:t>Children’s Ministry</a:t>
            </a:r>
            <a:r>
              <a:rPr b="0" lang="en-US" sz="3600" spc="-1" strike="noStrike">
                <a:solidFill>
                  <a:srgbClr val="464653"/>
                </a:solidFill>
                <a:latin typeface="Bookman Old Style"/>
              </a:rPr>
              <a:t>	</a:t>
            </a:r>
            <a:br>
              <a:rPr sz="3600"/>
            </a:br>
            <a:r>
              <a:rPr b="0" lang="en-US" sz="3600" spc="-1" strike="noStrike">
                <a:solidFill>
                  <a:srgbClr val="464653"/>
                </a:solidFill>
                <a:latin typeface="Bookman Old Style"/>
              </a:rPr>
              <a:t> </a:t>
            </a:r>
            <a:r>
              <a:rPr b="0" lang="en-US" sz="3200" spc="-1" strike="noStrike">
                <a:solidFill>
                  <a:srgbClr val="464653"/>
                </a:solidFill>
                <a:latin typeface="Bookman Old Style"/>
              </a:rPr>
              <a:t>Kinder – 5</a:t>
            </a:r>
            <a:r>
              <a:rPr b="0" lang="en-US" sz="3200" spc="-1" strike="noStrike" baseline="30000">
                <a:solidFill>
                  <a:srgbClr val="464653"/>
                </a:solidFill>
                <a:latin typeface="Bookman Old Style"/>
              </a:rPr>
              <a:t>th</a:t>
            </a:r>
            <a:r>
              <a:rPr b="0" lang="en-US" sz="3200" spc="-1" strike="noStrike">
                <a:solidFill>
                  <a:srgbClr val="464653"/>
                </a:solidFill>
                <a:latin typeface="Bookman Old Style"/>
              </a:rPr>
              <a:t> Grade</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y Inductively</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nsider the attention span of the age group</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y age appropriate Bible studies/concepts</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 yourself, don’t entertain</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questions to keep them engaged</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ve the students read scripture</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reate crafts that compliment teaching</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 not preach</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ep it simpl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Youth Ministry</a:t>
            </a:r>
            <a:br>
              <a:rPr sz="3600"/>
            </a:br>
            <a:r>
              <a:rPr b="0" lang="en-US" sz="3600" spc="-1" strike="noStrike">
                <a:solidFill>
                  <a:srgbClr val="464653"/>
                </a:solidFill>
                <a:latin typeface="Bookman Old Style"/>
              </a:rPr>
              <a:t>6</a:t>
            </a:r>
            <a:r>
              <a:rPr b="0" lang="en-US" sz="3600" spc="-1" strike="noStrike" baseline="30000">
                <a:solidFill>
                  <a:srgbClr val="464653"/>
                </a:solidFill>
                <a:latin typeface="Bookman Old Style"/>
              </a:rPr>
              <a:t>th</a:t>
            </a:r>
            <a:r>
              <a:rPr b="0" lang="en-US" sz="3600" spc="-1" strike="noStrike">
                <a:solidFill>
                  <a:srgbClr val="464653"/>
                </a:solidFill>
                <a:latin typeface="Bookman Old Style"/>
              </a:rPr>
              <a:t>  - 12</a:t>
            </a:r>
            <a:r>
              <a:rPr b="0" lang="en-US" sz="3600" spc="-1" strike="noStrike" baseline="30000">
                <a:solidFill>
                  <a:srgbClr val="464653"/>
                </a:solidFill>
                <a:latin typeface="Bookman Old Style"/>
              </a:rPr>
              <a:t>th</a:t>
            </a:r>
            <a:r>
              <a:rPr b="0" lang="en-US" sz="3600" spc="-1" strike="noStrike">
                <a:solidFill>
                  <a:srgbClr val="464653"/>
                </a:solidFill>
                <a:latin typeface="Bookman Old Style"/>
              </a:rPr>
              <a:t> Grade</a:t>
            </a:r>
            <a:endParaRPr b="0" lang="en-US" sz="36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udy inductively</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 yourself, be real</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scuss age appropriate concep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llenge the students to stretch their mind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k probing question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late to current event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ly the study to the student’s daily lives</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eep it simple</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roversies</a:t>
            </a:r>
            <a:endParaRPr b="0" lang="en-US" sz="3200" spc="-1" strike="noStrike">
              <a:solidFill>
                <a:srgbClr val="464653"/>
              </a:solidFill>
              <a:latin typeface="Bookman Old Style"/>
            </a:endParaRPr>
          </a:p>
        </p:txBody>
      </p:sp>
      <p:sp>
        <p:nvSpPr>
          <p:cNvPr id="363" name=""/>
          <p:cNvSpPr txBox="1"/>
          <p:nvPr/>
        </p:nvSpPr>
        <p:spPr>
          <a:xfrm>
            <a:off x="456840" y="1599840"/>
            <a:ext cx="8534520" cy="4876920"/>
          </a:xfrm>
          <a:prstGeom prst="rect">
            <a:avLst/>
          </a:prstGeom>
          <a:noFill/>
          <a:ln w="0">
            <a:noFill/>
          </a:ln>
        </p:spPr>
        <p:txBody>
          <a:bodyPr lIns="90000" rIns="90000" tIns="46800" bIns="46800"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difference between child dedication and child baptism</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swer "what is going on here?", </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is the role of the fellowship in raising the child?</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does children's ministry have to take national culture, blended families etc into account?</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role of parents in child instruction</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ws relating to child-care / incident reporting / sexual abuse</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re to be taken with evangelistic invitations</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sion of children in main worship ? Does exclusion further separate already disparate families? How can church reinforce family ti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ology of the Child - 1</a:t>
            </a:r>
            <a:endParaRPr b="0" lang="en-US" sz="3200" spc="-1" strike="noStrike">
              <a:solidFill>
                <a:srgbClr val="464653"/>
              </a:solidFill>
              <a:latin typeface="Bookman Old Style"/>
            </a:endParaRPr>
          </a:p>
        </p:txBody>
      </p:sp>
      <p:sp>
        <p:nvSpPr>
          <p:cNvPr id="365" name=""/>
          <p:cNvSpPr txBox="1"/>
          <p:nvPr/>
        </p:nvSpPr>
        <p:spPr>
          <a:xfrm>
            <a:off x="151920" y="1294920"/>
            <a:ext cx="8915400" cy="5334120"/>
          </a:xfrm>
          <a:prstGeom prst="rect">
            <a:avLst/>
          </a:prstGeom>
          <a:noFill/>
          <a:ln w="0">
            <a:noFill/>
          </a:ln>
        </p:spPr>
        <p:txBody>
          <a:bodyPr lIns="90000" rIns="90000" tIns="46800" bIns="46800"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are to be taught the whole counsel o God:  “Teach all these commands to your children”</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s ministry should not be legalistic (all rules about behavior) nor should it be anarchic (Jesus is just their friend) but should teach holiness through faith and should give solid reasons for belief.</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need to know how to pray, how to read the Bible, how to be truly born-again and develop their own growing, real and tested faith.  The faith should be “real” and help them cope.  A real living personal faith will not be thrown away when they enter college.</a:t>
            </a:r>
            <a:endParaRPr b="0" lang="en-US" sz="24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need a deep biblical understanding of the practical outworking of the “one another” commands and the Sermon On the Mount and have the chance to practice them in a group setting.</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ology Of The Child - 2</a:t>
            </a:r>
            <a:endParaRPr b="0" lang="en-US" sz="3200" spc="-1" strike="noStrike">
              <a:solidFill>
                <a:srgbClr val="464653"/>
              </a:solidFill>
              <a:latin typeface="Bookman Old Style"/>
            </a:endParaRPr>
          </a:p>
        </p:txBody>
      </p:sp>
      <p:sp>
        <p:nvSpPr>
          <p:cNvPr id="367" name=""/>
          <p:cNvSpPr txBox="1"/>
          <p:nvPr/>
        </p:nvSpPr>
        <p:spPr>
          <a:xfrm>
            <a:off x="456840" y="1219320"/>
            <a:ext cx="8534520" cy="493704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n is “scarlet” not black and race sensitivity is important</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n’t use the phrase “bible story” as children associate “story” with fiction and fairy-tales – its is bible truth not bible story</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y all means use Scripture memorization as neuroscience tells us this greatly develops a child’s cognitive skills. Besides its biblical!</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venturous faith is child-like faith so create opportunities for safe adventure, role-playing, field-trips etc.</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 not create illusory expectations that will be shattered later on in life and lead to a crisis of faith. Be clear about the cost of following Jesus (but do spare the worst details)</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o not use emotional manipulation or rewards in order to “get the right response” to an invitation as this makes kids feel “burned” later on in life.</a:t>
            </a: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8040" indent="-2480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clusion</a:t>
            </a:r>
            <a:endParaRPr b="0" lang="en-US" sz="3200" spc="-1" strike="noStrike">
              <a:solidFill>
                <a:srgbClr val="464653"/>
              </a:solidFill>
              <a:latin typeface="Bookman Old Style"/>
            </a:endParaRPr>
          </a:p>
        </p:txBody>
      </p:sp>
      <p:sp>
        <p:nvSpPr>
          <p:cNvPr id="369" name=""/>
          <p:cNvSpPr txBox="1"/>
          <p:nvPr/>
        </p:nvSpPr>
        <p:spPr>
          <a:xfrm>
            <a:off x="457200" y="1294920"/>
            <a:ext cx="8229600" cy="48308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ildren rapidly form cliques based on fashion, social status etc. This needs to be discouraged. (James 2)</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del inclusion, acceptance, kindness and courtesy</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omp out cruelty, bullying and teasing. Make it clear that Christians love one another and treat one another with respect. “God will treat you as you treat other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aise kindness,  be gentle with the disabled, include everyone, make shy children feel comfortabl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small crises (upset children, skinned knees etc) as teachable moments for Christ-like living.</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8:19:47Z</dcterms:created>
  <dc:creator>Brad Harte</dc:creator>
  <dc:description/>
  <dc:language>en-US</dc:language>
  <cp:lastModifiedBy>John Edmiston</cp:lastModifiedBy>
  <dcterms:modified xsi:type="dcterms:W3CDTF">2010-06-28T21:19:45Z</dcterms:modified>
  <cp:revision>56</cp:revision>
  <dc:subject/>
  <dc:title>Homiletics </dc:title>
</cp:coreProperties>
</file>