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ACB-C2A9-41E5-960B-E4999539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235-3DA6-409E-91BA-8A3B726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01E-2079-4B98-836F-6EC771CC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3B8-00E7-457F-9CA1-D59BA3AF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229-A4DA-4925-A79D-AE0362C8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156-4713-4C2D-B49E-67C5E9E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F09-D38A-4BA9-A9EB-4C92C271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4FA-BF30-4929-9590-4DD97B37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68F-F70D-47B9-A45D-D75CF76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3FA-B8A7-44B4-8C98-89432EB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6E7-D44E-44E8-B845-FD61342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605-A92A-4996-BA68-CC26E70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583C-C54B-4CCB-92B7-16716BDEA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61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her Christian Iss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44480" y="2174760"/>
            <a:ext cx="5853240" cy="250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THE CHURCH SH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SALT AND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IN A WORLD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DARK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HAS LOST 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1:48Z</dcterms:modified>
  <cp:revision>263</cp:revision>
  <dc:subject/>
  <dc:title>No Slide Title</dc:title>
</cp:coreProperties>
</file>