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395-C91A-41C9-8DE2-4F27CAB5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0CF-5836-48BE-AFA0-6E737CA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282-3E8B-4C00-93A4-FC790D11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9A0-756B-43EC-9050-2F8C36BC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2B9-F8D8-4E0F-A3AF-8FB8847C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759-2C1C-4D4E-A2E5-674A06AA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E6E-1F43-4169-88EB-0EFABF9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6A2-1F70-4E98-AE9F-6B95065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5FF-2D37-40E2-AC52-8D3E2E4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17D-5AD6-4470-ACC2-4409A7D8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66B-62EB-47E0-84D0-4E58F7C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94A-0C15-4631-8F27-3CE0E1F5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1534-D5D7-4763-87F2-D5B20E332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516640"/>
          <a:ext cx="990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516640"/>
                    <a:ext cx="990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50920" y="83664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81080" y="3581280"/>
            <a:ext cx="6096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titudes &amp; Prejudi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81080" y="2968560"/>
            <a:ext cx="5639040" cy="2694600"/>
            <a:chOff x="1981080" y="2968560"/>
            <a:chExt cx="5639040" cy="2694600"/>
          </a:xfrm>
        </p:grpSpPr>
        <p:sp>
          <p:nvSpPr>
            <p:cNvPr id="112" name=""/>
            <p:cNvSpPr/>
            <p:nvPr/>
          </p:nvSpPr>
          <p:spPr>
            <a:xfrm>
              <a:off x="3977640" y="2968560"/>
              <a:ext cx="157968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NIAL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0920" y="3510000"/>
              <a:ext cx="14727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NGE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1840" y="4049640"/>
              <a:ext cx="27651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BARGAINING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2160" y="4589640"/>
              <a:ext cx="269064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PRESS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3200" y="5129280"/>
              <a:ext cx="497340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CCEPTANCE &amp; ACT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664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56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7" h="765">
                  <a:moveTo>
                    <a:pt x="967" y="765"/>
                  </a:moveTo>
                  <a:lnTo>
                    <a:pt x="967" y="0"/>
                  </a:lnTo>
                  <a:lnTo>
                    <a:pt x="0" y="383"/>
                  </a:lnTo>
                  <a:lnTo>
                    <a:pt x="967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5360" y="3657600"/>
              <a:ext cx="30672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0" y="764"/>
                  </a:moveTo>
                  <a:lnTo>
                    <a:pt x="0" y="0"/>
                  </a:lnTo>
                  <a:lnTo>
                    <a:pt x="969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0920" y="365760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0680" y="418788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6800" y="4187880"/>
              <a:ext cx="30816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969" y="764"/>
                  </a:moveTo>
                  <a:lnTo>
                    <a:pt x="969" y="0"/>
                  </a:lnTo>
                  <a:lnTo>
                    <a:pt x="0" y="382"/>
                  </a:lnTo>
                  <a:lnTo>
                    <a:pt x="969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7360" y="470376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1560" y="470376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968" y="765"/>
                  </a:moveTo>
                  <a:lnTo>
                    <a:pt x="968" y="0"/>
                  </a:lnTo>
                  <a:lnTo>
                    <a:pt x="0" y="383"/>
                  </a:lnTo>
                  <a:lnTo>
                    <a:pt x="968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524664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3760" y="524664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25560" y="1787400"/>
            <a:ext cx="3884760" cy="758880"/>
            <a:chOff x="2725560" y="1787400"/>
            <a:chExt cx="3884760" cy="758880"/>
          </a:xfrm>
        </p:grpSpPr>
        <p:sp>
          <p:nvSpPr>
            <p:cNvPr id="128" name=""/>
            <p:cNvSpPr/>
            <p:nvPr/>
          </p:nvSpPr>
          <p:spPr>
            <a:xfrm>
              <a:off x="2725560" y="1859040"/>
              <a:ext cx="1624320" cy="687240"/>
            </a:xfrm>
            <a:custGeom>
              <a:avLst/>
              <a:gdLst/>
              <a:ahLst/>
              <a:rect l="l" t="t" r="r" b="b"/>
              <a:pathLst>
                <a:path w="5112" h="2166">
                  <a:moveTo>
                    <a:pt x="3185" y="2166"/>
                  </a:moveTo>
                  <a:lnTo>
                    <a:pt x="3234" y="2166"/>
                  </a:lnTo>
                  <a:lnTo>
                    <a:pt x="3269" y="2155"/>
                  </a:lnTo>
                  <a:lnTo>
                    <a:pt x="3305" y="2155"/>
                  </a:lnTo>
                  <a:lnTo>
                    <a:pt x="3353" y="2143"/>
                  </a:lnTo>
                  <a:lnTo>
                    <a:pt x="3388" y="2143"/>
                  </a:lnTo>
                  <a:lnTo>
                    <a:pt x="3424" y="2131"/>
                  </a:lnTo>
                  <a:lnTo>
                    <a:pt x="3460" y="2118"/>
                  </a:lnTo>
                  <a:lnTo>
                    <a:pt x="3508" y="2107"/>
                  </a:lnTo>
                  <a:lnTo>
                    <a:pt x="3543" y="2107"/>
                  </a:lnTo>
                  <a:lnTo>
                    <a:pt x="3580" y="2095"/>
                  </a:lnTo>
                  <a:lnTo>
                    <a:pt x="3616" y="2083"/>
                  </a:lnTo>
                  <a:lnTo>
                    <a:pt x="3651" y="2071"/>
                  </a:lnTo>
                  <a:lnTo>
                    <a:pt x="3687" y="2058"/>
                  </a:lnTo>
                  <a:lnTo>
                    <a:pt x="3724" y="2047"/>
                  </a:lnTo>
                  <a:lnTo>
                    <a:pt x="3760" y="2023"/>
                  </a:lnTo>
                  <a:lnTo>
                    <a:pt x="3795" y="2011"/>
                  </a:lnTo>
                  <a:lnTo>
                    <a:pt x="3831" y="1998"/>
                  </a:lnTo>
                  <a:lnTo>
                    <a:pt x="3867" y="1975"/>
                  </a:lnTo>
                  <a:lnTo>
                    <a:pt x="3903" y="1963"/>
                  </a:lnTo>
                  <a:lnTo>
                    <a:pt x="3927" y="1939"/>
                  </a:lnTo>
                  <a:lnTo>
                    <a:pt x="3963" y="1928"/>
                  </a:lnTo>
                  <a:lnTo>
                    <a:pt x="3988" y="1903"/>
                  </a:lnTo>
                  <a:lnTo>
                    <a:pt x="4024" y="1879"/>
                  </a:lnTo>
                  <a:lnTo>
                    <a:pt x="4047" y="1854"/>
                  </a:lnTo>
                  <a:lnTo>
                    <a:pt x="4083" y="1832"/>
                  </a:lnTo>
                  <a:lnTo>
                    <a:pt x="4107" y="1807"/>
                  </a:lnTo>
                  <a:lnTo>
                    <a:pt x="4131" y="1784"/>
                  </a:lnTo>
                  <a:lnTo>
                    <a:pt x="4154" y="1748"/>
                  </a:lnTo>
                  <a:lnTo>
                    <a:pt x="4178" y="1724"/>
                  </a:lnTo>
                  <a:lnTo>
                    <a:pt x="4203" y="1699"/>
                  </a:lnTo>
                  <a:lnTo>
                    <a:pt x="4226" y="1664"/>
                  </a:lnTo>
                  <a:lnTo>
                    <a:pt x="4239" y="1628"/>
                  </a:lnTo>
                  <a:lnTo>
                    <a:pt x="4262" y="1591"/>
                  </a:lnTo>
                  <a:lnTo>
                    <a:pt x="4274" y="1556"/>
                  </a:lnTo>
                  <a:lnTo>
                    <a:pt x="4287" y="1520"/>
                  </a:lnTo>
                  <a:lnTo>
                    <a:pt x="4298" y="1496"/>
                  </a:lnTo>
                  <a:lnTo>
                    <a:pt x="4311" y="1460"/>
                  </a:lnTo>
                  <a:lnTo>
                    <a:pt x="4333" y="1436"/>
                  </a:lnTo>
                  <a:lnTo>
                    <a:pt x="4358" y="1412"/>
                  </a:lnTo>
                  <a:lnTo>
                    <a:pt x="4394" y="1387"/>
                  </a:lnTo>
                  <a:lnTo>
                    <a:pt x="4645" y="694"/>
                  </a:lnTo>
                  <a:lnTo>
                    <a:pt x="4922" y="551"/>
                  </a:lnTo>
                  <a:lnTo>
                    <a:pt x="5112" y="191"/>
                  </a:lnTo>
                  <a:lnTo>
                    <a:pt x="5077" y="24"/>
                  </a:lnTo>
                  <a:lnTo>
                    <a:pt x="5064" y="11"/>
                  </a:lnTo>
                  <a:lnTo>
                    <a:pt x="5041" y="11"/>
                  </a:lnTo>
                  <a:lnTo>
                    <a:pt x="5029" y="0"/>
                  </a:lnTo>
                  <a:lnTo>
                    <a:pt x="5004" y="0"/>
                  </a:lnTo>
                  <a:lnTo>
                    <a:pt x="4993" y="0"/>
                  </a:lnTo>
                  <a:lnTo>
                    <a:pt x="4968" y="0"/>
                  </a:lnTo>
                  <a:lnTo>
                    <a:pt x="4944" y="0"/>
                  </a:lnTo>
                  <a:lnTo>
                    <a:pt x="4922" y="0"/>
                  </a:lnTo>
                  <a:lnTo>
                    <a:pt x="4909" y="11"/>
                  </a:lnTo>
                  <a:lnTo>
                    <a:pt x="4885" y="11"/>
                  </a:lnTo>
                  <a:lnTo>
                    <a:pt x="4860" y="24"/>
                  </a:lnTo>
                  <a:lnTo>
                    <a:pt x="4849" y="36"/>
                  </a:lnTo>
                  <a:lnTo>
                    <a:pt x="4825" y="36"/>
                  </a:lnTo>
                  <a:lnTo>
                    <a:pt x="4814" y="47"/>
                  </a:lnTo>
                  <a:lnTo>
                    <a:pt x="4800" y="59"/>
                  </a:lnTo>
                  <a:lnTo>
                    <a:pt x="4789" y="71"/>
                  </a:lnTo>
                  <a:lnTo>
                    <a:pt x="4765" y="119"/>
                  </a:lnTo>
                  <a:lnTo>
                    <a:pt x="4741" y="167"/>
                  </a:lnTo>
                  <a:lnTo>
                    <a:pt x="4705" y="203"/>
                  </a:lnTo>
                  <a:lnTo>
                    <a:pt x="4670" y="239"/>
                  </a:lnTo>
                  <a:lnTo>
                    <a:pt x="4634" y="288"/>
                  </a:lnTo>
                  <a:lnTo>
                    <a:pt x="4585" y="310"/>
                  </a:lnTo>
                  <a:lnTo>
                    <a:pt x="4537" y="347"/>
                  </a:lnTo>
                  <a:lnTo>
                    <a:pt x="4490" y="382"/>
                  </a:lnTo>
                  <a:lnTo>
                    <a:pt x="4441" y="407"/>
                  </a:lnTo>
                  <a:lnTo>
                    <a:pt x="4382" y="431"/>
                  </a:lnTo>
                  <a:lnTo>
                    <a:pt x="4322" y="454"/>
                  </a:lnTo>
                  <a:lnTo>
                    <a:pt x="4262" y="478"/>
                  </a:lnTo>
                  <a:lnTo>
                    <a:pt x="4203" y="490"/>
                  </a:lnTo>
                  <a:lnTo>
                    <a:pt x="4143" y="514"/>
                  </a:lnTo>
                  <a:lnTo>
                    <a:pt x="4083" y="526"/>
                  </a:lnTo>
                  <a:lnTo>
                    <a:pt x="4010" y="538"/>
                  </a:lnTo>
                  <a:lnTo>
                    <a:pt x="3975" y="538"/>
                  </a:lnTo>
                  <a:lnTo>
                    <a:pt x="3939" y="538"/>
                  </a:lnTo>
                  <a:lnTo>
                    <a:pt x="3903" y="538"/>
                  </a:lnTo>
                  <a:lnTo>
                    <a:pt x="3855" y="538"/>
                  </a:lnTo>
                  <a:lnTo>
                    <a:pt x="3820" y="538"/>
                  </a:lnTo>
                  <a:lnTo>
                    <a:pt x="3784" y="538"/>
                  </a:lnTo>
                  <a:lnTo>
                    <a:pt x="3736" y="538"/>
                  </a:lnTo>
                  <a:lnTo>
                    <a:pt x="3700" y="526"/>
                  </a:lnTo>
                  <a:lnTo>
                    <a:pt x="3664" y="526"/>
                  </a:lnTo>
                  <a:lnTo>
                    <a:pt x="3628" y="526"/>
                  </a:lnTo>
                  <a:lnTo>
                    <a:pt x="3580" y="526"/>
                  </a:lnTo>
                  <a:lnTo>
                    <a:pt x="3543" y="526"/>
                  </a:lnTo>
                  <a:lnTo>
                    <a:pt x="3508" y="526"/>
                  </a:lnTo>
                  <a:lnTo>
                    <a:pt x="3472" y="526"/>
                  </a:lnTo>
                  <a:lnTo>
                    <a:pt x="3436" y="514"/>
                  </a:lnTo>
                  <a:lnTo>
                    <a:pt x="3388" y="514"/>
                  </a:lnTo>
                  <a:lnTo>
                    <a:pt x="3353" y="514"/>
                  </a:lnTo>
                  <a:lnTo>
                    <a:pt x="3317" y="514"/>
                  </a:lnTo>
                  <a:lnTo>
                    <a:pt x="3280" y="503"/>
                  </a:lnTo>
                  <a:lnTo>
                    <a:pt x="3245" y="503"/>
                  </a:lnTo>
                  <a:lnTo>
                    <a:pt x="3197" y="503"/>
                  </a:lnTo>
                  <a:lnTo>
                    <a:pt x="3161" y="490"/>
                  </a:lnTo>
                  <a:lnTo>
                    <a:pt x="3125" y="490"/>
                  </a:lnTo>
                  <a:lnTo>
                    <a:pt x="3090" y="478"/>
                  </a:lnTo>
                  <a:lnTo>
                    <a:pt x="3054" y="478"/>
                  </a:lnTo>
                  <a:lnTo>
                    <a:pt x="3005" y="467"/>
                  </a:lnTo>
                  <a:lnTo>
                    <a:pt x="2970" y="467"/>
                  </a:lnTo>
                  <a:lnTo>
                    <a:pt x="2933" y="454"/>
                  </a:lnTo>
                  <a:lnTo>
                    <a:pt x="2897" y="454"/>
                  </a:lnTo>
                  <a:lnTo>
                    <a:pt x="2861" y="443"/>
                  </a:lnTo>
                  <a:lnTo>
                    <a:pt x="2826" y="443"/>
                  </a:lnTo>
                  <a:lnTo>
                    <a:pt x="2778" y="431"/>
                  </a:lnTo>
                  <a:lnTo>
                    <a:pt x="2729" y="418"/>
                  </a:lnTo>
                  <a:lnTo>
                    <a:pt x="2670" y="395"/>
                  </a:lnTo>
                  <a:lnTo>
                    <a:pt x="2610" y="382"/>
                  </a:lnTo>
                  <a:lnTo>
                    <a:pt x="2563" y="370"/>
                  </a:lnTo>
                  <a:lnTo>
                    <a:pt x="2503" y="347"/>
                  </a:lnTo>
                  <a:lnTo>
                    <a:pt x="2444" y="334"/>
                  </a:lnTo>
                  <a:lnTo>
                    <a:pt x="2395" y="323"/>
                  </a:lnTo>
                  <a:lnTo>
                    <a:pt x="2334" y="310"/>
                  </a:lnTo>
                  <a:lnTo>
                    <a:pt x="2287" y="288"/>
                  </a:lnTo>
                  <a:lnTo>
                    <a:pt x="2226" y="274"/>
                  </a:lnTo>
                  <a:lnTo>
                    <a:pt x="2167" y="263"/>
                  </a:lnTo>
                  <a:lnTo>
                    <a:pt x="2120" y="251"/>
                  </a:lnTo>
                  <a:lnTo>
                    <a:pt x="2060" y="239"/>
                  </a:lnTo>
                  <a:lnTo>
                    <a:pt x="2011" y="227"/>
                  </a:lnTo>
                  <a:lnTo>
                    <a:pt x="1952" y="215"/>
                  </a:lnTo>
                  <a:lnTo>
                    <a:pt x="1903" y="191"/>
                  </a:lnTo>
                  <a:lnTo>
                    <a:pt x="1844" y="180"/>
                  </a:lnTo>
                  <a:lnTo>
                    <a:pt x="1784" y="167"/>
                  </a:lnTo>
                  <a:lnTo>
                    <a:pt x="1736" y="167"/>
                  </a:lnTo>
                  <a:lnTo>
                    <a:pt x="1676" y="155"/>
                  </a:lnTo>
                  <a:lnTo>
                    <a:pt x="1629" y="144"/>
                  </a:lnTo>
                  <a:lnTo>
                    <a:pt x="1569" y="131"/>
                  </a:lnTo>
                  <a:lnTo>
                    <a:pt x="1521" y="119"/>
                  </a:lnTo>
                  <a:lnTo>
                    <a:pt x="1461" y="119"/>
                  </a:lnTo>
                  <a:lnTo>
                    <a:pt x="1413" y="107"/>
                  </a:lnTo>
                  <a:lnTo>
                    <a:pt x="1353" y="107"/>
                  </a:lnTo>
                  <a:lnTo>
                    <a:pt x="1306" y="95"/>
                  </a:lnTo>
                  <a:lnTo>
                    <a:pt x="1246" y="95"/>
                  </a:lnTo>
                  <a:lnTo>
                    <a:pt x="1198" y="95"/>
                  </a:lnTo>
                  <a:lnTo>
                    <a:pt x="1138" y="95"/>
                  </a:lnTo>
                  <a:lnTo>
                    <a:pt x="1090" y="95"/>
                  </a:lnTo>
                  <a:lnTo>
                    <a:pt x="1042" y="95"/>
                  </a:lnTo>
                  <a:lnTo>
                    <a:pt x="1005" y="95"/>
                  </a:lnTo>
                  <a:lnTo>
                    <a:pt x="970" y="95"/>
                  </a:lnTo>
                  <a:lnTo>
                    <a:pt x="934" y="95"/>
                  </a:lnTo>
                  <a:lnTo>
                    <a:pt x="910" y="95"/>
                  </a:lnTo>
                  <a:lnTo>
                    <a:pt x="875" y="95"/>
                  </a:lnTo>
                  <a:lnTo>
                    <a:pt x="839" y="95"/>
                  </a:lnTo>
                  <a:lnTo>
                    <a:pt x="802" y="95"/>
                  </a:lnTo>
                  <a:lnTo>
                    <a:pt x="779" y="95"/>
                  </a:lnTo>
                  <a:lnTo>
                    <a:pt x="742" y="95"/>
                  </a:lnTo>
                  <a:lnTo>
                    <a:pt x="707" y="107"/>
                  </a:lnTo>
                  <a:lnTo>
                    <a:pt x="671" y="107"/>
                  </a:lnTo>
                  <a:lnTo>
                    <a:pt x="646" y="107"/>
                  </a:lnTo>
                  <a:lnTo>
                    <a:pt x="611" y="107"/>
                  </a:lnTo>
                  <a:lnTo>
                    <a:pt x="575" y="107"/>
                  </a:lnTo>
                  <a:lnTo>
                    <a:pt x="538" y="107"/>
                  </a:lnTo>
                  <a:lnTo>
                    <a:pt x="516" y="107"/>
                  </a:lnTo>
                  <a:lnTo>
                    <a:pt x="478" y="119"/>
                  </a:lnTo>
                  <a:lnTo>
                    <a:pt x="444" y="119"/>
                  </a:lnTo>
                  <a:lnTo>
                    <a:pt x="419" y="119"/>
                  </a:lnTo>
                  <a:lnTo>
                    <a:pt x="383" y="131"/>
                  </a:lnTo>
                  <a:lnTo>
                    <a:pt x="348" y="131"/>
                  </a:lnTo>
                  <a:lnTo>
                    <a:pt x="323" y="131"/>
                  </a:lnTo>
                  <a:lnTo>
                    <a:pt x="288" y="144"/>
                  </a:lnTo>
                  <a:lnTo>
                    <a:pt x="264" y="144"/>
                  </a:lnTo>
                  <a:lnTo>
                    <a:pt x="229" y="155"/>
                  </a:lnTo>
                  <a:lnTo>
                    <a:pt x="204" y="167"/>
                  </a:lnTo>
                  <a:lnTo>
                    <a:pt x="168" y="167"/>
                  </a:lnTo>
                  <a:lnTo>
                    <a:pt x="144" y="180"/>
                  </a:lnTo>
                  <a:lnTo>
                    <a:pt x="108" y="191"/>
                  </a:lnTo>
                  <a:lnTo>
                    <a:pt x="85" y="203"/>
                  </a:lnTo>
                  <a:lnTo>
                    <a:pt x="60" y="215"/>
                  </a:lnTo>
                  <a:lnTo>
                    <a:pt x="25" y="227"/>
                  </a:lnTo>
                  <a:lnTo>
                    <a:pt x="11" y="251"/>
                  </a:lnTo>
                  <a:lnTo>
                    <a:pt x="0" y="274"/>
                  </a:lnTo>
                  <a:lnTo>
                    <a:pt x="0" y="288"/>
                  </a:lnTo>
                  <a:lnTo>
                    <a:pt x="0" y="299"/>
                  </a:lnTo>
                  <a:lnTo>
                    <a:pt x="0" y="323"/>
                  </a:lnTo>
                  <a:lnTo>
                    <a:pt x="0" y="347"/>
                  </a:lnTo>
                  <a:lnTo>
                    <a:pt x="0" y="370"/>
                  </a:lnTo>
                  <a:lnTo>
                    <a:pt x="0" y="395"/>
                  </a:lnTo>
                  <a:lnTo>
                    <a:pt x="11" y="418"/>
                  </a:lnTo>
                  <a:lnTo>
                    <a:pt x="25" y="431"/>
                  </a:lnTo>
                  <a:lnTo>
                    <a:pt x="36" y="443"/>
                  </a:lnTo>
                  <a:lnTo>
                    <a:pt x="49" y="454"/>
                  </a:lnTo>
                  <a:lnTo>
                    <a:pt x="60" y="467"/>
                  </a:lnTo>
                  <a:lnTo>
                    <a:pt x="72" y="478"/>
                  </a:lnTo>
                  <a:lnTo>
                    <a:pt x="96" y="490"/>
                  </a:lnTo>
                  <a:lnTo>
                    <a:pt x="108" y="503"/>
                  </a:lnTo>
                  <a:lnTo>
                    <a:pt x="119" y="503"/>
                  </a:lnTo>
                  <a:lnTo>
                    <a:pt x="133" y="514"/>
                  </a:lnTo>
                  <a:lnTo>
                    <a:pt x="155" y="526"/>
                  </a:lnTo>
                  <a:lnTo>
                    <a:pt x="168" y="538"/>
                  </a:lnTo>
                  <a:lnTo>
                    <a:pt x="180" y="538"/>
                  </a:lnTo>
                  <a:lnTo>
                    <a:pt x="204" y="551"/>
                  </a:lnTo>
                  <a:lnTo>
                    <a:pt x="215" y="562"/>
                  </a:lnTo>
                  <a:lnTo>
                    <a:pt x="229" y="574"/>
                  </a:lnTo>
                  <a:lnTo>
                    <a:pt x="275" y="574"/>
                  </a:lnTo>
                  <a:lnTo>
                    <a:pt x="312" y="574"/>
                  </a:lnTo>
                  <a:lnTo>
                    <a:pt x="359" y="586"/>
                  </a:lnTo>
                  <a:lnTo>
                    <a:pt x="396" y="586"/>
                  </a:lnTo>
                  <a:lnTo>
                    <a:pt x="431" y="597"/>
                  </a:lnTo>
                  <a:lnTo>
                    <a:pt x="467" y="611"/>
                  </a:lnTo>
                  <a:lnTo>
                    <a:pt x="516" y="611"/>
                  </a:lnTo>
                  <a:lnTo>
                    <a:pt x="552" y="622"/>
                  </a:lnTo>
                  <a:lnTo>
                    <a:pt x="587" y="634"/>
                  </a:lnTo>
                  <a:lnTo>
                    <a:pt x="623" y="658"/>
                  </a:lnTo>
                  <a:lnTo>
                    <a:pt x="660" y="670"/>
                  </a:lnTo>
                  <a:lnTo>
                    <a:pt x="695" y="694"/>
                  </a:lnTo>
                  <a:lnTo>
                    <a:pt x="731" y="706"/>
                  </a:lnTo>
                  <a:lnTo>
                    <a:pt x="767" y="730"/>
                  </a:lnTo>
                  <a:lnTo>
                    <a:pt x="802" y="754"/>
                  </a:lnTo>
                  <a:lnTo>
                    <a:pt x="826" y="766"/>
                  </a:lnTo>
                  <a:lnTo>
                    <a:pt x="863" y="790"/>
                  </a:lnTo>
                  <a:lnTo>
                    <a:pt x="898" y="814"/>
                  </a:lnTo>
                  <a:lnTo>
                    <a:pt x="923" y="837"/>
                  </a:lnTo>
                  <a:lnTo>
                    <a:pt x="958" y="874"/>
                  </a:lnTo>
                  <a:lnTo>
                    <a:pt x="994" y="898"/>
                  </a:lnTo>
                  <a:lnTo>
                    <a:pt x="1018" y="921"/>
                  </a:lnTo>
                  <a:lnTo>
                    <a:pt x="1054" y="957"/>
                  </a:lnTo>
                  <a:lnTo>
                    <a:pt x="1078" y="981"/>
                  </a:lnTo>
                  <a:lnTo>
                    <a:pt x="1113" y="1005"/>
                  </a:lnTo>
                  <a:lnTo>
                    <a:pt x="1149" y="1041"/>
                  </a:lnTo>
                  <a:lnTo>
                    <a:pt x="1173" y="1078"/>
                  </a:lnTo>
                  <a:lnTo>
                    <a:pt x="1209" y="1101"/>
                  </a:lnTo>
                  <a:lnTo>
                    <a:pt x="1234" y="1137"/>
                  </a:lnTo>
                  <a:lnTo>
                    <a:pt x="1269" y="1161"/>
                  </a:lnTo>
                  <a:lnTo>
                    <a:pt x="1293" y="1197"/>
                  </a:lnTo>
                  <a:lnTo>
                    <a:pt x="1317" y="1233"/>
                  </a:lnTo>
                  <a:lnTo>
                    <a:pt x="1329" y="1244"/>
                  </a:lnTo>
                  <a:lnTo>
                    <a:pt x="1342" y="1257"/>
                  </a:lnTo>
                  <a:lnTo>
                    <a:pt x="1342" y="1268"/>
                  </a:lnTo>
                  <a:lnTo>
                    <a:pt x="1353" y="1268"/>
                  </a:lnTo>
                  <a:lnTo>
                    <a:pt x="1353" y="1280"/>
                  </a:lnTo>
                  <a:lnTo>
                    <a:pt x="1365" y="1280"/>
                  </a:lnTo>
                  <a:lnTo>
                    <a:pt x="1365" y="1316"/>
                  </a:lnTo>
                  <a:lnTo>
                    <a:pt x="1377" y="1352"/>
                  </a:lnTo>
                  <a:lnTo>
                    <a:pt x="1401" y="1387"/>
                  </a:lnTo>
                  <a:lnTo>
                    <a:pt x="1425" y="1412"/>
                  </a:lnTo>
                  <a:lnTo>
                    <a:pt x="1450" y="1436"/>
                  </a:lnTo>
                  <a:lnTo>
                    <a:pt x="1472" y="1460"/>
                  </a:lnTo>
                  <a:lnTo>
                    <a:pt x="1497" y="1484"/>
                  </a:lnTo>
                  <a:lnTo>
                    <a:pt x="1532" y="1508"/>
                  </a:lnTo>
                  <a:lnTo>
                    <a:pt x="1557" y="1520"/>
                  </a:lnTo>
                  <a:lnTo>
                    <a:pt x="1593" y="1544"/>
                  </a:lnTo>
                  <a:lnTo>
                    <a:pt x="1629" y="1567"/>
                  </a:lnTo>
                  <a:lnTo>
                    <a:pt x="1653" y="1580"/>
                  </a:lnTo>
                  <a:lnTo>
                    <a:pt x="1688" y="1605"/>
                  </a:lnTo>
                  <a:lnTo>
                    <a:pt x="1713" y="1628"/>
                  </a:lnTo>
                  <a:lnTo>
                    <a:pt x="1736" y="1664"/>
                  </a:lnTo>
                  <a:lnTo>
                    <a:pt x="1760" y="1688"/>
                  </a:lnTo>
                  <a:lnTo>
                    <a:pt x="1795" y="1711"/>
                  </a:lnTo>
                  <a:lnTo>
                    <a:pt x="1832" y="1735"/>
                  </a:lnTo>
                  <a:lnTo>
                    <a:pt x="1880" y="1760"/>
                  </a:lnTo>
                  <a:lnTo>
                    <a:pt x="1917" y="1784"/>
                  </a:lnTo>
                  <a:lnTo>
                    <a:pt x="1963" y="1795"/>
                  </a:lnTo>
                  <a:lnTo>
                    <a:pt x="1999" y="1819"/>
                  </a:lnTo>
                  <a:lnTo>
                    <a:pt x="2047" y="1843"/>
                  </a:lnTo>
                  <a:lnTo>
                    <a:pt x="2083" y="1868"/>
                  </a:lnTo>
                  <a:lnTo>
                    <a:pt x="2132" y="1879"/>
                  </a:lnTo>
                  <a:lnTo>
                    <a:pt x="2167" y="1903"/>
                  </a:lnTo>
                  <a:lnTo>
                    <a:pt x="2215" y="1915"/>
                  </a:lnTo>
                  <a:lnTo>
                    <a:pt x="2262" y="1939"/>
                  </a:lnTo>
                  <a:lnTo>
                    <a:pt x="2300" y="1951"/>
                  </a:lnTo>
                  <a:lnTo>
                    <a:pt x="2347" y="1975"/>
                  </a:lnTo>
                  <a:lnTo>
                    <a:pt x="2395" y="1987"/>
                  </a:lnTo>
                  <a:lnTo>
                    <a:pt x="2430" y="1998"/>
                  </a:lnTo>
                  <a:lnTo>
                    <a:pt x="2479" y="2023"/>
                  </a:lnTo>
                  <a:lnTo>
                    <a:pt x="2527" y="2034"/>
                  </a:lnTo>
                  <a:lnTo>
                    <a:pt x="2574" y="2047"/>
                  </a:lnTo>
                  <a:lnTo>
                    <a:pt x="2623" y="2058"/>
                  </a:lnTo>
                  <a:lnTo>
                    <a:pt x="2659" y="2071"/>
                  </a:lnTo>
                  <a:lnTo>
                    <a:pt x="2707" y="2083"/>
                  </a:lnTo>
                  <a:lnTo>
                    <a:pt x="2753" y="2095"/>
                  </a:lnTo>
                  <a:lnTo>
                    <a:pt x="2802" y="2107"/>
                  </a:lnTo>
                  <a:lnTo>
                    <a:pt x="2850" y="2118"/>
                  </a:lnTo>
                  <a:lnTo>
                    <a:pt x="2897" y="2131"/>
                  </a:lnTo>
                  <a:lnTo>
                    <a:pt x="2946" y="2131"/>
                  </a:lnTo>
                  <a:lnTo>
                    <a:pt x="2993" y="2143"/>
                  </a:lnTo>
                  <a:lnTo>
                    <a:pt x="3041" y="2155"/>
                  </a:lnTo>
                  <a:lnTo>
                    <a:pt x="3090" y="2155"/>
                  </a:lnTo>
                  <a:lnTo>
                    <a:pt x="3137" y="2166"/>
                  </a:lnTo>
                  <a:lnTo>
                    <a:pt x="3185" y="2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92760" y="1787400"/>
              <a:ext cx="1717560" cy="714600"/>
            </a:xfrm>
            <a:custGeom>
              <a:avLst/>
              <a:gdLst/>
              <a:ahLst/>
              <a:rect l="l" t="t" r="r" b="b"/>
              <a:pathLst>
                <a:path w="5411" h="2251">
                  <a:moveTo>
                    <a:pt x="2346" y="2251"/>
                  </a:moveTo>
                  <a:lnTo>
                    <a:pt x="2370" y="2251"/>
                  </a:lnTo>
                  <a:lnTo>
                    <a:pt x="2394" y="2251"/>
                  </a:lnTo>
                  <a:lnTo>
                    <a:pt x="2430" y="2251"/>
                  </a:lnTo>
                  <a:lnTo>
                    <a:pt x="2454" y="2251"/>
                  </a:lnTo>
                  <a:lnTo>
                    <a:pt x="2479" y="2251"/>
                  </a:lnTo>
                  <a:lnTo>
                    <a:pt x="2514" y="2251"/>
                  </a:lnTo>
                  <a:lnTo>
                    <a:pt x="2538" y="2251"/>
                  </a:lnTo>
                  <a:lnTo>
                    <a:pt x="2561" y="2251"/>
                  </a:lnTo>
                  <a:lnTo>
                    <a:pt x="2598" y="2239"/>
                  </a:lnTo>
                  <a:lnTo>
                    <a:pt x="2620" y="2239"/>
                  </a:lnTo>
                  <a:lnTo>
                    <a:pt x="2658" y="2239"/>
                  </a:lnTo>
                  <a:lnTo>
                    <a:pt x="2682" y="2226"/>
                  </a:lnTo>
                  <a:lnTo>
                    <a:pt x="2717" y="2226"/>
                  </a:lnTo>
                  <a:lnTo>
                    <a:pt x="2742" y="2226"/>
                  </a:lnTo>
                  <a:lnTo>
                    <a:pt x="2777" y="2215"/>
                  </a:lnTo>
                  <a:lnTo>
                    <a:pt x="2802" y="2215"/>
                  </a:lnTo>
                  <a:lnTo>
                    <a:pt x="2838" y="2203"/>
                  </a:lnTo>
                  <a:lnTo>
                    <a:pt x="2861" y="2203"/>
                  </a:lnTo>
                  <a:lnTo>
                    <a:pt x="2897" y="2191"/>
                  </a:lnTo>
                  <a:lnTo>
                    <a:pt x="2921" y="2191"/>
                  </a:lnTo>
                  <a:lnTo>
                    <a:pt x="2957" y="2179"/>
                  </a:lnTo>
                  <a:lnTo>
                    <a:pt x="2981" y="2167"/>
                  </a:lnTo>
                  <a:lnTo>
                    <a:pt x="3017" y="2167"/>
                  </a:lnTo>
                  <a:lnTo>
                    <a:pt x="3040" y="2156"/>
                  </a:lnTo>
                  <a:lnTo>
                    <a:pt x="3065" y="2143"/>
                  </a:lnTo>
                  <a:lnTo>
                    <a:pt x="3101" y="2131"/>
                  </a:lnTo>
                  <a:lnTo>
                    <a:pt x="3125" y="2131"/>
                  </a:lnTo>
                  <a:lnTo>
                    <a:pt x="3148" y="2120"/>
                  </a:lnTo>
                  <a:lnTo>
                    <a:pt x="3184" y="2107"/>
                  </a:lnTo>
                  <a:lnTo>
                    <a:pt x="3209" y="2096"/>
                  </a:lnTo>
                  <a:lnTo>
                    <a:pt x="3232" y="2082"/>
                  </a:lnTo>
                  <a:lnTo>
                    <a:pt x="3255" y="2071"/>
                  </a:lnTo>
                  <a:lnTo>
                    <a:pt x="3269" y="2060"/>
                  </a:lnTo>
                  <a:lnTo>
                    <a:pt x="3291" y="2060"/>
                  </a:lnTo>
                  <a:lnTo>
                    <a:pt x="3304" y="2047"/>
                  </a:lnTo>
                  <a:lnTo>
                    <a:pt x="3316" y="2047"/>
                  </a:lnTo>
                  <a:lnTo>
                    <a:pt x="3328" y="2047"/>
                  </a:lnTo>
                  <a:lnTo>
                    <a:pt x="3532" y="1927"/>
                  </a:lnTo>
                  <a:lnTo>
                    <a:pt x="3543" y="1916"/>
                  </a:lnTo>
                  <a:lnTo>
                    <a:pt x="3555" y="1903"/>
                  </a:lnTo>
                  <a:lnTo>
                    <a:pt x="3567" y="1892"/>
                  </a:lnTo>
                  <a:lnTo>
                    <a:pt x="3579" y="1880"/>
                  </a:lnTo>
                  <a:lnTo>
                    <a:pt x="3592" y="1867"/>
                  </a:lnTo>
                  <a:lnTo>
                    <a:pt x="3603" y="1856"/>
                  </a:lnTo>
                  <a:lnTo>
                    <a:pt x="3615" y="1844"/>
                  </a:lnTo>
                  <a:lnTo>
                    <a:pt x="3628" y="1833"/>
                  </a:lnTo>
                  <a:lnTo>
                    <a:pt x="3639" y="1819"/>
                  </a:lnTo>
                  <a:lnTo>
                    <a:pt x="3663" y="1808"/>
                  </a:lnTo>
                  <a:lnTo>
                    <a:pt x="3675" y="1795"/>
                  </a:lnTo>
                  <a:lnTo>
                    <a:pt x="3699" y="1784"/>
                  </a:lnTo>
                  <a:lnTo>
                    <a:pt x="3711" y="1772"/>
                  </a:lnTo>
                  <a:lnTo>
                    <a:pt x="3722" y="1772"/>
                  </a:lnTo>
                  <a:lnTo>
                    <a:pt x="3747" y="1759"/>
                  </a:lnTo>
                  <a:lnTo>
                    <a:pt x="3758" y="1748"/>
                  </a:lnTo>
                  <a:lnTo>
                    <a:pt x="4262" y="1113"/>
                  </a:lnTo>
                  <a:lnTo>
                    <a:pt x="4285" y="1102"/>
                  </a:lnTo>
                  <a:lnTo>
                    <a:pt x="4297" y="1090"/>
                  </a:lnTo>
                  <a:lnTo>
                    <a:pt x="4322" y="1065"/>
                  </a:lnTo>
                  <a:lnTo>
                    <a:pt x="4333" y="1042"/>
                  </a:lnTo>
                  <a:lnTo>
                    <a:pt x="4357" y="1018"/>
                  </a:lnTo>
                  <a:lnTo>
                    <a:pt x="4369" y="994"/>
                  </a:lnTo>
                  <a:lnTo>
                    <a:pt x="4382" y="969"/>
                  </a:lnTo>
                  <a:lnTo>
                    <a:pt x="4393" y="946"/>
                  </a:lnTo>
                  <a:lnTo>
                    <a:pt x="4692" y="766"/>
                  </a:lnTo>
                  <a:lnTo>
                    <a:pt x="4992" y="706"/>
                  </a:lnTo>
                  <a:lnTo>
                    <a:pt x="5015" y="695"/>
                  </a:lnTo>
                  <a:lnTo>
                    <a:pt x="5028" y="682"/>
                  </a:lnTo>
                  <a:lnTo>
                    <a:pt x="5053" y="659"/>
                  </a:lnTo>
                  <a:lnTo>
                    <a:pt x="5064" y="635"/>
                  </a:lnTo>
                  <a:lnTo>
                    <a:pt x="5076" y="610"/>
                  </a:lnTo>
                  <a:lnTo>
                    <a:pt x="5099" y="587"/>
                  </a:lnTo>
                  <a:lnTo>
                    <a:pt x="5124" y="575"/>
                  </a:lnTo>
                  <a:lnTo>
                    <a:pt x="5159" y="562"/>
                  </a:lnTo>
                  <a:lnTo>
                    <a:pt x="5172" y="562"/>
                  </a:lnTo>
                  <a:lnTo>
                    <a:pt x="5183" y="562"/>
                  </a:lnTo>
                  <a:lnTo>
                    <a:pt x="5196" y="562"/>
                  </a:lnTo>
                  <a:lnTo>
                    <a:pt x="5208" y="562"/>
                  </a:lnTo>
                  <a:lnTo>
                    <a:pt x="5219" y="562"/>
                  </a:lnTo>
                  <a:lnTo>
                    <a:pt x="5243" y="562"/>
                  </a:lnTo>
                  <a:lnTo>
                    <a:pt x="5255" y="562"/>
                  </a:lnTo>
                  <a:lnTo>
                    <a:pt x="5411" y="383"/>
                  </a:lnTo>
                  <a:lnTo>
                    <a:pt x="5411" y="372"/>
                  </a:lnTo>
                  <a:lnTo>
                    <a:pt x="5411" y="359"/>
                  </a:lnTo>
                  <a:lnTo>
                    <a:pt x="5399" y="335"/>
                  </a:lnTo>
                  <a:lnTo>
                    <a:pt x="5387" y="323"/>
                  </a:lnTo>
                  <a:lnTo>
                    <a:pt x="4692" y="0"/>
                  </a:lnTo>
                  <a:lnTo>
                    <a:pt x="4322" y="0"/>
                  </a:lnTo>
                  <a:lnTo>
                    <a:pt x="4322" y="11"/>
                  </a:lnTo>
                  <a:lnTo>
                    <a:pt x="4309" y="24"/>
                  </a:lnTo>
                  <a:lnTo>
                    <a:pt x="4297" y="24"/>
                  </a:lnTo>
                  <a:lnTo>
                    <a:pt x="4297" y="35"/>
                  </a:lnTo>
                  <a:lnTo>
                    <a:pt x="4285" y="49"/>
                  </a:lnTo>
                  <a:lnTo>
                    <a:pt x="4274" y="60"/>
                  </a:lnTo>
                  <a:lnTo>
                    <a:pt x="4262" y="71"/>
                  </a:lnTo>
                  <a:lnTo>
                    <a:pt x="4225" y="84"/>
                  </a:lnTo>
                  <a:lnTo>
                    <a:pt x="4178" y="84"/>
                  </a:lnTo>
                  <a:lnTo>
                    <a:pt x="4142" y="96"/>
                  </a:lnTo>
                  <a:lnTo>
                    <a:pt x="4106" y="96"/>
                  </a:lnTo>
                  <a:lnTo>
                    <a:pt x="4070" y="108"/>
                  </a:lnTo>
                  <a:lnTo>
                    <a:pt x="4034" y="120"/>
                  </a:lnTo>
                  <a:lnTo>
                    <a:pt x="3986" y="120"/>
                  </a:lnTo>
                  <a:lnTo>
                    <a:pt x="3951" y="132"/>
                  </a:lnTo>
                  <a:lnTo>
                    <a:pt x="3902" y="132"/>
                  </a:lnTo>
                  <a:lnTo>
                    <a:pt x="3866" y="144"/>
                  </a:lnTo>
                  <a:lnTo>
                    <a:pt x="3830" y="144"/>
                  </a:lnTo>
                  <a:lnTo>
                    <a:pt x="3782" y="156"/>
                  </a:lnTo>
                  <a:lnTo>
                    <a:pt x="3747" y="168"/>
                  </a:lnTo>
                  <a:lnTo>
                    <a:pt x="3699" y="179"/>
                  </a:lnTo>
                  <a:lnTo>
                    <a:pt x="3663" y="192"/>
                  </a:lnTo>
                  <a:lnTo>
                    <a:pt x="3628" y="204"/>
                  </a:lnTo>
                  <a:lnTo>
                    <a:pt x="3532" y="215"/>
                  </a:lnTo>
                  <a:lnTo>
                    <a:pt x="3435" y="239"/>
                  </a:lnTo>
                  <a:lnTo>
                    <a:pt x="3328" y="264"/>
                  </a:lnTo>
                  <a:lnTo>
                    <a:pt x="3232" y="287"/>
                  </a:lnTo>
                  <a:lnTo>
                    <a:pt x="3136" y="323"/>
                  </a:lnTo>
                  <a:lnTo>
                    <a:pt x="3040" y="347"/>
                  </a:lnTo>
                  <a:lnTo>
                    <a:pt x="2946" y="383"/>
                  </a:lnTo>
                  <a:lnTo>
                    <a:pt x="2849" y="408"/>
                  </a:lnTo>
                  <a:lnTo>
                    <a:pt x="2753" y="443"/>
                  </a:lnTo>
                  <a:lnTo>
                    <a:pt x="2658" y="479"/>
                  </a:lnTo>
                  <a:lnTo>
                    <a:pt x="2549" y="516"/>
                  </a:lnTo>
                  <a:lnTo>
                    <a:pt x="2454" y="538"/>
                  </a:lnTo>
                  <a:lnTo>
                    <a:pt x="2357" y="575"/>
                  </a:lnTo>
                  <a:lnTo>
                    <a:pt x="2262" y="610"/>
                  </a:lnTo>
                  <a:lnTo>
                    <a:pt x="2167" y="635"/>
                  </a:lnTo>
                  <a:lnTo>
                    <a:pt x="2071" y="659"/>
                  </a:lnTo>
                  <a:lnTo>
                    <a:pt x="1974" y="682"/>
                  </a:lnTo>
                  <a:lnTo>
                    <a:pt x="1879" y="706"/>
                  </a:lnTo>
                  <a:lnTo>
                    <a:pt x="1784" y="731"/>
                  </a:lnTo>
                  <a:lnTo>
                    <a:pt x="1688" y="754"/>
                  </a:lnTo>
                  <a:lnTo>
                    <a:pt x="1592" y="766"/>
                  </a:lnTo>
                  <a:lnTo>
                    <a:pt x="1496" y="779"/>
                  </a:lnTo>
                  <a:lnTo>
                    <a:pt x="1400" y="790"/>
                  </a:lnTo>
                  <a:lnTo>
                    <a:pt x="1304" y="790"/>
                  </a:lnTo>
                  <a:lnTo>
                    <a:pt x="1209" y="790"/>
                  </a:lnTo>
                  <a:lnTo>
                    <a:pt x="1113" y="779"/>
                  </a:lnTo>
                  <a:lnTo>
                    <a:pt x="1029" y="766"/>
                  </a:lnTo>
                  <a:lnTo>
                    <a:pt x="933" y="754"/>
                  </a:lnTo>
                  <a:lnTo>
                    <a:pt x="838" y="731"/>
                  </a:lnTo>
                  <a:lnTo>
                    <a:pt x="742" y="706"/>
                  </a:lnTo>
                  <a:lnTo>
                    <a:pt x="658" y="671"/>
                  </a:lnTo>
                  <a:lnTo>
                    <a:pt x="562" y="623"/>
                  </a:lnTo>
                  <a:lnTo>
                    <a:pt x="551" y="598"/>
                  </a:lnTo>
                  <a:lnTo>
                    <a:pt x="551" y="575"/>
                  </a:lnTo>
                  <a:lnTo>
                    <a:pt x="551" y="562"/>
                  </a:lnTo>
                  <a:lnTo>
                    <a:pt x="334" y="252"/>
                  </a:lnTo>
                  <a:lnTo>
                    <a:pt x="323" y="239"/>
                  </a:lnTo>
                  <a:lnTo>
                    <a:pt x="299" y="239"/>
                  </a:lnTo>
                  <a:lnTo>
                    <a:pt x="287" y="228"/>
                  </a:lnTo>
                  <a:lnTo>
                    <a:pt x="264" y="228"/>
                  </a:lnTo>
                  <a:lnTo>
                    <a:pt x="239" y="228"/>
                  </a:lnTo>
                  <a:lnTo>
                    <a:pt x="226" y="228"/>
                  </a:lnTo>
                  <a:lnTo>
                    <a:pt x="204" y="228"/>
                  </a:lnTo>
                  <a:lnTo>
                    <a:pt x="179" y="228"/>
                  </a:lnTo>
                  <a:lnTo>
                    <a:pt x="167" y="239"/>
                  </a:lnTo>
                  <a:lnTo>
                    <a:pt x="143" y="239"/>
                  </a:lnTo>
                  <a:lnTo>
                    <a:pt x="120" y="252"/>
                  </a:lnTo>
                  <a:lnTo>
                    <a:pt x="107" y="264"/>
                  </a:lnTo>
                  <a:lnTo>
                    <a:pt x="84" y="264"/>
                  </a:lnTo>
                  <a:lnTo>
                    <a:pt x="71" y="275"/>
                  </a:lnTo>
                  <a:lnTo>
                    <a:pt x="47" y="287"/>
                  </a:lnTo>
                  <a:lnTo>
                    <a:pt x="35" y="299"/>
                  </a:lnTo>
                  <a:lnTo>
                    <a:pt x="24" y="323"/>
                  </a:lnTo>
                  <a:lnTo>
                    <a:pt x="11" y="347"/>
                  </a:lnTo>
                  <a:lnTo>
                    <a:pt x="11" y="372"/>
                  </a:lnTo>
                  <a:lnTo>
                    <a:pt x="11" y="408"/>
                  </a:lnTo>
                  <a:lnTo>
                    <a:pt x="11" y="431"/>
                  </a:lnTo>
                  <a:lnTo>
                    <a:pt x="11" y="467"/>
                  </a:lnTo>
                  <a:lnTo>
                    <a:pt x="11" y="491"/>
                  </a:lnTo>
                  <a:lnTo>
                    <a:pt x="0" y="527"/>
                  </a:lnTo>
                  <a:lnTo>
                    <a:pt x="11" y="551"/>
                  </a:lnTo>
                  <a:lnTo>
                    <a:pt x="35" y="551"/>
                  </a:lnTo>
                  <a:lnTo>
                    <a:pt x="47" y="562"/>
                  </a:lnTo>
                  <a:lnTo>
                    <a:pt x="71" y="562"/>
                  </a:lnTo>
                  <a:lnTo>
                    <a:pt x="84" y="562"/>
                  </a:lnTo>
                  <a:lnTo>
                    <a:pt x="107" y="575"/>
                  </a:lnTo>
                  <a:lnTo>
                    <a:pt x="131" y="587"/>
                  </a:lnTo>
                  <a:lnTo>
                    <a:pt x="143" y="598"/>
                  </a:lnTo>
                  <a:lnTo>
                    <a:pt x="167" y="635"/>
                  </a:lnTo>
                  <a:lnTo>
                    <a:pt x="190" y="671"/>
                  </a:lnTo>
                  <a:lnTo>
                    <a:pt x="215" y="695"/>
                  </a:lnTo>
                  <a:lnTo>
                    <a:pt x="239" y="731"/>
                  </a:lnTo>
                  <a:lnTo>
                    <a:pt x="264" y="766"/>
                  </a:lnTo>
                  <a:lnTo>
                    <a:pt x="287" y="802"/>
                  </a:lnTo>
                  <a:lnTo>
                    <a:pt x="311" y="839"/>
                  </a:lnTo>
                  <a:lnTo>
                    <a:pt x="347" y="874"/>
                  </a:lnTo>
                  <a:lnTo>
                    <a:pt x="370" y="898"/>
                  </a:lnTo>
                  <a:lnTo>
                    <a:pt x="394" y="934"/>
                  </a:lnTo>
                  <a:lnTo>
                    <a:pt x="430" y="958"/>
                  </a:lnTo>
                  <a:lnTo>
                    <a:pt x="467" y="994"/>
                  </a:lnTo>
                  <a:lnTo>
                    <a:pt x="502" y="1018"/>
                  </a:lnTo>
                  <a:lnTo>
                    <a:pt x="538" y="1042"/>
                  </a:lnTo>
                  <a:lnTo>
                    <a:pt x="574" y="1065"/>
                  </a:lnTo>
                  <a:lnTo>
                    <a:pt x="610" y="1077"/>
                  </a:lnTo>
                  <a:lnTo>
                    <a:pt x="634" y="1077"/>
                  </a:lnTo>
                  <a:lnTo>
                    <a:pt x="658" y="1077"/>
                  </a:lnTo>
                  <a:lnTo>
                    <a:pt x="682" y="1077"/>
                  </a:lnTo>
                  <a:lnTo>
                    <a:pt x="706" y="1077"/>
                  </a:lnTo>
                  <a:lnTo>
                    <a:pt x="731" y="1090"/>
                  </a:lnTo>
                  <a:lnTo>
                    <a:pt x="754" y="1090"/>
                  </a:lnTo>
                  <a:lnTo>
                    <a:pt x="777" y="1102"/>
                  </a:lnTo>
                  <a:lnTo>
                    <a:pt x="802" y="1113"/>
                  </a:lnTo>
                  <a:lnTo>
                    <a:pt x="1292" y="1819"/>
                  </a:lnTo>
                  <a:lnTo>
                    <a:pt x="1328" y="1833"/>
                  </a:lnTo>
                  <a:lnTo>
                    <a:pt x="1352" y="1856"/>
                  </a:lnTo>
                  <a:lnTo>
                    <a:pt x="1377" y="1867"/>
                  </a:lnTo>
                  <a:lnTo>
                    <a:pt x="1412" y="1892"/>
                  </a:lnTo>
                  <a:lnTo>
                    <a:pt x="1436" y="1903"/>
                  </a:lnTo>
                  <a:lnTo>
                    <a:pt x="1472" y="1927"/>
                  </a:lnTo>
                  <a:lnTo>
                    <a:pt x="1496" y="1939"/>
                  </a:lnTo>
                  <a:lnTo>
                    <a:pt x="1532" y="1952"/>
                  </a:lnTo>
                  <a:lnTo>
                    <a:pt x="1556" y="1976"/>
                  </a:lnTo>
                  <a:lnTo>
                    <a:pt x="1592" y="1988"/>
                  </a:lnTo>
                  <a:lnTo>
                    <a:pt x="1615" y="2012"/>
                  </a:lnTo>
                  <a:lnTo>
                    <a:pt x="1651" y="2023"/>
                  </a:lnTo>
                  <a:lnTo>
                    <a:pt x="1688" y="2047"/>
                  </a:lnTo>
                  <a:lnTo>
                    <a:pt x="1711" y="2060"/>
                  </a:lnTo>
                  <a:lnTo>
                    <a:pt x="1748" y="2071"/>
                  </a:lnTo>
                  <a:lnTo>
                    <a:pt x="1784" y="2096"/>
                  </a:lnTo>
                  <a:lnTo>
                    <a:pt x="1808" y="2107"/>
                  </a:lnTo>
                  <a:lnTo>
                    <a:pt x="1844" y="2120"/>
                  </a:lnTo>
                  <a:lnTo>
                    <a:pt x="1879" y="2143"/>
                  </a:lnTo>
                  <a:lnTo>
                    <a:pt x="1915" y="2156"/>
                  </a:lnTo>
                  <a:lnTo>
                    <a:pt x="1938" y="2167"/>
                  </a:lnTo>
                  <a:lnTo>
                    <a:pt x="1974" y="2179"/>
                  </a:lnTo>
                  <a:lnTo>
                    <a:pt x="2011" y="2191"/>
                  </a:lnTo>
                  <a:lnTo>
                    <a:pt x="2047" y="2203"/>
                  </a:lnTo>
                  <a:lnTo>
                    <a:pt x="2082" y="2215"/>
                  </a:lnTo>
                  <a:lnTo>
                    <a:pt x="2118" y="2215"/>
                  </a:lnTo>
                  <a:lnTo>
                    <a:pt x="2154" y="2226"/>
                  </a:lnTo>
                  <a:lnTo>
                    <a:pt x="2190" y="2239"/>
                  </a:lnTo>
                  <a:lnTo>
                    <a:pt x="2226" y="2239"/>
                  </a:lnTo>
                  <a:lnTo>
                    <a:pt x="2262" y="2251"/>
                  </a:lnTo>
                  <a:lnTo>
                    <a:pt x="2297" y="2251"/>
                  </a:lnTo>
                  <a:lnTo>
                    <a:pt x="2346" y="225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0240" y="2030400"/>
              <a:ext cx="717480" cy="384120"/>
            </a:xfrm>
            <a:custGeom>
              <a:avLst/>
              <a:gdLst/>
              <a:ahLst/>
              <a:rect l="l" t="t" r="r" b="b"/>
              <a:pathLst>
                <a:path w="2262" h="1210">
                  <a:moveTo>
                    <a:pt x="1209" y="1210"/>
                  </a:moveTo>
                  <a:lnTo>
                    <a:pt x="1867" y="1126"/>
                  </a:lnTo>
                  <a:lnTo>
                    <a:pt x="1903" y="1101"/>
                  </a:lnTo>
                  <a:lnTo>
                    <a:pt x="1938" y="1078"/>
                  </a:lnTo>
                  <a:lnTo>
                    <a:pt x="1974" y="1053"/>
                  </a:lnTo>
                  <a:lnTo>
                    <a:pt x="2011" y="1018"/>
                  </a:lnTo>
                  <a:lnTo>
                    <a:pt x="2034" y="993"/>
                  </a:lnTo>
                  <a:lnTo>
                    <a:pt x="2071" y="958"/>
                  </a:lnTo>
                  <a:lnTo>
                    <a:pt x="2094" y="934"/>
                  </a:lnTo>
                  <a:lnTo>
                    <a:pt x="2118" y="898"/>
                  </a:lnTo>
                  <a:lnTo>
                    <a:pt x="2142" y="863"/>
                  </a:lnTo>
                  <a:lnTo>
                    <a:pt x="2154" y="827"/>
                  </a:lnTo>
                  <a:lnTo>
                    <a:pt x="2178" y="790"/>
                  </a:lnTo>
                  <a:lnTo>
                    <a:pt x="2190" y="755"/>
                  </a:lnTo>
                  <a:lnTo>
                    <a:pt x="2202" y="706"/>
                  </a:lnTo>
                  <a:lnTo>
                    <a:pt x="2214" y="670"/>
                  </a:lnTo>
                  <a:lnTo>
                    <a:pt x="2226" y="623"/>
                  </a:lnTo>
                  <a:lnTo>
                    <a:pt x="2238" y="586"/>
                  </a:lnTo>
                  <a:lnTo>
                    <a:pt x="2238" y="540"/>
                  </a:lnTo>
                  <a:lnTo>
                    <a:pt x="2250" y="503"/>
                  </a:lnTo>
                  <a:lnTo>
                    <a:pt x="2250" y="467"/>
                  </a:lnTo>
                  <a:lnTo>
                    <a:pt x="2262" y="432"/>
                  </a:lnTo>
                  <a:lnTo>
                    <a:pt x="2262" y="396"/>
                  </a:lnTo>
                  <a:lnTo>
                    <a:pt x="2250" y="360"/>
                  </a:lnTo>
                  <a:lnTo>
                    <a:pt x="2238" y="324"/>
                  </a:lnTo>
                  <a:lnTo>
                    <a:pt x="2226" y="288"/>
                  </a:lnTo>
                  <a:lnTo>
                    <a:pt x="1233" y="239"/>
                  </a:lnTo>
                  <a:lnTo>
                    <a:pt x="1233" y="252"/>
                  </a:lnTo>
                  <a:lnTo>
                    <a:pt x="1220" y="263"/>
                  </a:lnTo>
                  <a:lnTo>
                    <a:pt x="1209" y="288"/>
                  </a:lnTo>
                  <a:lnTo>
                    <a:pt x="1209" y="311"/>
                  </a:lnTo>
                  <a:lnTo>
                    <a:pt x="1220" y="336"/>
                  </a:lnTo>
                  <a:lnTo>
                    <a:pt x="1233" y="360"/>
                  </a:lnTo>
                  <a:lnTo>
                    <a:pt x="1233" y="383"/>
                  </a:lnTo>
                  <a:lnTo>
                    <a:pt x="1257" y="407"/>
                  </a:lnTo>
                  <a:lnTo>
                    <a:pt x="1269" y="407"/>
                  </a:lnTo>
                  <a:lnTo>
                    <a:pt x="1292" y="407"/>
                  </a:lnTo>
                  <a:lnTo>
                    <a:pt x="1317" y="407"/>
                  </a:lnTo>
                  <a:lnTo>
                    <a:pt x="1341" y="407"/>
                  </a:lnTo>
                  <a:lnTo>
                    <a:pt x="1364" y="407"/>
                  </a:lnTo>
                  <a:lnTo>
                    <a:pt x="1388" y="407"/>
                  </a:lnTo>
                  <a:lnTo>
                    <a:pt x="1400" y="419"/>
                  </a:lnTo>
                  <a:lnTo>
                    <a:pt x="1424" y="432"/>
                  </a:lnTo>
                  <a:lnTo>
                    <a:pt x="1436" y="443"/>
                  </a:lnTo>
                  <a:lnTo>
                    <a:pt x="1448" y="455"/>
                  </a:lnTo>
                  <a:lnTo>
                    <a:pt x="1472" y="479"/>
                  </a:lnTo>
                  <a:lnTo>
                    <a:pt x="1484" y="491"/>
                  </a:lnTo>
                  <a:lnTo>
                    <a:pt x="1496" y="515"/>
                  </a:lnTo>
                  <a:lnTo>
                    <a:pt x="1507" y="526"/>
                  </a:lnTo>
                  <a:lnTo>
                    <a:pt x="1507" y="551"/>
                  </a:lnTo>
                  <a:lnTo>
                    <a:pt x="1507" y="611"/>
                  </a:lnTo>
                  <a:lnTo>
                    <a:pt x="1507" y="659"/>
                  </a:lnTo>
                  <a:lnTo>
                    <a:pt x="1484" y="706"/>
                  </a:lnTo>
                  <a:lnTo>
                    <a:pt x="1472" y="755"/>
                  </a:lnTo>
                  <a:lnTo>
                    <a:pt x="1448" y="803"/>
                  </a:lnTo>
                  <a:lnTo>
                    <a:pt x="1424" y="838"/>
                  </a:lnTo>
                  <a:lnTo>
                    <a:pt x="1388" y="886"/>
                  </a:lnTo>
                  <a:lnTo>
                    <a:pt x="1341" y="922"/>
                  </a:lnTo>
                  <a:lnTo>
                    <a:pt x="1304" y="946"/>
                  </a:lnTo>
                  <a:lnTo>
                    <a:pt x="1257" y="958"/>
                  </a:lnTo>
                  <a:lnTo>
                    <a:pt x="1220" y="958"/>
                  </a:lnTo>
                  <a:lnTo>
                    <a:pt x="1173" y="970"/>
                  </a:lnTo>
                  <a:lnTo>
                    <a:pt x="1125" y="970"/>
                  </a:lnTo>
                  <a:lnTo>
                    <a:pt x="1077" y="958"/>
                  </a:lnTo>
                  <a:lnTo>
                    <a:pt x="1040" y="958"/>
                  </a:lnTo>
                  <a:lnTo>
                    <a:pt x="994" y="946"/>
                  </a:lnTo>
                  <a:lnTo>
                    <a:pt x="946" y="934"/>
                  </a:lnTo>
                  <a:lnTo>
                    <a:pt x="910" y="922"/>
                  </a:lnTo>
                  <a:lnTo>
                    <a:pt x="874" y="910"/>
                  </a:lnTo>
                  <a:lnTo>
                    <a:pt x="825" y="886"/>
                  </a:lnTo>
                  <a:lnTo>
                    <a:pt x="790" y="874"/>
                  </a:lnTo>
                  <a:lnTo>
                    <a:pt x="753" y="849"/>
                  </a:lnTo>
                  <a:lnTo>
                    <a:pt x="717" y="838"/>
                  </a:lnTo>
                  <a:lnTo>
                    <a:pt x="682" y="814"/>
                  </a:lnTo>
                  <a:lnTo>
                    <a:pt x="646" y="755"/>
                  </a:lnTo>
                  <a:lnTo>
                    <a:pt x="610" y="683"/>
                  </a:lnTo>
                  <a:lnTo>
                    <a:pt x="587" y="611"/>
                  </a:lnTo>
                  <a:lnTo>
                    <a:pt x="574" y="526"/>
                  </a:lnTo>
                  <a:lnTo>
                    <a:pt x="562" y="455"/>
                  </a:lnTo>
                  <a:lnTo>
                    <a:pt x="562" y="371"/>
                  </a:lnTo>
                  <a:lnTo>
                    <a:pt x="587" y="299"/>
                  </a:lnTo>
                  <a:lnTo>
                    <a:pt x="621" y="216"/>
                  </a:lnTo>
                  <a:lnTo>
                    <a:pt x="621" y="203"/>
                  </a:lnTo>
                  <a:lnTo>
                    <a:pt x="634" y="192"/>
                  </a:lnTo>
                  <a:lnTo>
                    <a:pt x="646" y="180"/>
                  </a:lnTo>
                  <a:lnTo>
                    <a:pt x="657" y="168"/>
                  </a:lnTo>
                  <a:lnTo>
                    <a:pt x="657" y="156"/>
                  </a:lnTo>
                  <a:lnTo>
                    <a:pt x="670" y="144"/>
                  </a:lnTo>
                  <a:lnTo>
                    <a:pt x="670" y="120"/>
                  </a:lnTo>
                  <a:lnTo>
                    <a:pt x="670" y="108"/>
                  </a:lnTo>
                  <a:lnTo>
                    <a:pt x="646" y="96"/>
                  </a:lnTo>
                  <a:lnTo>
                    <a:pt x="610" y="84"/>
                  </a:lnTo>
                  <a:lnTo>
                    <a:pt x="574" y="73"/>
                  </a:lnTo>
                  <a:lnTo>
                    <a:pt x="538" y="59"/>
                  </a:lnTo>
                  <a:lnTo>
                    <a:pt x="502" y="48"/>
                  </a:lnTo>
                  <a:lnTo>
                    <a:pt x="467" y="36"/>
                  </a:lnTo>
                  <a:lnTo>
                    <a:pt x="430" y="24"/>
                  </a:lnTo>
                  <a:lnTo>
                    <a:pt x="394" y="13"/>
                  </a:lnTo>
                  <a:lnTo>
                    <a:pt x="358" y="13"/>
                  </a:lnTo>
                  <a:lnTo>
                    <a:pt x="323" y="0"/>
                  </a:lnTo>
                  <a:lnTo>
                    <a:pt x="286" y="0"/>
                  </a:lnTo>
                  <a:lnTo>
                    <a:pt x="250" y="0"/>
                  </a:lnTo>
                  <a:lnTo>
                    <a:pt x="204" y="0"/>
                  </a:lnTo>
                  <a:lnTo>
                    <a:pt x="167" y="0"/>
                  </a:lnTo>
                  <a:lnTo>
                    <a:pt x="131" y="0"/>
                  </a:lnTo>
                  <a:lnTo>
                    <a:pt x="82" y="0"/>
                  </a:lnTo>
                  <a:lnTo>
                    <a:pt x="60" y="73"/>
                  </a:lnTo>
                  <a:lnTo>
                    <a:pt x="35" y="144"/>
                  </a:lnTo>
                  <a:lnTo>
                    <a:pt x="11" y="228"/>
                  </a:lnTo>
                  <a:lnTo>
                    <a:pt x="0" y="311"/>
                  </a:lnTo>
                  <a:lnTo>
                    <a:pt x="0" y="396"/>
                  </a:lnTo>
                  <a:lnTo>
                    <a:pt x="11" y="479"/>
                  </a:lnTo>
                  <a:lnTo>
                    <a:pt x="35" y="563"/>
                  </a:lnTo>
                  <a:lnTo>
                    <a:pt x="71" y="659"/>
                  </a:lnTo>
                  <a:lnTo>
                    <a:pt x="95" y="683"/>
                  </a:lnTo>
                  <a:lnTo>
                    <a:pt x="131" y="719"/>
                  </a:lnTo>
                  <a:lnTo>
                    <a:pt x="155" y="755"/>
                  </a:lnTo>
                  <a:lnTo>
                    <a:pt x="179" y="778"/>
                  </a:lnTo>
                  <a:lnTo>
                    <a:pt x="215" y="814"/>
                  </a:lnTo>
                  <a:lnTo>
                    <a:pt x="239" y="838"/>
                  </a:lnTo>
                  <a:lnTo>
                    <a:pt x="275" y="863"/>
                  </a:lnTo>
                  <a:lnTo>
                    <a:pt x="311" y="886"/>
                  </a:lnTo>
                  <a:lnTo>
                    <a:pt x="334" y="910"/>
                  </a:lnTo>
                  <a:lnTo>
                    <a:pt x="370" y="934"/>
                  </a:lnTo>
                  <a:lnTo>
                    <a:pt x="407" y="958"/>
                  </a:lnTo>
                  <a:lnTo>
                    <a:pt x="442" y="982"/>
                  </a:lnTo>
                  <a:lnTo>
                    <a:pt x="478" y="993"/>
                  </a:lnTo>
                  <a:lnTo>
                    <a:pt x="513" y="1018"/>
                  </a:lnTo>
                  <a:lnTo>
                    <a:pt x="549" y="1029"/>
                  </a:lnTo>
                  <a:lnTo>
                    <a:pt x="587" y="1053"/>
                  </a:lnTo>
                  <a:lnTo>
                    <a:pt x="621" y="1067"/>
                  </a:lnTo>
                  <a:lnTo>
                    <a:pt x="657" y="1078"/>
                  </a:lnTo>
                  <a:lnTo>
                    <a:pt x="693" y="1090"/>
                  </a:lnTo>
                  <a:lnTo>
                    <a:pt x="731" y="1114"/>
                  </a:lnTo>
                  <a:lnTo>
                    <a:pt x="766" y="1126"/>
                  </a:lnTo>
                  <a:lnTo>
                    <a:pt x="814" y="1126"/>
                  </a:lnTo>
                  <a:lnTo>
                    <a:pt x="850" y="1137"/>
                  </a:lnTo>
                  <a:lnTo>
                    <a:pt x="885" y="1150"/>
                  </a:lnTo>
                  <a:lnTo>
                    <a:pt x="921" y="1161"/>
                  </a:lnTo>
                  <a:lnTo>
                    <a:pt x="969" y="1173"/>
                  </a:lnTo>
                  <a:lnTo>
                    <a:pt x="1005" y="1173"/>
                  </a:lnTo>
                  <a:lnTo>
                    <a:pt x="1040" y="1186"/>
                  </a:lnTo>
                  <a:lnTo>
                    <a:pt x="1089" y="1197"/>
                  </a:lnTo>
                  <a:lnTo>
                    <a:pt x="1125" y="1197"/>
                  </a:lnTo>
                  <a:lnTo>
                    <a:pt x="1173" y="1210"/>
                  </a:lnTo>
                  <a:lnTo>
                    <a:pt x="1209" y="1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6560" y="2008080"/>
              <a:ext cx="552600" cy="387360"/>
            </a:xfrm>
            <a:custGeom>
              <a:avLst/>
              <a:gdLst/>
              <a:ahLst/>
              <a:rect l="l" t="t" r="r" b="b"/>
              <a:pathLst>
                <a:path w="1737" h="1221">
                  <a:moveTo>
                    <a:pt x="706" y="1197"/>
                  </a:moveTo>
                  <a:lnTo>
                    <a:pt x="1402" y="993"/>
                  </a:lnTo>
                  <a:lnTo>
                    <a:pt x="1414" y="969"/>
                  </a:lnTo>
                  <a:lnTo>
                    <a:pt x="1414" y="945"/>
                  </a:lnTo>
                  <a:lnTo>
                    <a:pt x="1414" y="920"/>
                  </a:lnTo>
                  <a:lnTo>
                    <a:pt x="1425" y="885"/>
                  </a:lnTo>
                  <a:lnTo>
                    <a:pt x="1437" y="885"/>
                  </a:lnTo>
                  <a:lnTo>
                    <a:pt x="1437" y="874"/>
                  </a:lnTo>
                  <a:lnTo>
                    <a:pt x="1450" y="874"/>
                  </a:lnTo>
                  <a:lnTo>
                    <a:pt x="1461" y="874"/>
                  </a:lnTo>
                  <a:lnTo>
                    <a:pt x="1474" y="861"/>
                  </a:lnTo>
                  <a:lnTo>
                    <a:pt x="1485" y="861"/>
                  </a:lnTo>
                  <a:lnTo>
                    <a:pt x="1497" y="849"/>
                  </a:lnTo>
                  <a:lnTo>
                    <a:pt x="1510" y="849"/>
                  </a:lnTo>
                  <a:lnTo>
                    <a:pt x="1629" y="657"/>
                  </a:lnTo>
                  <a:lnTo>
                    <a:pt x="1629" y="646"/>
                  </a:lnTo>
                  <a:lnTo>
                    <a:pt x="1629" y="634"/>
                  </a:lnTo>
                  <a:lnTo>
                    <a:pt x="1629" y="622"/>
                  </a:lnTo>
                  <a:lnTo>
                    <a:pt x="1629" y="611"/>
                  </a:lnTo>
                  <a:lnTo>
                    <a:pt x="1618" y="597"/>
                  </a:lnTo>
                  <a:lnTo>
                    <a:pt x="1618" y="586"/>
                  </a:lnTo>
                  <a:lnTo>
                    <a:pt x="1618" y="574"/>
                  </a:lnTo>
                  <a:lnTo>
                    <a:pt x="1618" y="550"/>
                  </a:lnTo>
                  <a:lnTo>
                    <a:pt x="1629" y="550"/>
                  </a:lnTo>
                  <a:lnTo>
                    <a:pt x="1629" y="538"/>
                  </a:lnTo>
                  <a:lnTo>
                    <a:pt x="1640" y="526"/>
                  </a:lnTo>
                  <a:lnTo>
                    <a:pt x="1653" y="526"/>
                  </a:lnTo>
                  <a:lnTo>
                    <a:pt x="1665" y="514"/>
                  </a:lnTo>
                  <a:lnTo>
                    <a:pt x="1677" y="514"/>
                  </a:lnTo>
                  <a:lnTo>
                    <a:pt x="1689" y="503"/>
                  </a:lnTo>
                  <a:lnTo>
                    <a:pt x="1700" y="490"/>
                  </a:lnTo>
                  <a:lnTo>
                    <a:pt x="1725" y="431"/>
                  </a:lnTo>
                  <a:lnTo>
                    <a:pt x="1725" y="370"/>
                  </a:lnTo>
                  <a:lnTo>
                    <a:pt x="1737" y="310"/>
                  </a:lnTo>
                  <a:lnTo>
                    <a:pt x="1725" y="239"/>
                  </a:lnTo>
                  <a:lnTo>
                    <a:pt x="1713" y="179"/>
                  </a:lnTo>
                  <a:lnTo>
                    <a:pt x="1700" y="119"/>
                  </a:lnTo>
                  <a:lnTo>
                    <a:pt x="1677" y="59"/>
                  </a:lnTo>
                  <a:lnTo>
                    <a:pt x="1653" y="0"/>
                  </a:lnTo>
                  <a:lnTo>
                    <a:pt x="1018" y="179"/>
                  </a:lnTo>
                  <a:lnTo>
                    <a:pt x="994" y="191"/>
                  </a:lnTo>
                  <a:lnTo>
                    <a:pt x="969" y="203"/>
                  </a:lnTo>
                  <a:lnTo>
                    <a:pt x="958" y="215"/>
                  </a:lnTo>
                  <a:lnTo>
                    <a:pt x="934" y="227"/>
                  </a:lnTo>
                  <a:lnTo>
                    <a:pt x="923" y="251"/>
                  </a:lnTo>
                  <a:lnTo>
                    <a:pt x="898" y="274"/>
                  </a:lnTo>
                  <a:lnTo>
                    <a:pt x="887" y="299"/>
                  </a:lnTo>
                  <a:lnTo>
                    <a:pt x="875" y="323"/>
                  </a:lnTo>
                  <a:lnTo>
                    <a:pt x="875" y="334"/>
                  </a:lnTo>
                  <a:lnTo>
                    <a:pt x="875" y="347"/>
                  </a:lnTo>
                  <a:lnTo>
                    <a:pt x="887" y="370"/>
                  </a:lnTo>
                  <a:lnTo>
                    <a:pt x="887" y="382"/>
                  </a:lnTo>
                  <a:lnTo>
                    <a:pt x="910" y="407"/>
                  </a:lnTo>
                  <a:lnTo>
                    <a:pt x="923" y="407"/>
                  </a:lnTo>
                  <a:lnTo>
                    <a:pt x="947" y="418"/>
                  </a:lnTo>
                  <a:lnTo>
                    <a:pt x="969" y="418"/>
                  </a:lnTo>
                  <a:lnTo>
                    <a:pt x="994" y="418"/>
                  </a:lnTo>
                  <a:lnTo>
                    <a:pt x="1007" y="418"/>
                  </a:lnTo>
                  <a:lnTo>
                    <a:pt x="1031" y="407"/>
                  </a:lnTo>
                  <a:lnTo>
                    <a:pt x="1054" y="395"/>
                  </a:lnTo>
                  <a:lnTo>
                    <a:pt x="1077" y="382"/>
                  </a:lnTo>
                  <a:lnTo>
                    <a:pt x="1102" y="370"/>
                  </a:lnTo>
                  <a:lnTo>
                    <a:pt x="1113" y="359"/>
                  </a:lnTo>
                  <a:lnTo>
                    <a:pt x="1138" y="347"/>
                  </a:lnTo>
                  <a:lnTo>
                    <a:pt x="1151" y="334"/>
                  </a:lnTo>
                  <a:lnTo>
                    <a:pt x="1173" y="323"/>
                  </a:lnTo>
                  <a:lnTo>
                    <a:pt x="1187" y="323"/>
                  </a:lnTo>
                  <a:lnTo>
                    <a:pt x="1210" y="310"/>
                  </a:lnTo>
                  <a:lnTo>
                    <a:pt x="1222" y="310"/>
                  </a:lnTo>
                  <a:lnTo>
                    <a:pt x="1246" y="310"/>
                  </a:lnTo>
                  <a:lnTo>
                    <a:pt x="1258" y="310"/>
                  </a:lnTo>
                  <a:lnTo>
                    <a:pt x="1270" y="323"/>
                  </a:lnTo>
                  <a:lnTo>
                    <a:pt x="1295" y="323"/>
                  </a:lnTo>
                  <a:lnTo>
                    <a:pt x="1306" y="334"/>
                  </a:lnTo>
                  <a:lnTo>
                    <a:pt x="1317" y="334"/>
                  </a:lnTo>
                  <a:lnTo>
                    <a:pt x="1330" y="347"/>
                  </a:lnTo>
                  <a:lnTo>
                    <a:pt x="1341" y="359"/>
                  </a:lnTo>
                  <a:lnTo>
                    <a:pt x="1354" y="370"/>
                  </a:lnTo>
                  <a:lnTo>
                    <a:pt x="1366" y="382"/>
                  </a:lnTo>
                  <a:lnTo>
                    <a:pt x="1377" y="395"/>
                  </a:lnTo>
                  <a:lnTo>
                    <a:pt x="1389" y="407"/>
                  </a:lnTo>
                  <a:lnTo>
                    <a:pt x="1402" y="418"/>
                  </a:lnTo>
                  <a:lnTo>
                    <a:pt x="1402" y="442"/>
                  </a:lnTo>
                  <a:lnTo>
                    <a:pt x="1414" y="454"/>
                  </a:lnTo>
                  <a:lnTo>
                    <a:pt x="1414" y="467"/>
                  </a:lnTo>
                  <a:lnTo>
                    <a:pt x="1414" y="490"/>
                  </a:lnTo>
                  <a:lnTo>
                    <a:pt x="1414" y="503"/>
                  </a:lnTo>
                  <a:lnTo>
                    <a:pt x="1414" y="526"/>
                  </a:lnTo>
                  <a:lnTo>
                    <a:pt x="1402" y="562"/>
                  </a:lnTo>
                  <a:lnTo>
                    <a:pt x="1377" y="597"/>
                  </a:lnTo>
                  <a:lnTo>
                    <a:pt x="1354" y="634"/>
                  </a:lnTo>
                  <a:lnTo>
                    <a:pt x="1330" y="657"/>
                  </a:lnTo>
                  <a:lnTo>
                    <a:pt x="1306" y="682"/>
                  </a:lnTo>
                  <a:lnTo>
                    <a:pt x="1281" y="705"/>
                  </a:lnTo>
                  <a:lnTo>
                    <a:pt x="1246" y="730"/>
                  </a:lnTo>
                  <a:lnTo>
                    <a:pt x="1222" y="741"/>
                  </a:lnTo>
                  <a:lnTo>
                    <a:pt x="1187" y="766"/>
                  </a:lnTo>
                  <a:lnTo>
                    <a:pt x="1151" y="790"/>
                  </a:lnTo>
                  <a:lnTo>
                    <a:pt x="1113" y="801"/>
                  </a:lnTo>
                  <a:lnTo>
                    <a:pt x="1091" y="826"/>
                  </a:lnTo>
                  <a:lnTo>
                    <a:pt x="1054" y="849"/>
                  </a:lnTo>
                  <a:lnTo>
                    <a:pt x="1018" y="874"/>
                  </a:lnTo>
                  <a:lnTo>
                    <a:pt x="983" y="898"/>
                  </a:lnTo>
                  <a:lnTo>
                    <a:pt x="947" y="920"/>
                  </a:lnTo>
                  <a:lnTo>
                    <a:pt x="910" y="934"/>
                  </a:lnTo>
                  <a:lnTo>
                    <a:pt x="863" y="934"/>
                  </a:lnTo>
                  <a:lnTo>
                    <a:pt x="814" y="934"/>
                  </a:lnTo>
                  <a:lnTo>
                    <a:pt x="779" y="934"/>
                  </a:lnTo>
                  <a:lnTo>
                    <a:pt x="731" y="934"/>
                  </a:lnTo>
                  <a:lnTo>
                    <a:pt x="684" y="920"/>
                  </a:lnTo>
                  <a:lnTo>
                    <a:pt x="646" y="920"/>
                  </a:lnTo>
                  <a:lnTo>
                    <a:pt x="599" y="909"/>
                  </a:lnTo>
                  <a:lnTo>
                    <a:pt x="551" y="898"/>
                  </a:lnTo>
                  <a:lnTo>
                    <a:pt x="516" y="885"/>
                  </a:lnTo>
                  <a:lnTo>
                    <a:pt x="467" y="874"/>
                  </a:lnTo>
                  <a:lnTo>
                    <a:pt x="431" y="849"/>
                  </a:lnTo>
                  <a:lnTo>
                    <a:pt x="396" y="837"/>
                  </a:lnTo>
                  <a:lnTo>
                    <a:pt x="360" y="813"/>
                  </a:lnTo>
                  <a:lnTo>
                    <a:pt x="323" y="790"/>
                  </a:lnTo>
                  <a:lnTo>
                    <a:pt x="287" y="766"/>
                  </a:lnTo>
                  <a:lnTo>
                    <a:pt x="276" y="730"/>
                  </a:lnTo>
                  <a:lnTo>
                    <a:pt x="264" y="705"/>
                  </a:lnTo>
                  <a:lnTo>
                    <a:pt x="252" y="682"/>
                  </a:lnTo>
                  <a:lnTo>
                    <a:pt x="228" y="670"/>
                  </a:lnTo>
                  <a:lnTo>
                    <a:pt x="216" y="646"/>
                  </a:lnTo>
                  <a:lnTo>
                    <a:pt x="204" y="634"/>
                  </a:lnTo>
                  <a:lnTo>
                    <a:pt x="193" y="622"/>
                  </a:lnTo>
                  <a:lnTo>
                    <a:pt x="179" y="597"/>
                  </a:lnTo>
                  <a:lnTo>
                    <a:pt x="168" y="454"/>
                  </a:lnTo>
                  <a:lnTo>
                    <a:pt x="157" y="454"/>
                  </a:lnTo>
                  <a:lnTo>
                    <a:pt x="157" y="442"/>
                  </a:lnTo>
                  <a:lnTo>
                    <a:pt x="144" y="431"/>
                  </a:lnTo>
                  <a:lnTo>
                    <a:pt x="133" y="431"/>
                  </a:lnTo>
                  <a:lnTo>
                    <a:pt x="120" y="418"/>
                  </a:lnTo>
                  <a:lnTo>
                    <a:pt x="108" y="418"/>
                  </a:lnTo>
                  <a:lnTo>
                    <a:pt x="97" y="418"/>
                  </a:lnTo>
                  <a:lnTo>
                    <a:pt x="85" y="431"/>
                  </a:lnTo>
                  <a:lnTo>
                    <a:pt x="72" y="431"/>
                  </a:lnTo>
                  <a:lnTo>
                    <a:pt x="60" y="442"/>
                  </a:lnTo>
                  <a:lnTo>
                    <a:pt x="60" y="454"/>
                  </a:lnTo>
                  <a:lnTo>
                    <a:pt x="24" y="503"/>
                  </a:lnTo>
                  <a:lnTo>
                    <a:pt x="0" y="562"/>
                  </a:lnTo>
                  <a:lnTo>
                    <a:pt x="0" y="622"/>
                  </a:lnTo>
                  <a:lnTo>
                    <a:pt x="0" y="682"/>
                  </a:lnTo>
                  <a:lnTo>
                    <a:pt x="13" y="741"/>
                  </a:lnTo>
                  <a:lnTo>
                    <a:pt x="24" y="801"/>
                  </a:lnTo>
                  <a:lnTo>
                    <a:pt x="49" y="861"/>
                  </a:lnTo>
                  <a:lnTo>
                    <a:pt x="72" y="920"/>
                  </a:lnTo>
                  <a:lnTo>
                    <a:pt x="97" y="957"/>
                  </a:lnTo>
                  <a:lnTo>
                    <a:pt x="120" y="981"/>
                  </a:lnTo>
                  <a:lnTo>
                    <a:pt x="157" y="1005"/>
                  </a:lnTo>
                  <a:lnTo>
                    <a:pt x="179" y="1029"/>
                  </a:lnTo>
                  <a:lnTo>
                    <a:pt x="216" y="1053"/>
                  </a:lnTo>
                  <a:lnTo>
                    <a:pt x="252" y="1077"/>
                  </a:lnTo>
                  <a:lnTo>
                    <a:pt x="287" y="1089"/>
                  </a:lnTo>
                  <a:lnTo>
                    <a:pt x="323" y="1100"/>
                  </a:lnTo>
                  <a:lnTo>
                    <a:pt x="372" y="1124"/>
                  </a:lnTo>
                  <a:lnTo>
                    <a:pt x="408" y="1138"/>
                  </a:lnTo>
                  <a:lnTo>
                    <a:pt x="443" y="1149"/>
                  </a:lnTo>
                  <a:lnTo>
                    <a:pt x="491" y="1161"/>
                  </a:lnTo>
                  <a:lnTo>
                    <a:pt x="539" y="1172"/>
                  </a:lnTo>
                  <a:lnTo>
                    <a:pt x="575" y="1197"/>
                  </a:lnTo>
                  <a:lnTo>
                    <a:pt x="624" y="1208"/>
                  </a:lnTo>
                  <a:lnTo>
                    <a:pt x="671" y="1221"/>
                  </a:lnTo>
                  <a:lnTo>
                    <a:pt x="684" y="1221"/>
                  </a:lnTo>
                  <a:lnTo>
                    <a:pt x="695" y="1208"/>
                  </a:lnTo>
                  <a:lnTo>
                    <a:pt x="706" y="1208"/>
                  </a:lnTo>
                  <a:lnTo>
                    <a:pt x="706" y="1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88320" y="736560"/>
            <a:ext cx="6180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REACTION TO HIV/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44480" y="1589040"/>
            <a:ext cx="4231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02444"/>
                </a:solidFill>
                <a:latin typeface="Geometr231 Hv BT"/>
              </a:rPr>
              <a:t>...thrives on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93880" y="2743200"/>
            <a:ext cx="2826720" cy="792360"/>
            <a:chOff x="2693880" y="2743200"/>
            <a:chExt cx="2826720" cy="792360"/>
          </a:xfrm>
        </p:grpSpPr>
        <p:sp>
          <p:nvSpPr>
            <p:cNvPr id="135" name=""/>
            <p:cNvSpPr/>
            <p:nvPr/>
          </p:nvSpPr>
          <p:spPr>
            <a:xfrm>
              <a:off x="2693880" y="3368520"/>
              <a:ext cx="460440" cy="14400"/>
            </a:xfrm>
            <a:custGeom>
              <a:avLst/>
              <a:gdLst/>
              <a:ahLst/>
              <a:rect l="l" t="t" r="r" b="b"/>
              <a:pathLst>
                <a:path w="1450" h="41">
                  <a:moveTo>
                    <a:pt x="15" y="0"/>
                  </a:moveTo>
                  <a:lnTo>
                    <a:pt x="416" y="0"/>
                  </a:lnTo>
                  <a:lnTo>
                    <a:pt x="402" y="41"/>
                  </a:lnTo>
                  <a:lnTo>
                    <a:pt x="0" y="41"/>
                  </a:lnTo>
                  <a:lnTo>
                    <a:pt x="15" y="0"/>
                  </a:lnTo>
                  <a:close/>
                  <a:moveTo>
                    <a:pt x="1026" y="0"/>
                  </a:moveTo>
                  <a:lnTo>
                    <a:pt x="1435" y="0"/>
                  </a:lnTo>
                  <a:lnTo>
                    <a:pt x="1450" y="41"/>
                  </a:lnTo>
                  <a:lnTo>
                    <a:pt x="1040" y="41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5680" y="3359160"/>
              <a:ext cx="457200" cy="18720"/>
            </a:xfrm>
            <a:custGeom>
              <a:avLst/>
              <a:gdLst/>
              <a:ahLst/>
              <a:rect l="l" t="t" r="r" b="b"/>
              <a:pathLst>
                <a:path w="1441" h="61">
                  <a:moveTo>
                    <a:pt x="1441" y="61"/>
                  </a:moveTo>
                  <a:lnTo>
                    <a:pt x="1032" y="61"/>
                  </a:lnTo>
                  <a:lnTo>
                    <a:pt x="1013" y="0"/>
                  </a:lnTo>
                  <a:lnTo>
                    <a:pt x="1421" y="0"/>
                  </a:lnTo>
                  <a:lnTo>
                    <a:pt x="1441" y="61"/>
                  </a:lnTo>
                  <a:close/>
                  <a:moveTo>
                    <a:pt x="40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422" y="0"/>
                  </a:lnTo>
                  <a:lnTo>
                    <a:pt x="40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8560" y="3349440"/>
              <a:ext cx="451080" cy="19080"/>
            </a:xfrm>
            <a:custGeom>
              <a:avLst/>
              <a:gdLst/>
              <a:ahLst/>
              <a:rect l="l" t="t" r="r" b="b"/>
              <a:pathLst>
                <a:path w="1420" h="60">
                  <a:moveTo>
                    <a:pt x="1420" y="60"/>
                  </a:moveTo>
                  <a:lnTo>
                    <a:pt x="1011" y="60"/>
                  </a:lnTo>
                  <a:lnTo>
                    <a:pt x="992" y="0"/>
                  </a:lnTo>
                  <a:lnTo>
                    <a:pt x="1400" y="0"/>
                  </a:lnTo>
                  <a:lnTo>
                    <a:pt x="1420" y="60"/>
                  </a:lnTo>
                  <a:close/>
                  <a:moveTo>
                    <a:pt x="40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2" y="0"/>
                  </a:lnTo>
                  <a:lnTo>
                    <a:pt x="401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1800" y="3340080"/>
              <a:ext cx="444600" cy="19080"/>
            </a:xfrm>
            <a:custGeom>
              <a:avLst/>
              <a:gdLst/>
              <a:ahLst/>
              <a:rect l="l" t="t" r="r" b="b"/>
              <a:pathLst>
                <a:path w="1399" h="60">
                  <a:moveTo>
                    <a:pt x="1399" y="60"/>
                  </a:moveTo>
                  <a:lnTo>
                    <a:pt x="991" y="60"/>
                  </a:lnTo>
                  <a:lnTo>
                    <a:pt x="972" y="0"/>
                  </a:lnTo>
                  <a:lnTo>
                    <a:pt x="1380" y="0"/>
                  </a:lnTo>
                  <a:lnTo>
                    <a:pt x="1399" y="60"/>
                  </a:lnTo>
                  <a:close/>
                  <a:moveTo>
                    <a:pt x="40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5040" y="3330360"/>
              <a:ext cx="438120" cy="19080"/>
            </a:xfrm>
            <a:custGeom>
              <a:avLst/>
              <a:gdLst/>
              <a:ahLst/>
              <a:rect l="l" t="t" r="r" b="b"/>
              <a:pathLst>
                <a:path w="1379" h="61">
                  <a:moveTo>
                    <a:pt x="1379" y="61"/>
                  </a:moveTo>
                  <a:lnTo>
                    <a:pt x="971" y="61"/>
                  </a:lnTo>
                  <a:lnTo>
                    <a:pt x="951" y="0"/>
                  </a:lnTo>
                  <a:lnTo>
                    <a:pt x="1359" y="0"/>
                  </a:lnTo>
                  <a:lnTo>
                    <a:pt x="1379" y="61"/>
                  </a:lnTo>
                  <a:close/>
                  <a:moveTo>
                    <a:pt x="401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1" y="61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9720" y="3321000"/>
              <a:ext cx="430200" cy="19080"/>
            </a:xfrm>
            <a:custGeom>
              <a:avLst/>
              <a:gdLst/>
              <a:ahLst/>
              <a:rect l="l" t="t" r="r" b="b"/>
              <a:pathLst>
                <a:path w="1359" h="60">
                  <a:moveTo>
                    <a:pt x="1359" y="60"/>
                  </a:moveTo>
                  <a:lnTo>
                    <a:pt x="951" y="60"/>
                  </a:lnTo>
                  <a:lnTo>
                    <a:pt x="939" y="25"/>
                  </a:lnTo>
                  <a:lnTo>
                    <a:pt x="412" y="2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0" y="0"/>
                  </a:lnTo>
                  <a:lnTo>
                    <a:pt x="1338" y="0"/>
                  </a:lnTo>
                  <a:lnTo>
                    <a:pt x="1359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2960" y="3311280"/>
              <a:ext cx="424080" cy="19080"/>
            </a:xfrm>
            <a:custGeom>
              <a:avLst/>
              <a:gdLst/>
              <a:ahLst/>
              <a:rect l="l" t="t" r="r" b="b"/>
              <a:pathLst>
                <a:path w="1338" h="60">
                  <a:moveTo>
                    <a:pt x="1338" y="60"/>
                  </a:moveTo>
                  <a:lnTo>
                    <a:pt x="930" y="60"/>
                  </a:lnTo>
                  <a:lnTo>
                    <a:pt x="929" y="55"/>
                  </a:lnTo>
                  <a:lnTo>
                    <a:pt x="402" y="5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2" y="0"/>
                  </a:lnTo>
                  <a:lnTo>
                    <a:pt x="1318" y="0"/>
                  </a:lnTo>
                  <a:lnTo>
                    <a:pt x="133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6200" y="3301920"/>
              <a:ext cx="417600" cy="19080"/>
            </a:xfrm>
            <a:custGeom>
              <a:avLst/>
              <a:gdLst/>
              <a:ahLst/>
              <a:rect l="l" t="t" r="r" b="b"/>
              <a:pathLst>
                <a:path w="1318" h="60">
                  <a:moveTo>
                    <a:pt x="1318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299" y="0"/>
                  </a:lnTo>
                  <a:lnTo>
                    <a:pt x="1318" y="6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9440" y="3292200"/>
              <a:ext cx="411120" cy="19080"/>
            </a:xfrm>
            <a:custGeom>
              <a:avLst/>
              <a:gdLst/>
              <a:ahLst/>
              <a:rect l="l" t="t" r="r" b="b"/>
              <a:pathLst>
                <a:path w="1296" h="61">
                  <a:moveTo>
                    <a:pt x="1296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1277" y="0"/>
                  </a:lnTo>
                  <a:lnTo>
                    <a:pt x="1296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2680" y="3282840"/>
              <a:ext cx="404640" cy="19080"/>
            </a:xfrm>
            <a:custGeom>
              <a:avLst/>
              <a:gdLst/>
              <a:ahLst/>
              <a:rect l="l" t="t" r="r" b="b"/>
              <a:pathLst>
                <a:path w="1277" h="60">
                  <a:moveTo>
                    <a:pt x="12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57" y="0"/>
                  </a:lnTo>
                  <a:lnTo>
                    <a:pt x="1277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5560" y="3273120"/>
              <a:ext cx="398520" cy="19080"/>
            </a:xfrm>
            <a:custGeom>
              <a:avLst/>
              <a:gdLst/>
              <a:ahLst/>
              <a:rect l="l" t="t" r="r" b="b"/>
              <a:pathLst>
                <a:path w="1257" h="60">
                  <a:moveTo>
                    <a:pt x="125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36" y="0"/>
                  </a:lnTo>
                  <a:lnTo>
                    <a:pt x="12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8800" y="3263760"/>
              <a:ext cx="392040" cy="19080"/>
            </a:xfrm>
            <a:custGeom>
              <a:avLst/>
              <a:gdLst/>
              <a:ahLst/>
              <a:rect l="l" t="t" r="r" b="b"/>
              <a:pathLst>
                <a:path w="1236" h="61">
                  <a:moveTo>
                    <a:pt x="1236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1215" y="0"/>
                  </a:lnTo>
                  <a:lnTo>
                    <a:pt x="1236" y="6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2040" y="3254400"/>
              <a:ext cx="385920" cy="18720"/>
            </a:xfrm>
            <a:custGeom>
              <a:avLst/>
              <a:gdLst/>
              <a:ahLst/>
              <a:rect l="l" t="t" r="r" b="b"/>
              <a:pathLst>
                <a:path w="1215" h="60">
                  <a:moveTo>
                    <a:pt x="121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96" y="0"/>
                  </a:lnTo>
                  <a:lnTo>
                    <a:pt x="1215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5280" y="3244680"/>
              <a:ext cx="379440" cy="19080"/>
            </a:xfrm>
            <a:custGeom>
              <a:avLst/>
              <a:gdLst/>
              <a:ahLst/>
              <a:rect l="l" t="t" r="r" b="b"/>
              <a:pathLst>
                <a:path w="1194" h="60">
                  <a:moveTo>
                    <a:pt x="1194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175" y="0"/>
                  </a:lnTo>
                  <a:lnTo>
                    <a:pt x="1194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9960" y="3235320"/>
              <a:ext cx="371520" cy="19080"/>
            </a:xfrm>
            <a:custGeom>
              <a:avLst/>
              <a:gdLst/>
              <a:ahLst/>
              <a:rect l="l" t="t" r="r" b="b"/>
              <a:pathLst>
                <a:path w="1174" h="60">
                  <a:moveTo>
                    <a:pt x="1174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1154" y="0"/>
                  </a:lnTo>
                  <a:lnTo>
                    <a:pt x="1174" y="6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225600"/>
              <a:ext cx="365040" cy="19080"/>
            </a:xfrm>
            <a:custGeom>
              <a:avLst/>
              <a:gdLst/>
              <a:ahLst/>
              <a:rect l="l" t="t" r="r" b="b"/>
              <a:pathLst>
                <a:path w="1154" h="61">
                  <a:moveTo>
                    <a:pt x="115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1133" y="0"/>
                  </a:lnTo>
                  <a:lnTo>
                    <a:pt x="115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440" y="3216240"/>
              <a:ext cx="358560" cy="19080"/>
            </a:xfrm>
            <a:custGeom>
              <a:avLst/>
              <a:gdLst/>
              <a:ahLst/>
              <a:rect l="l" t="t" r="r" b="b"/>
              <a:pathLst>
                <a:path w="1134" h="60">
                  <a:moveTo>
                    <a:pt x="1134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14" y="0"/>
                  </a:lnTo>
                  <a:lnTo>
                    <a:pt x="1134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9680" y="320652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60">
                  <a:moveTo>
                    <a:pt x="1111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97" y="0"/>
                  </a:lnTo>
                  <a:lnTo>
                    <a:pt x="393" y="15"/>
                  </a:lnTo>
                  <a:lnTo>
                    <a:pt x="699" y="15"/>
                  </a:lnTo>
                  <a:lnTo>
                    <a:pt x="694" y="0"/>
                  </a:lnTo>
                  <a:lnTo>
                    <a:pt x="1092" y="0"/>
                  </a:lnTo>
                  <a:lnTo>
                    <a:pt x="1111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2560" y="3197160"/>
              <a:ext cx="346320" cy="19080"/>
            </a:xfrm>
            <a:custGeom>
              <a:avLst/>
              <a:gdLst/>
              <a:ahLst/>
              <a:rect l="l" t="t" r="r" b="b"/>
              <a:pathLst>
                <a:path w="1092" h="61">
                  <a:moveTo>
                    <a:pt x="109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7" y="0"/>
                  </a:lnTo>
                  <a:lnTo>
                    <a:pt x="383" y="45"/>
                  </a:lnTo>
                  <a:lnTo>
                    <a:pt x="689" y="45"/>
                  </a:lnTo>
                  <a:lnTo>
                    <a:pt x="675" y="0"/>
                  </a:lnTo>
                  <a:lnTo>
                    <a:pt x="1072" y="0"/>
                  </a:lnTo>
                  <a:lnTo>
                    <a:pt x="1092" y="6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5800" y="3187440"/>
              <a:ext cx="339840" cy="19080"/>
            </a:xfrm>
            <a:custGeom>
              <a:avLst/>
              <a:gdLst/>
              <a:ahLst/>
              <a:rect l="l" t="t" r="r" b="b"/>
              <a:pathLst>
                <a:path w="1072" h="60">
                  <a:moveTo>
                    <a:pt x="1072" y="60"/>
                  </a:moveTo>
                  <a:lnTo>
                    <a:pt x="674" y="60"/>
                  </a:lnTo>
                  <a:lnTo>
                    <a:pt x="656" y="0"/>
                  </a:lnTo>
                  <a:lnTo>
                    <a:pt x="1052" y="0"/>
                  </a:lnTo>
                  <a:lnTo>
                    <a:pt x="1072" y="60"/>
                  </a:lnTo>
                  <a:close/>
                  <a:moveTo>
                    <a:pt x="3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6" y="0"/>
                  </a:lnTo>
                  <a:lnTo>
                    <a:pt x="377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9040" y="3178080"/>
              <a:ext cx="333360" cy="19080"/>
            </a:xfrm>
            <a:custGeom>
              <a:avLst/>
              <a:gdLst/>
              <a:ahLst/>
              <a:rect l="l" t="t" r="r" b="b"/>
              <a:pathLst>
                <a:path w="1051" h="60">
                  <a:moveTo>
                    <a:pt x="1051" y="60"/>
                  </a:moveTo>
                  <a:lnTo>
                    <a:pt x="654" y="60"/>
                  </a:lnTo>
                  <a:lnTo>
                    <a:pt x="636" y="0"/>
                  </a:lnTo>
                  <a:lnTo>
                    <a:pt x="1030" y="0"/>
                  </a:lnTo>
                  <a:lnTo>
                    <a:pt x="1051" y="60"/>
                  </a:lnTo>
                  <a:close/>
                  <a:moveTo>
                    <a:pt x="3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4" y="0"/>
                  </a:lnTo>
                  <a:lnTo>
                    <a:pt x="376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62280" y="3168360"/>
              <a:ext cx="326880" cy="19080"/>
            </a:xfrm>
            <a:custGeom>
              <a:avLst/>
              <a:gdLst/>
              <a:ahLst/>
              <a:rect l="l" t="t" r="r" b="b"/>
              <a:pathLst>
                <a:path w="1031" h="60">
                  <a:moveTo>
                    <a:pt x="1031" y="60"/>
                  </a:moveTo>
                  <a:lnTo>
                    <a:pt x="635" y="60"/>
                  </a:lnTo>
                  <a:lnTo>
                    <a:pt x="616" y="0"/>
                  </a:lnTo>
                  <a:lnTo>
                    <a:pt x="1011" y="0"/>
                  </a:lnTo>
                  <a:lnTo>
                    <a:pt x="1031" y="60"/>
                  </a:lnTo>
                  <a:close/>
                  <a:moveTo>
                    <a:pt x="37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93" y="0"/>
                  </a:lnTo>
                  <a:lnTo>
                    <a:pt x="375" y="6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65520" y="3159000"/>
              <a:ext cx="320400" cy="19080"/>
            </a:xfrm>
            <a:custGeom>
              <a:avLst/>
              <a:gdLst/>
              <a:ahLst/>
              <a:rect l="l" t="t" r="r" b="b"/>
              <a:pathLst>
                <a:path w="1009" h="61">
                  <a:moveTo>
                    <a:pt x="1009" y="61"/>
                  </a:moveTo>
                  <a:lnTo>
                    <a:pt x="615" y="61"/>
                  </a:lnTo>
                  <a:lnTo>
                    <a:pt x="596" y="0"/>
                  </a:lnTo>
                  <a:lnTo>
                    <a:pt x="990" y="0"/>
                  </a:lnTo>
                  <a:lnTo>
                    <a:pt x="1009" y="61"/>
                  </a:lnTo>
                  <a:close/>
                  <a:moveTo>
                    <a:pt x="373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1" y="0"/>
                  </a:lnTo>
                  <a:lnTo>
                    <a:pt x="373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0200" y="3149280"/>
              <a:ext cx="312840" cy="19080"/>
            </a:xfrm>
            <a:custGeom>
              <a:avLst/>
              <a:gdLst/>
              <a:ahLst/>
              <a:rect l="l" t="t" r="r" b="b"/>
              <a:pathLst>
                <a:path w="989" h="61">
                  <a:moveTo>
                    <a:pt x="989" y="61"/>
                  </a:moveTo>
                  <a:lnTo>
                    <a:pt x="594" y="61"/>
                  </a:lnTo>
                  <a:lnTo>
                    <a:pt x="576" y="0"/>
                  </a:lnTo>
                  <a:lnTo>
                    <a:pt x="969" y="0"/>
                  </a:lnTo>
                  <a:lnTo>
                    <a:pt x="989" y="61"/>
                  </a:lnTo>
                  <a:close/>
                  <a:moveTo>
                    <a:pt x="371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9" y="0"/>
                  </a:lnTo>
                  <a:lnTo>
                    <a:pt x="371" y="61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3440" y="3139920"/>
              <a:ext cx="306360" cy="19080"/>
            </a:xfrm>
            <a:custGeom>
              <a:avLst/>
              <a:gdLst/>
              <a:ahLst/>
              <a:rect l="l" t="t" r="r" b="b"/>
              <a:pathLst>
                <a:path w="969" h="60">
                  <a:moveTo>
                    <a:pt x="969" y="60"/>
                  </a:moveTo>
                  <a:lnTo>
                    <a:pt x="575" y="60"/>
                  </a:lnTo>
                  <a:lnTo>
                    <a:pt x="557" y="0"/>
                  </a:lnTo>
                  <a:lnTo>
                    <a:pt x="949" y="0"/>
                  </a:lnTo>
                  <a:lnTo>
                    <a:pt x="969" y="60"/>
                  </a:lnTo>
                  <a:close/>
                  <a:moveTo>
                    <a:pt x="37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9" y="0"/>
                  </a:lnTo>
                  <a:lnTo>
                    <a:pt x="370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6680" y="3130560"/>
              <a:ext cx="299880" cy="18720"/>
            </a:xfrm>
            <a:custGeom>
              <a:avLst/>
              <a:gdLst/>
              <a:ahLst/>
              <a:rect l="l" t="t" r="r" b="b"/>
              <a:pathLst>
                <a:path w="949" h="60">
                  <a:moveTo>
                    <a:pt x="949" y="60"/>
                  </a:moveTo>
                  <a:lnTo>
                    <a:pt x="556" y="60"/>
                  </a:lnTo>
                  <a:lnTo>
                    <a:pt x="538" y="0"/>
                  </a:lnTo>
                  <a:lnTo>
                    <a:pt x="929" y="0"/>
                  </a:lnTo>
                  <a:lnTo>
                    <a:pt x="949" y="60"/>
                  </a:lnTo>
                  <a:close/>
                  <a:moveTo>
                    <a:pt x="36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8" y="0"/>
                  </a:lnTo>
                  <a:lnTo>
                    <a:pt x="369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9560" y="3120840"/>
              <a:ext cx="293760" cy="19080"/>
            </a:xfrm>
            <a:custGeom>
              <a:avLst/>
              <a:gdLst/>
              <a:ahLst/>
              <a:rect l="l" t="t" r="r" b="b"/>
              <a:pathLst>
                <a:path w="928" h="60">
                  <a:moveTo>
                    <a:pt x="928" y="60"/>
                  </a:moveTo>
                  <a:lnTo>
                    <a:pt x="536" y="60"/>
                  </a:lnTo>
                  <a:lnTo>
                    <a:pt x="518" y="0"/>
                  </a:lnTo>
                  <a:lnTo>
                    <a:pt x="908" y="0"/>
                  </a:lnTo>
                  <a:lnTo>
                    <a:pt x="928" y="60"/>
                  </a:lnTo>
                  <a:close/>
                  <a:moveTo>
                    <a:pt x="36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6" y="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2800" y="3111480"/>
              <a:ext cx="287280" cy="19080"/>
            </a:xfrm>
            <a:custGeom>
              <a:avLst/>
              <a:gdLst/>
              <a:ahLst/>
              <a:rect l="l" t="t" r="r" b="b"/>
              <a:pathLst>
                <a:path w="907" h="60">
                  <a:moveTo>
                    <a:pt x="907" y="60"/>
                  </a:moveTo>
                  <a:lnTo>
                    <a:pt x="516" y="60"/>
                  </a:lnTo>
                  <a:lnTo>
                    <a:pt x="497" y="0"/>
                  </a:lnTo>
                  <a:lnTo>
                    <a:pt x="887" y="0"/>
                  </a:lnTo>
                  <a:lnTo>
                    <a:pt x="907" y="60"/>
                  </a:lnTo>
                  <a:close/>
                  <a:moveTo>
                    <a:pt x="36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4" y="0"/>
                  </a:lnTo>
                  <a:lnTo>
                    <a:pt x="366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6040" y="3101760"/>
              <a:ext cx="281160" cy="19080"/>
            </a:xfrm>
            <a:custGeom>
              <a:avLst/>
              <a:gdLst/>
              <a:ahLst/>
              <a:rect l="l" t="t" r="r" b="b"/>
              <a:pathLst>
                <a:path w="887" h="60">
                  <a:moveTo>
                    <a:pt x="887" y="60"/>
                  </a:moveTo>
                  <a:lnTo>
                    <a:pt x="497" y="60"/>
                  </a:lnTo>
                  <a:lnTo>
                    <a:pt x="478" y="0"/>
                  </a:lnTo>
                  <a:lnTo>
                    <a:pt x="867" y="0"/>
                  </a:lnTo>
                  <a:lnTo>
                    <a:pt x="887" y="60"/>
                  </a:lnTo>
                  <a:close/>
                  <a:moveTo>
                    <a:pt x="365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3" y="0"/>
                  </a:lnTo>
                  <a:lnTo>
                    <a:pt x="36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9280" y="3090600"/>
              <a:ext cx="274680" cy="20880"/>
            </a:xfrm>
            <a:custGeom>
              <a:avLst/>
              <a:gdLst/>
              <a:ahLst/>
              <a:rect l="l" t="t" r="r" b="b"/>
              <a:pathLst>
                <a:path w="866" h="61">
                  <a:moveTo>
                    <a:pt x="866" y="61"/>
                  </a:moveTo>
                  <a:lnTo>
                    <a:pt x="476" y="61"/>
                  </a:lnTo>
                  <a:lnTo>
                    <a:pt x="458" y="0"/>
                  </a:lnTo>
                  <a:lnTo>
                    <a:pt x="846" y="0"/>
                  </a:lnTo>
                  <a:lnTo>
                    <a:pt x="866" y="61"/>
                  </a:lnTo>
                  <a:close/>
                  <a:moveTo>
                    <a:pt x="363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1" y="0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92520" y="3081240"/>
              <a:ext cx="268200" cy="20520"/>
            </a:xfrm>
            <a:custGeom>
              <a:avLst/>
              <a:gdLst/>
              <a:ahLst/>
              <a:rect l="l" t="t" r="r" b="b"/>
              <a:pathLst>
                <a:path w="846" h="61">
                  <a:moveTo>
                    <a:pt x="846" y="61"/>
                  </a:moveTo>
                  <a:lnTo>
                    <a:pt x="457" y="61"/>
                  </a:lnTo>
                  <a:lnTo>
                    <a:pt x="439" y="0"/>
                  </a:lnTo>
                  <a:lnTo>
                    <a:pt x="826" y="0"/>
                  </a:lnTo>
                  <a:lnTo>
                    <a:pt x="846" y="61"/>
                  </a:lnTo>
                  <a:close/>
                  <a:moveTo>
                    <a:pt x="36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381" y="0"/>
                  </a:lnTo>
                  <a:lnTo>
                    <a:pt x="362" y="61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5400" y="3071520"/>
              <a:ext cx="262080" cy="19080"/>
            </a:xfrm>
            <a:custGeom>
              <a:avLst/>
              <a:gdLst/>
              <a:ahLst/>
              <a:rect l="l" t="t" r="r" b="b"/>
              <a:pathLst>
                <a:path w="826" h="60">
                  <a:moveTo>
                    <a:pt x="826" y="60"/>
                  </a:moveTo>
                  <a:lnTo>
                    <a:pt x="438" y="60"/>
                  </a:lnTo>
                  <a:lnTo>
                    <a:pt x="420" y="0"/>
                  </a:lnTo>
                  <a:lnTo>
                    <a:pt x="806" y="0"/>
                  </a:lnTo>
                  <a:lnTo>
                    <a:pt x="826" y="60"/>
                  </a:lnTo>
                  <a:close/>
                  <a:moveTo>
                    <a:pt x="36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0" y="0"/>
                  </a:lnTo>
                  <a:lnTo>
                    <a:pt x="361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0440" y="3062160"/>
              <a:ext cx="253800" cy="19080"/>
            </a:xfrm>
            <a:custGeom>
              <a:avLst/>
              <a:gdLst/>
              <a:ahLst/>
              <a:rect l="l" t="t" r="r" b="b"/>
              <a:pathLst>
                <a:path w="804" h="60">
                  <a:moveTo>
                    <a:pt x="804" y="60"/>
                  </a:moveTo>
                  <a:lnTo>
                    <a:pt x="417" y="60"/>
                  </a:lnTo>
                  <a:lnTo>
                    <a:pt x="398" y="0"/>
                  </a:lnTo>
                  <a:lnTo>
                    <a:pt x="784" y="0"/>
                  </a:lnTo>
                  <a:lnTo>
                    <a:pt x="804" y="60"/>
                  </a:lnTo>
                  <a:close/>
                  <a:moveTo>
                    <a:pt x="359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77" y="0"/>
                  </a:lnTo>
                  <a:lnTo>
                    <a:pt x="359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3680" y="3052440"/>
              <a:ext cx="247320" cy="1908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784" y="60"/>
                  </a:moveTo>
                  <a:lnTo>
                    <a:pt x="398" y="60"/>
                  </a:lnTo>
                  <a:lnTo>
                    <a:pt x="379" y="0"/>
                  </a:lnTo>
                  <a:lnTo>
                    <a:pt x="764" y="0"/>
                  </a:lnTo>
                  <a:lnTo>
                    <a:pt x="784" y="60"/>
                  </a:lnTo>
                  <a:close/>
                  <a:moveTo>
                    <a:pt x="35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76" y="0"/>
                  </a:lnTo>
                  <a:lnTo>
                    <a:pt x="358" y="6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6560" y="3043080"/>
              <a:ext cx="241560" cy="19080"/>
            </a:xfrm>
            <a:custGeom>
              <a:avLst/>
              <a:gdLst/>
              <a:ahLst/>
              <a:rect l="l" t="t" r="r" b="b"/>
              <a:pathLst>
                <a:path w="764" h="60">
                  <a:moveTo>
                    <a:pt x="764" y="60"/>
                  </a:moveTo>
                  <a:lnTo>
                    <a:pt x="378" y="60"/>
                  </a:lnTo>
                  <a:lnTo>
                    <a:pt x="367" y="26"/>
                  </a:lnTo>
                  <a:lnTo>
                    <a:pt x="357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45" y="0"/>
                  </a:lnTo>
                  <a:lnTo>
                    <a:pt x="764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9800" y="3033720"/>
              <a:ext cx="235080" cy="18720"/>
            </a:xfrm>
            <a:custGeom>
              <a:avLst/>
              <a:gdLst/>
              <a:ahLst/>
              <a:rect l="l" t="t" r="r" b="b"/>
              <a:pathLst>
                <a:path w="743" h="60">
                  <a:moveTo>
                    <a:pt x="743" y="60"/>
                  </a:moveTo>
                  <a:lnTo>
                    <a:pt x="358" y="60"/>
                  </a:lnTo>
                  <a:lnTo>
                    <a:pt x="356" y="56"/>
                  </a:lnTo>
                  <a:lnTo>
                    <a:pt x="355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23" y="0"/>
                  </a:lnTo>
                  <a:lnTo>
                    <a:pt x="743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3040" y="3024000"/>
              <a:ext cx="230040" cy="19080"/>
            </a:xfrm>
            <a:custGeom>
              <a:avLst/>
              <a:gdLst/>
              <a:ahLst/>
              <a:rect l="l" t="t" r="r" b="b"/>
              <a:pathLst>
                <a:path w="724" h="61">
                  <a:moveTo>
                    <a:pt x="72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703" y="0"/>
                  </a:lnTo>
                  <a:lnTo>
                    <a:pt x="724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014640"/>
              <a:ext cx="222120" cy="19080"/>
            </a:xfrm>
            <a:custGeom>
              <a:avLst/>
              <a:gdLst/>
              <a:ahLst/>
              <a:rect l="l" t="t" r="r" b="b"/>
              <a:pathLst>
                <a:path w="702" h="61">
                  <a:moveTo>
                    <a:pt x="70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682" y="0"/>
                  </a:lnTo>
                  <a:lnTo>
                    <a:pt x="702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3004920"/>
              <a:ext cx="215640" cy="19080"/>
            </a:xfrm>
            <a:custGeom>
              <a:avLst/>
              <a:gdLst/>
              <a:ahLst/>
              <a:rect l="l" t="t" r="r" b="b"/>
              <a:pathLst>
                <a:path w="681" h="60">
                  <a:moveTo>
                    <a:pt x="68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61" y="0"/>
                  </a:lnTo>
                  <a:lnTo>
                    <a:pt x="681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2400" y="2995560"/>
              <a:ext cx="209880" cy="19080"/>
            </a:xfrm>
            <a:custGeom>
              <a:avLst/>
              <a:gdLst/>
              <a:ahLst/>
              <a:rect l="l" t="t" r="r" b="b"/>
              <a:pathLst>
                <a:path w="661" h="60">
                  <a:moveTo>
                    <a:pt x="66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42" y="0"/>
                  </a:lnTo>
                  <a:lnTo>
                    <a:pt x="661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5640" y="2985840"/>
              <a:ext cx="203400" cy="19080"/>
            </a:xfrm>
            <a:custGeom>
              <a:avLst/>
              <a:gdLst/>
              <a:ahLst/>
              <a:rect l="l" t="t" r="r" b="b"/>
              <a:pathLst>
                <a:path w="640" h="60">
                  <a:moveTo>
                    <a:pt x="64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20" y="0"/>
                  </a:lnTo>
                  <a:lnTo>
                    <a:pt x="640" y="6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28880" y="2976480"/>
              <a:ext cx="198360" cy="19080"/>
            </a:xfrm>
            <a:custGeom>
              <a:avLst/>
              <a:gdLst/>
              <a:ahLst/>
              <a:rect l="l" t="t" r="r" b="b"/>
              <a:pathLst>
                <a:path w="621" h="60">
                  <a:moveTo>
                    <a:pt x="62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600" y="0"/>
                  </a:lnTo>
                  <a:lnTo>
                    <a:pt x="621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33560" y="296676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0">
                  <a:moveTo>
                    <a:pt x="599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579" y="0"/>
                  </a:lnTo>
                  <a:lnTo>
                    <a:pt x="599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36800" y="2957400"/>
              <a:ext cx="182520" cy="19080"/>
            </a:xfrm>
            <a:custGeom>
              <a:avLst/>
              <a:gdLst/>
              <a:ahLst/>
              <a:rect l="l" t="t" r="r" b="b"/>
              <a:pathLst>
                <a:path w="578" h="61">
                  <a:moveTo>
                    <a:pt x="578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559" y="0"/>
                  </a:lnTo>
                  <a:lnTo>
                    <a:pt x="578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0040" y="2947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1">
                  <a:moveTo>
                    <a:pt x="558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539" y="0"/>
                  </a:lnTo>
                  <a:lnTo>
                    <a:pt x="558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3280" y="2938320"/>
              <a:ext cx="171360" cy="19080"/>
            </a:xfrm>
            <a:custGeom>
              <a:avLst/>
              <a:gdLst/>
              <a:ahLst/>
              <a:rect l="l" t="t" r="r" b="b"/>
              <a:pathLst>
                <a:path w="539" h="60">
                  <a:moveTo>
                    <a:pt x="53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518" y="0"/>
                  </a:lnTo>
                  <a:lnTo>
                    <a:pt x="539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6520" y="2928960"/>
              <a:ext cx="164880" cy="1872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496" y="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49400" y="2919240"/>
              <a:ext cx="157320" cy="19080"/>
            </a:xfrm>
            <a:custGeom>
              <a:avLst/>
              <a:gdLst/>
              <a:ahLst/>
              <a:rect l="l" t="t" r="r" b="b"/>
              <a:pathLst>
                <a:path w="496" h="60">
                  <a:moveTo>
                    <a:pt x="49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76" y="0"/>
                  </a:lnTo>
                  <a:lnTo>
                    <a:pt x="496" y="6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52640" y="290988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0">
                  <a:moveTo>
                    <a:pt x="4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57" y="0"/>
                  </a:lnTo>
                  <a:lnTo>
                    <a:pt x="476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55880" y="2909880"/>
              <a:ext cx="144360" cy="9360"/>
            </a:xfrm>
            <a:custGeom>
              <a:avLst/>
              <a:gdLst/>
              <a:ahLst/>
              <a:rect l="l" t="t" r="r" b="b"/>
              <a:pathLst>
                <a:path w="455" h="30">
                  <a:moveTo>
                    <a:pt x="455" y="30"/>
                  </a:moveTo>
                  <a:lnTo>
                    <a:pt x="0" y="30"/>
                  </a:lnTo>
                  <a:lnTo>
                    <a:pt x="10" y="0"/>
                  </a:lnTo>
                  <a:lnTo>
                    <a:pt x="446" y="0"/>
                  </a:lnTo>
                  <a:lnTo>
                    <a:pt x="455" y="3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4880" y="2743200"/>
              <a:ext cx="2385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ttitudes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74960" y="3052440"/>
              <a:ext cx="96840" cy="158760"/>
            </a:xfrm>
            <a:custGeom>
              <a:avLst/>
              <a:gdLst/>
              <a:ahLst/>
              <a:rect l="l" t="t" r="r" b="b"/>
              <a:pathLst>
                <a:path w="306" h="501">
                  <a:moveTo>
                    <a:pt x="0" y="501"/>
                  </a:moveTo>
                  <a:lnTo>
                    <a:pt x="306" y="501"/>
                  </a:lnTo>
                  <a:lnTo>
                    <a:pt x="152" y="0"/>
                  </a:lnTo>
                  <a:lnTo>
                    <a:pt x="0" y="50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93880" y="2909880"/>
              <a:ext cx="460440" cy="473040"/>
            </a:xfrm>
            <a:custGeom>
              <a:avLst/>
              <a:gdLst/>
              <a:ahLst/>
              <a:rect l="l" t="t" r="r" b="b"/>
              <a:pathLst>
                <a:path w="1450" h="1488">
                  <a:moveTo>
                    <a:pt x="0" y="1488"/>
                  </a:moveTo>
                  <a:lnTo>
                    <a:pt x="521" y="0"/>
                  </a:lnTo>
                  <a:lnTo>
                    <a:pt x="957" y="0"/>
                  </a:lnTo>
                  <a:lnTo>
                    <a:pt x="1450" y="1488"/>
                  </a:lnTo>
                  <a:lnTo>
                    <a:pt x="1040" y="1488"/>
                  </a:lnTo>
                  <a:lnTo>
                    <a:pt x="986" y="1321"/>
                  </a:lnTo>
                  <a:lnTo>
                    <a:pt x="459" y="1321"/>
                  </a:lnTo>
                  <a:lnTo>
                    <a:pt x="402" y="1488"/>
                  </a:lnTo>
                  <a:lnTo>
                    <a:pt x="0" y="14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35360" y="3538440"/>
            <a:ext cx="3046320" cy="792360"/>
            <a:chOff x="2835360" y="3538440"/>
            <a:chExt cx="3046320" cy="792360"/>
          </a:xfrm>
        </p:grpSpPr>
        <p:sp>
          <p:nvSpPr>
            <p:cNvPr id="189" name=""/>
            <p:cNvSpPr/>
            <p:nvPr/>
          </p:nvSpPr>
          <p:spPr>
            <a:xfrm>
              <a:off x="2835360" y="4155840"/>
              <a:ext cx="122040" cy="2232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5360" y="4144680"/>
              <a:ext cx="122040" cy="2232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35360" y="4132080"/>
              <a:ext cx="122040" cy="237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5360" y="4120920"/>
              <a:ext cx="122040" cy="2376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5360" y="4108320"/>
              <a:ext cx="122040" cy="237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5360" y="4097160"/>
              <a:ext cx="122040" cy="23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5360" y="4084560"/>
              <a:ext cx="122040" cy="2376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35360" y="4073400"/>
              <a:ext cx="122040" cy="2376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35360" y="4060800"/>
              <a:ext cx="122040" cy="2376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5360" y="4049640"/>
              <a:ext cx="122040" cy="23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35360" y="4038480"/>
              <a:ext cx="122040" cy="2232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35360" y="4025880"/>
              <a:ext cx="122040" cy="2376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35360" y="4012920"/>
              <a:ext cx="122040" cy="255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5360" y="4002120"/>
              <a:ext cx="122040" cy="2376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35360" y="3990960"/>
              <a:ext cx="122040" cy="2196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35360" y="3978000"/>
              <a:ext cx="122040" cy="2412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5360" y="3966840"/>
              <a:ext cx="122040" cy="2412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35360" y="3954240"/>
              <a:ext cx="122040" cy="237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35360" y="3943080"/>
              <a:ext cx="122040" cy="2376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35360" y="3930480"/>
              <a:ext cx="122040" cy="2376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35360" y="3919320"/>
              <a:ext cx="122040" cy="2376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35360" y="3906720"/>
              <a:ext cx="122040" cy="23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5360" y="3895560"/>
              <a:ext cx="122040" cy="237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35360" y="3882960"/>
              <a:ext cx="122040" cy="2376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5360" y="3871800"/>
              <a:ext cx="122040" cy="2376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5360" y="3860640"/>
              <a:ext cx="122040" cy="223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5360" y="3848040"/>
              <a:ext cx="122040" cy="2376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35360" y="3836880"/>
              <a:ext cx="122040" cy="2376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5360" y="3824280"/>
              <a:ext cx="122040" cy="2376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5360" y="3813120"/>
              <a:ext cx="122040" cy="2376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35360" y="3800160"/>
              <a:ext cx="122040" cy="2412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5360" y="3789360"/>
              <a:ext cx="122040" cy="2376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360" y="3776400"/>
              <a:ext cx="122040" cy="2376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360" y="3765240"/>
              <a:ext cx="122040" cy="2412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35360" y="3754440"/>
              <a:ext cx="122040" cy="2196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5360" y="3741480"/>
              <a:ext cx="122040" cy="2376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35360" y="3730320"/>
              <a:ext cx="122040" cy="2412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360" y="3717720"/>
              <a:ext cx="122040" cy="2376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35360" y="3706560"/>
              <a:ext cx="122040" cy="2376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5360" y="3706560"/>
              <a:ext cx="122040" cy="11160"/>
            </a:xfrm>
            <a:prstGeom prst="rect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7520" y="3538440"/>
              <a:ext cx="29541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gnora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35360" y="3706560"/>
              <a:ext cx="122040" cy="471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739960" y="4290840"/>
            <a:ext cx="4271760" cy="792360"/>
            <a:chOff x="2739960" y="4290840"/>
            <a:chExt cx="4271760" cy="792360"/>
          </a:xfrm>
        </p:grpSpPr>
        <p:sp>
          <p:nvSpPr>
            <p:cNvPr id="232" name=""/>
            <p:cNvSpPr/>
            <p:nvPr/>
          </p:nvSpPr>
          <p:spPr>
            <a:xfrm>
              <a:off x="2739960" y="4917960"/>
              <a:ext cx="185760" cy="12600"/>
            </a:xfrm>
            <a:custGeom>
              <a:avLst/>
              <a:gdLst/>
              <a:ahLst/>
              <a:rect l="l" t="t" r="r" b="b"/>
              <a:pathLst>
                <a:path w="584" h="42">
                  <a:moveTo>
                    <a:pt x="0" y="42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77" y="2"/>
                  </a:lnTo>
                  <a:lnTo>
                    <a:pt x="571" y="4"/>
                  </a:lnTo>
                  <a:lnTo>
                    <a:pt x="565" y="5"/>
                  </a:lnTo>
                  <a:lnTo>
                    <a:pt x="559" y="8"/>
                  </a:lnTo>
                  <a:lnTo>
                    <a:pt x="552" y="9"/>
                  </a:lnTo>
                  <a:lnTo>
                    <a:pt x="546" y="11"/>
                  </a:lnTo>
                  <a:lnTo>
                    <a:pt x="540" y="12"/>
                  </a:lnTo>
                  <a:lnTo>
                    <a:pt x="532" y="14"/>
                  </a:lnTo>
                  <a:lnTo>
                    <a:pt x="500" y="20"/>
                  </a:lnTo>
                  <a:lnTo>
                    <a:pt x="465" y="26"/>
                  </a:lnTo>
                  <a:lnTo>
                    <a:pt x="428" y="31"/>
                  </a:lnTo>
                  <a:lnTo>
                    <a:pt x="391" y="35"/>
                  </a:lnTo>
                  <a:lnTo>
                    <a:pt x="351" y="38"/>
                  </a:lnTo>
                  <a:lnTo>
                    <a:pt x="310" y="40"/>
                  </a:lnTo>
                  <a:lnTo>
                    <a:pt x="268" y="42"/>
                  </a:lnTo>
                  <a:lnTo>
                    <a:pt x="22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9960" y="4908240"/>
              <a:ext cx="212760" cy="19080"/>
            </a:xfrm>
            <a:custGeom>
              <a:avLst/>
              <a:gdLst/>
              <a:ahLst/>
              <a:rect l="l" t="t" r="r" b="b"/>
              <a:pathLst>
                <a:path w="670" h="61">
                  <a:moveTo>
                    <a:pt x="43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670" y="0"/>
                  </a:lnTo>
                  <a:lnTo>
                    <a:pt x="654" y="7"/>
                  </a:lnTo>
                  <a:lnTo>
                    <a:pt x="637" y="13"/>
                  </a:lnTo>
                  <a:lnTo>
                    <a:pt x="620" y="19"/>
                  </a:lnTo>
                  <a:lnTo>
                    <a:pt x="604" y="24"/>
                  </a:lnTo>
                  <a:lnTo>
                    <a:pt x="586" y="29"/>
                  </a:lnTo>
                  <a:lnTo>
                    <a:pt x="569" y="34"/>
                  </a:lnTo>
                  <a:lnTo>
                    <a:pt x="551" y="40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9"/>
                  </a:lnTo>
                  <a:lnTo>
                    <a:pt x="497" y="51"/>
                  </a:lnTo>
                  <a:lnTo>
                    <a:pt x="484" y="53"/>
                  </a:lnTo>
                  <a:lnTo>
                    <a:pt x="471" y="55"/>
                  </a:lnTo>
                  <a:lnTo>
                    <a:pt x="458" y="57"/>
                  </a:lnTo>
                  <a:lnTo>
                    <a:pt x="446" y="59"/>
                  </a:lnTo>
                  <a:lnTo>
                    <a:pt x="43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9960" y="4898880"/>
              <a:ext cx="231840" cy="19080"/>
            </a:xfrm>
            <a:custGeom>
              <a:avLst/>
              <a:gdLst/>
              <a:ahLst/>
              <a:rect l="l" t="t" r="r" b="b"/>
              <a:pathLst>
                <a:path w="733" h="60">
                  <a:moveTo>
                    <a:pt x="5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33" y="0"/>
                  </a:lnTo>
                  <a:lnTo>
                    <a:pt x="716" y="9"/>
                  </a:lnTo>
                  <a:lnTo>
                    <a:pt x="699" y="18"/>
                  </a:lnTo>
                  <a:lnTo>
                    <a:pt x="680" y="26"/>
                  </a:lnTo>
                  <a:lnTo>
                    <a:pt x="662" y="34"/>
                  </a:lnTo>
                  <a:lnTo>
                    <a:pt x="643" y="41"/>
                  </a:lnTo>
                  <a:lnTo>
                    <a:pt x="623" y="48"/>
                  </a:lnTo>
                  <a:lnTo>
                    <a:pt x="604" y="54"/>
                  </a:lnTo>
                  <a:lnTo>
                    <a:pt x="584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9960" y="4889520"/>
              <a:ext cx="249120" cy="1872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67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2" y="2"/>
                  </a:lnTo>
                  <a:lnTo>
                    <a:pt x="780" y="3"/>
                  </a:lnTo>
                  <a:lnTo>
                    <a:pt x="778" y="5"/>
                  </a:lnTo>
                  <a:lnTo>
                    <a:pt x="776" y="6"/>
                  </a:lnTo>
                  <a:lnTo>
                    <a:pt x="774" y="7"/>
                  </a:lnTo>
                  <a:lnTo>
                    <a:pt x="771" y="9"/>
                  </a:lnTo>
                  <a:lnTo>
                    <a:pt x="769" y="10"/>
                  </a:lnTo>
                  <a:lnTo>
                    <a:pt x="767" y="11"/>
                  </a:lnTo>
                  <a:lnTo>
                    <a:pt x="756" y="18"/>
                  </a:lnTo>
                  <a:lnTo>
                    <a:pt x="744" y="25"/>
                  </a:lnTo>
                  <a:lnTo>
                    <a:pt x="731" y="31"/>
                  </a:lnTo>
                  <a:lnTo>
                    <a:pt x="720" y="37"/>
                  </a:lnTo>
                  <a:lnTo>
                    <a:pt x="708" y="44"/>
                  </a:lnTo>
                  <a:lnTo>
                    <a:pt x="696" y="50"/>
                  </a:lnTo>
                  <a:lnTo>
                    <a:pt x="682" y="55"/>
                  </a:lnTo>
                  <a:lnTo>
                    <a:pt x="67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9960" y="4879800"/>
              <a:ext cx="262080" cy="19080"/>
            </a:xfrm>
            <a:custGeom>
              <a:avLst/>
              <a:gdLst/>
              <a:ahLst/>
              <a:rect l="l" t="t" r="r" b="b"/>
              <a:pathLst>
                <a:path w="828" h="60">
                  <a:moveTo>
                    <a:pt x="73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28" y="0"/>
                  </a:lnTo>
                  <a:lnTo>
                    <a:pt x="821" y="5"/>
                  </a:lnTo>
                  <a:lnTo>
                    <a:pt x="814" y="10"/>
                  </a:lnTo>
                  <a:lnTo>
                    <a:pt x="806" y="15"/>
                  </a:lnTo>
                  <a:lnTo>
                    <a:pt x="799" y="22"/>
                  </a:lnTo>
                  <a:lnTo>
                    <a:pt x="790" y="27"/>
                  </a:lnTo>
                  <a:lnTo>
                    <a:pt x="782" y="32"/>
                  </a:lnTo>
                  <a:lnTo>
                    <a:pt x="775" y="37"/>
                  </a:lnTo>
                  <a:lnTo>
                    <a:pt x="767" y="41"/>
                  </a:lnTo>
                  <a:lnTo>
                    <a:pt x="763" y="44"/>
                  </a:lnTo>
                  <a:lnTo>
                    <a:pt x="759" y="46"/>
                  </a:lnTo>
                  <a:lnTo>
                    <a:pt x="755" y="49"/>
                  </a:lnTo>
                  <a:lnTo>
                    <a:pt x="751" y="51"/>
                  </a:lnTo>
                  <a:lnTo>
                    <a:pt x="747" y="53"/>
                  </a:lnTo>
                  <a:lnTo>
                    <a:pt x="742" y="55"/>
                  </a:lnTo>
                  <a:lnTo>
                    <a:pt x="737" y="58"/>
                  </a:lnTo>
                  <a:lnTo>
                    <a:pt x="733" y="6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9960" y="4870440"/>
              <a:ext cx="274680" cy="19080"/>
            </a:xfrm>
            <a:custGeom>
              <a:avLst/>
              <a:gdLst/>
              <a:ahLst/>
              <a:rect l="l" t="t" r="r" b="b"/>
              <a:pathLst>
                <a:path w="867" h="60">
                  <a:moveTo>
                    <a:pt x="7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67" y="0"/>
                  </a:lnTo>
                  <a:lnTo>
                    <a:pt x="857" y="8"/>
                  </a:lnTo>
                  <a:lnTo>
                    <a:pt x="848" y="16"/>
                  </a:lnTo>
                  <a:lnTo>
                    <a:pt x="837" y="23"/>
                  </a:lnTo>
                  <a:lnTo>
                    <a:pt x="827" y="31"/>
                  </a:lnTo>
                  <a:lnTo>
                    <a:pt x="817" y="38"/>
                  </a:lnTo>
                  <a:lnTo>
                    <a:pt x="806" y="45"/>
                  </a:lnTo>
                  <a:lnTo>
                    <a:pt x="796" y="53"/>
                  </a:lnTo>
                  <a:lnTo>
                    <a:pt x="784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9960" y="4860720"/>
              <a:ext cx="285840" cy="19080"/>
            </a:xfrm>
            <a:custGeom>
              <a:avLst/>
              <a:gdLst/>
              <a:ahLst/>
              <a:rect l="l" t="t" r="r" b="b"/>
              <a:pathLst>
                <a:path w="900" h="60">
                  <a:moveTo>
                    <a:pt x="82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891" y="7"/>
                  </a:lnTo>
                  <a:lnTo>
                    <a:pt x="883" y="15"/>
                  </a:lnTo>
                  <a:lnTo>
                    <a:pt x="874" y="23"/>
                  </a:lnTo>
                  <a:lnTo>
                    <a:pt x="865" y="31"/>
                  </a:lnTo>
                  <a:lnTo>
                    <a:pt x="857" y="38"/>
                  </a:lnTo>
                  <a:lnTo>
                    <a:pt x="848" y="46"/>
                  </a:lnTo>
                  <a:lnTo>
                    <a:pt x="837" y="53"/>
                  </a:lnTo>
                  <a:lnTo>
                    <a:pt x="82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9960" y="4851360"/>
              <a:ext cx="295200" cy="19080"/>
            </a:xfrm>
            <a:custGeom>
              <a:avLst/>
              <a:gdLst/>
              <a:ahLst/>
              <a:rect l="l" t="t" r="r" b="b"/>
              <a:pathLst>
                <a:path w="930" h="61">
                  <a:moveTo>
                    <a:pt x="867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30" y="0"/>
                  </a:lnTo>
                  <a:lnTo>
                    <a:pt x="922" y="9"/>
                  </a:lnTo>
                  <a:lnTo>
                    <a:pt x="915" y="16"/>
                  </a:lnTo>
                  <a:lnTo>
                    <a:pt x="907" y="24"/>
                  </a:lnTo>
                  <a:lnTo>
                    <a:pt x="900" y="31"/>
                  </a:lnTo>
                  <a:lnTo>
                    <a:pt x="891" y="39"/>
                  </a:lnTo>
                  <a:lnTo>
                    <a:pt x="883" y="46"/>
                  </a:lnTo>
                  <a:lnTo>
                    <a:pt x="875" y="53"/>
                  </a:lnTo>
                  <a:lnTo>
                    <a:pt x="867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9960" y="484164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61">
                  <a:moveTo>
                    <a:pt x="900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57" y="0"/>
                  </a:lnTo>
                  <a:lnTo>
                    <a:pt x="950" y="8"/>
                  </a:lnTo>
                  <a:lnTo>
                    <a:pt x="942" y="16"/>
                  </a:lnTo>
                  <a:lnTo>
                    <a:pt x="936" y="23"/>
                  </a:lnTo>
                  <a:lnTo>
                    <a:pt x="929" y="31"/>
                  </a:lnTo>
                  <a:lnTo>
                    <a:pt x="922" y="39"/>
                  </a:lnTo>
                  <a:lnTo>
                    <a:pt x="915" y="46"/>
                  </a:lnTo>
                  <a:lnTo>
                    <a:pt x="908" y="54"/>
                  </a:lnTo>
                  <a:lnTo>
                    <a:pt x="900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9960" y="483228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60">
                  <a:moveTo>
                    <a:pt x="93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0" y="0"/>
                  </a:lnTo>
                  <a:lnTo>
                    <a:pt x="974" y="8"/>
                  </a:lnTo>
                  <a:lnTo>
                    <a:pt x="968" y="16"/>
                  </a:lnTo>
                  <a:lnTo>
                    <a:pt x="962" y="24"/>
                  </a:lnTo>
                  <a:lnTo>
                    <a:pt x="956" y="31"/>
                  </a:lnTo>
                  <a:lnTo>
                    <a:pt x="950" y="39"/>
                  </a:lnTo>
                  <a:lnTo>
                    <a:pt x="943" y="46"/>
                  </a:lnTo>
                  <a:lnTo>
                    <a:pt x="936" y="53"/>
                  </a:lnTo>
                  <a:lnTo>
                    <a:pt x="930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9960" y="4822560"/>
              <a:ext cx="317520" cy="19080"/>
            </a:xfrm>
            <a:custGeom>
              <a:avLst/>
              <a:gdLst/>
              <a:ahLst/>
              <a:rect l="l" t="t" r="r" b="b"/>
              <a:pathLst>
                <a:path w="1001" h="60">
                  <a:moveTo>
                    <a:pt x="95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01" y="0"/>
                  </a:lnTo>
                  <a:lnTo>
                    <a:pt x="995" y="8"/>
                  </a:lnTo>
                  <a:lnTo>
                    <a:pt x="990" y="16"/>
                  </a:lnTo>
                  <a:lnTo>
                    <a:pt x="985" y="23"/>
                  </a:lnTo>
                  <a:lnTo>
                    <a:pt x="979" y="31"/>
                  </a:lnTo>
                  <a:lnTo>
                    <a:pt x="974" y="38"/>
                  </a:lnTo>
                  <a:lnTo>
                    <a:pt x="968" y="46"/>
                  </a:lnTo>
                  <a:lnTo>
                    <a:pt x="962" y="53"/>
                  </a:lnTo>
                  <a:lnTo>
                    <a:pt x="9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4813200"/>
              <a:ext cx="324000" cy="19080"/>
            </a:xfrm>
            <a:custGeom>
              <a:avLst/>
              <a:gdLst/>
              <a:ahLst/>
              <a:rect l="l" t="t" r="r" b="b"/>
              <a:pathLst>
                <a:path w="1020" h="60">
                  <a:moveTo>
                    <a:pt x="98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20" y="0"/>
                  </a:lnTo>
                  <a:lnTo>
                    <a:pt x="1015" y="7"/>
                  </a:lnTo>
                  <a:lnTo>
                    <a:pt x="1011" y="15"/>
                  </a:lnTo>
                  <a:lnTo>
                    <a:pt x="1006" y="23"/>
                  </a:lnTo>
                  <a:lnTo>
                    <a:pt x="1001" y="31"/>
                  </a:lnTo>
                  <a:lnTo>
                    <a:pt x="995" y="38"/>
                  </a:lnTo>
                  <a:lnTo>
                    <a:pt x="990" y="46"/>
                  </a:lnTo>
                  <a:lnTo>
                    <a:pt x="985" y="53"/>
                  </a:lnTo>
                  <a:lnTo>
                    <a:pt x="980" y="6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9960" y="4803480"/>
              <a:ext cx="328680" cy="19080"/>
            </a:xfrm>
            <a:custGeom>
              <a:avLst/>
              <a:gdLst/>
              <a:ahLst/>
              <a:rect l="l" t="t" r="r" b="b"/>
              <a:pathLst>
                <a:path w="1036" h="60">
                  <a:moveTo>
                    <a:pt x="100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"/>
                  </a:lnTo>
                  <a:lnTo>
                    <a:pt x="391" y="5"/>
                  </a:lnTo>
                  <a:lnTo>
                    <a:pt x="396" y="5"/>
                  </a:lnTo>
                  <a:lnTo>
                    <a:pt x="401" y="4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6" y="2"/>
                  </a:lnTo>
                  <a:lnTo>
                    <a:pt x="421" y="1"/>
                  </a:lnTo>
                  <a:lnTo>
                    <a:pt x="426" y="0"/>
                  </a:lnTo>
                  <a:lnTo>
                    <a:pt x="1036" y="0"/>
                  </a:lnTo>
                  <a:lnTo>
                    <a:pt x="1035" y="3"/>
                  </a:lnTo>
                  <a:lnTo>
                    <a:pt x="1034" y="5"/>
                  </a:lnTo>
                  <a:lnTo>
                    <a:pt x="1032" y="8"/>
                  </a:lnTo>
                  <a:lnTo>
                    <a:pt x="1031" y="10"/>
                  </a:lnTo>
                  <a:lnTo>
                    <a:pt x="1029" y="13"/>
                  </a:lnTo>
                  <a:lnTo>
                    <a:pt x="1028" y="16"/>
                  </a:lnTo>
                  <a:lnTo>
                    <a:pt x="1027" y="18"/>
                  </a:lnTo>
                  <a:lnTo>
                    <a:pt x="1025" y="21"/>
                  </a:lnTo>
                  <a:lnTo>
                    <a:pt x="1022" y="26"/>
                  </a:lnTo>
                  <a:lnTo>
                    <a:pt x="1019" y="30"/>
                  </a:lnTo>
                  <a:lnTo>
                    <a:pt x="1017" y="35"/>
                  </a:lnTo>
                  <a:lnTo>
                    <a:pt x="1014" y="40"/>
                  </a:lnTo>
                  <a:lnTo>
                    <a:pt x="1011" y="45"/>
                  </a:lnTo>
                  <a:lnTo>
                    <a:pt x="1008" y="50"/>
                  </a:lnTo>
                  <a:lnTo>
                    <a:pt x="1004" y="56"/>
                  </a:lnTo>
                  <a:lnTo>
                    <a:pt x="1001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4794120"/>
              <a:ext cx="333360" cy="19080"/>
            </a:xfrm>
            <a:custGeom>
              <a:avLst/>
              <a:gdLst/>
              <a:ahLst/>
              <a:rect l="l" t="t" r="r" b="b"/>
              <a:pathLst>
                <a:path w="1052" h="60">
                  <a:moveTo>
                    <a:pt x="102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36"/>
                  </a:lnTo>
                  <a:lnTo>
                    <a:pt x="404" y="34"/>
                  </a:lnTo>
                  <a:lnTo>
                    <a:pt x="422" y="31"/>
                  </a:lnTo>
                  <a:lnTo>
                    <a:pt x="440" y="27"/>
                  </a:lnTo>
                  <a:lnTo>
                    <a:pt x="457" y="22"/>
                  </a:lnTo>
                  <a:lnTo>
                    <a:pt x="474" y="18"/>
                  </a:lnTo>
                  <a:lnTo>
                    <a:pt x="491" y="12"/>
                  </a:lnTo>
                  <a:lnTo>
                    <a:pt x="506" y="6"/>
                  </a:lnTo>
                  <a:lnTo>
                    <a:pt x="521" y="0"/>
                  </a:lnTo>
                  <a:lnTo>
                    <a:pt x="1052" y="0"/>
                  </a:lnTo>
                  <a:lnTo>
                    <a:pt x="1048" y="6"/>
                  </a:lnTo>
                  <a:lnTo>
                    <a:pt x="1045" y="12"/>
                  </a:lnTo>
                  <a:lnTo>
                    <a:pt x="1042" y="19"/>
                  </a:lnTo>
                  <a:lnTo>
                    <a:pt x="1039" y="25"/>
                  </a:lnTo>
                  <a:lnTo>
                    <a:pt x="1035" y="32"/>
                  </a:lnTo>
                  <a:lnTo>
                    <a:pt x="1032" y="38"/>
                  </a:lnTo>
                  <a:lnTo>
                    <a:pt x="1029" y="44"/>
                  </a:lnTo>
                  <a:lnTo>
                    <a:pt x="1025" y="51"/>
                  </a:lnTo>
                  <a:lnTo>
                    <a:pt x="1025" y="52"/>
                  </a:lnTo>
                  <a:lnTo>
                    <a:pt x="1024" y="53"/>
                  </a:lnTo>
                  <a:lnTo>
                    <a:pt x="1023" y="54"/>
                  </a:lnTo>
                  <a:lnTo>
                    <a:pt x="1023" y="55"/>
                  </a:lnTo>
                  <a:lnTo>
                    <a:pt x="1022" y="56"/>
                  </a:lnTo>
                  <a:lnTo>
                    <a:pt x="1021" y="57"/>
                  </a:lnTo>
                  <a:lnTo>
                    <a:pt x="1021" y="59"/>
                  </a:lnTo>
                  <a:lnTo>
                    <a:pt x="1020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9960" y="4784400"/>
              <a:ext cx="338040" cy="19080"/>
            </a:xfrm>
            <a:custGeom>
              <a:avLst/>
              <a:gdLst/>
              <a:ahLst/>
              <a:rect l="l" t="t" r="r" b="b"/>
              <a:pathLst>
                <a:path w="1065" h="61">
                  <a:moveTo>
                    <a:pt x="1036" y="61"/>
                  </a:moveTo>
                  <a:lnTo>
                    <a:pt x="426" y="61"/>
                  </a:lnTo>
                  <a:lnTo>
                    <a:pt x="447" y="56"/>
                  </a:lnTo>
                  <a:lnTo>
                    <a:pt x="467" y="51"/>
                  </a:lnTo>
                  <a:lnTo>
                    <a:pt x="486" y="45"/>
                  </a:lnTo>
                  <a:lnTo>
                    <a:pt x="505" y="38"/>
                  </a:lnTo>
                  <a:lnTo>
                    <a:pt x="523" y="30"/>
                  </a:lnTo>
                  <a:lnTo>
                    <a:pt x="541" y="21"/>
                  </a:lnTo>
                  <a:lnTo>
                    <a:pt x="557" y="12"/>
                  </a:lnTo>
                  <a:lnTo>
                    <a:pt x="573" y="0"/>
                  </a:lnTo>
                  <a:lnTo>
                    <a:pt x="1065" y="0"/>
                  </a:lnTo>
                  <a:lnTo>
                    <a:pt x="1062" y="9"/>
                  </a:lnTo>
                  <a:lnTo>
                    <a:pt x="1059" y="16"/>
                  </a:lnTo>
                  <a:lnTo>
                    <a:pt x="1055" y="23"/>
                  </a:lnTo>
                  <a:lnTo>
                    <a:pt x="1052" y="31"/>
                  </a:lnTo>
                  <a:lnTo>
                    <a:pt x="1048" y="38"/>
                  </a:lnTo>
                  <a:lnTo>
                    <a:pt x="1044" y="46"/>
                  </a:lnTo>
                  <a:lnTo>
                    <a:pt x="1040" y="53"/>
                  </a:lnTo>
                  <a:lnTo>
                    <a:pt x="103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9960" y="4775040"/>
              <a:ext cx="341280" cy="19080"/>
            </a:xfrm>
            <a:custGeom>
              <a:avLst/>
              <a:gdLst/>
              <a:ahLst/>
              <a:rect l="l" t="t" r="r" b="b"/>
              <a:pathLst>
                <a:path w="1076" h="61">
                  <a:moveTo>
                    <a:pt x="1052" y="61"/>
                  </a:moveTo>
                  <a:lnTo>
                    <a:pt x="521" y="61"/>
                  </a:lnTo>
                  <a:lnTo>
                    <a:pt x="533" y="55"/>
                  </a:lnTo>
                  <a:lnTo>
                    <a:pt x="546" y="48"/>
                  </a:lnTo>
                  <a:lnTo>
                    <a:pt x="557" y="42"/>
                  </a:lnTo>
                  <a:lnTo>
                    <a:pt x="568" y="33"/>
                  </a:lnTo>
                  <a:lnTo>
                    <a:pt x="579" y="26"/>
                  </a:lnTo>
                  <a:lnTo>
                    <a:pt x="589" y="18"/>
                  </a:lnTo>
                  <a:lnTo>
                    <a:pt x="600" y="9"/>
                  </a:lnTo>
                  <a:lnTo>
                    <a:pt x="610" y="0"/>
                  </a:lnTo>
                  <a:lnTo>
                    <a:pt x="1076" y="0"/>
                  </a:lnTo>
                  <a:lnTo>
                    <a:pt x="1074" y="8"/>
                  </a:lnTo>
                  <a:lnTo>
                    <a:pt x="1071" y="15"/>
                  </a:lnTo>
                  <a:lnTo>
                    <a:pt x="1068" y="23"/>
                  </a:lnTo>
                  <a:lnTo>
                    <a:pt x="1065" y="30"/>
                  </a:lnTo>
                  <a:lnTo>
                    <a:pt x="1062" y="39"/>
                  </a:lnTo>
                  <a:lnTo>
                    <a:pt x="1059" y="46"/>
                  </a:lnTo>
                  <a:lnTo>
                    <a:pt x="1056" y="53"/>
                  </a:lnTo>
                  <a:lnTo>
                    <a:pt x="105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9960" y="4765680"/>
              <a:ext cx="344520" cy="18720"/>
            </a:xfrm>
            <a:custGeom>
              <a:avLst/>
              <a:gdLst/>
              <a:ahLst/>
              <a:rect l="l" t="t" r="r" b="b"/>
              <a:pathLst>
                <a:path w="1086" h="60">
                  <a:moveTo>
                    <a:pt x="1065" y="60"/>
                  </a:moveTo>
                  <a:lnTo>
                    <a:pt x="573" y="60"/>
                  </a:lnTo>
                  <a:lnTo>
                    <a:pt x="580" y="55"/>
                  </a:lnTo>
                  <a:lnTo>
                    <a:pt x="586" y="50"/>
                  </a:lnTo>
                  <a:lnTo>
                    <a:pt x="594" y="45"/>
                  </a:lnTo>
                  <a:lnTo>
                    <a:pt x="600" y="40"/>
                  </a:lnTo>
                  <a:lnTo>
                    <a:pt x="606" y="34"/>
                  </a:lnTo>
                  <a:lnTo>
                    <a:pt x="613" y="28"/>
                  </a:lnTo>
                  <a:lnTo>
                    <a:pt x="618" y="22"/>
                  </a:lnTo>
                  <a:lnTo>
                    <a:pt x="624" y="16"/>
                  </a:lnTo>
                  <a:lnTo>
                    <a:pt x="626" y="13"/>
                  </a:lnTo>
                  <a:lnTo>
                    <a:pt x="628" y="12"/>
                  </a:lnTo>
                  <a:lnTo>
                    <a:pt x="630" y="10"/>
                  </a:lnTo>
                  <a:lnTo>
                    <a:pt x="631" y="8"/>
                  </a:lnTo>
                  <a:lnTo>
                    <a:pt x="633" y="6"/>
                  </a:lnTo>
                  <a:lnTo>
                    <a:pt x="635" y="4"/>
                  </a:lnTo>
                  <a:lnTo>
                    <a:pt x="636" y="2"/>
                  </a:lnTo>
                  <a:lnTo>
                    <a:pt x="638" y="0"/>
                  </a:lnTo>
                  <a:lnTo>
                    <a:pt x="1086" y="0"/>
                  </a:lnTo>
                  <a:lnTo>
                    <a:pt x="1084" y="7"/>
                  </a:lnTo>
                  <a:lnTo>
                    <a:pt x="1081" y="16"/>
                  </a:lnTo>
                  <a:lnTo>
                    <a:pt x="1079" y="23"/>
                  </a:lnTo>
                  <a:lnTo>
                    <a:pt x="1076" y="31"/>
                  </a:lnTo>
                  <a:lnTo>
                    <a:pt x="1074" y="38"/>
                  </a:lnTo>
                  <a:lnTo>
                    <a:pt x="1071" y="45"/>
                  </a:lnTo>
                  <a:lnTo>
                    <a:pt x="1068" y="53"/>
                  </a:lnTo>
                  <a:lnTo>
                    <a:pt x="106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9960" y="4755960"/>
              <a:ext cx="347760" cy="19080"/>
            </a:xfrm>
            <a:custGeom>
              <a:avLst/>
              <a:gdLst/>
              <a:ahLst/>
              <a:rect l="l" t="t" r="r" b="b"/>
              <a:pathLst>
                <a:path w="1094" h="60">
                  <a:moveTo>
                    <a:pt x="1076" y="60"/>
                  </a:moveTo>
                  <a:lnTo>
                    <a:pt x="610" y="60"/>
                  </a:lnTo>
                  <a:lnTo>
                    <a:pt x="612" y="59"/>
                  </a:lnTo>
                  <a:lnTo>
                    <a:pt x="614" y="57"/>
                  </a:lnTo>
                  <a:lnTo>
                    <a:pt x="616" y="55"/>
                  </a:lnTo>
                  <a:lnTo>
                    <a:pt x="617" y="54"/>
                  </a:lnTo>
                  <a:lnTo>
                    <a:pt x="619" y="52"/>
                  </a:lnTo>
                  <a:lnTo>
                    <a:pt x="621" y="50"/>
                  </a:lnTo>
                  <a:lnTo>
                    <a:pt x="623" y="48"/>
                  </a:lnTo>
                  <a:lnTo>
                    <a:pt x="624" y="46"/>
                  </a:lnTo>
                  <a:lnTo>
                    <a:pt x="629" y="40"/>
                  </a:lnTo>
                  <a:lnTo>
                    <a:pt x="634" y="35"/>
                  </a:lnTo>
                  <a:lnTo>
                    <a:pt x="639" y="29"/>
                  </a:lnTo>
                  <a:lnTo>
                    <a:pt x="644" y="23"/>
                  </a:lnTo>
                  <a:lnTo>
                    <a:pt x="648" y="18"/>
                  </a:lnTo>
                  <a:lnTo>
                    <a:pt x="653" y="12"/>
                  </a:lnTo>
                  <a:lnTo>
                    <a:pt x="657" y="6"/>
                  </a:lnTo>
                  <a:lnTo>
                    <a:pt x="661" y="0"/>
                  </a:lnTo>
                  <a:lnTo>
                    <a:pt x="1094" y="0"/>
                  </a:lnTo>
                  <a:lnTo>
                    <a:pt x="1093" y="8"/>
                  </a:lnTo>
                  <a:lnTo>
                    <a:pt x="1090" y="15"/>
                  </a:lnTo>
                  <a:lnTo>
                    <a:pt x="1088" y="23"/>
                  </a:lnTo>
                  <a:lnTo>
                    <a:pt x="1086" y="30"/>
                  </a:lnTo>
                  <a:lnTo>
                    <a:pt x="1084" y="38"/>
                  </a:lnTo>
                  <a:lnTo>
                    <a:pt x="1081" y="46"/>
                  </a:lnTo>
                  <a:lnTo>
                    <a:pt x="1079" y="53"/>
                  </a:lnTo>
                  <a:lnTo>
                    <a:pt x="107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9960" y="4746600"/>
              <a:ext cx="349200" cy="19080"/>
            </a:xfrm>
            <a:custGeom>
              <a:avLst/>
              <a:gdLst/>
              <a:ahLst/>
              <a:rect l="l" t="t" r="r" b="b"/>
              <a:pathLst>
                <a:path w="1102" h="60">
                  <a:moveTo>
                    <a:pt x="1086" y="60"/>
                  </a:moveTo>
                  <a:lnTo>
                    <a:pt x="638" y="60"/>
                  </a:lnTo>
                  <a:lnTo>
                    <a:pt x="645" y="53"/>
                  </a:lnTo>
                  <a:lnTo>
                    <a:pt x="650" y="46"/>
                  </a:lnTo>
                  <a:lnTo>
                    <a:pt x="655" y="39"/>
                  </a:lnTo>
                  <a:lnTo>
                    <a:pt x="660" y="31"/>
                  </a:lnTo>
                  <a:lnTo>
                    <a:pt x="665" y="24"/>
                  </a:lnTo>
                  <a:lnTo>
                    <a:pt x="669" y="15"/>
                  </a:lnTo>
                  <a:lnTo>
                    <a:pt x="674" y="8"/>
                  </a:lnTo>
                  <a:lnTo>
                    <a:pt x="678" y="0"/>
                  </a:lnTo>
                  <a:lnTo>
                    <a:pt x="1102" y="0"/>
                  </a:lnTo>
                  <a:lnTo>
                    <a:pt x="1101" y="7"/>
                  </a:lnTo>
                  <a:lnTo>
                    <a:pt x="1098" y="15"/>
                  </a:lnTo>
                  <a:lnTo>
                    <a:pt x="1096" y="23"/>
                  </a:lnTo>
                  <a:lnTo>
                    <a:pt x="1094" y="31"/>
                  </a:lnTo>
                  <a:lnTo>
                    <a:pt x="1092" y="38"/>
                  </a:lnTo>
                  <a:lnTo>
                    <a:pt x="1090" y="45"/>
                  </a:lnTo>
                  <a:lnTo>
                    <a:pt x="1088" y="53"/>
                  </a:lnTo>
                  <a:lnTo>
                    <a:pt x="108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9960" y="4736880"/>
              <a:ext cx="351000" cy="19080"/>
            </a:xfrm>
            <a:custGeom>
              <a:avLst/>
              <a:gdLst/>
              <a:ahLst/>
              <a:rect l="l" t="t" r="r" b="b"/>
              <a:pathLst>
                <a:path w="1108" h="60">
                  <a:moveTo>
                    <a:pt x="1094" y="60"/>
                  </a:moveTo>
                  <a:lnTo>
                    <a:pt x="661" y="60"/>
                  </a:lnTo>
                  <a:lnTo>
                    <a:pt x="665" y="53"/>
                  </a:lnTo>
                  <a:lnTo>
                    <a:pt x="669" y="45"/>
                  </a:lnTo>
                  <a:lnTo>
                    <a:pt x="673" y="38"/>
                  </a:lnTo>
                  <a:lnTo>
                    <a:pt x="677" y="31"/>
                  </a:lnTo>
                  <a:lnTo>
                    <a:pt x="681" y="23"/>
                  </a:lnTo>
                  <a:lnTo>
                    <a:pt x="684" y="16"/>
                  </a:lnTo>
                  <a:lnTo>
                    <a:pt x="688" y="8"/>
                  </a:lnTo>
                  <a:lnTo>
                    <a:pt x="691" y="0"/>
                  </a:lnTo>
                  <a:lnTo>
                    <a:pt x="1108" y="0"/>
                  </a:lnTo>
                  <a:lnTo>
                    <a:pt x="1107" y="8"/>
                  </a:lnTo>
                  <a:lnTo>
                    <a:pt x="1105" y="15"/>
                  </a:lnTo>
                  <a:lnTo>
                    <a:pt x="1104" y="23"/>
                  </a:lnTo>
                  <a:lnTo>
                    <a:pt x="1102" y="30"/>
                  </a:lnTo>
                  <a:lnTo>
                    <a:pt x="1101" y="37"/>
                  </a:lnTo>
                  <a:lnTo>
                    <a:pt x="1098" y="45"/>
                  </a:lnTo>
                  <a:lnTo>
                    <a:pt x="1096" y="53"/>
                  </a:lnTo>
                  <a:lnTo>
                    <a:pt x="1094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39960" y="4727520"/>
              <a:ext cx="352440" cy="19080"/>
            </a:xfrm>
            <a:custGeom>
              <a:avLst/>
              <a:gdLst/>
              <a:ahLst/>
              <a:rect l="l" t="t" r="r" b="b"/>
              <a:pathLst>
                <a:path w="1112" h="60">
                  <a:moveTo>
                    <a:pt x="1102" y="60"/>
                  </a:moveTo>
                  <a:lnTo>
                    <a:pt x="678" y="60"/>
                  </a:lnTo>
                  <a:lnTo>
                    <a:pt x="681" y="53"/>
                  </a:lnTo>
                  <a:lnTo>
                    <a:pt x="684" y="46"/>
                  </a:lnTo>
                  <a:lnTo>
                    <a:pt x="687" y="38"/>
                  </a:lnTo>
                  <a:lnTo>
                    <a:pt x="690" y="31"/>
                  </a:lnTo>
                  <a:lnTo>
                    <a:pt x="694" y="23"/>
                  </a:lnTo>
                  <a:lnTo>
                    <a:pt x="697" y="15"/>
                  </a:lnTo>
                  <a:lnTo>
                    <a:pt x="699" y="7"/>
                  </a:lnTo>
                  <a:lnTo>
                    <a:pt x="701" y="0"/>
                  </a:lnTo>
                  <a:lnTo>
                    <a:pt x="1112" y="0"/>
                  </a:lnTo>
                  <a:lnTo>
                    <a:pt x="1111" y="7"/>
                  </a:lnTo>
                  <a:lnTo>
                    <a:pt x="1110" y="15"/>
                  </a:lnTo>
                  <a:lnTo>
                    <a:pt x="1109" y="22"/>
                  </a:lnTo>
                  <a:lnTo>
                    <a:pt x="1108" y="30"/>
                  </a:lnTo>
                  <a:lnTo>
                    <a:pt x="1106" y="38"/>
                  </a:lnTo>
                  <a:lnTo>
                    <a:pt x="1105" y="45"/>
                  </a:lnTo>
                  <a:lnTo>
                    <a:pt x="1104" y="52"/>
                  </a:lnTo>
                  <a:lnTo>
                    <a:pt x="1102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39960" y="4716360"/>
              <a:ext cx="354240" cy="20520"/>
            </a:xfrm>
            <a:custGeom>
              <a:avLst/>
              <a:gdLst/>
              <a:ahLst/>
              <a:rect l="l" t="t" r="r" b="b"/>
              <a:pathLst>
                <a:path w="1115" h="61">
                  <a:moveTo>
                    <a:pt x="1108" y="61"/>
                  </a:moveTo>
                  <a:lnTo>
                    <a:pt x="691" y="61"/>
                  </a:lnTo>
                  <a:lnTo>
                    <a:pt x="694" y="53"/>
                  </a:lnTo>
                  <a:lnTo>
                    <a:pt x="697" y="46"/>
                  </a:lnTo>
                  <a:lnTo>
                    <a:pt x="699" y="39"/>
                  </a:lnTo>
                  <a:lnTo>
                    <a:pt x="701" y="31"/>
                  </a:lnTo>
                  <a:lnTo>
                    <a:pt x="703" y="24"/>
                  </a:lnTo>
                  <a:lnTo>
                    <a:pt x="705" y="16"/>
                  </a:lnTo>
                  <a:lnTo>
                    <a:pt x="707" y="9"/>
                  </a:lnTo>
                  <a:lnTo>
                    <a:pt x="708" y="0"/>
                  </a:lnTo>
                  <a:lnTo>
                    <a:pt x="1115" y="0"/>
                  </a:lnTo>
                  <a:lnTo>
                    <a:pt x="1114" y="9"/>
                  </a:lnTo>
                  <a:lnTo>
                    <a:pt x="1114" y="16"/>
                  </a:lnTo>
                  <a:lnTo>
                    <a:pt x="1113" y="23"/>
                  </a:lnTo>
                  <a:lnTo>
                    <a:pt x="1112" y="31"/>
                  </a:lnTo>
                  <a:lnTo>
                    <a:pt x="1111" y="38"/>
                  </a:lnTo>
                  <a:lnTo>
                    <a:pt x="1110" y="46"/>
                  </a:lnTo>
                  <a:lnTo>
                    <a:pt x="1109" y="53"/>
                  </a:lnTo>
                  <a:lnTo>
                    <a:pt x="1108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39960" y="4706640"/>
              <a:ext cx="354240" cy="208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2" y="61"/>
                  </a:moveTo>
                  <a:lnTo>
                    <a:pt x="701" y="61"/>
                  </a:lnTo>
                  <a:lnTo>
                    <a:pt x="703" y="54"/>
                  </a:lnTo>
                  <a:lnTo>
                    <a:pt x="705" y="46"/>
                  </a:lnTo>
                  <a:lnTo>
                    <a:pt x="706" y="39"/>
                  </a:lnTo>
                  <a:lnTo>
                    <a:pt x="708" y="31"/>
                  </a:lnTo>
                  <a:lnTo>
                    <a:pt x="709" y="23"/>
                  </a:lnTo>
                  <a:lnTo>
                    <a:pt x="710" y="16"/>
                  </a:lnTo>
                  <a:lnTo>
                    <a:pt x="711" y="8"/>
                  </a:lnTo>
                  <a:lnTo>
                    <a:pt x="712" y="0"/>
                  </a:lnTo>
                  <a:lnTo>
                    <a:pt x="1117" y="0"/>
                  </a:lnTo>
                  <a:lnTo>
                    <a:pt x="1116" y="8"/>
                  </a:lnTo>
                  <a:lnTo>
                    <a:pt x="1116" y="15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4" y="39"/>
                  </a:lnTo>
                  <a:lnTo>
                    <a:pt x="1114" y="46"/>
                  </a:lnTo>
                  <a:lnTo>
                    <a:pt x="1113" y="53"/>
                  </a:lnTo>
                  <a:lnTo>
                    <a:pt x="111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39960" y="469728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5" y="60"/>
                  </a:moveTo>
                  <a:lnTo>
                    <a:pt x="708" y="60"/>
                  </a:lnTo>
                  <a:lnTo>
                    <a:pt x="709" y="53"/>
                  </a:lnTo>
                  <a:lnTo>
                    <a:pt x="710" y="46"/>
                  </a:lnTo>
                  <a:lnTo>
                    <a:pt x="711" y="38"/>
                  </a:lnTo>
                  <a:lnTo>
                    <a:pt x="712" y="31"/>
                  </a:lnTo>
                  <a:lnTo>
                    <a:pt x="713" y="24"/>
                  </a:lnTo>
                  <a:lnTo>
                    <a:pt x="713" y="16"/>
                  </a:lnTo>
                  <a:lnTo>
                    <a:pt x="714" y="8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0"/>
                  </a:lnTo>
                  <a:lnTo>
                    <a:pt x="1117" y="8"/>
                  </a:lnTo>
                  <a:lnTo>
                    <a:pt x="1117" y="16"/>
                  </a:lnTo>
                  <a:lnTo>
                    <a:pt x="1117" y="23"/>
                  </a:lnTo>
                  <a:lnTo>
                    <a:pt x="1117" y="31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5" y="53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39960" y="4687920"/>
              <a:ext cx="354240" cy="1872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2" y="60"/>
                  </a:lnTo>
                  <a:lnTo>
                    <a:pt x="713" y="55"/>
                  </a:lnTo>
                  <a:lnTo>
                    <a:pt x="713" y="50"/>
                  </a:lnTo>
                  <a:lnTo>
                    <a:pt x="713" y="44"/>
                  </a:lnTo>
                  <a:lnTo>
                    <a:pt x="714" y="39"/>
                  </a:lnTo>
                  <a:lnTo>
                    <a:pt x="714" y="34"/>
                  </a:lnTo>
                  <a:lnTo>
                    <a:pt x="714" y="28"/>
                  </a:lnTo>
                  <a:lnTo>
                    <a:pt x="714" y="23"/>
                  </a:lnTo>
                  <a:lnTo>
                    <a:pt x="714" y="18"/>
                  </a:lnTo>
                  <a:lnTo>
                    <a:pt x="714" y="16"/>
                  </a:lnTo>
                  <a:lnTo>
                    <a:pt x="714" y="13"/>
                  </a:lnTo>
                  <a:lnTo>
                    <a:pt x="714" y="11"/>
                  </a:lnTo>
                  <a:lnTo>
                    <a:pt x="714" y="9"/>
                  </a:lnTo>
                  <a:lnTo>
                    <a:pt x="714" y="7"/>
                  </a:lnTo>
                  <a:lnTo>
                    <a:pt x="714" y="5"/>
                  </a:lnTo>
                  <a:lnTo>
                    <a:pt x="714" y="2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4"/>
                  </a:lnTo>
                  <a:lnTo>
                    <a:pt x="1117" y="8"/>
                  </a:lnTo>
                  <a:lnTo>
                    <a:pt x="1117" y="11"/>
                  </a:lnTo>
                  <a:lnTo>
                    <a:pt x="1117" y="15"/>
                  </a:lnTo>
                  <a:lnTo>
                    <a:pt x="1117" y="19"/>
                  </a:lnTo>
                  <a:lnTo>
                    <a:pt x="1117" y="23"/>
                  </a:lnTo>
                  <a:lnTo>
                    <a:pt x="1117" y="26"/>
                  </a:lnTo>
                  <a:lnTo>
                    <a:pt x="1117" y="30"/>
                  </a:lnTo>
                  <a:lnTo>
                    <a:pt x="1117" y="34"/>
                  </a:lnTo>
                  <a:lnTo>
                    <a:pt x="1117" y="37"/>
                  </a:lnTo>
                  <a:lnTo>
                    <a:pt x="1117" y="41"/>
                  </a:lnTo>
                  <a:lnTo>
                    <a:pt x="1117" y="46"/>
                  </a:lnTo>
                  <a:lnTo>
                    <a:pt x="1117" y="49"/>
                  </a:lnTo>
                  <a:lnTo>
                    <a:pt x="1117" y="53"/>
                  </a:lnTo>
                  <a:lnTo>
                    <a:pt x="1117" y="57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9960" y="467820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4" y="60"/>
                  </a:lnTo>
                  <a:lnTo>
                    <a:pt x="714" y="58"/>
                  </a:lnTo>
                  <a:lnTo>
                    <a:pt x="714" y="57"/>
                  </a:lnTo>
                  <a:lnTo>
                    <a:pt x="714" y="55"/>
                  </a:lnTo>
                  <a:lnTo>
                    <a:pt x="714" y="54"/>
                  </a:lnTo>
                  <a:lnTo>
                    <a:pt x="714" y="52"/>
                  </a:lnTo>
                  <a:lnTo>
                    <a:pt x="714" y="51"/>
                  </a:lnTo>
                  <a:lnTo>
                    <a:pt x="714" y="49"/>
                  </a:lnTo>
                  <a:lnTo>
                    <a:pt x="714" y="48"/>
                  </a:lnTo>
                  <a:lnTo>
                    <a:pt x="714" y="42"/>
                  </a:lnTo>
                  <a:lnTo>
                    <a:pt x="714" y="36"/>
                  </a:lnTo>
                  <a:lnTo>
                    <a:pt x="714" y="30"/>
                  </a:lnTo>
                  <a:lnTo>
                    <a:pt x="714" y="24"/>
                  </a:lnTo>
                  <a:lnTo>
                    <a:pt x="713" y="17"/>
                  </a:lnTo>
                  <a:lnTo>
                    <a:pt x="713" y="11"/>
                  </a:lnTo>
                  <a:lnTo>
                    <a:pt x="712" y="5"/>
                  </a:lnTo>
                  <a:lnTo>
                    <a:pt x="712" y="0"/>
                  </a:lnTo>
                  <a:lnTo>
                    <a:pt x="1115" y="0"/>
                  </a:lnTo>
                  <a:lnTo>
                    <a:pt x="1116" y="7"/>
                  </a:lnTo>
                  <a:lnTo>
                    <a:pt x="1116" y="14"/>
                  </a:lnTo>
                  <a:lnTo>
                    <a:pt x="1116" y="23"/>
                  </a:lnTo>
                  <a:lnTo>
                    <a:pt x="1117" y="30"/>
                  </a:lnTo>
                  <a:lnTo>
                    <a:pt x="1117" y="37"/>
                  </a:lnTo>
                  <a:lnTo>
                    <a:pt x="1117" y="45"/>
                  </a:lnTo>
                  <a:lnTo>
                    <a:pt x="1117" y="52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39960" y="466884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7" y="61"/>
                  </a:moveTo>
                  <a:lnTo>
                    <a:pt x="714" y="61"/>
                  </a:lnTo>
                  <a:lnTo>
                    <a:pt x="714" y="54"/>
                  </a:lnTo>
                  <a:lnTo>
                    <a:pt x="713" y="45"/>
                  </a:lnTo>
                  <a:lnTo>
                    <a:pt x="713" y="38"/>
                  </a:lnTo>
                  <a:lnTo>
                    <a:pt x="712" y="30"/>
                  </a:lnTo>
                  <a:lnTo>
                    <a:pt x="711" y="23"/>
                  </a:lnTo>
                  <a:lnTo>
                    <a:pt x="710" y="16"/>
                  </a:lnTo>
                  <a:lnTo>
                    <a:pt x="709" y="8"/>
                  </a:lnTo>
                  <a:lnTo>
                    <a:pt x="708" y="0"/>
                  </a:lnTo>
                  <a:lnTo>
                    <a:pt x="1113" y="0"/>
                  </a:lnTo>
                  <a:lnTo>
                    <a:pt x="1114" y="8"/>
                  </a:lnTo>
                  <a:lnTo>
                    <a:pt x="1114" y="16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6" y="54"/>
                  </a:lnTo>
                  <a:lnTo>
                    <a:pt x="1117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39960" y="4659120"/>
              <a:ext cx="354240" cy="19080"/>
            </a:xfrm>
            <a:custGeom>
              <a:avLst/>
              <a:gdLst/>
              <a:ahLst/>
              <a:rect l="l" t="t" r="r" b="b"/>
              <a:pathLst>
                <a:path w="1115" h="60">
                  <a:moveTo>
                    <a:pt x="1115" y="60"/>
                  </a:moveTo>
                  <a:lnTo>
                    <a:pt x="712" y="60"/>
                  </a:lnTo>
                  <a:lnTo>
                    <a:pt x="711" y="52"/>
                  </a:lnTo>
                  <a:lnTo>
                    <a:pt x="710" y="44"/>
                  </a:lnTo>
                  <a:lnTo>
                    <a:pt x="709" y="37"/>
                  </a:lnTo>
                  <a:lnTo>
                    <a:pt x="708" y="29"/>
                  </a:lnTo>
                  <a:lnTo>
                    <a:pt x="706" y="21"/>
                  </a:lnTo>
                  <a:lnTo>
                    <a:pt x="705" y="14"/>
                  </a:lnTo>
                  <a:lnTo>
                    <a:pt x="703" y="7"/>
                  </a:lnTo>
                  <a:lnTo>
                    <a:pt x="702" y="0"/>
                  </a:lnTo>
                  <a:lnTo>
                    <a:pt x="1110" y="0"/>
                  </a:lnTo>
                  <a:lnTo>
                    <a:pt x="1111" y="7"/>
                  </a:lnTo>
                  <a:lnTo>
                    <a:pt x="1112" y="14"/>
                  </a:lnTo>
                  <a:lnTo>
                    <a:pt x="1112" y="22"/>
                  </a:lnTo>
                  <a:lnTo>
                    <a:pt x="1113" y="29"/>
                  </a:lnTo>
                  <a:lnTo>
                    <a:pt x="1114" y="37"/>
                  </a:lnTo>
                  <a:lnTo>
                    <a:pt x="1114" y="45"/>
                  </a:lnTo>
                  <a:lnTo>
                    <a:pt x="1115" y="52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39960" y="4649760"/>
              <a:ext cx="352440" cy="19080"/>
            </a:xfrm>
            <a:custGeom>
              <a:avLst/>
              <a:gdLst/>
              <a:ahLst/>
              <a:rect l="l" t="t" r="r" b="b"/>
              <a:pathLst>
                <a:path w="1113" h="60">
                  <a:moveTo>
                    <a:pt x="1113" y="60"/>
                  </a:moveTo>
                  <a:lnTo>
                    <a:pt x="708" y="60"/>
                  </a:lnTo>
                  <a:lnTo>
                    <a:pt x="706" y="52"/>
                  </a:lnTo>
                  <a:lnTo>
                    <a:pt x="705" y="45"/>
                  </a:lnTo>
                  <a:lnTo>
                    <a:pt x="703" y="37"/>
                  </a:lnTo>
                  <a:lnTo>
                    <a:pt x="701" y="30"/>
                  </a:lnTo>
                  <a:lnTo>
                    <a:pt x="699" y="23"/>
                  </a:lnTo>
                  <a:lnTo>
                    <a:pt x="697" y="15"/>
                  </a:lnTo>
                  <a:lnTo>
                    <a:pt x="695" y="7"/>
                  </a:lnTo>
                  <a:lnTo>
                    <a:pt x="693" y="0"/>
                  </a:lnTo>
                  <a:lnTo>
                    <a:pt x="1106" y="0"/>
                  </a:lnTo>
                  <a:lnTo>
                    <a:pt x="1107" y="7"/>
                  </a:lnTo>
                  <a:lnTo>
                    <a:pt x="1108" y="16"/>
                  </a:lnTo>
                  <a:lnTo>
                    <a:pt x="1109" y="23"/>
                  </a:lnTo>
                  <a:lnTo>
                    <a:pt x="1110" y="30"/>
                  </a:lnTo>
                  <a:lnTo>
                    <a:pt x="1111" y="38"/>
                  </a:lnTo>
                  <a:lnTo>
                    <a:pt x="1112" y="45"/>
                  </a:lnTo>
                  <a:lnTo>
                    <a:pt x="1113" y="53"/>
                  </a:lnTo>
                  <a:lnTo>
                    <a:pt x="111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39960" y="4640040"/>
              <a:ext cx="352440" cy="19080"/>
            </a:xfrm>
            <a:custGeom>
              <a:avLst/>
              <a:gdLst/>
              <a:ahLst/>
              <a:rect l="l" t="t" r="r" b="b"/>
              <a:pathLst>
                <a:path w="1110" h="61">
                  <a:moveTo>
                    <a:pt x="1110" y="61"/>
                  </a:moveTo>
                  <a:lnTo>
                    <a:pt x="702" y="61"/>
                  </a:lnTo>
                  <a:lnTo>
                    <a:pt x="700" y="53"/>
                  </a:lnTo>
                  <a:lnTo>
                    <a:pt x="697" y="45"/>
                  </a:lnTo>
                  <a:lnTo>
                    <a:pt x="695" y="37"/>
                  </a:lnTo>
                  <a:lnTo>
                    <a:pt x="691" y="29"/>
                  </a:lnTo>
                  <a:lnTo>
                    <a:pt x="689" y="22"/>
                  </a:lnTo>
                  <a:lnTo>
                    <a:pt x="686" y="15"/>
                  </a:lnTo>
                  <a:lnTo>
                    <a:pt x="683" y="8"/>
                  </a:lnTo>
                  <a:lnTo>
                    <a:pt x="680" y="0"/>
                  </a:lnTo>
                  <a:lnTo>
                    <a:pt x="1101" y="0"/>
                  </a:lnTo>
                  <a:lnTo>
                    <a:pt x="1102" y="8"/>
                  </a:lnTo>
                  <a:lnTo>
                    <a:pt x="1103" y="15"/>
                  </a:lnTo>
                  <a:lnTo>
                    <a:pt x="1105" y="22"/>
                  </a:lnTo>
                  <a:lnTo>
                    <a:pt x="1106" y="30"/>
                  </a:lnTo>
                  <a:lnTo>
                    <a:pt x="1107" y="37"/>
                  </a:lnTo>
                  <a:lnTo>
                    <a:pt x="1108" y="46"/>
                  </a:lnTo>
                  <a:lnTo>
                    <a:pt x="1109" y="53"/>
                  </a:lnTo>
                  <a:lnTo>
                    <a:pt x="1110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9960" y="4630680"/>
              <a:ext cx="351000" cy="19080"/>
            </a:xfrm>
            <a:custGeom>
              <a:avLst/>
              <a:gdLst/>
              <a:ahLst/>
              <a:rect l="l" t="t" r="r" b="b"/>
              <a:pathLst>
                <a:path w="1106" h="60">
                  <a:moveTo>
                    <a:pt x="1106" y="60"/>
                  </a:moveTo>
                  <a:lnTo>
                    <a:pt x="693" y="60"/>
                  </a:lnTo>
                  <a:lnTo>
                    <a:pt x="689" y="52"/>
                  </a:lnTo>
                  <a:lnTo>
                    <a:pt x="686" y="45"/>
                  </a:lnTo>
                  <a:lnTo>
                    <a:pt x="683" y="37"/>
                  </a:lnTo>
                  <a:lnTo>
                    <a:pt x="679" y="30"/>
                  </a:lnTo>
                  <a:lnTo>
                    <a:pt x="676" y="22"/>
                  </a:lnTo>
                  <a:lnTo>
                    <a:pt x="672" y="14"/>
                  </a:lnTo>
                  <a:lnTo>
                    <a:pt x="668" y="7"/>
                  </a:lnTo>
                  <a:lnTo>
                    <a:pt x="664" y="0"/>
                  </a:lnTo>
                  <a:lnTo>
                    <a:pt x="1093" y="0"/>
                  </a:lnTo>
                  <a:lnTo>
                    <a:pt x="1095" y="7"/>
                  </a:lnTo>
                  <a:lnTo>
                    <a:pt x="1097" y="14"/>
                  </a:lnTo>
                  <a:lnTo>
                    <a:pt x="1098" y="23"/>
                  </a:lnTo>
                  <a:lnTo>
                    <a:pt x="1101" y="30"/>
                  </a:lnTo>
                  <a:lnTo>
                    <a:pt x="1102" y="38"/>
                  </a:lnTo>
                  <a:lnTo>
                    <a:pt x="1103" y="45"/>
                  </a:lnTo>
                  <a:lnTo>
                    <a:pt x="1105" y="53"/>
                  </a:lnTo>
                  <a:lnTo>
                    <a:pt x="110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9960" y="4620960"/>
              <a:ext cx="349200" cy="19080"/>
            </a:xfrm>
            <a:custGeom>
              <a:avLst/>
              <a:gdLst/>
              <a:ahLst/>
              <a:rect l="l" t="t" r="r" b="b"/>
              <a:pathLst>
                <a:path w="1101" h="60">
                  <a:moveTo>
                    <a:pt x="1101" y="60"/>
                  </a:moveTo>
                  <a:lnTo>
                    <a:pt x="680" y="60"/>
                  </a:lnTo>
                  <a:lnTo>
                    <a:pt x="676" y="53"/>
                  </a:lnTo>
                  <a:lnTo>
                    <a:pt x="672" y="44"/>
                  </a:lnTo>
                  <a:lnTo>
                    <a:pt x="668" y="36"/>
                  </a:lnTo>
                  <a:lnTo>
                    <a:pt x="664" y="29"/>
                  </a:lnTo>
                  <a:lnTo>
                    <a:pt x="659" y="22"/>
                  </a:lnTo>
                  <a:lnTo>
                    <a:pt x="654" y="14"/>
                  </a:lnTo>
                  <a:lnTo>
                    <a:pt x="649" y="7"/>
                  </a:lnTo>
                  <a:lnTo>
                    <a:pt x="644" y="0"/>
                  </a:lnTo>
                  <a:lnTo>
                    <a:pt x="1086" y="0"/>
                  </a:lnTo>
                  <a:lnTo>
                    <a:pt x="1088" y="8"/>
                  </a:lnTo>
                  <a:lnTo>
                    <a:pt x="1090" y="15"/>
                  </a:lnTo>
                  <a:lnTo>
                    <a:pt x="1092" y="22"/>
                  </a:lnTo>
                  <a:lnTo>
                    <a:pt x="1093" y="30"/>
                  </a:lnTo>
                  <a:lnTo>
                    <a:pt x="1095" y="37"/>
                  </a:lnTo>
                  <a:lnTo>
                    <a:pt x="1097" y="44"/>
                  </a:lnTo>
                  <a:lnTo>
                    <a:pt x="1098" y="53"/>
                  </a:lnTo>
                  <a:lnTo>
                    <a:pt x="1101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39960" y="4611600"/>
              <a:ext cx="345960" cy="19080"/>
            </a:xfrm>
            <a:custGeom>
              <a:avLst/>
              <a:gdLst/>
              <a:ahLst/>
              <a:rect l="l" t="t" r="r" b="b"/>
              <a:pathLst>
                <a:path w="1093" h="60">
                  <a:moveTo>
                    <a:pt x="1093" y="60"/>
                  </a:moveTo>
                  <a:lnTo>
                    <a:pt x="664" y="60"/>
                  </a:lnTo>
                  <a:lnTo>
                    <a:pt x="660" y="53"/>
                  </a:lnTo>
                  <a:lnTo>
                    <a:pt x="655" y="46"/>
                  </a:lnTo>
                  <a:lnTo>
                    <a:pt x="650" y="39"/>
                  </a:lnTo>
                  <a:lnTo>
                    <a:pt x="646" y="32"/>
                  </a:lnTo>
                  <a:lnTo>
                    <a:pt x="639" y="25"/>
                  </a:lnTo>
                  <a:lnTo>
                    <a:pt x="634" y="18"/>
                  </a:lnTo>
                  <a:lnTo>
                    <a:pt x="629" y="11"/>
                  </a:lnTo>
                  <a:lnTo>
                    <a:pt x="623" y="5"/>
                  </a:lnTo>
                  <a:lnTo>
                    <a:pt x="622" y="4"/>
                  </a:lnTo>
                  <a:lnTo>
                    <a:pt x="622" y="4"/>
                  </a:lnTo>
                  <a:lnTo>
                    <a:pt x="621" y="3"/>
                  </a:lnTo>
                  <a:lnTo>
                    <a:pt x="621" y="2"/>
                  </a:lnTo>
                  <a:lnTo>
                    <a:pt x="620" y="2"/>
                  </a:lnTo>
                  <a:lnTo>
                    <a:pt x="619" y="1"/>
                  </a:lnTo>
                  <a:lnTo>
                    <a:pt x="619" y="0"/>
                  </a:lnTo>
                  <a:lnTo>
                    <a:pt x="618" y="0"/>
                  </a:lnTo>
                  <a:lnTo>
                    <a:pt x="1077" y="0"/>
                  </a:lnTo>
                  <a:lnTo>
                    <a:pt x="1079" y="7"/>
                  </a:lnTo>
                  <a:lnTo>
                    <a:pt x="1081" y="14"/>
                  </a:lnTo>
                  <a:lnTo>
                    <a:pt x="1084" y="22"/>
                  </a:lnTo>
                  <a:lnTo>
                    <a:pt x="1086" y="30"/>
                  </a:lnTo>
                  <a:lnTo>
                    <a:pt x="1088" y="37"/>
                  </a:lnTo>
                  <a:lnTo>
                    <a:pt x="1090" y="45"/>
                  </a:lnTo>
                  <a:lnTo>
                    <a:pt x="1092" y="52"/>
                  </a:lnTo>
                  <a:lnTo>
                    <a:pt x="109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9960" y="4601880"/>
              <a:ext cx="344520" cy="19080"/>
            </a:xfrm>
            <a:custGeom>
              <a:avLst/>
              <a:gdLst/>
              <a:ahLst/>
              <a:rect l="l" t="t" r="r" b="b"/>
              <a:pathLst>
                <a:path w="1086" h="61">
                  <a:moveTo>
                    <a:pt x="1086" y="61"/>
                  </a:moveTo>
                  <a:lnTo>
                    <a:pt x="644" y="61"/>
                  </a:lnTo>
                  <a:lnTo>
                    <a:pt x="642" y="58"/>
                  </a:lnTo>
                  <a:lnTo>
                    <a:pt x="638" y="55"/>
                  </a:lnTo>
                  <a:lnTo>
                    <a:pt x="636" y="51"/>
                  </a:lnTo>
                  <a:lnTo>
                    <a:pt x="633" y="48"/>
                  </a:lnTo>
                  <a:lnTo>
                    <a:pt x="631" y="45"/>
                  </a:lnTo>
                  <a:lnTo>
                    <a:pt x="628" y="42"/>
                  </a:lnTo>
                  <a:lnTo>
                    <a:pt x="626" y="39"/>
                  </a:lnTo>
                  <a:lnTo>
                    <a:pt x="623" y="36"/>
                  </a:lnTo>
                  <a:lnTo>
                    <a:pt x="618" y="31"/>
                  </a:lnTo>
                  <a:lnTo>
                    <a:pt x="614" y="27"/>
                  </a:lnTo>
                  <a:lnTo>
                    <a:pt x="609" y="22"/>
                  </a:lnTo>
                  <a:lnTo>
                    <a:pt x="605" y="18"/>
                  </a:lnTo>
                  <a:lnTo>
                    <a:pt x="600" y="13"/>
                  </a:lnTo>
                  <a:lnTo>
                    <a:pt x="595" y="9"/>
                  </a:lnTo>
                  <a:lnTo>
                    <a:pt x="589" y="5"/>
                  </a:lnTo>
                  <a:lnTo>
                    <a:pt x="584" y="0"/>
                  </a:lnTo>
                  <a:lnTo>
                    <a:pt x="1067" y="0"/>
                  </a:lnTo>
                  <a:lnTo>
                    <a:pt x="1069" y="8"/>
                  </a:lnTo>
                  <a:lnTo>
                    <a:pt x="1072" y="16"/>
                  </a:lnTo>
                  <a:lnTo>
                    <a:pt x="1074" y="23"/>
                  </a:lnTo>
                  <a:lnTo>
                    <a:pt x="1077" y="30"/>
                  </a:lnTo>
                  <a:lnTo>
                    <a:pt x="1079" y="38"/>
                  </a:lnTo>
                  <a:lnTo>
                    <a:pt x="1081" y="45"/>
                  </a:lnTo>
                  <a:lnTo>
                    <a:pt x="1084" y="53"/>
                  </a:lnTo>
                  <a:lnTo>
                    <a:pt x="108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39960" y="4592520"/>
              <a:ext cx="341280" cy="19080"/>
            </a:xfrm>
            <a:custGeom>
              <a:avLst/>
              <a:gdLst/>
              <a:ahLst/>
              <a:rect l="l" t="t" r="r" b="b"/>
              <a:pathLst>
                <a:path w="1077" h="60">
                  <a:moveTo>
                    <a:pt x="1077" y="60"/>
                  </a:moveTo>
                  <a:lnTo>
                    <a:pt x="618" y="60"/>
                  </a:lnTo>
                  <a:lnTo>
                    <a:pt x="609" y="51"/>
                  </a:lnTo>
                  <a:lnTo>
                    <a:pt x="600" y="42"/>
                  </a:lnTo>
                  <a:lnTo>
                    <a:pt x="589" y="34"/>
                  </a:lnTo>
                  <a:lnTo>
                    <a:pt x="580" y="26"/>
                  </a:lnTo>
                  <a:lnTo>
                    <a:pt x="570" y="18"/>
                  </a:lnTo>
                  <a:lnTo>
                    <a:pt x="560" y="12"/>
                  </a:lnTo>
                  <a:lnTo>
                    <a:pt x="549" y="5"/>
                  </a:lnTo>
                  <a:lnTo>
                    <a:pt x="537" y="0"/>
                  </a:lnTo>
                  <a:lnTo>
                    <a:pt x="1055" y="0"/>
                  </a:lnTo>
                  <a:lnTo>
                    <a:pt x="1058" y="7"/>
                  </a:lnTo>
                  <a:lnTo>
                    <a:pt x="1061" y="14"/>
                  </a:lnTo>
                  <a:lnTo>
                    <a:pt x="1064" y="21"/>
                  </a:lnTo>
                  <a:lnTo>
                    <a:pt x="1066" y="29"/>
                  </a:lnTo>
                  <a:lnTo>
                    <a:pt x="1069" y="37"/>
                  </a:lnTo>
                  <a:lnTo>
                    <a:pt x="1072" y="45"/>
                  </a:lnTo>
                  <a:lnTo>
                    <a:pt x="1074" y="52"/>
                  </a:lnTo>
                  <a:lnTo>
                    <a:pt x="107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39960" y="4582800"/>
              <a:ext cx="338040" cy="19080"/>
            </a:xfrm>
            <a:custGeom>
              <a:avLst/>
              <a:gdLst/>
              <a:ahLst/>
              <a:rect l="l" t="t" r="r" b="b"/>
              <a:pathLst>
                <a:path w="1067" h="60">
                  <a:moveTo>
                    <a:pt x="1067" y="60"/>
                  </a:moveTo>
                  <a:lnTo>
                    <a:pt x="584" y="60"/>
                  </a:lnTo>
                  <a:lnTo>
                    <a:pt x="570" y="49"/>
                  </a:lnTo>
                  <a:lnTo>
                    <a:pt x="554" y="40"/>
                  </a:lnTo>
                  <a:lnTo>
                    <a:pt x="538" y="31"/>
                  </a:lnTo>
                  <a:lnTo>
                    <a:pt x="521" y="23"/>
                  </a:lnTo>
                  <a:lnTo>
                    <a:pt x="504" y="16"/>
                  </a:lnTo>
                  <a:lnTo>
                    <a:pt x="486" y="10"/>
                  </a:lnTo>
                  <a:lnTo>
                    <a:pt x="468" y="4"/>
                  </a:lnTo>
                  <a:lnTo>
                    <a:pt x="449" y="0"/>
                  </a:lnTo>
                  <a:lnTo>
                    <a:pt x="1041" y="0"/>
                  </a:lnTo>
                  <a:lnTo>
                    <a:pt x="1044" y="7"/>
                  </a:lnTo>
                  <a:lnTo>
                    <a:pt x="1047" y="16"/>
                  </a:lnTo>
                  <a:lnTo>
                    <a:pt x="1052" y="23"/>
                  </a:lnTo>
                  <a:lnTo>
                    <a:pt x="1055" y="30"/>
                  </a:lnTo>
                  <a:lnTo>
                    <a:pt x="1058" y="38"/>
                  </a:lnTo>
                  <a:lnTo>
                    <a:pt x="1061" y="45"/>
                  </a:lnTo>
                  <a:lnTo>
                    <a:pt x="1064" y="53"/>
                  </a:lnTo>
                  <a:lnTo>
                    <a:pt x="106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39960" y="4573440"/>
              <a:ext cx="335160" cy="19080"/>
            </a:xfrm>
            <a:custGeom>
              <a:avLst/>
              <a:gdLst/>
              <a:ahLst/>
              <a:rect l="l" t="t" r="r" b="b"/>
              <a:pathLst>
                <a:path w="1055" h="61">
                  <a:moveTo>
                    <a:pt x="1055" y="61"/>
                  </a:moveTo>
                  <a:lnTo>
                    <a:pt x="537" y="61"/>
                  </a:lnTo>
                  <a:lnTo>
                    <a:pt x="521" y="53"/>
                  </a:lnTo>
                  <a:lnTo>
                    <a:pt x="503" y="46"/>
                  </a:lnTo>
                  <a:lnTo>
                    <a:pt x="485" y="40"/>
                  </a:lnTo>
                  <a:lnTo>
                    <a:pt x="466" y="34"/>
                  </a:lnTo>
                  <a:lnTo>
                    <a:pt x="447" y="30"/>
                  </a:lnTo>
                  <a:lnTo>
                    <a:pt x="427" y="27"/>
                  </a:lnTo>
                  <a:lnTo>
                    <a:pt x="406" y="25"/>
                  </a:lnTo>
                  <a:lnTo>
                    <a:pt x="385" y="24"/>
                  </a:lnTo>
                  <a:lnTo>
                    <a:pt x="385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025" y="0"/>
                  </a:lnTo>
                  <a:lnTo>
                    <a:pt x="1026" y="2"/>
                  </a:lnTo>
                  <a:lnTo>
                    <a:pt x="1027" y="4"/>
                  </a:lnTo>
                  <a:lnTo>
                    <a:pt x="1029" y="6"/>
                  </a:lnTo>
                  <a:lnTo>
                    <a:pt x="1030" y="8"/>
                  </a:lnTo>
                  <a:lnTo>
                    <a:pt x="1031" y="10"/>
                  </a:lnTo>
                  <a:lnTo>
                    <a:pt x="1032" y="12"/>
                  </a:lnTo>
                  <a:lnTo>
                    <a:pt x="1033" y="14"/>
                  </a:lnTo>
                  <a:lnTo>
                    <a:pt x="1034" y="16"/>
                  </a:lnTo>
                  <a:lnTo>
                    <a:pt x="1036" y="22"/>
                  </a:lnTo>
                  <a:lnTo>
                    <a:pt x="1039" y="27"/>
                  </a:lnTo>
                  <a:lnTo>
                    <a:pt x="1042" y="32"/>
                  </a:lnTo>
                  <a:lnTo>
                    <a:pt x="1044" y="38"/>
                  </a:lnTo>
                  <a:lnTo>
                    <a:pt x="1047" y="44"/>
                  </a:lnTo>
                  <a:lnTo>
                    <a:pt x="1050" y="50"/>
                  </a:lnTo>
                  <a:lnTo>
                    <a:pt x="1053" y="55"/>
                  </a:lnTo>
                  <a:lnTo>
                    <a:pt x="1055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4564080"/>
              <a:ext cx="330120" cy="18720"/>
            </a:xfrm>
            <a:custGeom>
              <a:avLst/>
              <a:gdLst/>
              <a:ahLst/>
              <a:rect l="l" t="t" r="r" b="b"/>
              <a:pathLst>
                <a:path w="1041" h="60">
                  <a:moveTo>
                    <a:pt x="1041" y="60"/>
                  </a:moveTo>
                  <a:lnTo>
                    <a:pt x="449" y="60"/>
                  </a:lnTo>
                  <a:lnTo>
                    <a:pt x="441" y="59"/>
                  </a:lnTo>
                  <a:lnTo>
                    <a:pt x="433" y="58"/>
                  </a:lnTo>
                  <a:lnTo>
                    <a:pt x="425" y="57"/>
                  </a:lnTo>
                  <a:lnTo>
                    <a:pt x="418" y="56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4"/>
                  </a:lnTo>
                  <a:lnTo>
                    <a:pt x="385" y="54"/>
                  </a:lnTo>
                  <a:lnTo>
                    <a:pt x="385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12" y="5"/>
                  </a:lnTo>
                  <a:lnTo>
                    <a:pt x="1015" y="11"/>
                  </a:lnTo>
                  <a:lnTo>
                    <a:pt x="1018" y="18"/>
                  </a:lnTo>
                  <a:lnTo>
                    <a:pt x="1021" y="23"/>
                  </a:lnTo>
                  <a:lnTo>
                    <a:pt x="1024" y="29"/>
                  </a:lnTo>
                  <a:lnTo>
                    <a:pt x="1028" y="35"/>
                  </a:lnTo>
                  <a:lnTo>
                    <a:pt x="1031" y="41"/>
                  </a:lnTo>
                  <a:lnTo>
                    <a:pt x="1034" y="46"/>
                  </a:lnTo>
                  <a:lnTo>
                    <a:pt x="1035" y="48"/>
                  </a:lnTo>
                  <a:lnTo>
                    <a:pt x="1035" y="50"/>
                  </a:lnTo>
                  <a:lnTo>
                    <a:pt x="1036" y="51"/>
                  </a:lnTo>
                  <a:lnTo>
                    <a:pt x="1037" y="53"/>
                  </a:lnTo>
                  <a:lnTo>
                    <a:pt x="1038" y="55"/>
                  </a:lnTo>
                  <a:lnTo>
                    <a:pt x="1039" y="57"/>
                  </a:lnTo>
                  <a:lnTo>
                    <a:pt x="1040" y="58"/>
                  </a:lnTo>
                  <a:lnTo>
                    <a:pt x="1041" y="6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39960" y="4554360"/>
              <a:ext cx="325440" cy="19080"/>
            </a:xfrm>
            <a:custGeom>
              <a:avLst/>
              <a:gdLst/>
              <a:ahLst/>
              <a:rect l="l" t="t" r="r" b="b"/>
              <a:pathLst>
                <a:path w="1025" h="60">
                  <a:moveTo>
                    <a:pt x="102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8" y="0"/>
                  </a:lnTo>
                  <a:lnTo>
                    <a:pt x="993" y="7"/>
                  </a:lnTo>
                  <a:lnTo>
                    <a:pt x="997" y="15"/>
                  </a:lnTo>
                  <a:lnTo>
                    <a:pt x="1003" y="22"/>
                  </a:lnTo>
                  <a:lnTo>
                    <a:pt x="1008" y="29"/>
                  </a:lnTo>
                  <a:lnTo>
                    <a:pt x="1012" y="37"/>
                  </a:lnTo>
                  <a:lnTo>
                    <a:pt x="1017" y="44"/>
                  </a:lnTo>
                  <a:lnTo>
                    <a:pt x="1021" y="53"/>
                  </a:lnTo>
                  <a:lnTo>
                    <a:pt x="1025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39960" y="4545000"/>
              <a:ext cx="319320" cy="19080"/>
            </a:xfrm>
            <a:custGeom>
              <a:avLst/>
              <a:gdLst/>
              <a:ahLst/>
              <a:rect l="l" t="t" r="r" b="b"/>
              <a:pathLst>
                <a:path w="1008" h="60">
                  <a:moveTo>
                    <a:pt x="100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66" y="0"/>
                  </a:lnTo>
                  <a:lnTo>
                    <a:pt x="971" y="7"/>
                  </a:lnTo>
                  <a:lnTo>
                    <a:pt x="977" y="14"/>
                  </a:lnTo>
                  <a:lnTo>
                    <a:pt x="982" y="21"/>
                  </a:lnTo>
                  <a:lnTo>
                    <a:pt x="987" y="30"/>
                  </a:lnTo>
                  <a:lnTo>
                    <a:pt x="992" y="37"/>
                  </a:lnTo>
                  <a:lnTo>
                    <a:pt x="997" y="45"/>
                  </a:lnTo>
                  <a:lnTo>
                    <a:pt x="1003" y="52"/>
                  </a:lnTo>
                  <a:lnTo>
                    <a:pt x="1008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39960" y="4535280"/>
              <a:ext cx="312840" cy="19080"/>
            </a:xfrm>
            <a:custGeom>
              <a:avLst/>
              <a:gdLst/>
              <a:ahLst/>
              <a:rect l="l" t="t" r="r" b="b"/>
              <a:pathLst>
                <a:path w="988" h="61">
                  <a:moveTo>
                    <a:pt x="988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40" y="0"/>
                  </a:lnTo>
                  <a:lnTo>
                    <a:pt x="946" y="8"/>
                  </a:lnTo>
                  <a:lnTo>
                    <a:pt x="954" y="15"/>
                  </a:lnTo>
                  <a:lnTo>
                    <a:pt x="960" y="23"/>
                  </a:lnTo>
                  <a:lnTo>
                    <a:pt x="965" y="30"/>
                  </a:lnTo>
                  <a:lnTo>
                    <a:pt x="971" y="37"/>
                  </a:lnTo>
                  <a:lnTo>
                    <a:pt x="977" y="45"/>
                  </a:lnTo>
                  <a:lnTo>
                    <a:pt x="982" y="53"/>
                  </a:lnTo>
                  <a:lnTo>
                    <a:pt x="988" y="61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4525920"/>
              <a:ext cx="306360" cy="19080"/>
            </a:xfrm>
            <a:custGeom>
              <a:avLst/>
              <a:gdLst/>
              <a:ahLst/>
              <a:rect l="l" t="t" r="r" b="b"/>
              <a:pathLst>
                <a:path w="966" h="60">
                  <a:moveTo>
                    <a:pt x="966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12" y="0"/>
                  </a:lnTo>
                  <a:lnTo>
                    <a:pt x="919" y="7"/>
                  </a:lnTo>
                  <a:lnTo>
                    <a:pt x="926" y="14"/>
                  </a:lnTo>
                  <a:lnTo>
                    <a:pt x="933" y="21"/>
                  </a:lnTo>
                  <a:lnTo>
                    <a:pt x="940" y="28"/>
                  </a:lnTo>
                  <a:lnTo>
                    <a:pt x="946" y="37"/>
                  </a:lnTo>
                  <a:lnTo>
                    <a:pt x="953" y="44"/>
                  </a:lnTo>
                  <a:lnTo>
                    <a:pt x="960" y="52"/>
                  </a:lnTo>
                  <a:lnTo>
                    <a:pt x="966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9960" y="4516200"/>
              <a:ext cx="298440" cy="19080"/>
            </a:xfrm>
            <a:custGeom>
              <a:avLst/>
              <a:gdLst/>
              <a:ahLst/>
              <a:rect l="l" t="t" r="r" b="b"/>
              <a:pathLst>
                <a:path w="940" h="60">
                  <a:moveTo>
                    <a:pt x="94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79" y="0"/>
                  </a:lnTo>
                  <a:lnTo>
                    <a:pt x="887" y="7"/>
                  </a:lnTo>
                  <a:lnTo>
                    <a:pt x="895" y="15"/>
                  </a:lnTo>
                  <a:lnTo>
                    <a:pt x="904" y="22"/>
                  </a:lnTo>
                  <a:lnTo>
                    <a:pt x="911" y="30"/>
                  </a:lnTo>
                  <a:lnTo>
                    <a:pt x="919" y="37"/>
                  </a:lnTo>
                  <a:lnTo>
                    <a:pt x="926" y="45"/>
                  </a:lnTo>
                  <a:lnTo>
                    <a:pt x="933" y="52"/>
                  </a:lnTo>
                  <a:lnTo>
                    <a:pt x="940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9960" y="4506840"/>
              <a:ext cx="289080" cy="19080"/>
            </a:xfrm>
            <a:custGeom>
              <a:avLst/>
              <a:gdLst/>
              <a:ahLst/>
              <a:rect l="l" t="t" r="r" b="b"/>
              <a:pathLst>
                <a:path w="912" h="61">
                  <a:moveTo>
                    <a:pt x="91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841" y="0"/>
                  </a:lnTo>
                  <a:lnTo>
                    <a:pt x="851" y="7"/>
                  </a:lnTo>
                  <a:lnTo>
                    <a:pt x="860" y="14"/>
                  </a:lnTo>
                  <a:lnTo>
                    <a:pt x="869" y="22"/>
                  </a:lnTo>
                  <a:lnTo>
                    <a:pt x="878" y="29"/>
                  </a:lnTo>
                  <a:lnTo>
                    <a:pt x="887" y="36"/>
                  </a:lnTo>
                  <a:lnTo>
                    <a:pt x="895" y="45"/>
                  </a:lnTo>
                  <a:lnTo>
                    <a:pt x="904" y="53"/>
                  </a:lnTo>
                  <a:lnTo>
                    <a:pt x="912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39960" y="4497120"/>
              <a:ext cx="279360" cy="19080"/>
            </a:xfrm>
            <a:custGeom>
              <a:avLst/>
              <a:gdLst/>
              <a:ahLst/>
              <a:rect l="l" t="t" r="r" b="b"/>
              <a:pathLst>
                <a:path w="879" h="60">
                  <a:moveTo>
                    <a:pt x="879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98" y="0"/>
                  </a:lnTo>
                  <a:lnTo>
                    <a:pt x="809" y="7"/>
                  </a:lnTo>
                  <a:lnTo>
                    <a:pt x="819" y="14"/>
                  </a:lnTo>
                  <a:lnTo>
                    <a:pt x="830" y="22"/>
                  </a:lnTo>
                  <a:lnTo>
                    <a:pt x="840" y="29"/>
                  </a:lnTo>
                  <a:lnTo>
                    <a:pt x="851" y="37"/>
                  </a:lnTo>
                  <a:lnTo>
                    <a:pt x="860" y="44"/>
                  </a:lnTo>
                  <a:lnTo>
                    <a:pt x="870" y="52"/>
                  </a:lnTo>
                  <a:lnTo>
                    <a:pt x="879" y="6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9960" y="4487760"/>
              <a:ext cx="266760" cy="19080"/>
            </a:xfrm>
            <a:custGeom>
              <a:avLst/>
              <a:gdLst/>
              <a:ahLst/>
              <a:rect l="l" t="t" r="r" b="b"/>
              <a:pathLst>
                <a:path w="841" h="60">
                  <a:moveTo>
                    <a:pt x="84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46" y="0"/>
                  </a:lnTo>
                  <a:lnTo>
                    <a:pt x="751" y="3"/>
                  </a:lnTo>
                  <a:lnTo>
                    <a:pt x="757" y="6"/>
                  </a:lnTo>
                  <a:lnTo>
                    <a:pt x="763" y="9"/>
                  </a:lnTo>
                  <a:lnTo>
                    <a:pt x="769" y="13"/>
                  </a:lnTo>
                  <a:lnTo>
                    <a:pt x="774" y="16"/>
                  </a:lnTo>
                  <a:lnTo>
                    <a:pt x="780" y="19"/>
                  </a:lnTo>
                  <a:lnTo>
                    <a:pt x="785" y="22"/>
                  </a:lnTo>
                  <a:lnTo>
                    <a:pt x="791" y="26"/>
                  </a:lnTo>
                  <a:lnTo>
                    <a:pt x="798" y="30"/>
                  </a:lnTo>
                  <a:lnTo>
                    <a:pt x="804" y="34"/>
                  </a:lnTo>
                  <a:lnTo>
                    <a:pt x="811" y="38"/>
                  </a:lnTo>
                  <a:lnTo>
                    <a:pt x="817" y="42"/>
                  </a:lnTo>
                  <a:lnTo>
                    <a:pt x="823" y="46"/>
                  </a:lnTo>
                  <a:lnTo>
                    <a:pt x="829" y="52"/>
                  </a:lnTo>
                  <a:lnTo>
                    <a:pt x="835" y="56"/>
                  </a:lnTo>
                  <a:lnTo>
                    <a:pt x="841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9960" y="4478040"/>
              <a:ext cx="252360" cy="19080"/>
            </a:xfrm>
            <a:custGeom>
              <a:avLst/>
              <a:gdLst/>
              <a:ahLst/>
              <a:rect l="l" t="t" r="r" b="b"/>
              <a:pathLst>
                <a:path w="798" h="60">
                  <a:moveTo>
                    <a:pt x="79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677" y="0"/>
                  </a:lnTo>
                  <a:lnTo>
                    <a:pt x="693" y="6"/>
                  </a:lnTo>
                  <a:lnTo>
                    <a:pt x="707" y="12"/>
                  </a:lnTo>
                  <a:lnTo>
                    <a:pt x="722" y="18"/>
                  </a:lnTo>
                  <a:lnTo>
                    <a:pt x="736" y="26"/>
                  </a:lnTo>
                  <a:lnTo>
                    <a:pt x="750" y="33"/>
                  </a:lnTo>
                  <a:lnTo>
                    <a:pt x="764" y="40"/>
                  </a:lnTo>
                  <a:lnTo>
                    <a:pt x="778" y="48"/>
                  </a:lnTo>
                  <a:lnTo>
                    <a:pt x="791" y="56"/>
                  </a:lnTo>
                  <a:lnTo>
                    <a:pt x="792" y="56"/>
                  </a:lnTo>
                  <a:lnTo>
                    <a:pt x="792" y="57"/>
                  </a:lnTo>
                  <a:lnTo>
                    <a:pt x="793" y="57"/>
                  </a:lnTo>
                  <a:lnTo>
                    <a:pt x="795" y="58"/>
                  </a:lnTo>
                  <a:lnTo>
                    <a:pt x="796" y="58"/>
                  </a:lnTo>
                  <a:lnTo>
                    <a:pt x="797" y="59"/>
                  </a:lnTo>
                  <a:lnTo>
                    <a:pt x="798" y="59"/>
                  </a:lnTo>
                  <a:lnTo>
                    <a:pt x="798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9960" y="4468680"/>
              <a:ext cx="236520" cy="19080"/>
            </a:xfrm>
            <a:custGeom>
              <a:avLst/>
              <a:gdLst/>
              <a:ahLst/>
              <a:rect l="l" t="t" r="r" b="b"/>
              <a:pathLst>
                <a:path w="746" h="61">
                  <a:moveTo>
                    <a:pt x="746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99" y="7"/>
                  </a:lnTo>
                  <a:lnTo>
                    <a:pt x="621" y="12"/>
                  </a:lnTo>
                  <a:lnTo>
                    <a:pt x="643" y="19"/>
                  </a:lnTo>
                  <a:lnTo>
                    <a:pt x="664" y="26"/>
                  </a:lnTo>
                  <a:lnTo>
                    <a:pt x="685" y="34"/>
                  </a:lnTo>
                  <a:lnTo>
                    <a:pt x="706" y="42"/>
                  </a:lnTo>
                  <a:lnTo>
                    <a:pt x="725" y="51"/>
                  </a:lnTo>
                  <a:lnTo>
                    <a:pt x="746" y="6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9960" y="4459320"/>
              <a:ext cx="214200" cy="18720"/>
            </a:xfrm>
            <a:custGeom>
              <a:avLst/>
              <a:gdLst/>
              <a:ahLst/>
              <a:rect l="l" t="t" r="r" b="b"/>
              <a:pathLst>
                <a:path w="677" h="60">
                  <a:moveTo>
                    <a:pt x="67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78" y="30"/>
                  </a:lnTo>
                  <a:lnTo>
                    <a:pt x="594" y="34"/>
                  </a:lnTo>
                  <a:lnTo>
                    <a:pt x="608" y="38"/>
                  </a:lnTo>
                  <a:lnTo>
                    <a:pt x="622" y="42"/>
                  </a:lnTo>
                  <a:lnTo>
                    <a:pt x="636" y="46"/>
                  </a:lnTo>
                  <a:lnTo>
                    <a:pt x="650" y="50"/>
                  </a:lnTo>
                  <a:lnTo>
                    <a:pt x="664" y="55"/>
                  </a:lnTo>
                  <a:lnTo>
                    <a:pt x="677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9960" y="4459320"/>
              <a:ext cx="182520" cy="9360"/>
            </a:xfrm>
            <a:custGeom>
              <a:avLst/>
              <a:gdLst/>
              <a:ahLst/>
              <a:rect l="l" t="t" r="r" b="b"/>
              <a:pathLst>
                <a:path w="576" h="29">
                  <a:moveTo>
                    <a:pt x="576" y="29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65" y="27"/>
                  </a:lnTo>
                  <a:lnTo>
                    <a:pt x="567" y="27"/>
                  </a:lnTo>
                  <a:lnTo>
                    <a:pt x="568" y="27"/>
                  </a:lnTo>
                  <a:lnTo>
                    <a:pt x="570" y="28"/>
                  </a:lnTo>
                  <a:lnTo>
                    <a:pt x="571" y="28"/>
                  </a:lnTo>
                  <a:lnTo>
                    <a:pt x="573" y="28"/>
                  </a:lnTo>
                  <a:lnTo>
                    <a:pt x="575" y="29"/>
                  </a:lnTo>
                  <a:lnTo>
                    <a:pt x="576" y="2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1520" y="4290840"/>
              <a:ext cx="40302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iscrimination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2360" y="4581360"/>
              <a:ext cx="104760" cy="223920"/>
            </a:xfrm>
            <a:custGeom>
              <a:avLst/>
              <a:gdLst/>
              <a:ahLst/>
              <a:rect l="l" t="t" r="r" b="b"/>
              <a:pathLst>
                <a:path w="329" h="706">
                  <a:moveTo>
                    <a:pt x="0" y="706"/>
                  </a:moveTo>
                  <a:lnTo>
                    <a:pt x="19" y="704"/>
                  </a:lnTo>
                  <a:lnTo>
                    <a:pt x="36" y="701"/>
                  </a:lnTo>
                  <a:lnTo>
                    <a:pt x="55" y="697"/>
                  </a:lnTo>
                  <a:lnTo>
                    <a:pt x="71" y="693"/>
                  </a:lnTo>
                  <a:lnTo>
                    <a:pt x="88" y="688"/>
                  </a:lnTo>
                  <a:lnTo>
                    <a:pt x="104" y="683"/>
                  </a:lnTo>
                  <a:lnTo>
                    <a:pt x="120" y="677"/>
                  </a:lnTo>
                  <a:lnTo>
                    <a:pt x="135" y="670"/>
                  </a:lnTo>
                  <a:lnTo>
                    <a:pt x="149" y="663"/>
                  </a:lnTo>
                  <a:lnTo>
                    <a:pt x="164" y="656"/>
                  </a:lnTo>
                  <a:lnTo>
                    <a:pt x="178" y="647"/>
                  </a:lnTo>
                  <a:lnTo>
                    <a:pt x="191" y="637"/>
                  </a:lnTo>
                  <a:lnTo>
                    <a:pt x="203" y="628"/>
                  </a:lnTo>
                  <a:lnTo>
                    <a:pt x="216" y="618"/>
                  </a:lnTo>
                  <a:lnTo>
                    <a:pt x="228" y="607"/>
                  </a:lnTo>
                  <a:lnTo>
                    <a:pt x="239" y="595"/>
                  </a:lnTo>
                  <a:lnTo>
                    <a:pt x="250" y="582"/>
                  </a:lnTo>
                  <a:lnTo>
                    <a:pt x="261" y="570"/>
                  </a:lnTo>
                  <a:lnTo>
                    <a:pt x="270" y="558"/>
                  </a:lnTo>
                  <a:lnTo>
                    <a:pt x="279" y="545"/>
                  </a:lnTo>
                  <a:lnTo>
                    <a:pt x="287" y="530"/>
                  </a:lnTo>
                  <a:lnTo>
                    <a:pt x="294" y="516"/>
                  </a:lnTo>
                  <a:lnTo>
                    <a:pt x="300" y="502"/>
                  </a:lnTo>
                  <a:lnTo>
                    <a:pt x="306" y="487"/>
                  </a:lnTo>
                  <a:lnTo>
                    <a:pt x="312" y="472"/>
                  </a:lnTo>
                  <a:lnTo>
                    <a:pt x="317" y="457"/>
                  </a:lnTo>
                  <a:lnTo>
                    <a:pt x="321" y="441"/>
                  </a:lnTo>
                  <a:lnTo>
                    <a:pt x="324" y="424"/>
                  </a:lnTo>
                  <a:lnTo>
                    <a:pt x="326" y="408"/>
                  </a:lnTo>
                  <a:lnTo>
                    <a:pt x="328" y="391"/>
                  </a:lnTo>
                  <a:lnTo>
                    <a:pt x="329" y="373"/>
                  </a:lnTo>
                  <a:lnTo>
                    <a:pt x="329" y="356"/>
                  </a:lnTo>
                  <a:lnTo>
                    <a:pt x="329" y="337"/>
                  </a:lnTo>
                  <a:lnTo>
                    <a:pt x="328" y="318"/>
                  </a:lnTo>
                  <a:lnTo>
                    <a:pt x="326" y="300"/>
                  </a:lnTo>
                  <a:lnTo>
                    <a:pt x="324" y="282"/>
                  </a:lnTo>
                  <a:lnTo>
                    <a:pt x="320" y="264"/>
                  </a:lnTo>
                  <a:lnTo>
                    <a:pt x="317" y="248"/>
                  </a:lnTo>
                  <a:lnTo>
                    <a:pt x="312" y="232"/>
                  </a:lnTo>
                  <a:lnTo>
                    <a:pt x="306" y="215"/>
                  </a:lnTo>
                  <a:lnTo>
                    <a:pt x="300" y="200"/>
                  </a:lnTo>
                  <a:lnTo>
                    <a:pt x="293" y="185"/>
                  </a:lnTo>
                  <a:lnTo>
                    <a:pt x="286" y="169"/>
                  </a:lnTo>
                  <a:lnTo>
                    <a:pt x="278" y="155"/>
                  </a:lnTo>
                  <a:lnTo>
                    <a:pt x="269" y="141"/>
                  </a:lnTo>
                  <a:lnTo>
                    <a:pt x="260" y="128"/>
                  </a:lnTo>
                  <a:lnTo>
                    <a:pt x="249" y="114"/>
                  </a:lnTo>
                  <a:lnTo>
                    <a:pt x="238" y="102"/>
                  </a:lnTo>
                  <a:lnTo>
                    <a:pt x="227" y="90"/>
                  </a:lnTo>
                  <a:lnTo>
                    <a:pt x="215" y="79"/>
                  </a:lnTo>
                  <a:lnTo>
                    <a:pt x="201" y="69"/>
                  </a:lnTo>
                  <a:lnTo>
                    <a:pt x="189" y="58"/>
                  </a:lnTo>
                  <a:lnTo>
                    <a:pt x="176" y="49"/>
                  </a:lnTo>
                  <a:lnTo>
                    <a:pt x="162" y="41"/>
                  </a:lnTo>
                  <a:lnTo>
                    <a:pt x="147" y="34"/>
                  </a:lnTo>
                  <a:lnTo>
                    <a:pt x="133" y="27"/>
                  </a:lnTo>
                  <a:lnTo>
                    <a:pt x="118" y="22"/>
                  </a:lnTo>
                  <a:lnTo>
                    <a:pt x="102" y="16"/>
                  </a:lnTo>
                  <a:lnTo>
                    <a:pt x="86" y="11"/>
                  </a:lnTo>
                  <a:lnTo>
                    <a:pt x="70" y="7"/>
                  </a:lnTo>
                  <a:lnTo>
                    <a:pt x="54" y="4"/>
                  </a:lnTo>
                  <a:lnTo>
                    <a:pt x="36" y="2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70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39960" y="4459320"/>
              <a:ext cx="354240" cy="471240"/>
            </a:xfrm>
            <a:custGeom>
              <a:avLst/>
              <a:gdLst/>
              <a:ahLst/>
              <a:rect l="l" t="t" r="r" b="b"/>
              <a:pathLst>
                <a:path w="1117" h="1488">
                  <a:moveTo>
                    <a:pt x="224" y="0"/>
                  </a:move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95" y="35"/>
                  </a:lnTo>
                  <a:lnTo>
                    <a:pt x="625" y="43"/>
                  </a:lnTo>
                  <a:lnTo>
                    <a:pt x="655" y="52"/>
                  </a:lnTo>
                  <a:lnTo>
                    <a:pt x="684" y="62"/>
                  </a:lnTo>
                  <a:lnTo>
                    <a:pt x="712" y="74"/>
                  </a:lnTo>
                  <a:lnTo>
                    <a:pt x="739" y="87"/>
                  </a:lnTo>
                  <a:lnTo>
                    <a:pt x="766" y="101"/>
                  </a:lnTo>
                  <a:lnTo>
                    <a:pt x="791" y="116"/>
                  </a:lnTo>
                  <a:lnTo>
                    <a:pt x="811" y="128"/>
                  </a:lnTo>
                  <a:lnTo>
                    <a:pt x="830" y="142"/>
                  </a:lnTo>
                  <a:lnTo>
                    <a:pt x="849" y="155"/>
                  </a:lnTo>
                  <a:lnTo>
                    <a:pt x="866" y="169"/>
                  </a:lnTo>
                  <a:lnTo>
                    <a:pt x="883" y="184"/>
                  </a:lnTo>
                  <a:lnTo>
                    <a:pt x="901" y="200"/>
                  </a:lnTo>
                  <a:lnTo>
                    <a:pt x="916" y="215"/>
                  </a:lnTo>
                  <a:lnTo>
                    <a:pt x="932" y="231"/>
                  </a:lnTo>
                  <a:lnTo>
                    <a:pt x="946" y="248"/>
                  </a:lnTo>
                  <a:lnTo>
                    <a:pt x="961" y="265"/>
                  </a:lnTo>
                  <a:lnTo>
                    <a:pt x="975" y="282"/>
                  </a:lnTo>
                  <a:lnTo>
                    <a:pt x="987" y="301"/>
                  </a:lnTo>
                  <a:lnTo>
                    <a:pt x="1001" y="319"/>
                  </a:lnTo>
                  <a:lnTo>
                    <a:pt x="1012" y="338"/>
                  </a:lnTo>
                  <a:lnTo>
                    <a:pt x="1023" y="358"/>
                  </a:lnTo>
                  <a:lnTo>
                    <a:pt x="1034" y="377"/>
                  </a:lnTo>
                  <a:lnTo>
                    <a:pt x="1044" y="397"/>
                  </a:lnTo>
                  <a:lnTo>
                    <a:pt x="1054" y="419"/>
                  </a:lnTo>
                  <a:lnTo>
                    <a:pt x="1062" y="440"/>
                  </a:lnTo>
                  <a:lnTo>
                    <a:pt x="1070" y="462"/>
                  </a:lnTo>
                  <a:lnTo>
                    <a:pt x="1078" y="484"/>
                  </a:lnTo>
                  <a:lnTo>
                    <a:pt x="1084" y="507"/>
                  </a:lnTo>
                  <a:lnTo>
                    <a:pt x="1090" y="529"/>
                  </a:lnTo>
                  <a:lnTo>
                    <a:pt x="1096" y="552"/>
                  </a:lnTo>
                  <a:lnTo>
                    <a:pt x="1101" y="576"/>
                  </a:lnTo>
                  <a:lnTo>
                    <a:pt x="1106" y="600"/>
                  </a:lnTo>
                  <a:lnTo>
                    <a:pt x="1109" y="625"/>
                  </a:lnTo>
                  <a:lnTo>
                    <a:pt x="1112" y="650"/>
                  </a:lnTo>
                  <a:lnTo>
                    <a:pt x="1114" y="675"/>
                  </a:lnTo>
                  <a:lnTo>
                    <a:pt x="1116" y="701"/>
                  </a:lnTo>
                  <a:lnTo>
                    <a:pt x="1117" y="727"/>
                  </a:lnTo>
                  <a:lnTo>
                    <a:pt x="1117" y="753"/>
                  </a:lnTo>
                  <a:lnTo>
                    <a:pt x="1117" y="778"/>
                  </a:lnTo>
                  <a:lnTo>
                    <a:pt x="1116" y="801"/>
                  </a:lnTo>
                  <a:lnTo>
                    <a:pt x="1114" y="825"/>
                  </a:lnTo>
                  <a:lnTo>
                    <a:pt x="1111" y="847"/>
                  </a:lnTo>
                  <a:lnTo>
                    <a:pt x="1108" y="870"/>
                  </a:lnTo>
                  <a:lnTo>
                    <a:pt x="1104" y="893"/>
                  </a:lnTo>
                  <a:lnTo>
                    <a:pt x="1099" y="915"/>
                  </a:lnTo>
                  <a:lnTo>
                    <a:pt x="1094" y="938"/>
                  </a:lnTo>
                  <a:lnTo>
                    <a:pt x="1088" y="959"/>
                  </a:lnTo>
                  <a:lnTo>
                    <a:pt x="1081" y="981"/>
                  </a:lnTo>
                  <a:lnTo>
                    <a:pt x="1074" y="1002"/>
                  </a:lnTo>
                  <a:lnTo>
                    <a:pt x="1066" y="1023"/>
                  </a:lnTo>
                  <a:lnTo>
                    <a:pt x="1057" y="1045"/>
                  </a:lnTo>
                  <a:lnTo>
                    <a:pt x="1046" y="1065"/>
                  </a:lnTo>
                  <a:lnTo>
                    <a:pt x="1036" y="1086"/>
                  </a:lnTo>
                  <a:lnTo>
                    <a:pt x="1025" y="1106"/>
                  </a:lnTo>
                  <a:lnTo>
                    <a:pt x="1014" y="1125"/>
                  </a:lnTo>
                  <a:lnTo>
                    <a:pt x="1002" y="1145"/>
                  </a:lnTo>
                  <a:lnTo>
                    <a:pt x="988" y="1164"/>
                  </a:lnTo>
                  <a:lnTo>
                    <a:pt x="975" y="1182"/>
                  </a:lnTo>
                  <a:lnTo>
                    <a:pt x="961" y="1200"/>
                  </a:lnTo>
                  <a:lnTo>
                    <a:pt x="945" y="1217"/>
                  </a:lnTo>
                  <a:lnTo>
                    <a:pt x="930" y="1234"/>
                  </a:lnTo>
                  <a:lnTo>
                    <a:pt x="915" y="1251"/>
                  </a:lnTo>
                  <a:lnTo>
                    <a:pt x="899" y="1267"/>
                  </a:lnTo>
                  <a:lnTo>
                    <a:pt x="881" y="1283"/>
                  </a:lnTo>
                  <a:lnTo>
                    <a:pt x="864" y="1299"/>
                  </a:lnTo>
                  <a:lnTo>
                    <a:pt x="846" y="1313"/>
                  </a:lnTo>
                  <a:lnTo>
                    <a:pt x="827" y="1327"/>
                  </a:lnTo>
                  <a:lnTo>
                    <a:pt x="808" y="1341"/>
                  </a:lnTo>
                  <a:lnTo>
                    <a:pt x="787" y="1355"/>
                  </a:lnTo>
                  <a:lnTo>
                    <a:pt x="767" y="1367"/>
                  </a:lnTo>
                  <a:lnTo>
                    <a:pt x="740" y="1382"/>
                  </a:lnTo>
                  <a:lnTo>
                    <a:pt x="713" y="1396"/>
                  </a:lnTo>
                  <a:lnTo>
                    <a:pt x="685" y="1410"/>
                  </a:lnTo>
                  <a:lnTo>
                    <a:pt x="657" y="1422"/>
                  </a:lnTo>
                  <a:lnTo>
                    <a:pt x="627" y="1433"/>
                  </a:lnTo>
                  <a:lnTo>
                    <a:pt x="597" y="1443"/>
                  </a:lnTo>
                  <a:lnTo>
                    <a:pt x="565" y="1451"/>
                  </a:lnTo>
                  <a:lnTo>
                    <a:pt x="532" y="1460"/>
                  </a:lnTo>
                  <a:lnTo>
                    <a:pt x="500" y="1466"/>
                  </a:lnTo>
                  <a:lnTo>
                    <a:pt x="465" y="1472"/>
                  </a:lnTo>
                  <a:lnTo>
                    <a:pt x="428" y="1477"/>
                  </a:lnTo>
                  <a:lnTo>
                    <a:pt x="391" y="1481"/>
                  </a:lnTo>
                  <a:lnTo>
                    <a:pt x="351" y="1484"/>
                  </a:lnTo>
                  <a:lnTo>
                    <a:pt x="310" y="1486"/>
                  </a:lnTo>
                  <a:lnTo>
                    <a:pt x="268" y="1488"/>
                  </a:lnTo>
                  <a:lnTo>
                    <a:pt x="224" y="1488"/>
                  </a:lnTo>
                  <a:lnTo>
                    <a:pt x="0" y="1488"/>
                  </a:lnTo>
                  <a:lnTo>
                    <a:pt x="0" y="0"/>
                  </a:lnTo>
                  <a:lnTo>
                    <a:pt x="22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768760" y="5065560"/>
            <a:ext cx="3893400" cy="792360"/>
            <a:chOff x="2768760" y="5065560"/>
            <a:chExt cx="3893400" cy="792360"/>
          </a:xfrm>
        </p:grpSpPr>
        <p:sp>
          <p:nvSpPr>
            <p:cNvPr id="286" name=""/>
            <p:cNvSpPr/>
            <p:nvPr/>
          </p:nvSpPr>
          <p:spPr>
            <a:xfrm>
              <a:off x="2776680" y="5703840"/>
              <a:ext cx="137880" cy="9360"/>
            </a:xfrm>
            <a:custGeom>
              <a:avLst/>
              <a:gdLst/>
              <a:ahLst/>
              <a:rect l="l" t="t" r="r" b="b"/>
              <a:pathLst>
                <a:path w="432" h="31">
                  <a:moveTo>
                    <a:pt x="0" y="0"/>
                  </a:moveTo>
                  <a:lnTo>
                    <a:pt x="432" y="0"/>
                  </a:lnTo>
                  <a:lnTo>
                    <a:pt x="406" y="8"/>
                  </a:lnTo>
                  <a:lnTo>
                    <a:pt x="380" y="14"/>
                  </a:lnTo>
                  <a:lnTo>
                    <a:pt x="352" y="19"/>
                  </a:lnTo>
                  <a:lnTo>
                    <a:pt x="324" y="23"/>
                  </a:lnTo>
                  <a:lnTo>
                    <a:pt x="294" y="27"/>
                  </a:lnTo>
                  <a:lnTo>
                    <a:pt x="263" y="29"/>
                  </a:lnTo>
                  <a:lnTo>
                    <a:pt x="233" y="31"/>
                  </a:lnTo>
                  <a:lnTo>
                    <a:pt x="201" y="31"/>
                  </a:lnTo>
                  <a:lnTo>
                    <a:pt x="188" y="31"/>
                  </a:lnTo>
                  <a:lnTo>
                    <a:pt x="175" y="30"/>
                  </a:lnTo>
                  <a:lnTo>
                    <a:pt x="161" y="30"/>
                  </a:lnTo>
                  <a:lnTo>
                    <a:pt x="148" y="29"/>
                  </a:lnTo>
                  <a:lnTo>
                    <a:pt x="135" y="28"/>
                  </a:lnTo>
                  <a:lnTo>
                    <a:pt x="123" y="28"/>
                  </a:lnTo>
                  <a:lnTo>
                    <a:pt x="109" y="27"/>
                  </a:lnTo>
                  <a:lnTo>
                    <a:pt x="97" y="26"/>
                  </a:lnTo>
                  <a:lnTo>
                    <a:pt x="85" y="24"/>
                  </a:lnTo>
                  <a:lnTo>
                    <a:pt x="73" y="23"/>
                  </a:lnTo>
                  <a:lnTo>
                    <a:pt x="60" y="22"/>
                  </a:lnTo>
                  <a:lnTo>
                    <a:pt x="48" y="20"/>
                  </a:lnTo>
                  <a:lnTo>
                    <a:pt x="36" y="18"/>
                  </a:lnTo>
                  <a:lnTo>
                    <a:pt x="24" y="16"/>
                  </a:lnTo>
                  <a:lnTo>
                    <a:pt x="12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6680" y="5694120"/>
              <a:ext cx="163440" cy="19080"/>
            </a:xfrm>
            <a:custGeom>
              <a:avLst/>
              <a:gdLst/>
              <a:ahLst/>
              <a:rect l="l" t="t" r="r" b="b"/>
              <a:pathLst>
                <a:path w="512" h="61">
                  <a:moveTo>
                    <a:pt x="0" y="0"/>
                  </a:moveTo>
                  <a:lnTo>
                    <a:pt x="512" y="0"/>
                  </a:lnTo>
                  <a:lnTo>
                    <a:pt x="496" y="7"/>
                  </a:lnTo>
                  <a:lnTo>
                    <a:pt x="480" y="14"/>
                  </a:lnTo>
                  <a:lnTo>
                    <a:pt x="462" y="20"/>
                  </a:lnTo>
                  <a:lnTo>
                    <a:pt x="445" y="26"/>
                  </a:lnTo>
                  <a:lnTo>
                    <a:pt x="427" y="31"/>
                  </a:lnTo>
                  <a:lnTo>
                    <a:pt x="409" y="37"/>
                  </a:lnTo>
                  <a:lnTo>
                    <a:pt x="390" y="42"/>
                  </a:lnTo>
                  <a:lnTo>
                    <a:pt x="370" y="46"/>
                  </a:lnTo>
                  <a:lnTo>
                    <a:pt x="351" y="49"/>
                  </a:lnTo>
                  <a:lnTo>
                    <a:pt x="332" y="53"/>
                  </a:lnTo>
                  <a:lnTo>
                    <a:pt x="310" y="55"/>
                  </a:lnTo>
                  <a:lnTo>
                    <a:pt x="290" y="57"/>
                  </a:lnTo>
                  <a:lnTo>
                    <a:pt x="247" y="60"/>
                  </a:lnTo>
                  <a:lnTo>
                    <a:pt x="202" y="61"/>
                  </a:lnTo>
                  <a:lnTo>
                    <a:pt x="189" y="61"/>
                  </a:lnTo>
                  <a:lnTo>
                    <a:pt x="176" y="60"/>
                  </a:lnTo>
                  <a:lnTo>
                    <a:pt x="162" y="60"/>
                  </a:lnTo>
                  <a:lnTo>
                    <a:pt x="149" y="59"/>
                  </a:lnTo>
                  <a:lnTo>
                    <a:pt x="136" y="58"/>
                  </a:lnTo>
                  <a:lnTo>
                    <a:pt x="124" y="58"/>
                  </a:lnTo>
                  <a:lnTo>
                    <a:pt x="110" y="57"/>
                  </a:lnTo>
                  <a:lnTo>
                    <a:pt x="98" y="56"/>
                  </a:lnTo>
                  <a:lnTo>
                    <a:pt x="86" y="54"/>
                  </a:lnTo>
                  <a:lnTo>
                    <a:pt x="74" y="53"/>
                  </a:lnTo>
                  <a:lnTo>
                    <a:pt x="61" y="52"/>
                  </a:lnTo>
                  <a:lnTo>
                    <a:pt x="49" y="50"/>
                  </a:lnTo>
                  <a:lnTo>
                    <a:pt x="37" y="48"/>
                  </a:lnTo>
                  <a:lnTo>
                    <a:pt x="25" y="46"/>
                  </a:lnTo>
                  <a:lnTo>
                    <a:pt x="13" y="44"/>
                  </a:lnTo>
                  <a:lnTo>
                    <a:pt x="1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76680" y="5682960"/>
              <a:ext cx="179280" cy="20880"/>
            </a:xfrm>
            <a:custGeom>
              <a:avLst/>
              <a:gdLst/>
              <a:ahLst/>
              <a:rect l="l" t="t" r="r" b="b"/>
              <a:pathLst>
                <a:path w="566" h="62">
                  <a:moveTo>
                    <a:pt x="43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51" y="10"/>
                  </a:lnTo>
                  <a:lnTo>
                    <a:pt x="536" y="19"/>
                  </a:lnTo>
                  <a:lnTo>
                    <a:pt x="519" y="28"/>
                  </a:lnTo>
                  <a:lnTo>
                    <a:pt x="503" y="36"/>
                  </a:lnTo>
                  <a:lnTo>
                    <a:pt x="487" y="43"/>
                  </a:lnTo>
                  <a:lnTo>
                    <a:pt x="469" y="50"/>
                  </a:lnTo>
                  <a:lnTo>
                    <a:pt x="451" y="56"/>
                  </a:lnTo>
                  <a:lnTo>
                    <a:pt x="433" y="62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76680" y="5673600"/>
              <a:ext cx="193680" cy="20520"/>
            </a:xfrm>
            <a:custGeom>
              <a:avLst/>
              <a:gdLst/>
              <a:ahLst/>
              <a:rect l="l" t="t" r="r" b="b"/>
              <a:pathLst>
                <a:path w="609" h="62">
                  <a:moveTo>
                    <a:pt x="51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98" y="9"/>
                  </a:lnTo>
                  <a:lnTo>
                    <a:pt x="587" y="17"/>
                  </a:lnTo>
                  <a:lnTo>
                    <a:pt x="575" y="25"/>
                  </a:lnTo>
                  <a:lnTo>
                    <a:pt x="563" y="33"/>
                  </a:lnTo>
                  <a:lnTo>
                    <a:pt x="551" y="40"/>
                  </a:lnTo>
                  <a:lnTo>
                    <a:pt x="539" y="48"/>
                  </a:lnTo>
                  <a:lnTo>
                    <a:pt x="527" y="55"/>
                  </a:lnTo>
                  <a:lnTo>
                    <a:pt x="513" y="62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76680" y="5663880"/>
              <a:ext cx="204480" cy="19080"/>
            </a:xfrm>
            <a:custGeom>
              <a:avLst/>
              <a:gdLst/>
              <a:ahLst/>
              <a:rect l="l" t="t" r="r" b="b"/>
              <a:pathLst>
                <a:path w="644" h="61">
                  <a:moveTo>
                    <a:pt x="568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0" y="3"/>
                  </a:lnTo>
                  <a:lnTo>
                    <a:pt x="637" y="7"/>
                  </a:lnTo>
                  <a:lnTo>
                    <a:pt x="633" y="10"/>
                  </a:lnTo>
                  <a:lnTo>
                    <a:pt x="630" y="13"/>
                  </a:lnTo>
                  <a:lnTo>
                    <a:pt x="625" y="17"/>
                  </a:lnTo>
                  <a:lnTo>
                    <a:pt x="622" y="20"/>
                  </a:lnTo>
                  <a:lnTo>
                    <a:pt x="618" y="24"/>
                  </a:lnTo>
                  <a:lnTo>
                    <a:pt x="614" y="27"/>
                  </a:lnTo>
                  <a:lnTo>
                    <a:pt x="609" y="32"/>
                  </a:lnTo>
                  <a:lnTo>
                    <a:pt x="604" y="36"/>
                  </a:lnTo>
                  <a:lnTo>
                    <a:pt x="598" y="41"/>
                  </a:lnTo>
                  <a:lnTo>
                    <a:pt x="592" y="45"/>
                  </a:lnTo>
                  <a:lnTo>
                    <a:pt x="587" y="49"/>
                  </a:lnTo>
                  <a:lnTo>
                    <a:pt x="581" y="53"/>
                  </a:lnTo>
                  <a:lnTo>
                    <a:pt x="574" y="57"/>
                  </a:lnTo>
                  <a:lnTo>
                    <a:pt x="568" y="61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76680" y="5654520"/>
              <a:ext cx="212400" cy="19080"/>
            </a:xfrm>
            <a:custGeom>
              <a:avLst/>
              <a:gdLst/>
              <a:ahLst/>
              <a:rect l="l" t="t" r="r" b="b"/>
              <a:pathLst>
                <a:path w="671" h="62">
                  <a:moveTo>
                    <a:pt x="611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65" y="8"/>
                  </a:lnTo>
                  <a:lnTo>
                    <a:pt x="659" y="16"/>
                  </a:lnTo>
                  <a:lnTo>
                    <a:pt x="652" y="23"/>
                  </a:lnTo>
                  <a:lnTo>
                    <a:pt x="645" y="30"/>
                  </a:lnTo>
                  <a:lnTo>
                    <a:pt x="639" y="37"/>
                  </a:lnTo>
                  <a:lnTo>
                    <a:pt x="631" y="44"/>
                  </a:lnTo>
                  <a:lnTo>
                    <a:pt x="623" y="51"/>
                  </a:lnTo>
                  <a:lnTo>
                    <a:pt x="615" y="58"/>
                  </a:lnTo>
                  <a:lnTo>
                    <a:pt x="615" y="59"/>
                  </a:lnTo>
                  <a:lnTo>
                    <a:pt x="614" y="59"/>
                  </a:lnTo>
                  <a:lnTo>
                    <a:pt x="614" y="60"/>
                  </a:lnTo>
                  <a:lnTo>
                    <a:pt x="613" y="60"/>
                  </a:lnTo>
                  <a:lnTo>
                    <a:pt x="613" y="61"/>
                  </a:lnTo>
                  <a:lnTo>
                    <a:pt x="612" y="61"/>
                  </a:lnTo>
                  <a:lnTo>
                    <a:pt x="612" y="62"/>
                  </a:lnTo>
                  <a:lnTo>
                    <a:pt x="611" y="62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6680" y="5645160"/>
              <a:ext cx="218880" cy="18720"/>
            </a:xfrm>
            <a:custGeom>
              <a:avLst/>
              <a:gdLst/>
              <a:ahLst/>
              <a:rect l="l" t="t" r="r" b="b"/>
              <a:pathLst>
                <a:path w="694" h="62">
                  <a:moveTo>
                    <a:pt x="645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94" y="0"/>
                  </a:lnTo>
                  <a:lnTo>
                    <a:pt x="689" y="8"/>
                  </a:lnTo>
                  <a:lnTo>
                    <a:pt x="683" y="16"/>
                  </a:lnTo>
                  <a:lnTo>
                    <a:pt x="676" y="24"/>
                  </a:lnTo>
                  <a:lnTo>
                    <a:pt x="670" y="33"/>
                  </a:lnTo>
                  <a:lnTo>
                    <a:pt x="664" y="40"/>
                  </a:lnTo>
                  <a:lnTo>
                    <a:pt x="658" y="47"/>
                  </a:lnTo>
                  <a:lnTo>
                    <a:pt x="651" y="55"/>
                  </a:lnTo>
                  <a:lnTo>
                    <a:pt x="645" y="62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4880" y="5635440"/>
              <a:ext cx="227160" cy="19080"/>
            </a:xfrm>
            <a:custGeom>
              <a:avLst/>
              <a:gdLst/>
              <a:ahLst/>
              <a:rect l="l" t="t" r="r" b="b"/>
              <a:pathLst>
                <a:path w="713" h="62">
                  <a:moveTo>
                    <a:pt x="67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708" y="8"/>
                  </a:lnTo>
                  <a:lnTo>
                    <a:pt x="704" y="17"/>
                  </a:lnTo>
                  <a:lnTo>
                    <a:pt x="699" y="25"/>
                  </a:lnTo>
                  <a:lnTo>
                    <a:pt x="694" y="32"/>
                  </a:lnTo>
                  <a:lnTo>
                    <a:pt x="689" y="40"/>
                  </a:lnTo>
                  <a:lnTo>
                    <a:pt x="684" y="47"/>
                  </a:lnTo>
                  <a:lnTo>
                    <a:pt x="678" y="54"/>
                  </a:lnTo>
                  <a:lnTo>
                    <a:pt x="672" y="62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4880" y="5626080"/>
              <a:ext cx="231840" cy="19080"/>
            </a:xfrm>
            <a:custGeom>
              <a:avLst/>
              <a:gdLst/>
              <a:ahLst/>
              <a:rect l="l" t="t" r="r" b="b"/>
              <a:pathLst>
                <a:path w="728" h="61">
                  <a:moveTo>
                    <a:pt x="696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28" y="0"/>
                  </a:lnTo>
                  <a:lnTo>
                    <a:pt x="725" y="8"/>
                  </a:lnTo>
                  <a:lnTo>
                    <a:pt x="721" y="16"/>
                  </a:lnTo>
                  <a:lnTo>
                    <a:pt x="717" y="23"/>
                  </a:lnTo>
                  <a:lnTo>
                    <a:pt x="713" y="31"/>
                  </a:lnTo>
                  <a:lnTo>
                    <a:pt x="709" y="38"/>
                  </a:lnTo>
                  <a:lnTo>
                    <a:pt x="705" y="47"/>
                  </a:lnTo>
                  <a:lnTo>
                    <a:pt x="701" y="54"/>
                  </a:lnTo>
                  <a:lnTo>
                    <a:pt x="696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74880" y="5614920"/>
              <a:ext cx="235080" cy="20520"/>
            </a:xfrm>
            <a:custGeom>
              <a:avLst/>
              <a:gdLst/>
              <a:ahLst/>
              <a:rect l="l" t="t" r="r" b="b"/>
              <a:pathLst>
                <a:path w="741" h="61">
                  <a:moveTo>
                    <a:pt x="715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39" y="7"/>
                  </a:lnTo>
                  <a:lnTo>
                    <a:pt x="736" y="15"/>
                  </a:lnTo>
                  <a:lnTo>
                    <a:pt x="732" y="24"/>
                  </a:lnTo>
                  <a:lnTo>
                    <a:pt x="729" y="32"/>
                  </a:lnTo>
                  <a:lnTo>
                    <a:pt x="725" y="39"/>
                  </a:lnTo>
                  <a:lnTo>
                    <a:pt x="722" y="47"/>
                  </a:lnTo>
                  <a:lnTo>
                    <a:pt x="718" y="54"/>
                  </a:lnTo>
                  <a:lnTo>
                    <a:pt x="715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4880" y="5605200"/>
              <a:ext cx="238320" cy="20880"/>
            </a:xfrm>
            <a:custGeom>
              <a:avLst/>
              <a:gdLst/>
              <a:ahLst/>
              <a:rect l="l" t="t" r="r" b="b"/>
              <a:pathLst>
                <a:path w="750" h="62">
                  <a:moveTo>
                    <a:pt x="729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0" y="0"/>
                  </a:lnTo>
                  <a:lnTo>
                    <a:pt x="748" y="8"/>
                  </a:lnTo>
                  <a:lnTo>
                    <a:pt x="746" y="16"/>
                  </a:lnTo>
                  <a:lnTo>
                    <a:pt x="744" y="24"/>
                  </a:lnTo>
                  <a:lnTo>
                    <a:pt x="741" y="31"/>
                  </a:lnTo>
                  <a:lnTo>
                    <a:pt x="739" y="39"/>
                  </a:lnTo>
                  <a:lnTo>
                    <a:pt x="736" y="46"/>
                  </a:lnTo>
                  <a:lnTo>
                    <a:pt x="732" y="55"/>
                  </a:lnTo>
                  <a:lnTo>
                    <a:pt x="729" y="62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74880" y="5595840"/>
              <a:ext cx="239760" cy="19080"/>
            </a:xfrm>
            <a:custGeom>
              <a:avLst/>
              <a:gdLst/>
              <a:ahLst/>
              <a:rect l="l" t="t" r="r" b="b"/>
              <a:pathLst>
                <a:path w="758" h="62">
                  <a:moveTo>
                    <a:pt x="74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8" y="0"/>
                  </a:lnTo>
                  <a:lnTo>
                    <a:pt x="757" y="8"/>
                  </a:lnTo>
                  <a:lnTo>
                    <a:pt x="755" y="16"/>
                  </a:lnTo>
                  <a:lnTo>
                    <a:pt x="753" y="23"/>
                  </a:lnTo>
                  <a:lnTo>
                    <a:pt x="751" y="32"/>
                  </a:lnTo>
                  <a:lnTo>
                    <a:pt x="749" y="40"/>
                  </a:lnTo>
                  <a:lnTo>
                    <a:pt x="747" y="47"/>
                  </a:lnTo>
                  <a:lnTo>
                    <a:pt x="745" y="54"/>
                  </a:lnTo>
                  <a:lnTo>
                    <a:pt x="742" y="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74880" y="5586120"/>
              <a:ext cx="241200" cy="19080"/>
            </a:xfrm>
            <a:custGeom>
              <a:avLst/>
              <a:gdLst/>
              <a:ahLst/>
              <a:rect l="l" t="t" r="r" b="b"/>
              <a:pathLst>
                <a:path w="764" h="62">
                  <a:moveTo>
                    <a:pt x="752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5"/>
                  </a:lnTo>
                  <a:lnTo>
                    <a:pt x="122" y="8"/>
                  </a:lnTo>
                  <a:lnTo>
                    <a:pt x="132" y="9"/>
                  </a:lnTo>
                  <a:lnTo>
                    <a:pt x="141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6" y="10"/>
                  </a:lnTo>
                  <a:lnTo>
                    <a:pt x="174" y="9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8" y="5"/>
                  </a:lnTo>
                  <a:lnTo>
                    <a:pt x="205" y="4"/>
                  </a:lnTo>
                  <a:lnTo>
                    <a:pt x="212" y="2"/>
                  </a:lnTo>
                  <a:lnTo>
                    <a:pt x="219" y="0"/>
                  </a:lnTo>
                  <a:lnTo>
                    <a:pt x="764" y="0"/>
                  </a:lnTo>
                  <a:lnTo>
                    <a:pt x="763" y="9"/>
                  </a:lnTo>
                  <a:lnTo>
                    <a:pt x="762" y="16"/>
                  </a:lnTo>
                  <a:lnTo>
                    <a:pt x="760" y="24"/>
                  </a:lnTo>
                  <a:lnTo>
                    <a:pt x="759" y="32"/>
                  </a:lnTo>
                  <a:lnTo>
                    <a:pt x="758" y="39"/>
                  </a:lnTo>
                  <a:lnTo>
                    <a:pt x="756" y="47"/>
                  </a:lnTo>
                  <a:lnTo>
                    <a:pt x="754" y="54"/>
                  </a:lnTo>
                  <a:lnTo>
                    <a:pt x="752" y="62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73440" y="5576760"/>
              <a:ext cx="244440" cy="19080"/>
            </a:xfrm>
            <a:custGeom>
              <a:avLst/>
              <a:gdLst/>
              <a:ahLst/>
              <a:rect l="l" t="t" r="r" b="b"/>
              <a:pathLst>
                <a:path w="768" h="61">
                  <a:moveTo>
                    <a:pt x="760" y="61"/>
                  </a:moveTo>
                  <a:lnTo>
                    <a:pt x="2" y="61"/>
                  </a:lnTo>
                  <a:lnTo>
                    <a:pt x="0" y="2"/>
                  </a:lnTo>
                  <a:lnTo>
                    <a:pt x="11" y="7"/>
                  </a:lnTo>
                  <a:lnTo>
                    <a:pt x="22" y="11"/>
                  </a:lnTo>
                  <a:lnTo>
                    <a:pt x="33" y="14"/>
                  </a:lnTo>
                  <a:lnTo>
                    <a:pt x="43" y="18"/>
                  </a:lnTo>
                  <a:lnTo>
                    <a:pt x="53" y="21"/>
                  </a:lnTo>
                  <a:lnTo>
                    <a:pt x="63" y="24"/>
                  </a:lnTo>
                  <a:lnTo>
                    <a:pt x="73" y="27"/>
                  </a:lnTo>
                  <a:lnTo>
                    <a:pt x="84" y="29"/>
                  </a:lnTo>
                  <a:lnTo>
                    <a:pt x="94" y="32"/>
                  </a:lnTo>
                  <a:lnTo>
                    <a:pt x="103" y="34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2" y="39"/>
                  </a:lnTo>
                  <a:lnTo>
                    <a:pt x="141" y="39"/>
                  </a:lnTo>
                  <a:lnTo>
                    <a:pt x="150" y="40"/>
                  </a:lnTo>
                  <a:lnTo>
                    <a:pt x="159" y="40"/>
                  </a:lnTo>
                  <a:lnTo>
                    <a:pt x="174" y="39"/>
                  </a:lnTo>
                  <a:lnTo>
                    <a:pt x="190" y="38"/>
                  </a:lnTo>
                  <a:lnTo>
                    <a:pt x="204" y="34"/>
                  </a:lnTo>
                  <a:lnTo>
                    <a:pt x="217" y="31"/>
                  </a:lnTo>
                  <a:lnTo>
                    <a:pt x="231" y="26"/>
                  </a:lnTo>
                  <a:lnTo>
                    <a:pt x="242" y="20"/>
                  </a:lnTo>
                  <a:lnTo>
                    <a:pt x="253" y="14"/>
                  </a:lnTo>
                  <a:lnTo>
                    <a:pt x="264" y="6"/>
                  </a:lnTo>
                  <a:lnTo>
                    <a:pt x="265" y="5"/>
                  </a:lnTo>
                  <a:lnTo>
                    <a:pt x="266" y="4"/>
                  </a:lnTo>
                  <a:lnTo>
                    <a:pt x="267" y="4"/>
                  </a:lnTo>
                  <a:lnTo>
                    <a:pt x="267" y="3"/>
                  </a:lnTo>
                  <a:lnTo>
                    <a:pt x="268" y="2"/>
                  </a:lnTo>
                  <a:lnTo>
                    <a:pt x="269" y="1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768" y="0"/>
                  </a:lnTo>
                  <a:lnTo>
                    <a:pt x="767" y="7"/>
                  </a:lnTo>
                  <a:lnTo>
                    <a:pt x="767" y="15"/>
                  </a:lnTo>
                  <a:lnTo>
                    <a:pt x="766" y="23"/>
                  </a:lnTo>
                  <a:lnTo>
                    <a:pt x="765" y="30"/>
                  </a:lnTo>
                  <a:lnTo>
                    <a:pt x="764" y="39"/>
                  </a:lnTo>
                  <a:lnTo>
                    <a:pt x="763" y="46"/>
                  </a:lnTo>
                  <a:lnTo>
                    <a:pt x="761" y="54"/>
                  </a:lnTo>
                  <a:lnTo>
                    <a:pt x="760" y="6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3440" y="5565600"/>
              <a:ext cx="244440" cy="20520"/>
            </a:xfrm>
            <a:custGeom>
              <a:avLst/>
              <a:gdLst/>
              <a:ahLst/>
              <a:rect l="l" t="t" r="r" b="b"/>
              <a:pathLst>
                <a:path w="769" h="62">
                  <a:moveTo>
                    <a:pt x="765" y="62"/>
                  </a:moveTo>
                  <a:lnTo>
                    <a:pt x="220" y="62"/>
                  </a:lnTo>
                  <a:lnTo>
                    <a:pt x="226" y="60"/>
                  </a:lnTo>
                  <a:lnTo>
                    <a:pt x="232" y="57"/>
                  </a:lnTo>
                  <a:lnTo>
                    <a:pt x="238" y="55"/>
                  </a:lnTo>
                  <a:lnTo>
                    <a:pt x="244" y="52"/>
                  </a:lnTo>
                  <a:lnTo>
                    <a:pt x="249" y="49"/>
                  </a:lnTo>
                  <a:lnTo>
                    <a:pt x="254" y="45"/>
                  </a:lnTo>
                  <a:lnTo>
                    <a:pt x="259" y="42"/>
                  </a:lnTo>
                  <a:lnTo>
                    <a:pt x="264" y="38"/>
                  </a:lnTo>
                  <a:lnTo>
                    <a:pt x="269" y="34"/>
                  </a:lnTo>
                  <a:lnTo>
                    <a:pt x="273" y="30"/>
                  </a:lnTo>
                  <a:lnTo>
                    <a:pt x="277" y="25"/>
                  </a:lnTo>
                  <a:lnTo>
                    <a:pt x="282" y="21"/>
                  </a:lnTo>
                  <a:lnTo>
                    <a:pt x="286" y="15"/>
                  </a:lnTo>
                  <a:lnTo>
                    <a:pt x="289" y="10"/>
                  </a:lnTo>
                  <a:lnTo>
                    <a:pt x="292" y="5"/>
                  </a:lnTo>
                  <a:lnTo>
                    <a:pt x="295" y="0"/>
                  </a:lnTo>
                  <a:lnTo>
                    <a:pt x="769" y="0"/>
                  </a:lnTo>
                  <a:lnTo>
                    <a:pt x="769" y="8"/>
                  </a:lnTo>
                  <a:lnTo>
                    <a:pt x="769" y="17"/>
                  </a:lnTo>
                  <a:lnTo>
                    <a:pt x="768" y="25"/>
                  </a:lnTo>
                  <a:lnTo>
                    <a:pt x="768" y="32"/>
                  </a:lnTo>
                  <a:lnTo>
                    <a:pt x="767" y="40"/>
                  </a:lnTo>
                  <a:lnTo>
                    <a:pt x="767" y="47"/>
                  </a:lnTo>
                  <a:lnTo>
                    <a:pt x="766" y="55"/>
                  </a:lnTo>
                  <a:lnTo>
                    <a:pt x="765" y="62"/>
                  </a:lnTo>
                  <a:close/>
                  <a:moveTo>
                    <a:pt x="86" y="62"/>
                  </a:moveTo>
                  <a:lnTo>
                    <a:pt x="1" y="62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22" y="43"/>
                  </a:lnTo>
                  <a:lnTo>
                    <a:pt x="33" y="46"/>
                  </a:lnTo>
                  <a:lnTo>
                    <a:pt x="43" y="50"/>
                  </a:lnTo>
                  <a:lnTo>
                    <a:pt x="53" y="53"/>
                  </a:lnTo>
                  <a:lnTo>
                    <a:pt x="63" y="56"/>
                  </a:lnTo>
                  <a:lnTo>
                    <a:pt x="73" y="59"/>
                  </a:lnTo>
                  <a:lnTo>
                    <a:pt x="84" y="61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0560" y="5556240"/>
              <a:ext cx="157320" cy="20520"/>
            </a:xfrm>
            <a:custGeom>
              <a:avLst/>
              <a:gdLst/>
              <a:ahLst/>
              <a:rect l="l" t="t" r="r" b="b"/>
              <a:pathLst>
                <a:path w="499" h="62">
                  <a:moveTo>
                    <a:pt x="497" y="62"/>
                  </a:moveTo>
                  <a:lnTo>
                    <a:pt x="0" y="62"/>
                  </a:lnTo>
                  <a:lnTo>
                    <a:pt x="6" y="55"/>
                  </a:lnTo>
                  <a:lnTo>
                    <a:pt x="13" y="48"/>
                  </a:lnTo>
                  <a:lnTo>
                    <a:pt x="18" y="40"/>
                  </a:lnTo>
                  <a:lnTo>
                    <a:pt x="22" y="33"/>
                  </a:lnTo>
                  <a:lnTo>
                    <a:pt x="26" y="25"/>
                  </a:lnTo>
                  <a:lnTo>
                    <a:pt x="29" y="17"/>
                  </a:lnTo>
                  <a:lnTo>
                    <a:pt x="31" y="9"/>
                  </a:lnTo>
                  <a:lnTo>
                    <a:pt x="33" y="0"/>
                  </a:lnTo>
                  <a:lnTo>
                    <a:pt x="498" y="0"/>
                  </a:lnTo>
                  <a:lnTo>
                    <a:pt x="498" y="2"/>
                  </a:lnTo>
                  <a:lnTo>
                    <a:pt x="498" y="3"/>
                  </a:lnTo>
                  <a:lnTo>
                    <a:pt x="498" y="5"/>
                  </a:lnTo>
                  <a:lnTo>
                    <a:pt x="498" y="6"/>
                  </a:lnTo>
                  <a:lnTo>
                    <a:pt x="498" y="8"/>
                  </a:lnTo>
                  <a:lnTo>
                    <a:pt x="498" y="10"/>
                  </a:lnTo>
                  <a:lnTo>
                    <a:pt x="498" y="11"/>
                  </a:lnTo>
                  <a:lnTo>
                    <a:pt x="499" y="13"/>
                  </a:lnTo>
                  <a:lnTo>
                    <a:pt x="499" y="16"/>
                  </a:lnTo>
                  <a:lnTo>
                    <a:pt x="498" y="22"/>
                  </a:lnTo>
                  <a:lnTo>
                    <a:pt x="498" y="28"/>
                  </a:lnTo>
                  <a:lnTo>
                    <a:pt x="498" y="33"/>
                  </a:lnTo>
                  <a:lnTo>
                    <a:pt x="498" y="39"/>
                  </a:lnTo>
                  <a:lnTo>
                    <a:pt x="498" y="44"/>
                  </a:lnTo>
                  <a:lnTo>
                    <a:pt x="498" y="51"/>
                  </a:lnTo>
                  <a:lnTo>
                    <a:pt x="497" y="56"/>
                  </a:lnTo>
                  <a:lnTo>
                    <a:pt x="497" y="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5546520"/>
              <a:ext cx="150840" cy="19080"/>
            </a:xfrm>
            <a:custGeom>
              <a:avLst/>
              <a:gdLst/>
              <a:ahLst/>
              <a:rect l="l" t="t" r="r" b="b"/>
              <a:pathLst>
                <a:path w="475" h="61">
                  <a:moveTo>
                    <a:pt x="474" y="61"/>
                  </a:moveTo>
                  <a:lnTo>
                    <a:pt x="0" y="61"/>
                  </a:lnTo>
                  <a:lnTo>
                    <a:pt x="2" y="56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7" y="40"/>
                  </a:lnTo>
                  <a:lnTo>
                    <a:pt x="8" y="34"/>
                  </a:lnTo>
                  <a:lnTo>
                    <a:pt x="9" y="28"/>
                  </a:lnTo>
                  <a:lnTo>
                    <a:pt x="9" y="21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0"/>
                  </a:lnTo>
                  <a:lnTo>
                    <a:pt x="472" y="0"/>
                  </a:lnTo>
                  <a:lnTo>
                    <a:pt x="473" y="5"/>
                  </a:lnTo>
                  <a:lnTo>
                    <a:pt x="473" y="11"/>
                  </a:lnTo>
                  <a:lnTo>
                    <a:pt x="474" y="16"/>
                  </a:lnTo>
                  <a:lnTo>
                    <a:pt x="474" y="21"/>
                  </a:lnTo>
                  <a:lnTo>
                    <a:pt x="474" y="28"/>
                  </a:lnTo>
                  <a:lnTo>
                    <a:pt x="474" y="33"/>
                  </a:lnTo>
                  <a:lnTo>
                    <a:pt x="474" y="38"/>
                  </a:lnTo>
                  <a:lnTo>
                    <a:pt x="475" y="44"/>
                  </a:lnTo>
                  <a:lnTo>
                    <a:pt x="475" y="47"/>
                  </a:lnTo>
                  <a:lnTo>
                    <a:pt x="474" y="49"/>
                  </a:lnTo>
                  <a:lnTo>
                    <a:pt x="474" y="51"/>
                  </a:lnTo>
                  <a:lnTo>
                    <a:pt x="474" y="53"/>
                  </a:lnTo>
                  <a:lnTo>
                    <a:pt x="474" y="54"/>
                  </a:lnTo>
                  <a:lnTo>
                    <a:pt x="474" y="56"/>
                  </a:lnTo>
                  <a:lnTo>
                    <a:pt x="474" y="58"/>
                  </a:lnTo>
                  <a:lnTo>
                    <a:pt x="474" y="60"/>
                  </a:lnTo>
                  <a:lnTo>
                    <a:pt x="47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67040" y="553716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2">
                  <a:moveTo>
                    <a:pt x="476" y="62"/>
                  </a:moveTo>
                  <a:lnTo>
                    <a:pt x="11" y="62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1" y="41"/>
                  </a:lnTo>
                  <a:lnTo>
                    <a:pt x="11" y="36"/>
                  </a:lnTo>
                  <a:lnTo>
                    <a:pt x="10" y="30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5" y="13"/>
                  </a:lnTo>
                  <a:lnTo>
                    <a:pt x="3" y="7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2" y="8"/>
                  </a:lnTo>
                  <a:lnTo>
                    <a:pt x="473" y="16"/>
                  </a:lnTo>
                  <a:lnTo>
                    <a:pt x="474" y="23"/>
                  </a:lnTo>
                  <a:lnTo>
                    <a:pt x="474" y="31"/>
                  </a:lnTo>
                  <a:lnTo>
                    <a:pt x="475" y="38"/>
                  </a:lnTo>
                  <a:lnTo>
                    <a:pt x="476" y="46"/>
                  </a:lnTo>
                  <a:lnTo>
                    <a:pt x="476" y="53"/>
                  </a:lnTo>
                  <a:lnTo>
                    <a:pt x="476" y="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0560" y="5527440"/>
              <a:ext cx="1573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28" y="62"/>
                  </a:lnTo>
                  <a:lnTo>
                    <a:pt x="27" y="55"/>
                  </a:lnTo>
                  <a:lnTo>
                    <a:pt x="25" y="48"/>
                  </a:lnTo>
                  <a:lnTo>
                    <a:pt x="22" y="41"/>
                  </a:lnTo>
                  <a:lnTo>
                    <a:pt x="19" y="32"/>
                  </a:lnTo>
                  <a:lnTo>
                    <a:pt x="15" y="24"/>
                  </a:lnTo>
                  <a:lnTo>
                    <a:pt x="11" y="17"/>
                  </a:lnTo>
                  <a:lnTo>
                    <a:pt x="6" y="9"/>
                  </a:lnTo>
                  <a:lnTo>
                    <a:pt x="0" y="0"/>
                  </a:lnTo>
                  <a:lnTo>
                    <a:pt x="483" y="0"/>
                  </a:lnTo>
                  <a:lnTo>
                    <a:pt x="485" y="8"/>
                  </a:lnTo>
                  <a:lnTo>
                    <a:pt x="486" y="15"/>
                  </a:lnTo>
                  <a:lnTo>
                    <a:pt x="488" y="23"/>
                  </a:lnTo>
                  <a:lnTo>
                    <a:pt x="489" y="30"/>
                  </a:lnTo>
                  <a:lnTo>
                    <a:pt x="490" y="39"/>
                  </a:lnTo>
                  <a:lnTo>
                    <a:pt x="491" y="47"/>
                  </a:lnTo>
                  <a:lnTo>
                    <a:pt x="492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4440" y="5518080"/>
              <a:ext cx="161640" cy="19080"/>
            </a:xfrm>
            <a:custGeom>
              <a:avLst/>
              <a:gdLst/>
              <a:ahLst/>
              <a:rect l="l" t="t" r="r" b="b"/>
              <a:pathLst>
                <a:path w="512" h="62">
                  <a:moveTo>
                    <a:pt x="512" y="62"/>
                  </a:moveTo>
                  <a:lnTo>
                    <a:pt x="41" y="62"/>
                  </a:lnTo>
                  <a:lnTo>
                    <a:pt x="38" y="55"/>
                  </a:lnTo>
                  <a:lnTo>
                    <a:pt x="34" y="47"/>
                  </a:lnTo>
                  <a:lnTo>
                    <a:pt x="30" y="40"/>
                  </a:lnTo>
                  <a:lnTo>
                    <a:pt x="24" y="33"/>
                  </a:lnTo>
                  <a:lnTo>
                    <a:pt x="19" y="25"/>
                  </a:lnTo>
                  <a:lnTo>
                    <a:pt x="13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501" y="8"/>
                  </a:lnTo>
                  <a:lnTo>
                    <a:pt x="503" y="16"/>
                  </a:lnTo>
                  <a:lnTo>
                    <a:pt x="504" y="24"/>
                  </a:lnTo>
                  <a:lnTo>
                    <a:pt x="506" y="31"/>
                  </a:lnTo>
                  <a:lnTo>
                    <a:pt x="508" y="39"/>
                  </a:lnTo>
                  <a:lnTo>
                    <a:pt x="509" y="46"/>
                  </a:lnTo>
                  <a:lnTo>
                    <a:pt x="511" y="54"/>
                  </a:lnTo>
                  <a:lnTo>
                    <a:pt x="512" y="6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508360"/>
              <a:ext cx="169920" cy="19080"/>
            </a:xfrm>
            <a:custGeom>
              <a:avLst/>
              <a:gdLst/>
              <a:ahLst/>
              <a:rect l="l" t="t" r="r" b="b"/>
              <a:pathLst>
                <a:path w="535" h="61">
                  <a:moveTo>
                    <a:pt x="535" y="61"/>
                  </a:moveTo>
                  <a:lnTo>
                    <a:pt x="52" y="61"/>
                  </a:lnTo>
                  <a:lnTo>
                    <a:pt x="47" y="54"/>
                  </a:lnTo>
                  <a:lnTo>
                    <a:pt x="42" y="47"/>
                  </a:lnTo>
                  <a:lnTo>
                    <a:pt x="36" y="39"/>
                  </a:lnTo>
                  <a:lnTo>
                    <a:pt x="30" y="31"/>
                  </a:lnTo>
                  <a:lnTo>
                    <a:pt x="23" y="24"/>
                  </a:lnTo>
                  <a:lnTo>
                    <a:pt x="16" y="16"/>
                  </a:lnTo>
                  <a:lnTo>
                    <a:pt x="9" y="8"/>
                  </a:lnTo>
                  <a:lnTo>
                    <a:pt x="0" y="0"/>
                  </a:lnTo>
                  <a:lnTo>
                    <a:pt x="518" y="0"/>
                  </a:lnTo>
                  <a:lnTo>
                    <a:pt x="520" y="7"/>
                  </a:lnTo>
                  <a:lnTo>
                    <a:pt x="523" y="15"/>
                  </a:lnTo>
                  <a:lnTo>
                    <a:pt x="525" y="22"/>
                  </a:lnTo>
                  <a:lnTo>
                    <a:pt x="527" y="30"/>
                  </a:lnTo>
                  <a:lnTo>
                    <a:pt x="530" y="37"/>
                  </a:lnTo>
                  <a:lnTo>
                    <a:pt x="532" y="46"/>
                  </a:lnTo>
                  <a:lnTo>
                    <a:pt x="533" y="54"/>
                  </a:lnTo>
                  <a:lnTo>
                    <a:pt x="535" y="6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35360" y="5497200"/>
              <a:ext cx="177840" cy="20880"/>
            </a:xfrm>
            <a:custGeom>
              <a:avLst/>
              <a:gdLst/>
              <a:ahLst/>
              <a:rect l="l" t="t" r="r" b="b"/>
              <a:pathLst>
                <a:path w="559" h="61">
                  <a:moveTo>
                    <a:pt x="559" y="61"/>
                  </a:moveTo>
                  <a:lnTo>
                    <a:pt x="60" y="61"/>
                  </a:lnTo>
                  <a:lnTo>
                    <a:pt x="54" y="54"/>
                  </a:lnTo>
                  <a:lnTo>
                    <a:pt x="48" y="47"/>
                  </a:lnTo>
                  <a:lnTo>
                    <a:pt x="41" y="40"/>
                  </a:lnTo>
                  <a:lnTo>
                    <a:pt x="33" y="33"/>
                  </a:lnTo>
                  <a:lnTo>
                    <a:pt x="26" y="25"/>
                  </a:lnTo>
                  <a:lnTo>
                    <a:pt x="18" y="17"/>
                  </a:lnTo>
                  <a:lnTo>
                    <a:pt x="10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39" y="7"/>
                  </a:lnTo>
                  <a:lnTo>
                    <a:pt x="542" y="15"/>
                  </a:lnTo>
                  <a:lnTo>
                    <a:pt x="546" y="23"/>
                  </a:lnTo>
                  <a:lnTo>
                    <a:pt x="549" y="31"/>
                  </a:lnTo>
                  <a:lnTo>
                    <a:pt x="551" y="38"/>
                  </a:lnTo>
                  <a:lnTo>
                    <a:pt x="554" y="46"/>
                  </a:lnTo>
                  <a:lnTo>
                    <a:pt x="556" y="54"/>
                  </a:lnTo>
                  <a:lnTo>
                    <a:pt x="559" y="6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4200" y="5487840"/>
              <a:ext cx="185760" cy="20520"/>
            </a:xfrm>
            <a:custGeom>
              <a:avLst/>
              <a:gdLst/>
              <a:ahLst/>
              <a:rect l="l" t="t" r="r" b="b"/>
              <a:pathLst>
                <a:path w="583" h="62">
                  <a:moveTo>
                    <a:pt x="583" y="62"/>
                  </a:moveTo>
                  <a:lnTo>
                    <a:pt x="65" y="62"/>
                  </a:lnTo>
                  <a:lnTo>
                    <a:pt x="62" y="59"/>
                  </a:lnTo>
                  <a:lnTo>
                    <a:pt x="58" y="55"/>
                  </a:lnTo>
                  <a:lnTo>
                    <a:pt x="55" y="52"/>
                  </a:lnTo>
                  <a:lnTo>
                    <a:pt x="51" y="47"/>
                  </a:lnTo>
                  <a:lnTo>
                    <a:pt x="48" y="44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36" y="33"/>
                  </a:lnTo>
                  <a:lnTo>
                    <a:pt x="31" y="28"/>
                  </a:lnTo>
                  <a:lnTo>
                    <a:pt x="26" y="24"/>
                  </a:lnTo>
                  <a:lnTo>
                    <a:pt x="22" y="2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6" y="3"/>
                  </a:lnTo>
                  <a:lnTo>
                    <a:pt x="558" y="6"/>
                  </a:lnTo>
                  <a:lnTo>
                    <a:pt x="559" y="9"/>
                  </a:lnTo>
                  <a:lnTo>
                    <a:pt x="561" y="12"/>
                  </a:lnTo>
                  <a:lnTo>
                    <a:pt x="562" y="15"/>
                  </a:lnTo>
                  <a:lnTo>
                    <a:pt x="563" y="18"/>
                  </a:lnTo>
                  <a:lnTo>
                    <a:pt x="565" y="21"/>
                  </a:lnTo>
                  <a:lnTo>
                    <a:pt x="566" y="24"/>
                  </a:lnTo>
                  <a:lnTo>
                    <a:pt x="568" y="29"/>
                  </a:lnTo>
                  <a:lnTo>
                    <a:pt x="570" y="33"/>
                  </a:lnTo>
                  <a:lnTo>
                    <a:pt x="572" y="38"/>
                  </a:lnTo>
                  <a:lnTo>
                    <a:pt x="574" y="42"/>
                  </a:lnTo>
                  <a:lnTo>
                    <a:pt x="576" y="47"/>
                  </a:lnTo>
                  <a:lnTo>
                    <a:pt x="578" y="53"/>
                  </a:lnTo>
                  <a:lnTo>
                    <a:pt x="581" y="57"/>
                  </a:lnTo>
                  <a:lnTo>
                    <a:pt x="583" y="6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480" y="5478480"/>
              <a:ext cx="190800" cy="18720"/>
            </a:xfrm>
            <a:custGeom>
              <a:avLst/>
              <a:gdLst/>
              <a:ahLst/>
              <a:rect l="l" t="t" r="r" b="b"/>
              <a:pathLst>
                <a:path w="599" h="62">
                  <a:moveTo>
                    <a:pt x="599" y="62"/>
                  </a:moveTo>
                  <a:lnTo>
                    <a:pt x="64" y="62"/>
                  </a:lnTo>
                  <a:lnTo>
                    <a:pt x="55" y="54"/>
                  </a:lnTo>
                  <a:lnTo>
                    <a:pt x="46" y="46"/>
                  </a:lnTo>
                  <a:lnTo>
                    <a:pt x="38" y="39"/>
                  </a:lnTo>
                  <a:lnTo>
                    <a:pt x="31" y="33"/>
                  </a:lnTo>
                  <a:lnTo>
                    <a:pt x="25" y="25"/>
                  </a:lnTo>
                  <a:lnTo>
                    <a:pt x="19" y="20"/>
                  </a:lnTo>
                  <a:lnTo>
                    <a:pt x="13" y="14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567" y="0"/>
                  </a:lnTo>
                  <a:lnTo>
                    <a:pt x="571" y="7"/>
                  </a:lnTo>
                  <a:lnTo>
                    <a:pt x="575" y="13"/>
                  </a:lnTo>
                  <a:lnTo>
                    <a:pt x="579" y="20"/>
                  </a:lnTo>
                  <a:lnTo>
                    <a:pt x="583" y="27"/>
                  </a:lnTo>
                  <a:lnTo>
                    <a:pt x="586" y="34"/>
                  </a:lnTo>
                  <a:lnTo>
                    <a:pt x="590" y="41"/>
                  </a:lnTo>
                  <a:lnTo>
                    <a:pt x="593" y="48"/>
                  </a:lnTo>
                  <a:lnTo>
                    <a:pt x="596" y="55"/>
                  </a:lnTo>
                  <a:lnTo>
                    <a:pt x="597" y="56"/>
                  </a:lnTo>
                  <a:lnTo>
                    <a:pt x="597" y="57"/>
                  </a:lnTo>
                  <a:lnTo>
                    <a:pt x="597" y="57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9" y="60"/>
                  </a:lnTo>
                  <a:lnTo>
                    <a:pt x="599" y="61"/>
                  </a:lnTo>
                  <a:lnTo>
                    <a:pt x="599" y="6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5120" y="5468760"/>
              <a:ext cx="195120" cy="19080"/>
            </a:xfrm>
            <a:custGeom>
              <a:avLst/>
              <a:gdLst/>
              <a:ahLst/>
              <a:rect l="l" t="t" r="r" b="b"/>
              <a:pathLst>
                <a:path w="614" h="62">
                  <a:moveTo>
                    <a:pt x="614" y="62"/>
                  </a:moveTo>
                  <a:lnTo>
                    <a:pt x="59" y="62"/>
                  </a:lnTo>
                  <a:lnTo>
                    <a:pt x="56" y="58"/>
                  </a:lnTo>
                  <a:lnTo>
                    <a:pt x="53" y="56"/>
                  </a:lnTo>
                  <a:lnTo>
                    <a:pt x="50" y="53"/>
                  </a:lnTo>
                  <a:lnTo>
                    <a:pt x="47" y="50"/>
                  </a:lnTo>
                  <a:lnTo>
                    <a:pt x="45" y="47"/>
                  </a:lnTo>
                  <a:lnTo>
                    <a:pt x="42" y="45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2" y="35"/>
                  </a:lnTo>
                  <a:lnTo>
                    <a:pt x="28" y="30"/>
                  </a:lnTo>
                  <a:lnTo>
                    <a:pt x="22" y="25"/>
                  </a:lnTo>
                  <a:lnTo>
                    <a:pt x="18" y="21"/>
                  </a:lnTo>
                  <a:lnTo>
                    <a:pt x="13" y="16"/>
                  </a:lnTo>
                  <a:lnTo>
                    <a:pt x="9" y="11"/>
                  </a:lnTo>
                  <a:lnTo>
                    <a:pt x="5" y="5"/>
                  </a:lnTo>
                  <a:lnTo>
                    <a:pt x="0" y="0"/>
                  </a:lnTo>
                  <a:lnTo>
                    <a:pt x="575" y="0"/>
                  </a:lnTo>
                  <a:lnTo>
                    <a:pt x="580" y="7"/>
                  </a:lnTo>
                  <a:lnTo>
                    <a:pt x="585" y="16"/>
                  </a:lnTo>
                  <a:lnTo>
                    <a:pt x="591" y="23"/>
                  </a:lnTo>
                  <a:lnTo>
                    <a:pt x="596" y="31"/>
                  </a:lnTo>
                  <a:lnTo>
                    <a:pt x="600" y="38"/>
                  </a:lnTo>
                  <a:lnTo>
                    <a:pt x="605" y="46"/>
                  </a:lnTo>
                  <a:lnTo>
                    <a:pt x="609" y="54"/>
                  </a:lnTo>
                  <a:lnTo>
                    <a:pt x="614" y="6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7200" y="545940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53" y="61"/>
                  </a:lnTo>
                  <a:lnTo>
                    <a:pt x="45" y="54"/>
                  </a:lnTo>
                  <a:lnTo>
                    <a:pt x="38" y="46"/>
                  </a:lnTo>
                  <a:lnTo>
                    <a:pt x="31" y="39"/>
                  </a:lnTo>
                  <a:lnTo>
                    <a:pt x="25" y="30"/>
                  </a:lnTo>
                  <a:lnTo>
                    <a:pt x="18" y="23"/>
                  </a:lnTo>
                  <a:lnTo>
                    <a:pt x="12" y="15"/>
                  </a:lnTo>
                  <a:lnTo>
                    <a:pt x="6" y="7"/>
                  </a:lnTo>
                  <a:lnTo>
                    <a:pt x="0" y="0"/>
                  </a:lnTo>
                  <a:lnTo>
                    <a:pt x="574" y="0"/>
                  </a:lnTo>
                  <a:lnTo>
                    <a:pt x="581" y="7"/>
                  </a:lnTo>
                  <a:lnTo>
                    <a:pt x="586" y="14"/>
                  </a:lnTo>
                  <a:lnTo>
                    <a:pt x="592" y="22"/>
                  </a:lnTo>
                  <a:lnTo>
                    <a:pt x="598" y="29"/>
                  </a:lnTo>
                  <a:lnTo>
                    <a:pt x="604" y="37"/>
                  </a:lnTo>
                  <a:lnTo>
                    <a:pt x="609" y="46"/>
                  </a:lnTo>
                  <a:lnTo>
                    <a:pt x="615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90720" y="544968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45" y="61"/>
                  </a:lnTo>
                  <a:lnTo>
                    <a:pt x="39" y="54"/>
                  </a:lnTo>
                  <a:lnTo>
                    <a:pt x="33" y="46"/>
                  </a:lnTo>
                  <a:lnTo>
                    <a:pt x="27" y="38"/>
                  </a:lnTo>
                  <a:lnTo>
                    <a:pt x="22" y="31"/>
                  </a:lnTo>
                  <a:lnTo>
                    <a:pt x="15" y="23"/>
                  </a:lnTo>
                  <a:lnTo>
                    <a:pt x="10" y="15"/>
                  </a:lnTo>
                  <a:lnTo>
                    <a:pt x="5" y="7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73" y="7"/>
                  </a:lnTo>
                  <a:lnTo>
                    <a:pt x="580" y="14"/>
                  </a:lnTo>
                  <a:lnTo>
                    <a:pt x="588" y="22"/>
                  </a:lnTo>
                  <a:lnTo>
                    <a:pt x="595" y="30"/>
                  </a:lnTo>
                  <a:lnTo>
                    <a:pt x="601" y="38"/>
                  </a:lnTo>
                  <a:lnTo>
                    <a:pt x="607" y="45"/>
                  </a:lnTo>
                  <a:lnTo>
                    <a:pt x="614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6040" y="5438520"/>
              <a:ext cx="193680" cy="20880"/>
            </a:xfrm>
            <a:custGeom>
              <a:avLst/>
              <a:gdLst/>
              <a:ahLst/>
              <a:rect l="l" t="t" r="r" b="b"/>
              <a:pathLst>
                <a:path w="613" h="62">
                  <a:moveTo>
                    <a:pt x="613" y="62"/>
                  </a:moveTo>
                  <a:lnTo>
                    <a:pt x="39" y="62"/>
                  </a:lnTo>
                  <a:lnTo>
                    <a:pt x="33" y="54"/>
                  </a:lnTo>
                  <a:lnTo>
                    <a:pt x="28" y="46"/>
                  </a:lnTo>
                  <a:lnTo>
                    <a:pt x="23" y="38"/>
                  </a:lnTo>
                  <a:lnTo>
                    <a:pt x="18" y="31"/>
                  </a:lnTo>
                  <a:lnTo>
                    <a:pt x="13" y="2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2" y="1"/>
                  </a:lnTo>
                  <a:lnTo>
                    <a:pt x="553" y="2"/>
                  </a:lnTo>
                  <a:lnTo>
                    <a:pt x="553" y="2"/>
                  </a:lnTo>
                  <a:lnTo>
                    <a:pt x="554" y="3"/>
                  </a:lnTo>
                  <a:lnTo>
                    <a:pt x="555" y="4"/>
                  </a:lnTo>
                  <a:lnTo>
                    <a:pt x="555" y="4"/>
                  </a:lnTo>
                  <a:lnTo>
                    <a:pt x="556" y="5"/>
                  </a:lnTo>
                  <a:lnTo>
                    <a:pt x="557" y="5"/>
                  </a:lnTo>
                  <a:lnTo>
                    <a:pt x="564" y="12"/>
                  </a:lnTo>
                  <a:lnTo>
                    <a:pt x="572" y="19"/>
                  </a:lnTo>
                  <a:lnTo>
                    <a:pt x="579" y="25"/>
                  </a:lnTo>
                  <a:lnTo>
                    <a:pt x="586" y="32"/>
                  </a:lnTo>
                  <a:lnTo>
                    <a:pt x="593" y="39"/>
                  </a:lnTo>
                  <a:lnTo>
                    <a:pt x="600" y="46"/>
                  </a:lnTo>
                  <a:lnTo>
                    <a:pt x="607" y="55"/>
                  </a:lnTo>
                  <a:lnTo>
                    <a:pt x="613" y="62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79560" y="5429160"/>
              <a:ext cx="190800" cy="20520"/>
            </a:xfrm>
            <a:custGeom>
              <a:avLst/>
              <a:gdLst/>
              <a:ahLst/>
              <a:rect l="l" t="t" r="r" b="b"/>
              <a:pathLst>
                <a:path w="601" h="62">
                  <a:moveTo>
                    <a:pt x="601" y="62"/>
                  </a:moveTo>
                  <a:lnTo>
                    <a:pt x="35" y="62"/>
                  </a:lnTo>
                  <a:lnTo>
                    <a:pt x="30" y="54"/>
                  </a:lnTo>
                  <a:lnTo>
                    <a:pt x="25" y="47"/>
                  </a:lnTo>
                  <a:lnTo>
                    <a:pt x="21" y="39"/>
                  </a:lnTo>
                  <a:lnTo>
                    <a:pt x="17" y="31"/>
                  </a:lnTo>
                  <a:lnTo>
                    <a:pt x="13" y="23"/>
                  </a:lnTo>
                  <a:lnTo>
                    <a:pt x="9" y="15"/>
                  </a:lnTo>
                  <a:lnTo>
                    <a:pt x="5" y="8"/>
                  </a:lnTo>
                  <a:lnTo>
                    <a:pt x="0" y="0"/>
                  </a:lnTo>
                  <a:lnTo>
                    <a:pt x="531" y="0"/>
                  </a:lnTo>
                  <a:lnTo>
                    <a:pt x="537" y="5"/>
                  </a:lnTo>
                  <a:lnTo>
                    <a:pt x="543" y="10"/>
                  </a:lnTo>
                  <a:lnTo>
                    <a:pt x="549" y="15"/>
                  </a:lnTo>
                  <a:lnTo>
                    <a:pt x="554" y="20"/>
                  </a:lnTo>
                  <a:lnTo>
                    <a:pt x="559" y="24"/>
                  </a:lnTo>
                  <a:lnTo>
                    <a:pt x="564" y="29"/>
                  </a:lnTo>
                  <a:lnTo>
                    <a:pt x="570" y="33"/>
                  </a:lnTo>
                  <a:lnTo>
                    <a:pt x="574" y="36"/>
                  </a:lnTo>
                  <a:lnTo>
                    <a:pt x="577" y="39"/>
                  </a:lnTo>
                  <a:lnTo>
                    <a:pt x="581" y="43"/>
                  </a:lnTo>
                  <a:lnTo>
                    <a:pt x="584" y="46"/>
                  </a:lnTo>
                  <a:lnTo>
                    <a:pt x="588" y="49"/>
                  </a:lnTo>
                  <a:lnTo>
                    <a:pt x="591" y="52"/>
                  </a:lnTo>
                  <a:lnTo>
                    <a:pt x="594" y="55"/>
                  </a:lnTo>
                  <a:lnTo>
                    <a:pt x="598" y="58"/>
                  </a:lnTo>
                  <a:lnTo>
                    <a:pt x="601" y="62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76680" y="5419440"/>
              <a:ext cx="183960" cy="19080"/>
            </a:xfrm>
            <a:custGeom>
              <a:avLst/>
              <a:gdLst/>
              <a:ahLst/>
              <a:rect l="l" t="t" r="r" b="b"/>
              <a:pathLst>
                <a:path w="580" h="62">
                  <a:moveTo>
                    <a:pt x="580" y="62"/>
                  </a:moveTo>
                  <a:lnTo>
                    <a:pt x="29" y="62"/>
                  </a:lnTo>
                  <a:lnTo>
                    <a:pt x="26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0" y="46"/>
                  </a:lnTo>
                  <a:lnTo>
                    <a:pt x="19" y="42"/>
                  </a:lnTo>
                  <a:lnTo>
                    <a:pt x="17" y="38"/>
                  </a:lnTo>
                  <a:lnTo>
                    <a:pt x="14" y="34"/>
                  </a:lnTo>
                  <a:lnTo>
                    <a:pt x="12" y="30"/>
                  </a:lnTo>
                  <a:lnTo>
                    <a:pt x="11" y="27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5" y="12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7" y="1"/>
                  </a:lnTo>
                  <a:lnTo>
                    <a:pt x="509" y="3"/>
                  </a:lnTo>
                  <a:lnTo>
                    <a:pt x="510" y="5"/>
                  </a:lnTo>
                  <a:lnTo>
                    <a:pt x="512" y="7"/>
                  </a:lnTo>
                  <a:lnTo>
                    <a:pt x="514" y="8"/>
                  </a:lnTo>
                  <a:lnTo>
                    <a:pt x="516" y="9"/>
                  </a:lnTo>
                  <a:lnTo>
                    <a:pt x="517" y="11"/>
                  </a:lnTo>
                  <a:lnTo>
                    <a:pt x="519" y="12"/>
                  </a:lnTo>
                  <a:lnTo>
                    <a:pt x="529" y="20"/>
                  </a:lnTo>
                  <a:lnTo>
                    <a:pt x="538" y="27"/>
                  </a:lnTo>
                  <a:lnTo>
                    <a:pt x="546" y="33"/>
                  </a:lnTo>
                  <a:lnTo>
                    <a:pt x="553" y="40"/>
                  </a:lnTo>
                  <a:lnTo>
                    <a:pt x="560" y="45"/>
                  </a:lnTo>
                  <a:lnTo>
                    <a:pt x="567" y="51"/>
                  </a:lnTo>
                  <a:lnTo>
                    <a:pt x="573" y="56"/>
                  </a:lnTo>
                  <a:lnTo>
                    <a:pt x="580" y="6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3440" y="5410080"/>
              <a:ext cx="174600" cy="19080"/>
            </a:xfrm>
            <a:custGeom>
              <a:avLst/>
              <a:gdLst/>
              <a:ahLst/>
              <a:rect l="l" t="t" r="r" b="b"/>
              <a:pathLst>
                <a:path w="552" h="61">
                  <a:moveTo>
                    <a:pt x="552" y="61"/>
                  </a:move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18" y="53"/>
                  </a:lnTo>
                  <a:lnTo>
                    <a:pt x="15" y="46"/>
                  </a:lnTo>
                  <a:lnTo>
                    <a:pt x="12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6" y="5"/>
                  </a:lnTo>
                  <a:lnTo>
                    <a:pt x="491" y="10"/>
                  </a:lnTo>
                  <a:lnTo>
                    <a:pt x="497" y="15"/>
                  </a:lnTo>
                  <a:lnTo>
                    <a:pt x="503" y="20"/>
                  </a:lnTo>
                  <a:lnTo>
                    <a:pt x="509" y="25"/>
                  </a:lnTo>
                  <a:lnTo>
                    <a:pt x="515" y="31"/>
                  </a:lnTo>
                  <a:lnTo>
                    <a:pt x="521" y="37"/>
                  </a:lnTo>
                  <a:lnTo>
                    <a:pt x="528" y="42"/>
                  </a:lnTo>
                  <a:lnTo>
                    <a:pt x="531" y="45"/>
                  </a:lnTo>
                  <a:lnTo>
                    <a:pt x="534" y="47"/>
                  </a:lnTo>
                  <a:lnTo>
                    <a:pt x="538" y="50"/>
                  </a:lnTo>
                  <a:lnTo>
                    <a:pt x="541" y="52"/>
                  </a:lnTo>
                  <a:lnTo>
                    <a:pt x="544" y="54"/>
                  </a:lnTo>
                  <a:lnTo>
                    <a:pt x="547" y="57"/>
                  </a:lnTo>
                  <a:lnTo>
                    <a:pt x="549" y="59"/>
                  </a:lnTo>
                  <a:lnTo>
                    <a:pt x="552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71640" y="5400360"/>
              <a:ext cx="165240" cy="19080"/>
            </a:xfrm>
            <a:custGeom>
              <a:avLst/>
              <a:gdLst/>
              <a:ahLst/>
              <a:rect l="l" t="t" r="r" b="b"/>
              <a:pathLst>
                <a:path w="521" h="62">
                  <a:moveTo>
                    <a:pt x="521" y="62"/>
                  </a:moveTo>
                  <a:lnTo>
                    <a:pt x="16" y="62"/>
                  </a:lnTo>
                  <a:lnTo>
                    <a:pt x="14" y="54"/>
                  </a:lnTo>
                  <a:lnTo>
                    <a:pt x="11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3" y="17"/>
                  </a:lnTo>
                  <a:lnTo>
                    <a:pt x="1" y="8"/>
                  </a:lnTo>
                  <a:lnTo>
                    <a:pt x="0" y="0"/>
                  </a:lnTo>
                  <a:lnTo>
                    <a:pt x="460" y="0"/>
                  </a:lnTo>
                  <a:lnTo>
                    <a:pt x="466" y="8"/>
                  </a:lnTo>
                  <a:lnTo>
                    <a:pt x="472" y="16"/>
                  </a:lnTo>
                  <a:lnTo>
                    <a:pt x="479" y="23"/>
                  </a:lnTo>
                  <a:lnTo>
                    <a:pt x="486" y="31"/>
                  </a:lnTo>
                  <a:lnTo>
                    <a:pt x="495" y="38"/>
                  </a:lnTo>
                  <a:lnTo>
                    <a:pt x="503" y="46"/>
                  </a:lnTo>
                  <a:lnTo>
                    <a:pt x="512" y="54"/>
                  </a:lnTo>
                  <a:lnTo>
                    <a:pt x="521" y="6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5391000"/>
              <a:ext cx="1555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12" y="62"/>
                  </a:lnTo>
                  <a:lnTo>
                    <a:pt x="10" y="54"/>
                  </a:lnTo>
                  <a:lnTo>
                    <a:pt x="8" y="47"/>
                  </a:lnTo>
                  <a:lnTo>
                    <a:pt x="6" y="38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44" y="0"/>
                  </a:lnTo>
                  <a:lnTo>
                    <a:pt x="449" y="7"/>
                  </a:lnTo>
                  <a:lnTo>
                    <a:pt x="454" y="15"/>
                  </a:lnTo>
                  <a:lnTo>
                    <a:pt x="459" y="22"/>
                  </a:lnTo>
                  <a:lnTo>
                    <a:pt x="464" y="29"/>
                  </a:lnTo>
                  <a:lnTo>
                    <a:pt x="470" y="37"/>
                  </a:lnTo>
                  <a:lnTo>
                    <a:pt x="477" y="46"/>
                  </a:lnTo>
                  <a:lnTo>
                    <a:pt x="484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8760" y="5379840"/>
              <a:ext cx="149040" cy="20520"/>
            </a:xfrm>
            <a:custGeom>
              <a:avLst/>
              <a:gdLst/>
              <a:ahLst/>
              <a:rect l="l" t="t" r="r" b="b"/>
              <a:pathLst>
                <a:path w="468" h="61">
                  <a:moveTo>
                    <a:pt x="468" y="61"/>
                  </a:moveTo>
                  <a:lnTo>
                    <a:pt x="8" y="61"/>
                  </a:lnTo>
                  <a:lnTo>
                    <a:pt x="6" y="54"/>
                  </a:lnTo>
                  <a:lnTo>
                    <a:pt x="5" y="46"/>
                  </a:lnTo>
                  <a:lnTo>
                    <a:pt x="4" y="39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1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37" y="0"/>
                  </a:lnTo>
                  <a:lnTo>
                    <a:pt x="439" y="7"/>
                  </a:lnTo>
                  <a:lnTo>
                    <a:pt x="441" y="14"/>
                  </a:lnTo>
                  <a:lnTo>
                    <a:pt x="444" y="23"/>
                  </a:lnTo>
                  <a:lnTo>
                    <a:pt x="447" y="30"/>
                  </a:lnTo>
                  <a:lnTo>
                    <a:pt x="452" y="38"/>
                  </a:lnTo>
                  <a:lnTo>
                    <a:pt x="457" y="45"/>
                  </a:lnTo>
                  <a:lnTo>
                    <a:pt x="462" y="53"/>
                  </a:lnTo>
                  <a:lnTo>
                    <a:pt x="468" y="61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8760" y="5370480"/>
              <a:ext cx="141120" cy="20520"/>
            </a:xfrm>
            <a:custGeom>
              <a:avLst/>
              <a:gdLst/>
              <a:ahLst/>
              <a:rect l="l" t="t" r="r" b="b"/>
              <a:pathLst>
                <a:path w="448" h="61">
                  <a:moveTo>
                    <a:pt x="448" y="61"/>
                  </a:moveTo>
                  <a:lnTo>
                    <a:pt x="4" y="61"/>
                  </a:lnTo>
                  <a:lnTo>
                    <a:pt x="3" y="54"/>
                  </a:lnTo>
                  <a:lnTo>
                    <a:pt x="2" y="46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9" y="0"/>
                  </a:lnTo>
                  <a:lnTo>
                    <a:pt x="438" y="2"/>
                  </a:lnTo>
                  <a:lnTo>
                    <a:pt x="438" y="4"/>
                  </a:lnTo>
                  <a:lnTo>
                    <a:pt x="438" y="6"/>
                  </a:lnTo>
                  <a:lnTo>
                    <a:pt x="438" y="9"/>
                  </a:lnTo>
                  <a:lnTo>
                    <a:pt x="437" y="11"/>
                  </a:lnTo>
                  <a:lnTo>
                    <a:pt x="437" y="13"/>
                  </a:lnTo>
                  <a:lnTo>
                    <a:pt x="437" y="16"/>
                  </a:lnTo>
                  <a:lnTo>
                    <a:pt x="437" y="18"/>
                  </a:lnTo>
                  <a:lnTo>
                    <a:pt x="437" y="23"/>
                  </a:lnTo>
                  <a:lnTo>
                    <a:pt x="438" y="28"/>
                  </a:lnTo>
                  <a:lnTo>
                    <a:pt x="439" y="33"/>
                  </a:lnTo>
                  <a:lnTo>
                    <a:pt x="440" y="38"/>
                  </a:lnTo>
                  <a:lnTo>
                    <a:pt x="442" y="44"/>
                  </a:lnTo>
                  <a:lnTo>
                    <a:pt x="444" y="49"/>
                  </a:lnTo>
                  <a:lnTo>
                    <a:pt x="446" y="56"/>
                  </a:lnTo>
                  <a:lnTo>
                    <a:pt x="448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8760" y="5360760"/>
              <a:ext cx="141120" cy="19080"/>
            </a:xfrm>
            <a:custGeom>
              <a:avLst/>
              <a:gdLst/>
              <a:ahLst/>
              <a:rect l="l" t="t" r="r" b="b"/>
              <a:pathLst>
                <a:path w="447" h="62">
                  <a:moveTo>
                    <a:pt x="438" y="62"/>
                  </a:moveTo>
                  <a:lnTo>
                    <a:pt x="1" y="62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447" y="0"/>
                  </a:lnTo>
                  <a:lnTo>
                    <a:pt x="445" y="6"/>
                  </a:lnTo>
                  <a:lnTo>
                    <a:pt x="443" y="11"/>
                  </a:lnTo>
                  <a:lnTo>
                    <a:pt x="441" y="17"/>
                  </a:lnTo>
                  <a:lnTo>
                    <a:pt x="440" y="23"/>
                  </a:lnTo>
                  <a:lnTo>
                    <a:pt x="439" y="29"/>
                  </a:lnTo>
                  <a:lnTo>
                    <a:pt x="438" y="37"/>
                  </a:lnTo>
                  <a:lnTo>
                    <a:pt x="437" y="43"/>
                  </a:lnTo>
                  <a:lnTo>
                    <a:pt x="437" y="50"/>
                  </a:lnTo>
                  <a:lnTo>
                    <a:pt x="437" y="51"/>
                  </a:lnTo>
                  <a:lnTo>
                    <a:pt x="437" y="53"/>
                  </a:lnTo>
                  <a:lnTo>
                    <a:pt x="437" y="54"/>
                  </a:lnTo>
                  <a:lnTo>
                    <a:pt x="438" y="56"/>
                  </a:lnTo>
                  <a:lnTo>
                    <a:pt x="438" y="57"/>
                  </a:lnTo>
                  <a:lnTo>
                    <a:pt x="438" y="59"/>
                  </a:lnTo>
                  <a:lnTo>
                    <a:pt x="438" y="60"/>
                  </a:lnTo>
                  <a:lnTo>
                    <a:pt x="438" y="62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8760" y="5351400"/>
              <a:ext cx="237960" cy="19080"/>
            </a:xfrm>
            <a:custGeom>
              <a:avLst/>
              <a:gdLst/>
              <a:ahLst/>
              <a:rect l="l" t="t" r="r" b="b"/>
              <a:pathLst>
                <a:path w="753" h="63">
                  <a:moveTo>
                    <a:pt x="439" y="63"/>
                  </a:moveTo>
                  <a:lnTo>
                    <a:pt x="0" y="63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8"/>
                  </a:lnTo>
                  <a:lnTo>
                    <a:pt x="4" y="0"/>
                  </a:lnTo>
                  <a:lnTo>
                    <a:pt x="470" y="0"/>
                  </a:lnTo>
                  <a:lnTo>
                    <a:pt x="464" y="6"/>
                  </a:lnTo>
                  <a:lnTo>
                    <a:pt x="458" y="14"/>
                  </a:lnTo>
                  <a:lnTo>
                    <a:pt x="454" y="21"/>
                  </a:lnTo>
                  <a:lnTo>
                    <a:pt x="450" y="28"/>
                  </a:lnTo>
                  <a:lnTo>
                    <a:pt x="445" y="36"/>
                  </a:lnTo>
                  <a:lnTo>
                    <a:pt x="442" y="44"/>
                  </a:lnTo>
                  <a:lnTo>
                    <a:pt x="440" y="53"/>
                  </a:lnTo>
                  <a:lnTo>
                    <a:pt x="439" y="63"/>
                  </a:lnTo>
                  <a:close/>
                  <a:moveTo>
                    <a:pt x="728" y="0"/>
                  </a:moveTo>
                  <a:lnTo>
                    <a:pt x="753" y="0"/>
                  </a:lnTo>
                  <a:lnTo>
                    <a:pt x="753" y="13"/>
                  </a:lnTo>
                  <a:lnTo>
                    <a:pt x="750" y="12"/>
                  </a:lnTo>
                  <a:lnTo>
                    <a:pt x="747" y="9"/>
                  </a:lnTo>
                  <a:lnTo>
                    <a:pt x="744" y="7"/>
                  </a:lnTo>
                  <a:lnTo>
                    <a:pt x="741" y="6"/>
                  </a:lnTo>
                  <a:lnTo>
                    <a:pt x="738" y="4"/>
                  </a:lnTo>
                  <a:lnTo>
                    <a:pt x="735" y="3"/>
                  </a:lnTo>
                  <a:lnTo>
                    <a:pt x="732" y="2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8760" y="5341680"/>
              <a:ext cx="237960" cy="19080"/>
            </a:xfrm>
            <a:custGeom>
              <a:avLst/>
              <a:gdLst/>
              <a:ahLst/>
              <a:rect l="l" t="t" r="r" b="b"/>
              <a:pathLst>
                <a:path w="752" h="61">
                  <a:moveTo>
                    <a:pt x="446" y="61"/>
                  </a:moveTo>
                  <a:lnTo>
                    <a:pt x="0" y="61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2" y="37"/>
                  </a:lnTo>
                  <a:lnTo>
                    <a:pt x="3" y="30"/>
                  </a:lnTo>
                  <a:lnTo>
                    <a:pt x="4" y="22"/>
                  </a:lnTo>
                  <a:lnTo>
                    <a:pt x="5" y="15"/>
                  </a:lnTo>
                  <a:lnTo>
                    <a:pt x="6" y="7"/>
                  </a:lnTo>
                  <a:lnTo>
                    <a:pt x="8" y="0"/>
                  </a:lnTo>
                  <a:lnTo>
                    <a:pt x="530" y="0"/>
                  </a:lnTo>
                  <a:lnTo>
                    <a:pt x="522" y="2"/>
                  </a:lnTo>
                  <a:lnTo>
                    <a:pt x="515" y="4"/>
                  </a:lnTo>
                  <a:lnTo>
                    <a:pt x="508" y="7"/>
                  </a:lnTo>
                  <a:lnTo>
                    <a:pt x="501" y="10"/>
                  </a:lnTo>
                  <a:lnTo>
                    <a:pt x="493" y="13"/>
                  </a:lnTo>
                  <a:lnTo>
                    <a:pt x="487" y="16"/>
                  </a:lnTo>
                  <a:lnTo>
                    <a:pt x="481" y="20"/>
                  </a:lnTo>
                  <a:lnTo>
                    <a:pt x="476" y="24"/>
                  </a:lnTo>
                  <a:lnTo>
                    <a:pt x="471" y="28"/>
                  </a:lnTo>
                  <a:lnTo>
                    <a:pt x="467" y="32"/>
                  </a:lnTo>
                  <a:lnTo>
                    <a:pt x="463" y="36"/>
                  </a:lnTo>
                  <a:lnTo>
                    <a:pt x="459" y="42"/>
                  </a:lnTo>
                  <a:lnTo>
                    <a:pt x="455" y="46"/>
                  </a:lnTo>
                  <a:lnTo>
                    <a:pt x="452" y="51"/>
                  </a:lnTo>
                  <a:lnTo>
                    <a:pt x="449" y="56"/>
                  </a:lnTo>
                  <a:lnTo>
                    <a:pt x="446" y="61"/>
                  </a:lnTo>
                  <a:close/>
                  <a:moveTo>
                    <a:pt x="637" y="0"/>
                  </a:moveTo>
                  <a:lnTo>
                    <a:pt x="752" y="0"/>
                  </a:lnTo>
                  <a:lnTo>
                    <a:pt x="752" y="43"/>
                  </a:lnTo>
                  <a:lnTo>
                    <a:pt x="741" y="36"/>
                  </a:lnTo>
                  <a:lnTo>
                    <a:pt x="729" y="31"/>
                  </a:lnTo>
                  <a:lnTo>
                    <a:pt x="718" y="26"/>
                  </a:lnTo>
                  <a:lnTo>
                    <a:pt x="707" y="21"/>
                  </a:lnTo>
                  <a:lnTo>
                    <a:pt x="695" y="17"/>
                  </a:lnTo>
                  <a:lnTo>
                    <a:pt x="684" y="13"/>
                  </a:lnTo>
                  <a:lnTo>
                    <a:pt x="673" y="9"/>
                  </a:lnTo>
                  <a:lnTo>
                    <a:pt x="663" y="6"/>
                  </a:lnTo>
                  <a:lnTo>
                    <a:pt x="660" y="5"/>
                  </a:lnTo>
                  <a:lnTo>
                    <a:pt x="657" y="4"/>
                  </a:lnTo>
                  <a:lnTo>
                    <a:pt x="654" y="4"/>
                  </a:lnTo>
                  <a:lnTo>
                    <a:pt x="649" y="3"/>
                  </a:lnTo>
                  <a:lnTo>
                    <a:pt x="646" y="2"/>
                  </a:lnTo>
                  <a:lnTo>
                    <a:pt x="643" y="1"/>
                  </a:lnTo>
                  <a:lnTo>
                    <a:pt x="640" y="1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70200" y="5332320"/>
              <a:ext cx="236520" cy="19080"/>
            </a:xfrm>
            <a:custGeom>
              <a:avLst/>
              <a:gdLst/>
              <a:ahLst/>
              <a:rect l="l" t="t" r="r" b="b"/>
              <a:pathLst>
                <a:path w="749" h="61">
                  <a:moveTo>
                    <a:pt x="749" y="61"/>
                  </a:moveTo>
                  <a:lnTo>
                    <a:pt x="724" y="61"/>
                  </a:lnTo>
                  <a:lnTo>
                    <a:pt x="716" y="57"/>
                  </a:lnTo>
                  <a:lnTo>
                    <a:pt x="708" y="54"/>
                  </a:lnTo>
                  <a:lnTo>
                    <a:pt x="699" y="51"/>
                  </a:lnTo>
                  <a:lnTo>
                    <a:pt x="691" y="48"/>
                  </a:lnTo>
                  <a:lnTo>
                    <a:pt x="683" y="45"/>
                  </a:lnTo>
                  <a:lnTo>
                    <a:pt x="675" y="42"/>
                  </a:lnTo>
                  <a:lnTo>
                    <a:pt x="667" y="39"/>
                  </a:lnTo>
                  <a:lnTo>
                    <a:pt x="660" y="37"/>
                  </a:lnTo>
                  <a:lnTo>
                    <a:pt x="650" y="34"/>
                  </a:lnTo>
                  <a:lnTo>
                    <a:pt x="639" y="32"/>
                  </a:lnTo>
                  <a:lnTo>
                    <a:pt x="629" y="30"/>
                  </a:lnTo>
                  <a:lnTo>
                    <a:pt x="620" y="28"/>
                  </a:lnTo>
                  <a:lnTo>
                    <a:pt x="611" y="27"/>
                  </a:lnTo>
                  <a:lnTo>
                    <a:pt x="603" y="26"/>
                  </a:lnTo>
                  <a:lnTo>
                    <a:pt x="593" y="25"/>
                  </a:lnTo>
                  <a:lnTo>
                    <a:pt x="585" y="25"/>
                  </a:lnTo>
                  <a:lnTo>
                    <a:pt x="568" y="26"/>
                  </a:lnTo>
                  <a:lnTo>
                    <a:pt x="551" y="27"/>
                  </a:lnTo>
                  <a:lnTo>
                    <a:pt x="535" y="29"/>
                  </a:lnTo>
                  <a:lnTo>
                    <a:pt x="521" y="33"/>
                  </a:lnTo>
                  <a:lnTo>
                    <a:pt x="507" y="37"/>
                  </a:lnTo>
                  <a:lnTo>
                    <a:pt x="494" y="42"/>
                  </a:lnTo>
                  <a:lnTo>
                    <a:pt x="483" y="48"/>
                  </a:lnTo>
                  <a:lnTo>
                    <a:pt x="473" y="55"/>
                  </a:lnTo>
                  <a:lnTo>
                    <a:pt x="472" y="56"/>
                  </a:lnTo>
                  <a:lnTo>
                    <a:pt x="471" y="57"/>
                  </a:lnTo>
                  <a:lnTo>
                    <a:pt x="470" y="57"/>
                  </a:lnTo>
                  <a:lnTo>
                    <a:pt x="469" y="58"/>
                  </a:lnTo>
                  <a:lnTo>
                    <a:pt x="468" y="59"/>
                  </a:lnTo>
                  <a:lnTo>
                    <a:pt x="467" y="60"/>
                  </a:lnTo>
                  <a:lnTo>
                    <a:pt x="467" y="60"/>
                  </a:lnTo>
                  <a:lnTo>
                    <a:pt x="466" y="61"/>
                  </a:lnTo>
                  <a:lnTo>
                    <a:pt x="0" y="61"/>
                  </a:lnTo>
                  <a:lnTo>
                    <a:pt x="1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8" y="14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749" y="0"/>
                  </a:lnTo>
                  <a:lnTo>
                    <a:pt x="749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71640" y="5321160"/>
              <a:ext cx="235080" cy="20520"/>
            </a:xfrm>
            <a:custGeom>
              <a:avLst/>
              <a:gdLst/>
              <a:ahLst/>
              <a:rect l="l" t="t" r="r" b="b"/>
              <a:pathLst>
                <a:path w="744" h="62">
                  <a:moveTo>
                    <a:pt x="744" y="62"/>
                  </a:moveTo>
                  <a:lnTo>
                    <a:pt x="629" y="62"/>
                  </a:lnTo>
                  <a:lnTo>
                    <a:pt x="623" y="61"/>
                  </a:lnTo>
                  <a:lnTo>
                    <a:pt x="616" y="59"/>
                  </a:lnTo>
                  <a:lnTo>
                    <a:pt x="610" y="58"/>
                  </a:lnTo>
                  <a:lnTo>
                    <a:pt x="604" y="58"/>
                  </a:lnTo>
                  <a:lnTo>
                    <a:pt x="598" y="57"/>
                  </a:lnTo>
                  <a:lnTo>
                    <a:pt x="591" y="57"/>
                  </a:lnTo>
                  <a:lnTo>
                    <a:pt x="586" y="56"/>
                  </a:lnTo>
                  <a:lnTo>
                    <a:pt x="580" y="56"/>
                  </a:lnTo>
                  <a:lnTo>
                    <a:pt x="572" y="56"/>
                  </a:lnTo>
                  <a:lnTo>
                    <a:pt x="565" y="57"/>
                  </a:lnTo>
                  <a:lnTo>
                    <a:pt x="557" y="57"/>
                  </a:lnTo>
                  <a:lnTo>
                    <a:pt x="550" y="58"/>
                  </a:lnTo>
                  <a:lnTo>
                    <a:pt x="543" y="58"/>
                  </a:lnTo>
                  <a:lnTo>
                    <a:pt x="535" y="59"/>
                  </a:lnTo>
                  <a:lnTo>
                    <a:pt x="529" y="61"/>
                  </a:lnTo>
                  <a:lnTo>
                    <a:pt x="522" y="62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3" y="45"/>
                  </a:lnTo>
                  <a:lnTo>
                    <a:pt x="5" y="38"/>
                  </a:lnTo>
                  <a:lnTo>
                    <a:pt x="7" y="30"/>
                  </a:lnTo>
                  <a:lnTo>
                    <a:pt x="9" y="23"/>
                  </a:lnTo>
                  <a:lnTo>
                    <a:pt x="11" y="15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744" y="0"/>
                  </a:lnTo>
                  <a:lnTo>
                    <a:pt x="744" y="62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3440" y="5311800"/>
              <a:ext cx="233280" cy="20520"/>
            </a:xfrm>
            <a:custGeom>
              <a:avLst/>
              <a:gdLst/>
              <a:ahLst/>
              <a:rect l="l" t="t" r="r" b="b"/>
              <a:pathLst>
                <a:path w="737" h="62">
                  <a:moveTo>
                    <a:pt x="737" y="62"/>
                  </a:moveTo>
                  <a:lnTo>
                    <a:pt x="0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38"/>
                  </a:lnTo>
                  <a:lnTo>
                    <a:pt x="9" y="31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1" y="0"/>
                  </a:lnTo>
                  <a:lnTo>
                    <a:pt x="737" y="0"/>
                  </a:lnTo>
                  <a:lnTo>
                    <a:pt x="737" y="62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6680" y="5302080"/>
              <a:ext cx="230040" cy="19080"/>
            </a:xfrm>
            <a:custGeom>
              <a:avLst/>
              <a:gdLst/>
              <a:ahLst/>
              <a:rect l="l" t="t" r="r" b="b"/>
              <a:pathLst>
                <a:path w="728" h="62">
                  <a:moveTo>
                    <a:pt x="728" y="62"/>
                  </a:moveTo>
                  <a:lnTo>
                    <a:pt x="0" y="62"/>
                  </a:lnTo>
                  <a:lnTo>
                    <a:pt x="3" y="54"/>
                  </a:lnTo>
                  <a:lnTo>
                    <a:pt x="6" y="46"/>
                  </a:lnTo>
                  <a:lnTo>
                    <a:pt x="9" y="38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0" y="16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728" y="0"/>
                  </a:lnTo>
                  <a:lnTo>
                    <a:pt x="728" y="62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560" y="5292720"/>
              <a:ext cx="227160" cy="19080"/>
            </a:xfrm>
            <a:custGeom>
              <a:avLst/>
              <a:gdLst/>
              <a:ahLst/>
              <a:rect l="l" t="t" r="r" b="b"/>
              <a:pathLst>
                <a:path w="716" h="61">
                  <a:moveTo>
                    <a:pt x="716" y="61"/>
                  </a:moveTo>
                  <a:lnTo>
                    <a:pt x="0" y="61"/>
                  </a:lnTo>
                  <a:lnTo>
                    <a:pt x="3" y="53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6" y="29"/>
                  </a:lnTo>
                  <a:lnTo>
                    <a:pt x="20" y="22"/>
                  </a:lnTo>
                  <a:lnTo>
                    <a:pt x="25" y="14"/>
                  </a:lnTo>
                  <a:lnTo>
                    <a:pt x="29" y="7"/>
                  </a:lnTo>
                  <a:lnTo>
                    <a:pt x="34" y="0"/>
                  </a:lnTo>
                  <a:lnTo>
                    <a:pt x="716" y="0"/>
                  </a:lnTo>
                  <a:lnTo>
                    <a:pt x="716" y="6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4600" y="5283000"/>
              <a:ext cx="222120" cy="19080"/>
            </a:xfrm>
            <a:custGeom>
              <a:avLst/>
              <a:gdLst/>
              <a:ahLst/>
              <a:rect l="l" t="t" r="r" b="b"/>
              <a:pathLst>
                <a:path w="700" h="62">
                  <a:moveTo>
                    <a:pt x="700" y="62"/>
                  </a:moveTo>
                  <a:lnTo>
                    <a:pt x="0" y="62"/>
                  </a:lnTo>
                  <a:lnTo>
                    <a:pt x="4" y="54"/>
                  </a:lnTo>
                  <a:lnTo>
                    <a:pt x="9" y="46"/>
                  </a:lnTo>
                  <a:lnTo>
                    <a:pt x="14" y="39"/>
                  </a:lnTo>
                  <a:lnTo>
                    <a:pt x="19" y="31"/>
                  </a:lnTo>
                  <a:lnTo>
                    <a:pt x="24" y="23"/>
                  </a:lnTo>
                  <a:lnTo>
                    <a:pt x="29" y="16"/>
                  </a:lnTo>
                  <a:lnTo>
                    <a:pt x="35" y="8"/>
                  </a:lnTo>
                  <a:lnTo>
                    <a:pt x="41" y="0"/>
                  </a:lnTo>
                  <a:lnTo>
                    <a:pt x="700" y="0"/>
                  </a:lnTo>
                  <a:lnTo>
                    <a:pt x="700" y="6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0720" y="5273640"/>
              <a:ext cx="216000" cy="19080"/>
            </a:xfrm>
            <a:custGeom>
              <a:avLst/>
              <a:gdLst/>
              <a:ahLst/>
              <a:rect l="l" t="t" r="r" b="b"/>
              <a:pathLst>
                <a:path w="682" h="62">
                  <a:moveTo>
                    <a:pt x="682" y="62"/>
                  </a:moveTo>
                  <a:lnTo>
                    <a:pt x="0" y="62"/>
                  </a:lnTo>
                  <a:lnTo>
                    <a:pt x="5" y="54"/>
                  </a:lnTo>
                  <a:lnTo>
                    <a:pt x="11" y="46"/>
                  </a:lnTo>
                  <a:lnTo>
                    <a:pt x="17" y="37"/>
                  </a:lnTo>
                  <a:lnTo>
                    <a:pt x="24" y="30"/>
                  </a:lnTo>
                  <a:lnTo>
                    <a:pt x="30" y="22"/>
                  </a:lnTo>
                  <a:lnTo>
                    <a:pt x="37" y="15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682" y="0"/>
                  </a:lnTo>
                  <a:lnTo>
                    <a:pt x="682" y="62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8640" y="5262480"/>
              <a:ext cx="208080" cy="20520"/>
            </a:xfrm>
            <a:custGeom>
              <a:avLst/>
              <a:gdLst/>
              <a:ahLst/>
              <a:rect l="l" t="t" r="r" b="b"/>
              <a:pathLst>
                <a:path w="659" h="61">
                  <a:moveTo>
                    <a:pt x="659" y="61"/>
                  </a:moveTo>
                  <a:lnTo>
                    <a:pt x="0" y="61"/>
                  </a:lnTo>
                  <a:lnTo>
                    <a:pt x="5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25"/>
                  </a:lnTo>
                  <a:lnTo>
                    <a:pt x="40" y="18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5" y="4"/>
                  </a:lnTo>
                  <a:lnTo>
                    <a:pt x="57" y="3"/>
                  </a:lnTo>
                  <a:lnTo>
                    <a:pt x="59" y="1"/>
                  </a:lnTo>
                  <a:lnTo>
                    <a:pt x="60" y="0"/>
                  </a:lnTo>
                  <a:lnTo>
                    <a:pt x="659" y="0"/>
                  </a:lnTo>
                  <a:lnTo>
                    <a:pt x="659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560" y="5252760"/>
              <a:ext cx="200160" cy="20880"/>
            </a:xfrm>
            <a:custGeom>
              <a:avLst/>
              <a:gdLst/>
              <a:ahLst/>
              <a:rect l="l" t="t" r="r" b="b"/>
              <a:pathLst>
                <a:path w="632" h="62">
                  <a:moveTo>
                    <a:pt x="632" y="62"/>
                  </a:moveTo>
                  <a:lnTo>
                    <a:pt x="0" y="62"/>
                  </a:lnTo>
                  <a:lnTo>
                    <a:pt x="2" y="60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2" y="50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6" y="37"/>
                  </a:lnTo>
                  <a:lnTo>
                    <a:pt x="33" y="32"/>
                  </a:lnTo>
                  <a:lnTo>
                    <a:pt x="39" y="26"/>
                  </a:lnTo>
                  <a:lnTo>
                    <a:pt x="46" y="21"/>
                  </a:lnTo>
                  <a:lnTo>
                    <a:pt x="52" y="16"/>
                  </a:lnTo>
                  <a:lnTo>
                    <a:pt x="59" y="10"/>
                  </a:lnTo>
                  <a:lnTo>
                    <a:pt x="66" y="6"/>
                  </a:lnTo>
                  <a:lnTo>
                    <a:pt x="74" y="0"/>
                  </a:lnTo>
                  <a:lnTo>
                    <a:pt x="632" y="0"/>
                  </a:lnTo>
                  <a:lnTo>
                    <a:pt x="632" y="62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7720" y="524340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1">
                  <a:moveTo>
                    <a:pt x="599" y="61"/>
                  </a:moveTo>
                  <a:lnTo>
                    <a:pt x="0" y="61"/>
                  </a:lnTo>
                  <a:lnTo>
                    <a:pt x="11" y="52"/>
                  </a:lnTo>
                  <a:lnTo>
                    <a:pt x="22" y="44"/>
                  </a:lnTo>
                  <a:lnTo>
                    <a:pt x="33" y="36"/>
                  </a:lnTo>
                  <a:lnTo>
                    <a:pt x="45" y="27"/>
                  </a:lnTo>
                  <a:lnTo>
                    <a:pt x="57" y="20"/>
                  </a:lnTo>
                  <a:lnTo>
                    <a:pt x="68" y="13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599" y="0"/>
                  </a:lnTo>
                  <a:lnTo>
                    <a:pt x="599" y="6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30680" y="5233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2">
                  <a:moveTo>
                    <a:pt x="558" y="62"/>
                  </a:moveTo>
                  <a:lnTo>
                    <a:pt x="0" y="62"/>
                  </a:lnTo>
                  <a:lnTo>
                    <a:pt x="15" y="52"/>
                  </a:lnTo>
                  <a:lnTo>
                    <a:pt x="30" y="43"/>
                  </a:lnTo>
                  <a:lnTo>
                    <a:pt x="45" y="35"/>
                  </a:lnTo>
                  <a:lnTo>
                    <a:pt x="62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516" y="0"/>
                  </a:lnTo>
                  <a:lnTo>
                    <a:pt x="522" y="2"/>
                  </a:lnTo>
                  <a:lnTo>
                    <a:pt x="527" y="3"/>
                  </a:lnTo>
                  <a:lnTo>
                    <a:pt x="532" y="5"/>
                  </a:lnTo>
                  <a:lnTo>
                    <a:pt x="538" y="6"/>
                  </a:lnTo>
                  <a:lnTo>
                    <a:pt x="543" y="8"/>
                  </a:lnTo>
                  <a:lnTo>
                    <a:pt x="548" y="10"/>
                  </a:lnTo>
                  <a:lnTo>
                    <a:pt x="553" y="11"/>
                  </a:lnTo>
                  <a:lnTo>
                    <a:pt x="558" y="14"/>
                  </a:lnTo>
                  <a:lnTo>
                    <a:pt x="558" y="62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6520" y="5225760"/>
              <a:ext cx="160200" cy="17640"/>
            </a:xfrm>
            <a:custGeom>
              <a:avLst/>
              <a:gdLst/>
              <a:ahLst/>
              <a:rect l="l" t="t" r="r" b="b"/>
              <a:pathLst>
                <a:path w="505" h="56">
                  <a:moveTo>
                    <a:pt x="505" y="56"/>
                  </a:moveTo>
                  <a:lnTo>
                    <a:pt x="0" y="56"/>
                  </a:lnTo>
                  <a:lnTo>
                    <a:pt x="27" y="43"/>
                  </a:lnTo>
                  <a:lnTo>
                    <a:pt x="57" y="31"/>
                  </a:lnTo>
                  <a:lnTo>
                    <a:pt x="87" y="21"/>
                  </a:lnTo>
                  <a:lnTo>
                    <a:pt x="119" y="14"/>
                  </a:lnTo>
                  <a:lnTo>
                    <a:pt x="152" y="8"/>
                  </a:lnTo>
                  <a:lnTo>
                    <a:pt x="185" y="4"/>
                  </a:lnTo>
                  <a:lnTo>
                    <a:pt x="220" y="1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0" y="1"/>
                  </a:lnTo>
                  <a:lnTo>
                    <a:pt x="308" y="1"/>
                  </a:lnTo>
                  <a:lnTo>
                    <a:pt x="324" y="2"/>
                  </a:lnTo>
                  <a:lnTo>
                    <a:pt x="340" y="4"/>
                  </a:lnTo>
                  <a:lnTo>
                    <a:pt x="357" y="5"/>
                  </a:lnTo>
                  <a:lnTo>
                    <a:pt x="372" y="7"/>
                  </a:lnTo>
                  <a:lnTo>
                    <a:pt x="387" y="9"/>
                  </a:lnTo>
                  <a:lnTo>
                    <a:pt x="402" y="11"/>
                  </a:lnTo>
                  <a:lnTo>
                    <a:pt x="418" y="14"/>
                  </a:lnTo>
                  <a:lnTo>
                    <a:pt x="433" y="17"/>
                  </a:lnTo>
                  <a:lnTo>
                    <a:pt x="448" y="21"/>
                  </a:lnTo>
                  <a:lnTo>
                    <a:pt x="463" y="24"/>
                  </a:lnTo>
                  <a:lnTo>
                    <a:pt x="477" y="28"/>
                  </a:lnTo>
                  <a:lnTo>
                    <a:pt x="491" y="32"/>
                  </a:lnTo>
                  <a:lnTo>
                    <a:pt x="505" y="38"/>
                  </a:lnTo>
                  <a:lnTo>
                    <a:pt x="505" y="5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71720" y="5225760"/>
              <a:ext cx="122400" cy="7920"/>
            </a:xfrm>
            <a:custGeom>
              <a:avLst/>
              <a:gdLst/>
              <a:ahLst/>
              <a:rect l="l" t="t" r="r" b="b"/>
              <a:pathLst>
                <a:path w="386" h="24">
                  <a:moveTo>
                    <a:pt x="386" y="24"/>
                  </a:moveTo>
                  <a:lnTo>
                    <a:pt x="0" y="24"/>
                  </a:lnTo>
                  <a:lnTo>
                    <a:pt x="20" y="19"/>
                  </a:lnTo>
                  <a:lnTo>
                    <a:pt x="42" y="14"/>
                  </a:lnTo>
                  <a:lnTo>
                    <a:pt x="63" y="10"/>
                  </a:lnTo>
                  <a:lnTo>
                    <a:pt x="86" y="6"/>
                  </a:lnTo>
                  <a:lnTo>
                    <a:pt x="108" y="4"/>
                  </a:lnTo>
                  <a:lnTo>
                    <a:pt x="131" y="2"/>
                  </a:lnTo>
                  <a:lnTo>
                    <a:pt x="154" y="1"/>
                  </a:lnTo>
                  <a:lnTo>
                    <a:pt x="179" y="0"/>
                  </a:lnTo>
                  <a:lnTo>
                    <a:pt x="196" y="0"/>
                  </a:lnTo>
                  <a:lnTo>
                    <a:pt x="213" y="1"/>
                  </a:lnTo>
                  <a:lnTo>
                    <a:pt x="231" y="1"/>
                  </a:lnTo>
                  <a:lnTo>
                    <a:pt x="247" y="2"/>
                  </a:lnTo>
                  <a:lnTo>
                    <a:pt x="263" y="4"/>
                  </a:lnTo>
                  <a:lnTo>
                    <a:pt x="280" y="5"/>
                  </a:lnTo>
                  <a:lnTo>
                    <a:pt x="295" y="7"/>
                  </a:lnTo>
                  <a:lnTo>
                    <a:pt x="310" y="9"/>
                  </a:lnTo>
                  <a:lnTo>
                    <a:pt x="320" y="11"/>
                  </a:lnTo>
                  <a:lnTo>
                    <a:pt x="330" y="12"/>
                  </a:lnTo>
                  <a:lnTo>
                    <a:pt x="340" y="14"/>
                  </a:lnTo>
                  <a:lnTo>
                    <a:pt x="349" y="16"/>
                  </a:lnTo>
                  <a:lnTo>
                    <a:pt x="358" y="18"/>
                  </a:lnTo>
                  <a:lnTo>
                    <a:pt x="367" y="20"/>
                  </a:lnTo>
                  <a:lnTo>
                    <a:pt x="376" y="22"/>
                  </a:lnTo>
                  <a:lnTo>
                    <a:pt x="386" y="2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86920" y="5065560"/>
              <a:ext cx="3675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ex &amp; sile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68760" y="5225760"/>
              <a:ext cx="249120" cy="487440"/>
            </a:xfrm>
            <a:custGeom>
              <a:avLst/>
              <a:gdLst/>
              <a:ahLst/>
              <a:rect l="l" t="t" r="r" b="b"/>
              <a:pathLst>
                <a:path w="788" h="1535">
                  <a:moveTo>
                    <a:pt x="28" y="1516"/>
                  </a:moveTo>
                  <a:lnTo>
                    <a:pt x="18" y="1106"/>
                  </a:lnTo>
                  <a:lnTo>
                    <a:pt x="29" y="1111"/>
                  </a:lnTo>
                  <a:lnTo>
                    <a:pt x="40" y="1115"/>
                  </a:lnTo>
                  <a:lnTo>
                    <a:pt x="51" y="1118"/>
                  </a:lnTo>
                  <a:lnTo>
                    <a:pt x="61" y="1122"/>
                  </a:lnTo>
                  <a:lnTo>
                    <a:pt x="71" y="1125"/>
                  </a:lnTo>
                  <a:lnTo>
                    <a:pt x="81" y="1128"/>
                  </a:lnTo>
                  <a:lnTo>
                    <a:pt x="91" y="1131"/>
                  </a:lnTo>
                  <a:lnTo>
                    <a:pt x="102" y="1133"/>
                  </a:lnTo>
                  <a:lnTo>
                    <a:pt x="112" y="1136"/>
                  </a:lnTo>
                  <a:lnTo>
                    <a:pt x="121" y="1138"/>
                  </a:lnTo>
                  <a:lnTo>
                    <a:pt x="131" y="1139"/>
                  </a:lnTo>
                  <a:lnTo>
                    <a:pt x="140" y="1142"/>
                  </a:lnTo>
                  <a:lnTo>
                    <a:pt x="150" y="1143"/>
                  </a:lnTo>
                  <a:lnTo>
                    <a:pt x="159" y="1143"/>
                  </a:lnTo>
                  <a:lnTo>
                    <a:pt x="168" y="1144"/>
                  </a:lnTo>
                  <a:lnTo>
                    <a:pt x="177" y="1144"/>
                  </a:lnTo>
                  <a:lnTo>
                    <a:pt x="192" y="1143"/>
                  </a:lnTo>
                  <a:lnTo>
                    <a:pt x="208" y="1142"/>
                  </a:lnTo>
                  <a:lnTo>
                    <a:pt x="222" y="1138"/>
                  </a:lnTo>
                  <a:lnTo>
                    <a:pt x="235" y="1135"/>
                  </a:lnTo>
                  <a:lnTo>
                    <a:pt x="249" y="1130"/>
                  </a:lnTo>
                  <a:lnTo>
                    <a:pt x="260" y="1124"/>
                  </a:lnTo>
                  <a:lnTo>
                    <a:pt x="271" y="1118"/>
                  </a:lnTo>
                  <a:lnTo>
                    <a:pt x="282" y="1110"/>
                  </a:lnTo>
                  <a:lnTo>
                    <a:pt x="291" y="1102"/>
                  </a:lnTo>
                  <a:lnTo>
                    <a:pt x="300" y="1093"/>
                  </a:lnTo>
                  <a:lnTo>
                    <a:pt x="307" y="1082"/>
                  </a:lnTo>
                  <a:lnTo>
                    <a:pt x="313" y="1072"/>
                  </a:lnTo>
                  <a:lnTo>
                    <a:pt x="317" y="1062"/>
                  </a:lnTo>
                  <a:lnTo>
                    <a:pt x="320" y="1051"/>
                  </a:lnTo>
                  <a:lnTo>
                    <a:pt x="322" y="1039"/>
                  </a:lnTo>
                  <a:lnTo>
                    <a:pt x="323" y="1026"/>
                  </a:lnTo>
                  <a:lnTo>
                    <a:pt x="322" y="1018"/>
                  </a:lnTo>
                  <a:lnTo>
                    <a:pt x="321" y="1009"/>
                  </a:lnTo>
                  <a:lnTo>
                    <a:pt x="319" y="1001"/>
                  </a:lnTo>
                  <a:lnTo>
                    <a:pt x="316" y="992"/>
                  </a:lnTo>
                  <a:lnTo>
                    <a:pt x="312" y="981"/>
                  </a:lnTo>
                  <a:lnTo>
                    <a:pt x="307" y="972"/>
                  </a:lnTo>
                  <a:lnTo>
                    <a:pt x="302" y="962"/>
                  </a:lnTo>
                  <a:lnTo>
                    <a:pt x="295" y="952"/>
                  </a:lnTo>
                  <a:lnTo>
                    <a:pt x="287" y="941"/>
                  </a:lnTo>
                  <a:lnTo>
                    <a:pt x="279" y="931"/>
                  </a:lnTo>
                  <a:lnTo>
                    <a:pt x="270" y="919"/>
                  </a:lnTo>
                  <a:lnTo>
                    <a:pt x="261" y="907"/>
                  </a:lnTo>
                  <a:lnTo>
                    <a:pt x="238" y="884"/>
                  </a:lnTo>
                  <a:lnTo>
                    <a:pt x="212" y="859"/>
                  </a:lnTo>
                  <a:lnTo>
                    <a:pt x="203" y="851"/>
                  </a:lnTo>
                  <a:lnTo>
                    <a:pt x="195" y="843"/>
                  </a:lnTo>
                  <a:lnTo>
                    <a:pt x="186" y="835"/>
                  </a:lnTo>
                  <a:lnTo>
                    <a:pt x="178" y="828"/>
                  </a:lnTo>
                  <a:lnTo>
                    <a:pt x="171" y="821"/>
                  </a:lnTo>
                  <a:lnTo>
                    <a:pt x="165" y="815"/>
                  </a:lnTo>
                  <a:lnTo>
                    <a:pt x="159" y="809"/>
                  </a:lnTo>
                  <a:lnTo>
                    <a:pt x="154" y="804"/>
                  </a:lnTo>
                  <a:lnTo>
                    <a:pt x="135" y="784"/>
                  </a:lnTo>
                  <a:lnTo>
                    <a:pt x="117" y="764"/>
                  </a:lnTo>
                  <a:lnTo>
                    <a:pt x="101" y="744"/>
                  </a:lnTo>
                  <a:lnTo>
                    <a:pt x="85" y="724"/>
                  </a:lnTo>
                  <a:lnTo>
                    <a:pt x="72" y="703"/>
                  </a:lnTo>
                  <a:lnTo>
                    <a:pt x="59" y="682"/>
                  </a:lnTo>
                  <a:lnTo>
                    <a:pt x="48" y="661"/>
                  </a:lnTo>
                  <a:lnTo>
                    <a:pt x="37" y="640"/>
                  </a:lnTo>
                  <a:lnTo>
                    <a:pt x="28" y="619"/>
                  </a:lnTo>
                  <a:lnTo>
                    <a:pt x="21" y="597"/>
                  </a:lnTo>
                  <a:lnTo>
                    <a:pt x="15" y="575"/>
                  </a:lnTo>
                  <a:lnTo>
                    <a:pt x="10" y="552"/>
                  </a:lnTo>
                  <a:lnTo>
                    <a:pt x="6" y="530"/>
                  </a:lnTo>
                  <a:lnTo>
                    <a:pt x="3" y="506"/>
                  </a:lnTo>
                  <a:lnTo>
                    <a:pt x="1" y="483"/>
                  </a:lnTo>
                  <a:lnTo>
                    <a:pt x="0" y="459"/>
                  </a:lnTo>
                  <a:lnTo>
                    <a:pt x="1" y="434"/>
                  </a:lnTo>
                  <a:lnTo>
                    <a:pt x="3" y="410"/>
                  </a:lnTo>
                  <a:lnTo>
                    <a:pt x="5" y="386"/>
                  </a:lnTo>
                  <a:lnTo>
                    <a:pt x="9" y="363"/>
                  </a:lnTo>
                  <a:lnTo>
                    <a:pt x="14" y="340"/>
                  </a:lnTo>
                  <a:lnTo>
                    <a:pt x="20" y="318"/>
                  </a:lnTo>
                  <a:lnTo>
                    <a:pt x="27" y="296"/>
                  </a:lnTo>
                  <a:lnTo>
                    <a:pt x="35" y="276"/>
                  </a:lnTo>
                  <a:lnTo>
                    <a:pt x="45" y="256"/>
                  </a:lnTo>
                  <a:lnTo>
                    <a:pt x="55" y="236"/>
                  </a:lnTo>
                  <a:lnTo>
                    <a:pt x="66" y="217"/>
                  </a:lnTo>
                  <a:lnTo>
                    <a:pt x="79" y="198"/>
                  </a:lnTo>
                  <a:lnTo>
                    <a:pt x="93" y="180"/>
                  </a:lnTo>
                  <a:lnTo>
                    <a:pt x="108" y="163"/>
                  </a:lnTo>
                  <a:lnTo>
                    <a:pt x="123" y="146"/>
                  </a:lnTo>
                  <a:lnTo>
                    <a:pt x="140" y="129"/>
                  </a:lnTo>
                  <a:lnTo>
                    <a:pt x="158" y="113"/>
                  </a:lnTo>
                  <a:lnTo>
                    <a:pt x="177" y="99"/>
                  </a:lnTo>
                  <a:lnTo>
                    <a:pt x="196" y="85"/>
                  </a:lnTo>
                  <a:lnTo>
                    <a:pt x="216" y="72"/>
                  </a:lnTo>
                  <a:lnTo>
                    <a:pt x="236" y="61"/>
                  </a:lnTo>
                  <a:lnTo>
                    <a:pt x="258" y="51"/>
                  </a:lnTo>
                  <a:lnTo>
                    <a:pt x="279" y="41"/>
                  </a:lnTo>
                  <a:lnTo>
                    <a:pt x="302" y="32"/>
                  </a:lnTo>
                  <a:lnTo>
                    <a:pt x="324" y="24"/>
                  </a:lnTo>
                  <a:lnTo>
                    <a:pt x="349" y="18"/>
                  </a:lnTo>
                  <a:lnTo>
                    <a:pt x="372" y="13"/>
                  </a:lnTo>
                  <a:lnTo>
                    <a:pt x="397" y="8"/>
                  </a:lnTo>
                  <a:lnTo>
                    <a:pt x="423" y="5"/>
                  </a:lnTo>
                  <a:lnTo>
                    <a:pt x="450" y="2"/>
                  </a:lnTo>
                  <a:lnTo>
                    <a:pt x="476" y="1"/>
                  </a:lnTo>
                  <a:lnTo>
                    <a:pt x="504" y="0"/>
                  </a:lnTo>
                  <a:lnTo>
                    <a:pt x="521" y="0"/>
                  </a:lnTo>
                  <a:lnTo>
                    <a:pt x="538" y="1"/>
                  </a:lnTo>
                  <a:lnTo>
                    <a:pt x="556" y="1"/>
                  </a:lnTo>
                  <a:lnTo>
                    <a:pt x="572" y="2"/>
                  </a:lnTo>
                  <a:lnTo>
                    <a:pt x="588" y="4"/>
                  </a:lnTo>
                  <a:lnTo>
                    <a:pt x="605" y="5"/>
                  </a:lnTo>
                  <a:lnTo>
                    <a:pt x="620" y="7"/>
                  </a:lnTo>
                  <a:lnTo>
                    <a:pt x="635" y="9"/>
                  </a:lnTo>
                  <a:lnTo>
                    <a:pt x="650" y="11"/>
                  </a:lnTo>
                  <a:lnTo>
                    <a:pt x="666" y="14"/>
                  </a:lnTo>
                  <a:lnTo>
                    <a:pt x="681" y="17"/>
                  </a:lnTo>
                  <a:lnTo>
                    <a:pt x="696" y="21"/>
                  </a:lnTo>
                  <a:lnTo>
                    <a:pt x="711" y="24"/>
                  </a:lnTo>
                  <a:lnTo>
                    <a:pt x="725" y="28"/>
                  </a:lnTo>
                  <a:lnTo>
                    <a:pt x="739" y="32"/>
                  </a:lnTo>
                  <a:lnTo>
                    <a:pt x="753" y="38"/>
                  </a:lnTo>
                  <a:lnTo>
                    <a:pt x="753" y="407"/>
                  </a:lnTo>
                  <a:lnTo>
                    <a:pt x="742" y="400"/>
                  </a:lnTo>
                  <a:lnTo>
                    <a:pt x="730" y="395"/>
                  </a:lnTo>
                  <a:lnTo>
                    <a:pt x="719" y="390"/>
                  </a:lnTo>
                  <a:lnTo>
                    <a:pt x="708" y="385"/>
                  </a:lnTo>
                  <a:lnTo>
                    <a:pt x="696" y="381"/>
                  </a:lnTo>
                  <a:lnTo>
                    <a:pt x="685" y="377"/>
                  </a:lnTo>
                  <a:lnTo>
                    <a:pt x="674" y="373"/>
                  </a:lnTo>
                  <a:lnTo>
                    <a:pt x="664" y="370"/>
                  </a:lnTo>
                  <a:lnTo>
                    <a:pt x="654" y="367"/>
                  </a:lnTo>
                  <a:lnTo>
                    <a:pt x="643" y="365"/>
                  </a:lnTo>
                  <a:lnTo>
                    <a:pt x="633" y="363"/>
                  </a:lnTo>
                  <a:lnTo>
                    <a:pt x="624" y="361"/>
                  </a:lnTo>
                  <a:lnTo>
                    <a:pt x="615" y="360"/>
                  </a:lnTo>
                  <a:lnTo>
                    <a:pt x="607" y="359"/>
                  </a:lnTo>
                  <a:lnTo>
                    <a:pt x="597" y="358"/>
                  </a:lnTo>
                  <a:lnTo>
                    <a:pt x="589" y="358"/>
                  </a:lnTo>
                  <a:lnTo>
                    <a:pt x="572" y="359"/>
                  </a:lnTo>
                  <a:lnTo>
                    <a:pt x="555" y="360"/>
                  </a:lnTo>
                  <a:lnTo>
                    <a:pt x="539" y="362"/>
                  </a:lnTo>
                  <a:lnTo>
                    <a:pt x="525" y="366"/>
                  </a:lnTo>
                  <a:lnTo>
                    <a:pt x="511" y="370"/>
                  </a:lnTo>
                  <a:lnTo>
                    <a:pt x="498" y="375"/>
                  </a:lnTo>
                  <a:lnTo>
                    <a:pt x="487" y="381"/>
                  </a:lnTo>
                  <a:lnTo>
                    <a:pt x="477" y="388"/>
                  </a:lnTo>
                  <a:lnTo>
                    <a:pt x="468" y="396"/>
                  </a:lnTo>
                  <a:lnTo>
                    <a:pt x="460" y="406"/>
                  </a:lnTo>
                  <a:lnTo>
                    <a:pt x="453" y="415"/>
                  </a:lnTo>
                  <a:lnTo>
                    <a:pt x="447" y="425"/>
                  </a:lnTo>
                  <a:lnTo>
                    <a:pt x="443" y="436"/>
                  </a:lnTo>
                  <a:lnTo>
                    <a:pt x="440" y="448"/>
                  </a:lnTo>
                  <a:lnTo>
                    <a:pt x="438" y="462"/>
                  </a:lnTo>
                  <a:lnTo>
                    <a:pt x="437" y="475"/>
                  </a:lnTo>
                  <a:lnTo>
                    <a:pt x="438" y="483"/>
                  </a:lnTo>
                  <a:lnTo>
                    <a:pt x="439" y="491"/>
                  </a:lnTo>
                  <a:lnTo>
                    <a:pt x="441" y="499"/>
                  </a:lnTo>
                  <a:lnTo>
                    <a:pt x="444" y="507"/>
                  </a:lnTo>
                  <a:lnTo>
                    <a:pt x="448" y="517"/>
                  </a:lnTo>
                  <a:lnTo>
                    <a:pt x="453" y="525"/>
                  </a:lnTo>
                  <a:lnTo>
                    <a:pt x="458" y="534"/>
                  </a:lnTo>
                  <a:lnTo>
                    <a:pt x="465" y="543"/>
                  </a:lnTo>
                  <a:lnTo>
                    <a:pt x="472" y="552"/>
                  </a:lnTo>
                  <a:lnTo>
                    <a:pt x="479" y="561"/>
                  </a:lnTo>
                  <a:lnTo>
                    <a:pt x="488" y="572"/>
                  </a:lnTo>
                  <a:lnTo>
                    <a:pt x="497" y="581"/>
                  </a:lnTo>
                  <a:lnTo>
                    <a:pt x="520" y="601"/>
                  </a:lnTo>
                  <a:lnTo>
                    <a:pt x="544" y="622"/>
                  </a:lnTo>
                  <a:lnTo>
                    <a:pt x="555" y="631"/>
                  </a:lnTo>
                  <a:lnTo>
                    <a:pt x="565" y="638"/>
                  </a:lnTo>
                  <a:lnTo>
                    <a:pt x="574" y="646"/>
                  </a:lnTo>
                  <a:lnTo>
                    <a:pt x="582" y="653"/>
                  </a:lnTo>
                  <a:lnTo>
                    <a:pt x="590" y="659"/>
                  </a:lnTo>
                  <a:lnTo>
                    <a:pt x="597" y="666"/>
                  </a:lnTo>
                  <a:lnTo>
                    <a:pt x="605" y="672"/>
                  </a:lnTo>
                  <a:lnTo>
                    <a:pt x="611" y="677"/>
                  </a:lnTo>
                  <a:lnTo>
                    <a:pt x="631" y="696"/>
                  </a:lnTo>
                  <a:lnTo>
                    <a:pt x="651" y="716"/>
                  </a:lnTo>
                  <a:lnTo>
                    <a:pt x="670" y="737"/>
                  </a:lnTo>
                  <a:lnTo>
                    <a:pt x="687" y="758"/>
                  </a:lnTo>
                  <a:lnTo>
                    <a:pt x="702" y="780"/>
                  </a:lnTo>
                  <a:lnTo>
                    <a:pt x="717" y="802"/>
                  </a:lnTo>
                  <a:lnTo>
                    <a:pt x="731" y="826"/>
                  </a:lnTo>
                  <a:lnTo>
                    <a:pt x="742" y="850"/>
                  </a:lnTo>
                  <a:lnTo>
                    <a:pt x="753" y="874"/>
                  </a:lnTo>
                  <a:lnTo>
                    <a:pt x="763" y="900"/>
                  </a:lnTo>
                  <a:lnTo>
                    <a:pt x="770" y="924"/>
                  </a:lnTo>
                  <a:lnTo>
                    <a:pt x="776" y="951"/>
                  </a:lnTo>
                  <a:lnTo>
                    <a:pt x="781" y="977"/>
                  </a:lnTo>
                  <a:lnTo>
                    <a:pt x="785" y="1004"/>
                  </a:lnTo>
                  <a:lnTo>
                    <a:pt x="787" y="1030"/>
                  </a:lnTo>
                  <a:lnTo>
                    <a:pt x="788" y="1058"/>
                  </a:lnTo>
                  <a:lnTo>
                    <a:pt x="787" y="1085"/>
                  </a:lnTo>
                  <a:lnTo>
                    <a:pt x="785" y="1112"/>
                  </a:lnTo>
                  <a:lnTo>
                    <a:pt x="782" y="1138"/>
                  </a:lnTo>
                  <a:lnTo>
                    <a:pt x="778" y="1164"/>
                  </a:lnTo>
                  <a:lnTo>
                    <a:pt x="773" y="1188"/>
                  </a:lnTo>
                  <a:lnTo>
                    <a:pt x="767" y="1212"/>
                  </a:lnTo>
                  <a:lnTo>
                    <a:pt x="760" y="1234"/>
                  </a:lnTo>
                  <a:lnTo>
                    <a:pt x="750" y="1257"/>
                  </a:lnTo>
                  <a:lnTo>
                    <a:pt x="741" y="1278"/>
                  </a:lnTo>
                  <a:lnTo>
                    <a:pt x="730" y="1300"/>
                  </a:lnTo>
                  <a:lnTo>
                    <a:pt x="718" y="1319"/>
                  </a:lnTo>
                  <a:lnTo>
                    <a:pt x="705" y="1338"/>
                  </a:lnTo>
                  <a:lnTo>
                    <a:pt x="690" y="1357"/>
                  </a:lnTo>
                  <a:lnTo>
                    <a:pt x="674" y="1375"/>
                  </a:lnTo>
                  <a:lnTo>
                    <a:pt x="658" y="1391"/>
                  </a:lnTo>
                  <a:lnTo>
                    <a:pt x="639" y="1408"/>
                  </a:lnTo>
                  <a:lnTo>
                    <a:pt x="621" y="1423"/>
                  </a:lnTo>
                  <a:lnTo>
                    <a:pt x="600" y="1438"/>
                  </a:lnTo>
                  <a:lnTo>
                    <a:pt x="580" y="1451"/>
                  </a:lnTo>
                  <a:lnTo>
                    <a:pt x="559" y="1464"/>
                  </a:lnTo>
                  <a:lnTo>
                    <a:pt x="536" y="1475"/>
                  </a:lnTo>
                  <a:lnTo>
                    <a:pt x="513" y="1485"/>
                  </a:lnTo>
                  <a:lnTo>
                    <a:pt x="488" y="1495"/>
                  </a:lnTo>
                  <a:lnTo>
                    <a:pt x="463" y="1503"/>
                  </a:lnTo>
                  <a:lnTo>
                    <a:pt x="436" y="1511"/>
                  </a:lnTo>
                  <a:lnTo>
                    <a:pt x="410" y="1517"/>
                  </a:lnTo>
                  <a:lnTo>
                    <a:pt x="382" y="1523"/>
                  </a:lnTo>
                  <a:lnTo>
                    <a:pt x="353" y="1527"/>
                  </a:lnTo>
                  <a:lnTo>
                    <a:pt x="323" y="1531"/>
                  </a:lnTo>
                  <a:lnTo>
                    <a:pt x="292" y="1533"/>
                  </a:lnTo>
                  <a:lnTo>
                    <a:pt x="261" y="1535"/>
                  </a:lnTo>
                  <a:lnTo>
                    <a:pt x="229" y="1535"/>
                  </a:lnTo>
                  <a:lnTo>
                    <a:pt x="216" y="1535"/>
                  </a:lnTo>
                  <a:lnTo>
                    <a:pt x="203" y="1534"/>
                  </a:lnTo>
                  <a:lnTo>
                    <a:pt x="189" y="1534"/>
                  </a:lnTo>
                  <a:lnTo>
                    <a:pt x="176" y="1533"/>
                  </a:lnTo>
                  <a:lnTo>
                    <a:pt x="163" y="1532"/>
                  </a:lnTo>
                  <a:lnTo>
                    <a:pt x="151" y="1532"/>
                  </a:lnTo>
                  <a:lnTo>
                    <a:pt x="137" y="1531"/>
                  </a:lnTo>
                  <a:lnTo>
                    <a:pt x="125" y="1530"/>
                  </a:lnTo>
                  <a:lnTo>
                    <a:pt x="113" y="1528"/>
                  </a:lnTo>
                  <a:lnTo>
                    <a:pt x="101" y="1527"/>
                  </a:lnTo>
                  <a:lnTo>
                    <a:pt x="88" y="1526"/>
                  </a:lnTo>
                  <a:lnTo>
                    <a:pt x="76" y="1524"/>
                  </a:lnTo>
                  <a:lnTo>
                    <a:pt x="64" y="1522"/>
                  </a:lnTo>
                  <a:lnTo>
                    <a:pt x="52" y="1520"/>
                  </a:lnTo>
                  <a:lnTo>
                    <a:pt x="40" y="1518"/>
                  </a:lnTo>
                  <a:lnTo>
                    <a:pt x="28" y="151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06960" y="773280"/>
            <a:ext cx="189000" cy="288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400560" y="762120"/>
            <a:ext cx="2116080" cy="777600"/>
            <a:chOff x="3400560" y="762120"/>
            <a:chExt cx="2116080" cy="777600"/>
          </a:xfrm>
        </p:grpSpPr>
        <p:sp>
          <p:nvSpPr>
            <p:cNvPr id="341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870" y="1456"/>
                  </a:moveTo>
                  <a:lnTo>
                    <a:pt x="1339" y="1456"/>
                  </a:lnTo>
                  <a:lnTo>
                    <a:pt x="1104" y="687"/>
                  </a:lnTo>
                  <a:lnTo>
                    <a:pt x="870" y="1456"/>
                  </a:lnTo>
                  <a:close/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590" y="1673"/>
                  </a:moveTo>
                  <a:lnTo>
                    <a:pt x="619" y="1669"/>
                  </a:lnTo>
                  <a:lnTo>
                    <a:pt x="647" y="1665"/>
                  </a:lnTo>
                  <a:lnTo>
                    <a:pt x="674" y="1660"/>
                  </a:lnTo>
                  <a:lnTo>
                    <a:pt x="700" y="1654"/>
                  </a:lnTo>
                  <a:lnTo>
                    <a:pt x="725" y="1647"/>
                  </a:lnTo>
                  <a:lnTo>
                    <a:pt x="750" y="1639"/>
                  </a:lnTo>
                  <a:lnTo>
                    <a:pt x="774" y="1629"/>
                  </a:lnTo>
                  <a:lnTo>
                    <a:pt x="798" y="1619"/>
                  </a:lnTo>
                  <a:lnTo>
                    <a:pt x="820" y="1608"/>
                  </a:lnTo>
                  <a:lnTo>
                    <a:pt x="841" y="1596"/>
                  </a:lnTo>
                  <a:lnTo>
                    <a:pt x="863" y="1583"/>
                  </a:lnTo>
                  <a:lnTo>
                    <a:pt x="883" y="1568"/>
                  </a:lnTo>
                  <a:lnTo>
                    <a:pt x="903" y="1554"/>
                  </a:lnTo>
                  <a:lnTo>
                    <a:pt x="922" y="1538"/>
                  </a:lnTo>
                  <a:lnTo>
                    <a:pt x="940" y="1521"/>
                  </a:lnTo>
                  <a:lnTo>
                    <a:pt x="958" y="1503"/>
                  </a:lnTo>
                  <a:lnTo>
                    <a:pt x="975" y="1485"/>
                  </a:lnTo>
                  <a:lnTo>
                    <a:pt x="990" y="1465"/>
                  </a:lnTo>
                  <a:lnTo>
                    <a:pt x="1005" y="1446"/>
                  </a:lnTo>
                  <a:lnTo>
                    <a:pt x="1018" y="1426"/>
                  </a:lnTo>
                  <a:lnTo>
                    <a:pt x="1030" y="1404"/>
                  </a:lnTo>
                  <a:lnTo>
                    <a:pt x="1041" y="1383"/>
                  </a:lnTo>
                  <a:lnTo>
                    <a:pt x="1052" y="1360"/>
                  </a:lnTo>
                  <a:lnTo>
                    <a:pt x="1061" y="1338"/>
                  </a:lnTo>
                  <a:lnTo>
                    <a:pt x="1069" y="1316"/>
                  </a:lnTo>
                  <a:lnTo>
                    <a:pt x="1076" y="1291"/>
                  </a:lnTo>
                  <a:lnTo>
                    <a:pt x="1082" y="1267"/>
                  </a:lnTo>
                  <a:lnTo>
                    <a:pt x="1087" y="1242"/>
                  </a:lnTo>
                  <a:lnTo>
                    <a:pt x="1090" y="1217"/>
                  </a:lnTo>
                  <a:lnTo>
                    <a:pt x="1093" y="1190"/>
                  </a:lnTo>
                  <a:lnTo>
                    <a:pt x="1094" y="1164"/>
                  </a:lnTo>
                  <a:lnTo>
                    <a:pt x="1095" y="1136"/>
                  </a:lnTo>
                  <a:lnTo>
                    <a:pt x="1094" y="1108"/>
                  </a:lnTo>
                  <a:lnTo>
                    <a:pt x="1093" y="1078"/>
                  </a:lnTo>
                  <a:lnTo>
                    <a:pt x="1090" y="1050"/>
                  </a:lnTo>
                  <a:lnTo>
                    <a:pt x="1086" y="1023"/>
                  </a:lnTo>
                  <a:lnTo>
                    <a:pt x="1082" y="996"/>
                  </a:lnTo>
                  <a:lnTo>
                    <a:pt x="1076" y="971"/>
                  </a:lnTo>
                  <a:lnTo>
                    <a:pt x="1069" y="945"/>
                  </a:lnTo>
                  <a:lnTo>
                    <a:pt x="1061" y="921"/>
                  </a:lnTo>
                  <a:lnTo>
                    <a:pt x="1052" y="897"/>
                  </a:lnTo>
                  <a:lnTo>
                    <a:pt x="1041" y="873"/>
                  </a:lnTo>
                  <a:lnTo>
                    <a:pt x="1029" y="851"/>
                  </a:lnTo>
                  <a:lnTo>
                    <a:pt x="1017" y="828"/>
                  </a:lnTo>
                  <a:lnTo>
                    <a:pt x="1004" y="808"/>
                  </a:lnTo>
                  <a:lnTo>
                    <a:pt x="988" y="786"/>
                  </a:lnTo>
                  <a:lnTo>
                    <a:pt x="973" y="767"/>
                  </a:lnTo>
                  <a:lnTo>
                    <a:pt x="956" y="748"/>
                  </a:lnTo>
                  <a:lnTo>
                    <a:pt x="938" y="729"/>
                  </a:lnTo>
                  <a:lnTo>
                    <a:pt x="920" y="712"/>
                  </a:lnTo>
                  <a:lnTo>
                    <a:pt x="901" y="696"/>
                  </a:lnTo>
                  <a:lnTo>
                    <a:pt x="880" y="680"/>
                  </a:lnTo>
                  <a:lnTo>
                    <a:pt x="860" y="667"/>
                  </a:lnTo>
                  <a:lnTo>
                    <a:pt x="838" y="654"/>
                  </a:lnTo>
                  <a:lnTo>
                    <a:pt x="817" y="643"/>
                  </a:lnTo>
                  <a:lnTo>
                    <a:pt x="794" y="633"/>
                  </a:lnTo>
                  <a:lnTo>
                    <a:pt x="771" y="623"/>
                  </a:lnTo>
                  <a:lnTo>
                    <a:pt x="748" y="615"/>
                  </a:lnTo>
                  <a:lnTo>
                    <a:pt x="723" y="608"/>
                  </a:lnTo>
                  <a:lnTo>
                    <a:pt x="698" y="602"/>
                  </a:lnTo>
                  <a:lnTo>
                    <a:pt x="672" y="598"/>
                  </a:lnTo>
                  <a:lnTo>
                    <a:pt x="646" y="594"/>
                  </a:lnTo>
                  <a:lnTo>
                    <a:pt x="619" y="592"/>
                  </a:lnTo>
                  <a:lnTo>
                    <a:pt x="590" y="591"/>
                  </a:lnTo>
                  <a:lnTo>
                    <a:pt x="590" y="1673"/>
                  </a:lnTo>
                  <a:close/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76680" y="1022400"/>
              <a:ext cx="147600" cy="244440"/>
            </a:xfrm>
            <a:custGeom>
              <a:avLst/>
              <a:gdLst/>
              <a:ahLst/>
              <a:rect l="l" t="t" r="r" b="b"/>
              <a:pathLst>
                <a:path w="469" h="769">
                  <a:moveTo>
                    <a:pt x="0" y="769"/>
                  </a:moveTo>
                  <a:lnTo>
                    <a:pt x="469" y="769"/>
                  </a:lnTo>
                  <a:lnTo>
                    <a:pt x="234" y="0"/>
                  </a:lnTo>
                  <a:lnTo>
                    <a:pt x="0" y="7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3240" y="992160"/>
              <a:ext cx="160200" cy="343080"/>
            </a:xfrm>
            <a:custGeom>
              <a:avLst/>
              <a:gdLst/>
              <a:ahLst/>
              <a:rect l="l" t="t" r="r" b="b"/>
              <a:pathLst>
                <a:path w="505" h="1082">
                  <a:moveTo>
                    <a:pt x="0" y="1082"/>
                  </a:moveTo>
                  <a:lnTo>
                    <a:pt x="29" y="1078"/>
                  </a:lnTo>
                  <a:lnTo>
                    <a:pt x="57" y="1074"/>
                  </a:lnTo>
                  <a:lnTo>
                    <a:pt x="84" y="1069"/>
                  </a:lnTo>
                  <a:lnTo>
                    <a:pt x="110" y="1063"/>
                  </a:lnTo>
                  <a:lnTo>
                    <a:pt x="135" y="1056"/>
                  </a:lnTo>
                  <a:lnTo>
                    <a:pt x="160" y="1048"/>
                  </a:lnTo>
                  <a:lnTo>
                    <a:pt x="184" y="1038"/>
                  </a:lnTo>
                  <a:lnTo>
                    <a:pt x="208" y="1028"/>
                  </a:lnTo>
                  <a:lnTo>
                    <a:pt x="230" y="1017"/>
                  </a:lnTo>
                  <a:lnTo>
                    <a:pt x="251" y="1005"/>
                  </a:lnTo>
                  <a:lnTo>
                    <a:pt x="273" y="992"/>
                  </a:lnTo>
                  <a:lnTo>
                    <a:pt x="293" y="977"/>
                  </a:lnTo>
                  <a:lnTo>
                    <a:pt x="313" y="963"/>
                  </a:lnTo>
                  <a:lnTo>
                    <a:pt x="332" y="947"/>
                  </a:lnTo>
                  <a:lnTo>
                    <a:pt x="350" y="930"/>
                  </a:lnTo>
                  <a:lnTo>
                    <a:pt x="368" y="912"/>
                  </a:lnTo>
                  <a:lnTo>
                    <a:pt x="385" y="894"/>
                  </a:lnTo>
                  <a:lnTo>
                    <a:pt x="400" y="874"/>
                  </a:lnTo>
                  <a:lnTo>
                    <a:pt x="415" y="855"/>
                  </a:lnTo>
                  <a:lnTo>
                    <a:pt x="428" y="835"/>
                  </a:lnTo>
                  <a:lnTo>
                    <a:pt x="440" y="813"/>
                  </a:lnTo>
                  <a:lnTo>
                    <a:pt x="451" y="792"/>
                  </a:lnTo>
                  <a:lnTo>
                    <a:pt x="462" y="769"/>
                  </a:lnTo>
                  <a:lnTo>
                    <a:pt x="471" y="747"/>
                  </a:lnTo>
                  <a:lnTo>
                    <a:pt x="479" y="725"/>
                  </a:lnTo>
                  <a:lnTo>
                    <a:pt x="486" y="700"/>
                  </a:lnTo>
                  <a:lnTo>
                    <a:pt x="492" y="676"/>
                  </a:lnTo>
                  <a:lnTo>
                    <a:pt x="497" y="651"/>
                  </a:lnTo>
                  <a:lnTo>
                    <a:pt x="500" y="626"/>
                  </a:lnTo>
                  <a:lnTo>
                    <a:pt x="503" y="599"/>
                  </a:lnTo>
                  <a:lnTo>
                    <a:pt x="504" y="573"/>
                  </a:lnTo>
                  <a:lnTo>
                    <a:pt x="505" y="545"/>
                  </a:lnTo>
                  <a:lnTo>
                    <a:pt x="504" y="517"/>
                  </a:lnTo>
                  <a:lnTo>
                    <a:pt x="503" y="487"/>
                  </a:lnTo>
                  <a:lnTo>
                    <a:pt x="500" y="459"/>
                  </a:lnTo>
                  <a:lnTo>
                    <a:pt x="496" y="432"/>
                  </a:lnTo>
                  <a:lnTo>
                    <a:pt x="492" y="405"/>
                  </a:lnTo>
                  <a:lnTo>
                    <a:pt x="486" y="380"/>
                  </a:lnTo>
                  <a:lnTo>
                    <a:pt x="479" y="354"/>
                  </a:lnTo>
                  <a:lnTo>
                    <a:pt x="471" y="330"/>
                  </a:lnTo>
                  <a:lnTo>
                    <a:pt x="462" y="306"/>
                  </a:lnTo>
                  <a:lnTo>
                    <a:pt x="451" y="282"/>
                  </a:lnTo>
                  <a:lnTo>
                    <a:pt x="439" y="260"/>
                  </a:lnTo>
                  <a:lnTo>
                    <a:pt x="427" y="237"/>
                  </a:lnTo>
                  <a:lnTo>
                    <a:pt x="414" y="217"/>
                  </a:lnTo>
                  <a:lnTo>
                    <a:pt x="398" y="195"/>
                  </a:lnTo>
                  <a:lnTo>
                    <a:pt x="383" y="176"/>
                  </a:lnTo>
                  <a:lnTo>
                    <a:pt x="366" y="157"/>
                  </a:lnTo>
                  <a:lnTo>
                    <a:pt x="348" y="138"/>
                  </a:lnTo>
                  <a:lnTo>
                    <a:pt x="330" y="121"/>
                  </a:lnTo>
                  <a:lnTo>
                    <a:pt x="311" y="105"/>
                  </a:lnTo>
                  <a:lnTo>
                    <a:pt x="290" y="89"/>
                  </a:lnTo>
                  <a:lnTo>
                    <a:pt x="270" y="76"/>
                  </a:lnTo>
                  <a:lnTo>
                    <a:pt x="248" y="63"/>
                  </a:lnTo>
                  <a:lnTo>
                    <a:pt x="227" y="52"/>
                  </a:lnTo>
                  <a:lnTo>
                    <a:pt x="204" y="42"/>
                  </a:lnTo>
                  <a:lnTo>
                    <a:pt x="181" y="32"/>
                  </a:lnTo>
                  <a:lnTo>
                    <a:pt x="158" y="24"/>
                  </a:lnTo>
                  <a:lnTo>
                    <a:pt x="133" y="17"/>
                  </a:lnTo>
                  <a:lnTo>
                    <a:pt x="108" y="11"/>
                  </a:lnTo>
                  <a:lnTo>
                    <a:pt x="82" y="7"/>
                  </a:lnTo>
                  <a:lnTo>
                    <a:pt x="56" y="3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108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30440" y="1479600"/>
              <a:ext cx="704880" cy="19080"/>
            </a:xfrm>
            <a:custGeom>
              <a:avLst/>
              <a:gdLst/>
              <a:ahLst/>
              <a:rect l="l" t="t" r="r" b="b"/>
              <a:pathLst>
                <a:path w="2222" h="58">
                  <a:moveTo>
                    <a:pt x="20" y="0"/>
                  </a:moveTo>
                  <a:lnTo>
                    <a:pt x="636" y="0"/>
                  </a:lnTo>
                  <a:lnTo>
                    <a:pt x="616" y="58"/>
                  </a:lnTo>
                  <a:lnTo>
                    <a:pt x="0" y="58"/>
                  </a:lnTo>
                  <a:lnTo>
                    <a:pt x="20" y="0"/>
                  </a:lnTo>
                  <a:close/>
                  <a:moveTo>
                    <a:pt x="1576" y="0"/>
                  </a:moveTo>
                  <a:lnTo>
                    <a:pt x="2202" y="0"/>
                  </a:lnTo>
                  <a:lnTo>
                    <a:pt x="2222" y="58"/>
                  </a:lnTo>
                  <a:lnTo>
                    <a:pt x="1594" y="58"/>
                  </a:lnTo>
                  <a:lnTo>
                    <a:pt x="157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30440" y="1465200"/>
              <a:ext cx="704880" cy="30240"/>
            </a:xfrm>
            <a:custGeom>
              <a:avLst/>
              <a:gdLst/>
              <a:ahLst/>
              <a:rect l="l" t="t" r="r" b="b"/>
              <a:pathLst>
                <a:path w="2216" h="95">
                  <a:moveTo>
                    <a:pt x="2216" y="95"/>
                  </a:moveTo>
                  <a:lnTo>
                    <a:pt x="1588" y="95"/>
                  </a:lnTo>
                  <a:lnTo>
                    <a:pt x="1558" y="0"/>
                  </a:lnTo>
                  <a:lnTo>
                    <a:pt x="2184" y="0"/>
                  </a:lnTo>
                  <a:lnTo>
                    <a:pt x="2216" y="95"/>
                  </a:lnTo>
                  <a:close/>
                  <a:moveTo>
                    <a:pt x="617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649" y="0"/>
                  </a:lnTo>
                  <a:lnTo>
                    <a:pt x="617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6920" y="1449360"/>
              <a:ext cx="692280" cy="30240"/>
            </a:xfrm>
            <a:custGeom>
              <a:avLst/>
              <a:gdLst/>
              <a:ahLst/>
              <a:rect l="l" t="t" r="r" b="b"/>
              <a:pathLst>
                <a:path w="2182" h="95">
                  <a:moveTo>
                    <a:pt x="2182" y="95"/>
                  </a:moveTo>
                  <a:lnTo>
                    <a:pt x="1556" y="95"/>
                  </a:lnTo>
                  <a:lnTo>
                    <a:pt x="1525" y="0"/>
                  </a:lnTo>
                  <a:lnTo>
                    <a:pt x="2152" y="0"/>
                  </a:lnTo>
                  <a:lnTo>
                    <a:pt x="2182" y="95"/>
                  </a:lnTo>
                  <a:close/>
                  <a:moveTo>
                    <a:pt x="616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48" y="0"/>
                  </a:lnTo>
                  <a:lnTo>
                    <a:pt x="61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1600" y="1434960"/>
              <a:ext cx="682560" cy="30240"/>
            </a:xfrm>
            <a:custGeom>
              <a:avLst/>
              <a:gdLst/>
              <a:ahLst/>
              <a:rect l="l" t="t" r="r" b="b"/>
              <a:pathLst>
                <a:path w="2150" h="94">
                  <a:moveTo>
                    <a:pt x="2150" y="94"/>
                  </a:moveTo>
                  <a:lnTo>
                    <a:pt x="1524" y="94"/>
                  </a:lnTo>
                  <a:lnTo>
                    <a:pt x="1493" y="0"/>
                  </a:lnTo>
                  <a:lnTo>
                    <a:pt x="2119" y="0"/>
                  </a:lnTo>
                  <a:lnTo>
                    <a:pt x="2150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6640" y="1419120"/>
              <a:ext cx="672840" cy="30240"/>
            </a:xfrm>
            <a:custGeom>
              <a:avLst/>
              <a:gdLst/>
              <a:ahLst/>
              <a:rect l="l" t="t" r="r" b="b"/>
              <a:pathLst>
                <a:path w="2119" h="94">
                  <a:moveTo>
                    <a:pt x="2119" y="94"/>
                  </a:moveTo>
                  <a:lnTo>
                    <a:pt x="1492" y="94"/>
                  </a:lnTo>
                  <a:lnTo>
                    <a:pt x="1462" y="0"/>
                  </a:lnTo>
                  <a:lnTo>
                    <a:pt x="2087" y="0"/>
                  </a:lnTo>
                  <a:lnTo>
                    <a:pt x="2119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2760" y="1405080"/>
              <a:ext cx="662040" cy="29880"/>
            </a:xfrm>
            <a:custGeom>
              <a:avLst/>
              <a:gdLst/>
              <a:ahLst/>
              <a:rect l="l" t="t" r="r" b="b"/>
              <a:pathLst>
                <a:path w="2087" h="94">
                  <a:moveTo>
                    <a:pt x="2087" y="94"/>
                  </a:moveTo>
                  <a:lnTo>
                    <a:pt x="1461" y="94"/>
                  </a:lnTo>
                  <a:lnTo>
                    <a:pt x="1443" y="38"/>
                  </a:lnTo>
                  <a:lnTo>
                    <a:pt x="634" y="38"/>
                  </a:lnTo>
                  <a:lnTo>
                    <a:pt x="615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56" y="0"/>
                  </a:lnTo>
                  <a:lnTo>
                    <a:pt x="2087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7440" y="1390680"/>
              <a:ext cx="652680" cy="28440"/>
            </a:xfrm>
            <a:custGeom>
              <a:avLst/>
              <a:gdLst/>
              <a:ahLst/>
              <a:rect l="l" t="t" r="r" b="b"/>
              <a:pathLst>
                <a:path w="2054" h="94">
                  <a:moveTo>
                    <a:pt x="2054" y="94"/>
                  </a:moveTo>
                  <a:lnTo>
                    <a:pt x="1429" y="94"/>
                  </a:lnTo>
                  <a:lnTo>
                    <a:pt x="1426" y="85"/>
                  </a:lnTo>
                  <a:lnTo>
                    <a:pt x="617" y="85"/>
                  </a:lnTo>
                  <a:lnTo>
                    <a:pt x="614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23" y="0"/>
                  </a:lnTo>
                  <a:lnTo>
                    <a:pt x="2054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1374840"/>
              <a:ext cx="642960" cy="30240"/>
            </a:xfrm>
            <a:custGeom>
              <a:avLst/>
              <a:gdLst/>
              <a:ahLst/>
              <a:rect l="l" t="t" r="r" b="b"/>
              <a:pathLst>
                <a:path w="2023" h="94">
                  <a:moveTo>
                    <a:pt x="2023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992" y="0"/>
                  </a:lnTo>
                  <a:lnTo>
                    <a:pt x="2023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68600" y="1360440"/>
              <a:ext cx="631800" cy="30240"/>
            </a:xfrm>
            <a:custGeom>
              <a:avLst/>
              <a:gdLst/>
              <a:ahLst/>
              <a:rect l="l" t="t" r="r" b="b"/>
              <a:pathLst>
                <a:path w="1990" h="94">
                  <a:moveTo>
                    <a:pt x="199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959" y="0"/>
                  </a:lnTo>
                  <a:lnTo>
                    <a:pt x="199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3280" y="1344600"/>
              <a:ext cx="622440" cy="30240"/>
            </a:xfrm>
            <a:custGeom>
              <a:avLst/>
              <a:gdLst/>
              <a:ahLst/>
              <a:rect l="l" t="t" r="r" b="b"/>
              <a:pathLst>
                <a:path w="1958" h="94">
                  <a:moveTo>
                    <a:pt x="195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1927" y="0"/>
                  </a:lnTo>
                  <a:lnTo>
                    <a:pt x="1958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78320" y="1330200"/>
              <a:ext cx="610920" cy="30240"/>
            </a:xfrm>
            <a:custGeom>
              <a:avLst/>
              <a:gdLst/>
              <a:ahLst/>
              <a:rect l="l" t="t" r="r" b="b"/>
              <a:pathLst>
                <a:path w="1926" h="94">
                  <a:moveTo>
                    <a:pt x="1926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895" y="0"/>
                  </a:lnTo>
                  <a:lnTo>
                    <a:pt x="1926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83000" y="1314360"/>
              <a:ext cx="601560" cy="30240"/>
            </a:xfrm>
            <a:custGeom>
              <a:avLst/>
              <a:gdLst/>
              <a:ahLst/>
              <a:rect l="l" t="t" r="r" b="b"/>
              <a:pathLst>
                <a:path w="1895" h="95">
                  <a:moveTo>
                    <a:pt x="1895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63" y="0"/>
                  </a:lnTo>
                  <a:lnTo>
                    <a:pt x="1895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89480" y="1300320"/>
              <a:ext cx="590400" cy="29880"/>
            </a:xfrm>
            <a:custGeom>
              <a:avLst/>
              <a:gdLst/>
              <a:ahLst/>
              <a:rect l="l" t="t" r="r" b="b"/>
              <a:pathLst>
                <a:path w="1862" h="95">
                  <a:moveTo>
                    <a:pt x="186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31" y="0"/>
                  </a:lnTo>
                  <a:lnTo>
                    <a:pt x="1862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4160" y="1285920"/>
              <a:ext cx="581040" cy="28440"/>
            </a:xfrm>
            <a:custGeom>
              <a:avLst/>
              <a:gdLst/>
              <a:ahLst/>
              <a:rect l="l" t="t" r="r" b="b"/>
              <a:pathLst>
                <a:path w="1830" h="94">
                  <a:moveTo>
                    <a:pt x="1830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799" y="0"/>
                  </a:lnTo>
                  <a:lnTo>
                    <a:pt x="1830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8840" y="1270080"/>
              <a:ext cx="571680" cy="30240"/>
            </a:xfrm>
            <a:custGeom>
              <a:avLst/>
              <a:gdLst/>
              <a:ahLst/>
              <a:rect l="l" t="t" r="r" b="b"/>
              <a:pathLst>
                <a:path w="1798" h="94">
                  <a:moveTo>
                    <a:pt x="1798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67" y="0"/>
                  </a:lnTo>
                  <a:lnTo>
                    <a:pt x="1798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05320" y="1255680"/>
              <a:ext cx="560160" cy="30240"/>
            </a:xfrm>
            <a:custGeom>
              <a:avLst/>
              <a:gdLst/>
              <a:ahLst/>
              <a:rect l="l" t="t" r="r" b="b"/>
              <a:pathLst>
                <a:path w="1765" h="93">
                  <a:moveTo>
                    <a:pt x="1765" y="93"/>
                  </a:moveTo>
                  <a:lnTo>
                    <a:pt x="0" y="93"/>
                  </a:lnTo>
                  <a:lnTo>
                    <a:pt x="32" y="0"/>
                  </a:lnTo>
                  <a:lnTo>
                    <a:pt x="1734" y="0"/>
                  </a:lnTo>
                  <a:lnTo>
                    <a:pt x="1765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10000" y="1239840"/>
              <a:ext cx="550800" cy="30240"/>
            </a:xfrm>
            <a:custGeom>
              <a:avLst/>
              <a:gdLst/>
              <a:ahLst/>
              <a:rect l="l" t="t" r="r" b="b"/>
              <a:pathLst>
                <a:path w="1734" h="94">
                  <a:moveTo>
                    <a:pt x="1734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02" y="0"/>
                  </a:lnTo>
                  <a:lnTo>
                    <a:pt x="1734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14680" y="1225440"/>
              <a:ext cx="541440" cy="30240"/>
            </a:xfrm>
            <a:custGeom>
              <a:avLst/>
              <a:gdLst/>
              <a:ahLst/>
              <a:rect l="l" t="t" r="r" b="b"/>
              <a:pathLst>
                <a:path w="1702" h="95">
                  <a:moveTo>
                    <a:pt x="170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12" y="0"/>
                  </a:lnTo>
                  <a:lnTo>
                    <a:pt x="602" y="32"/>
                  </a:lnTo>
                  <a:lnTo>
                    <a:pt x="1072" y="32"/>
                  </a:lnTo>
                  <a:lnTo>
                    <a:pt x="1062" y="0"/>
                  </a:lnTo>
                  <a:lnTo>
                    <a:pt x="1671" y="0"/>
                  </a:lnTo>
                  <a:lnTo>
                    <a:pt x="1702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1160" y="1211400"/>
              <a:ext cx="528480" cy="284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6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10" y="0"/>
                  </a:lnTo>
                  <a:lnTo>
                    <a:pt x="585" y="79"/>
                  </a:lnTo>
                  <a:lnTo>
                    <a:pt x="1055" y="79"/>
                  </a:lnTo>
                  <a:lnTo>
                    <a:pt x="1031" y="0"/>
                  </a:lnTo>
                  <a:lnTo>
                    <a:pt x="1639" y="0"/>
                  </a:lnTo>
                  <a:lnTo>
                    <a:pt x="1669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25840" y="1195560"/>
              <a:ext cx="519120" cy="29880"/>
            </a:xfrm>
            <a:custGeom>
              <a:avLst/>
              <a:gdLst/>
              <a:ahLst/>
              <a:rect l="l" t="t" r="r" b="b"/>
              <a:pathLst>
                <a:path w="1638" h="94">
                  <a:moveTo>
                    <a:pt x="1638" y="94"/>
                  </a:moveTo>
                  <a:lnTo>
                    <a:pt x="1029" y="94"/>
                  </a:lnTo>
                  <a:lnTo>
                    <a:pt x="1001" y="0"/>
                  </a:lnTo>
                  <a:lnTo>
                    <a:pt x="1606" y="0"/>
                  </a:lnTo>
                  <a:lnTo>
                    <a:pt x="1638" y="94"/>
                  </a:lnTo>
                  <a:close/>
                  <a:moveTo>
                    <a:pt x="57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8" y="0"/>
                  </a:lnTo>
                  <a:lnTo>
                    <a:pt x="579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30520" y="1181160"/>
              <a:ext cx="509760" cy="30240"/>
            </a:xfrm>
            <a:custGeom>
              <a:avLst/>
              <a:gdLst/>
              <a:ahLst/>
              <a:rect l="l" t="t" r="r" b="b"/>
              <a:pathLst>
                <a:path w="1607" h="94">
                  <a:moveTo>
                    <a:pt x="1607" y="94"/>
                  </a:moveTo>
                  <a:lnTo>
                    <a:pt x="999" y="94"/>
                  </a:lnTo>
                  <a:lnTo>
                    <a:pt x="969" y="0"/>
                  </a:lnTo>
                  <a:lnTo>
                    <a:pt x="1575" y="0"/>
                  </a:lnTo>
                  <a:lnTo>
                    <a:pt x="1607" y="94"/>
                  </a:lnTo>
                  <a:close/>
                  <a:moveTo>
                    <a:pt x="578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6" y="0"/>
                  </a:lnTo>
                  <a:lnTo>
                    <a:pt x="578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7000" y="1165320"/>
              <a:ext cx="498600" cy="30240"/>
            </a:xfrm>
            <a:custGeom>
              <a:avLst/>
              <a:gdLst/>
              <a:ahLst/>
              <a:rect l="l" t="t" r="r" b="b"/>
              <a:pathLst>
                <a:path w="1572" h="95">
                  <a:moveTo>
                    <a:pt x="1572" y="95"/>
                  </a:moveTo>
                  <a:lnTo>
                    <a:pt x="967" y="95"/>
                  </a:lnTo>
                  <a:lnTo>
                    <a:pt x="937" y="0"/>
                  </a:lnTo>
                  <a:lnTo>
                    <a:pt x="1542" y="0"/>
                  </a:lnTo>
                  <a:lnTo>
                    <a:pt x="1572" y="95"/>
                  </a:lnTo>
                  <a:close/>
                  <a:moveTo>
                    <a:pt x="574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602" y="0"/>
                  </a:lnTo>
                  <a:lnTo>
                    <a:pt x="574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41680" y="1150920"/>
              <a:ext cx="488880" cy="30240"/>
            </a:xfrm>
            <a:custGeom>
              <a:avLst/>
              <a:gdLst/>
              <a:ahLst/>
              <a:rect l="l" t="t" r="r" b="b"/>
              <a:pathLst>
                <a:path w="1541" h="95">
                  <a:moveTo>
                    <a:pt x="1541" y="95"/>
                  </a:moveTo>
                  <a:lnTo>
                    <a:pt x="935" y="95"/>
                  </a:lnTo>
                  <a:lnTo>
                    <a:pt x="907" y="0"/>
                  </a:lnTo>
                  <a:lnTo>
                    <a:pt x="1510" y="0"/>
                  </a:lnTo>
                  <a:lnTo>
                    <a:pt x="1541" y="95"/>
                  </a:lnTo>
                  <a:close/>
                  <a:moveTo>
                    <a:pt x="57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01" y="0"/>
                  </a:lnTo>
                  <a:lnTo>
                    <a:pt x="572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360" y="1135080"/>
              <a:ext cx="479520" cy="30240"/>
            </a:xfrm>
            <a:custGeom>
              <a:avLst/>
              <a:gdLst/>
              <a:ahLst/>
              <a:rect l="l" t="t" r="r" b="b"/>
              <a:pathLst>
                <a:path w="1510" h="94">
                  <a:moveTo>
                    <a:pt x="1510" y="94"/>
                  </a:moveTo>
                  <a:lnTo>
                    <a:pt x="905" y="94"/>
                  </a:lnTo>
                  <a:lnTo>
                    <a:pt x="876" y="0"/>
                  </a:lnTo>
                  <a:lnTo>
                    <a:pt x="1478" y="0"/>
                  </a:lnTo>
                  <a:lnTo>
                    <a:pt x="1510" y="94"/>
                  </a:lnTo>
                  <a:close/>
                  <a:moveTo>
                    <a:pt x="57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99" y="0"/>
                  </a:lnTo>
                  <a:lnTo>
                    <a:pt x="570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1400" y="1120680"/>
              <a:ext cx="469800" cy="30240"/>
            </a:xfrm>
            <a:custGeom>
              <a:avLst/>
              <a:gdLst/>
              <a:ahLst/>
              <a:rect l="l" t="t" r="r" b="b"/>
              <a:pathLst>
                <a:path w="1477" h="94">
                  <a:moveTo>
                    <a:pt x="1477" y="94"/>
                  </a:moveTo>
                  <a:lnTo>
                    <a:pt x="874" y="94"/>
                  </a:lnTo>
                  <a:lnTo>
                    <a:pt x="845" y="0"/>
                  </a:lnTo>
                  <a:lnTo>
                    <a:pt x="1446" y="0"/>
                  </a:lnTo>
                  <a:lnTo>
                    <a:pt x="1477" y="94"/>
                  </a:lnTo>
                  <a:close/>
                  <a:moveTo>
                    <a:pt x="5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96" y="0"/>
                  </a:lnTo>
                  <a:lnTo>
                    <a:pt x="568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57520" y="1106640"/>
              <a:ext cx="459000" cy="28440"/>
            </a:xfrm>
            <a:custGeom>
              <a:avLst/>
              <a:gdLst/>
              <a:ahLst/>
              <a:rect l="l" t="t" r="r" b="b"/>
              <a:pathLst>
                <a:path w="1445" h="93">
                  <a:moveTo>
                    <a:pt x="1445" y="93"/>
                  </a:moveTo>
                  <a:lnTo>
                    <a:pt x="843" y="93"/>
                  </a:lnTo>
                  <a:lnTo>
                    <a:pt x="815" y="0"/>
                  </a:lnTo>
                  <a:lnTo>
                    <a:pt x="1415" y="0"/>
                  </a:lnTo>
                  <a:lnTo>
                    <a:pt x="1445" y="93"/>
                  </a:lnTo>
                  <a:close/>
                  <a:moveTo>
                    <a:pt x="56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595" y="0"/>
                  </a:lnTo>
                  <a:lnTo>
                    <a:pt x="566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62200" y="1090440"/>
              <a:ext cx="449280" cy="302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414" y="94"/>
                  </a:moveTo>
                  <a:lnTo>
                    <a:pt x="813" y="94"/>
                  </a:lnTo>
                  <a:lnTo>
                    <a:pt x="785" y="0"/>
                  </a:lnTo>
                  <a:lnTo>
                    <a:pt x="1382" y="0"/>
                  </a:lnTo>
                  <a:lnTo>
                    <a:pt x="1414" y="94"/>
                  </a:lnTo>
                  <a:close/>
                  <a:moveTo>
                    <a:pt x="564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593" y="0"/>
                  </a:lnTo>
                  <a:lnTo>
                    <a:pt x="564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67240" y="1076400"/>
              <a:ext cx="439560" cy="30240"/>
            </a:xfrm>
            <a:custGeom>
              <a:avLst/>
              <a:gdLst/>
              <a:ahLst/>
              <a:rect l="l" t="t" r="r" b="b"/>
              <a:pathLst>
                <a:path w="1381" h="95">
                  <a:moveTo>
                    <a:pt x="1381" y="95"/>
                  </a:moveTo>
                  <a:lnTo>
                    <a:pt x="781" y="95"/>
                  </a:lnTo>
                  <a:lnTo>
                    <a:pt x="751" y="0"/>
                  </a:lnTo>
                  <a:lnTo>
                    <a:pt x="1349" y="0"/>
                  </a:lnTo>
                  <a:lnTo>
                    <a:pt x="1381" y="95"/>
                  </a:lnTo>
                  <a:close/>
                  <a:moveTo>
                    <a:pt x="5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589" y="0"/>
                  </a:lnTo>
                  <a:lnTo>
                    <a:pt x="56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3360" y="1060560"/>
              <a:ext cx="427320" cy="29880"/>
            </a:xfrm>
            <a:custGeom>
              <a:avLst/>
              <a:gdLst/>
              <a:ahLst/>
              <a:rect l="l" t="t" r="r" b="b"/>
              <a:pathLst>
                <a:path w="1348" h="94">
                  <a:moveTo>
                    <a:pt x="1348" y="94"/>
                  </a:moveTo>
                  <a:lnTo>
                    <a:pt x="751" y="94"/>
                  </a:lnTo>
                  <a:lnTo>
                    <a:pt x="721" y="0"/>
                  </a:lnTo>
                  <a:lnTo>
                    <a:pt x="1318" y="0"/>
                  </a:lnTo>
                  <a:lnTo>
                    <a:pt x="1348" y="94"/>
                  </a:lnTo>
                  <a:close/>
                  <a:moveTo>
                    <a:pt x="55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87" y="0"/>
                  </a:lnTo>
                  <a:lnTo>
                    <a:pt x="559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8400" y="1046160"/>
              <a:ext cx="417240" cy="30240"/>
            </a:xfrm>
            <a:custGeom>
              <a:avLst/>
              <a:gdLst/>
              <a:ahLst/>
              <a:rect l="l" t="t" r="r" b="b"/>
              <a:pathLst>
                <a:path w="1317" h="94">
                  <a:moveTo>
                    <a:pt x="1317" y="94"/>
                  </a:moveTo>
                  <a:lnTo>
                    <a:pt x="719" y="94"/>
                  </a:lnTo>
                  <a:lnTo>
                    <a:pt x="691" y="0"/>
                  </a:lnTo>
                  <a:lnTo>
                    <a:pt x="1286" y="0"/>
                  </a:lnTo>
                  <a:lnTo>
                    <a:pt x="1317" y="94"/>
                  </a:lnTo>
                  <a:close/>
                  <a:moveTo>
                    <a:pt x="557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6" y="0"/>
                  </a:lnTo>
                  <a:lnTo>
                    <a:pt x="557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3080" y="1031760"/>
              <a:ext cx="407880" cy="28800"/>
            </a:xfrm>
            <a:custGeom>
              <a:avLst/>
              <a:gdLst/>
              <a:ahLst/>
              <a:rect l="l" t="t" r="r" b="b"/>
              <a:pathLst>
                <a:path w="1286" h="94">
                  <a:moveTo>
                    <a:pt x="1286" y="94"/>
                  </a:moveTo>
                  <a:lnTo>
                    <a:pt x="689" y="94"/>
                  </a:lnTo>
                  <a:lnTo>
                    <a:pt x="660" y="0"/>
                  </a:lnTo>
                  <a:lnTo>
                    <a:pt x="1254" y="0"/>
                  </a:lnTo>
                  <a:lnTo>
                    <a:pt x="1286" y="94"/>
                  </a:lnTo>
                  <a:close/>
                  <a:moveTo>
                    <a:pt x="55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4" y="0"/>
                  </a:lnTo>
                  <a:lnTo>
                    <a:pt x="555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7760" y="1015920"/>
              <a:ext cx="398520" cy="30240"/>
            </a:xfrm>
            <a:custGeom>
              <a:avLst/>
              <a:gdLst/>
              <a:ahLst/>
              <a:rect l="l" t="t" r="r" b="b"/>
              <a:pathLst>
                <a:path w="1253" h="95">
                  <a:moveTo>
                    <a:pt x="1253" y="95"/>
                  </a:moveTo>
                  <a:lnTo>
                    <a:pt x="658" y="95"/>
                  </a:lnTo>
                  <a:lnTo>
                    <a:pt x="629" y="0"/>
                  </a:lnTo>
                  <a:lnTo>
                    <a:pt x="1222" y="0"/>
                  </a:lnTo>
                  <a:lnTo>
                    <a:pt x="1253" y="95"/>
                  </a:lnTo>
                  <a:close/>
                  <a:moveTo>
                    <a:pt x="55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581" y="0"/>
                  </a:lnTo>
                  <a:lnTo>
                    <a:pt x="553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4240" y="1001880"/>
              <a:ext cx="387360" cy="2988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627" y="95"/>
                  </a:lnTo>
                  <a:lnTo>
                    <a:pt x="599" y="0"/>
                  </a:lnTo>
                  <a:lnTo>
                    <a:pt x="1190" y="0"/>
                  </a:lnTo>
                  <a:lnTo>
                    <a:pt x="1221" y="95"/>
                  </a:lnTo>
                  <a:close/>
                  <a:moveTo>
                    <a:pt x="551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580" y="0"/>
                  </a:lnTo>
                  <a:lnTo>
                    <a:pt x="55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8920" y="985680"/>
              <a:ext cx="377640" cy="30240"/>
            </a:xfrm>
            <a:custGeom>
              <a:avLst/>
              <a:gdLst/>
              <a:ahLst/>
              <a:rect l="l" t="t" r="r" b="b"/>
              <a:pathLst>
                <a:path w="1189" h="94">
                  <a:moveTo>
                    <a:pt x="1189" y="94"/>
                  </a:moveTo>
                  <a:lnTo>
                    <a:pt x="596" y="94"/>
                  </a:lnTo>
                  <a:lnTo>
                    <a:pt x="572" y="16"/>
                  </a:lnTo>
                  <a:lnTo>
                    <a:pt x="548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1157" y="0"/>
                  </a:lnTo>
                  <a:lnTo>
                    <a:pt x="1189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3600" y="971640"/>
              <a:ext cx="368280" cy="30240"/>
            </a:xfrm>
            <a:custGeom>
              <a:avLst/>
              <a:gdLst/>
              <a:ahLst/>
              <a:rect l="l" t="t" r="r" b="b"/>
              <a:pathLst>
                <a:path w="1156" h="93">
                  <a:moveTo>
                    <a:pt x="1156" y="93"/>
                  </a:moveTo>
                  <a:lnTo>
                    <a:pt x="565" y="93"/>
                  </a:lnTo>
                  <a:lnTo>
                    <a:pt x="555" y="62"/>
                  </a:lnTo>
                  <a:lnTo>
                    <a:pt x="546" y="93"/>
                  </a:lnTo>
                  <a:lnTo>
                    <a:pt x="0" y="93"/>
                  </a:lnTo>
                  <a:lnTo>
                    <a:pt x="32" y="0"/>
                  </a:lnTo>
                  <a:lnTo>
                    <a:pt x="1125" y="0"/>
                  </a:lnTo>
                  <a:lnTo>
                    <a:pt x="1156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0080" y="957240"/>
              <a:ext cx="355320" cy="28440"/>
            </a:xfrm>
            <a:custGeom>
              <a:avLst/>
              <a:gdLst/>
              <a:ahLst/>
              <a:rect l="l" t="t" r="r" b="b"/>
              <a:pathLst>
                <a:path w="1124" h="93">
                  <a:moveTo>
                    <a:pt x="1124" y="93"/>
                  </a:moveTo>
                  <a:lnTo>
                    <a:pt x="0" y="93"/>
                  </a:lnTo>
                  <a:lnTo>
                    <a:pt x="33" y="0"/>
                  </a:lnTo>
                  <a:lnTo>
                    <a:pt x="1094" y="0"/>
                  </a:lnTo>
                  <a:lnTo>
                    <a:pt x="1124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4760" y="941400"/>
              <a:ext cx="345960" cy="30240"/>
            </a:xfrm>
            <a:custGeom>
              <a:avLst/>
              <a:gdLst/>
              <a:ahLst/>
              <a:rect l="l" t="t" r="r" b="b"/>
              <a:pathLst>
                <a:path w="1093" h="95">
                  <a:moveTo>
                    <a:pt x="109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062" y="0"/>
                  </a:lnTo>
                  <a:lnTo>
                    <a:pt x="1093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9440" y="927000"/>
              <a:ext cx="336600" cy="30240"/>
            </a:xfrm>
            <a:custGeom>
              <a:avLst/>
              <a:gdLst/>
              <a:ahLst/>
              <a:rect l="l" t="t" r="r" b="b"/>
              <a:pathLst>
                <a:path w="1061" h="95">
                  <a:moveTo>
                    <a:pt x="10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1029" y="0"/>
                  </a:lnTo>
                  <a:lnTo>
                    <a:pt x="1061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4120" y="911160"/>
              <a:ext cx="327240" cy="30240"/>
            </a:xfrm>
            <a:custGeom>
              <a:avLst/>
              <a:gdLst/>
              <a:ahLst/>
              <a:rect l="l" t="t" r="r" b="b"/>
              <a:pathLst>
                <a:path w="1029" h="94">
                  <a:moveTo>
                    <a:pt x="102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98" y="0"/>
                  </a:lnTo>
                  <a:lnTo>
                    <a:pt x="1029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0600" y="896760"/>
              <a:ext cx="316080" cy="30240"/>
            </a:xfrm>
            <a:custGeom>
              <a:avLst/>
              <a:gdLst/>
              <a:ahLst/>
              <a:rect l="l" t="t" r="r" b="b"/>
              <a:pathLst>
                <a:path w="997" h="94">
                  <a:moveTo>
                    <a:pt x="997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66" y="0"/>
                  </a:lnTo>
                  <a:lnTo>
                    <a:pt x="997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880920"/>
              <a:ext cx="306360" cy="30240"/>
            </a:xfrm>
            <a:custGeom>
              <a:avLst/>
              <a:gdLst/>
              <a:ahLst/>
              <a:rect l="l" t="t" r="r" b="b"/>
              <a:pathLst>
                <a:path w="964" h="94">
                  <a:moveTo>
                    <a:pt x="964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933" y="0"/>
                  </a:lnTo>
                  <a:lnTo>
                    <a:pt x="964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9960" y="866880"/>
              <a:ext cx="297000" cy="29880"/>
            </a:xfrm>
            <a:custGeom>
              <a:avLst/>
              <a:gdLst/>
              <a:ahLst/>
              <a:rect l="l" t="t" r="r" b="b"/>
              <a:pathLst>
                <a:path w="932" h="95">
                  <a:moveTo>
                    <a:pt x="93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901" y="0"/>
                  </a:lnTo>
                  <a:lnTo>
                    <a:pt x="932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46440" y="851040"/>
              <a:ext cx="285840" cy="29880"/>
            </a:xfrm>
            <a:custGeom>
              <a:avLst/>
              <a:gdLst/>
              <a:ahLst/>
              <a:rect l="l" t="t" r="r" b="b"/>
              <a:pathLst>
                <a:path w="901" h="95">
                  <a:moveTo>
                    <a:pt x="901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869" y="0"/>
                  </a:lnTo>
                  <a:lnTo>
                    <a:pt x="901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1120" y="836640"/>
              <a:ext cx="276480" cy="30240"/>
            </a:xfrm>
            <a:custGeom>
              <a:avLst/>
              <a:gdLst/>
              <a:ahLst/>
              <a:rect l="l" t="t" r="r" b="b"/>
              <a:pathLst>
                <a:path w="868" h="94">
                  <a:moveTo>
                    <a:pt x="8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837" y="0"/>
                  </a:lnTo>
                  <a:lnTo>
                    <a:pt x="868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6160" y="822240"/>
              <a:ext cx="264960" cy="28800"/>
            </a:xfrm>
            <a:custGeom>
              <a:avLst/>
              <a:gdLst/>
              <a:ahLst/>
              <a:rect l="l" t="t" r="r" b="b"/>
              <a:pathLst>
                <a:path w="836" h="93">
                  <a:moveTo>
                    <a:pt x="83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805" y="0"/>
                  </a:lnTo>
                  <a:lnTo>
                    <a:pt x="836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60840" y="806400"/>
              <a:ext cx="255600" cy="30240"/>
            </a:xfrm>
            <a:custGeom>
              <a:avLst/>
              <a:gdLst/>
              <a:ahLst/>
              <a:rect l="l" t="t" r="r" b="b"/>
              <a:pathLst>
                <a:path w="805" h="93">
                  <a:moveTo>
                    <a:pt x="805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774" y="0"/>
                  </a:lnTo>
                  <a:lnTo>
                    <a:pt x="805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6960" y="792000"/>
              <a:ext cx="244800" cy="30240"/>
            </a:xfrm>
            <a:custGeom>
              <a:avLst/>
              <a:gdLst/>
              <a:ahLst/>
              <a:rect l="l" t="t" r="r" b="b"/>
              <a:pathLst>
                <a:path w="771" h="95">
                  <a:moveTo>
                    <a:pt x="77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740" y="0"/>
                  </a:lnTo>
                  <a:lnTo>
                    <a:pt x="7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2000" y="776160"/>
              <a:ext cx="234720" cy="30240"/>
            </a:xfrm>
            <a:custGeom>
              <a:avLst/>
              <a:gdLst/>
              <a:ahLst/>
              <a:rect l="l" t="t" r="r" b="b"/>
              <a:pathLst>
                <a:path w="740" h="95">
                  <a:moveTo>
                    <a:pt x="740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709" y="0"/>
                  </a:lnTo>
                  <a:lnTo>
                    <a:pt x="740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76680" y="773280"/>
              <a:ext cx="225360" cy="18720"/>
            </a:xfrm>
            <a:custGeom>
              <a:avLst/>
              <a:gdLst/>
              <a:ahLst/>
              <a:rect l="l" t="t" r="r" b="b"/>
              <a:pathLst>
                <a:path w="708" h="58">
                  <a:moveTo>
                    <a:pt x="708" y="58"/>
                  </a:moveTo>
                  <a:lnTo>
                    <a:pt x="0" y="58"/>
                  </a:lnTo>
                  <a:lnTo>
                    <a:pt x="21" y="0"/>
                  </a:lnTo>
                  <a:lnTo>
                    <a:pt x="689" y="0"/>
                  </a:lnTo>
                  <a:lnTo>
                    <a:pt x="708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83160" y="773280"/>
              <a:ext cx="214200" cy="2880"/>
            </a:xfrm>
            <a:custGeom>
              <a:avLst/>
              <a:gdLst/>
              <a:ahLst/>
              <a:rect l="l" t="t" r="r" b="b"/>
              <a:pathLst>
                <a:path w="676" h="11">
                  <a:moveTo>
                    <a:pt x="676" y="11"/>
                  </a:moveTo>
                  <a:lnTo>
                    <a:pt x="0" y="11"/>
                  </a:lnTo>
                  <a:lnTo>
                    <a:pt x="4" y="0"/>
                  </a:lnTo>
                  <a:lnTo>
                    <a:pt x="672" y="0"/>
                  </a:lnTo>
                  <a:lnTo>
                    <a:pt x="676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6960" y="1479600"/>
              <a:ext cx="189000" cy="1908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06960" y="1465200"/>
              <a:ext cx="1890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06960" y="1449360"/>
              <a:ext cx="1890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06960" y="1434960"/>
              <a:ext cx="189000" cy="3024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6960" y="1419120"/>
              <a:ext cx="189000" cy="3024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6960" y="1405080"/>
              <a:ext cx="189000" cy="2988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6960" y="1390680"/>
              <a:ext cx="189000" cy="284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6960" y="1374840"/>
              <a:ext cx="189000" cy="3024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6960" y="1360440"/>
              <a:ext cx="1890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06960" y="1344600"/>
              <a:ext cx="189000" cy="3024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06960" y="1330200"/>
              <a:ext cx="189000" cy="3024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6960" y="1314360"/>
              <a:ext cx="189000" cy="3024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06960" y="1300320"/>
              <a:ext cx="189000" cy="2988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06960" y="1285920"/>
              <a:ext cx="189000" cy="284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06960" y="1270080"/>
              <a:ext cx="189000" cy="3024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06960" y="1255680"/>
              <a:ext cx="189000" cy="3024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06960" y="1239840"/>
              <a:ext cx="18900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6960" y="1225440"/>
              <a:ext cx="18900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06960" y="1211400"/>
              <a:ext cx="189000" cy="2844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6960" y="1195560"/>
              <a:ext cx="189000" cy="2988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06960" y="1181160"/>
              <a:ext cx="18900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6960" y="1165320"/>
              <a:ext cx="18900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06960" y="1150920"/>
              <a:ext cx="189000" cy="3024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6960" y="1135080"/>
              <a:ext cx="189000" cy="3024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06960" y="1120680"/>
              <a:ext cx="18900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06960" y="1106640"/>
              <a:ext cx="189000" cy="284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06960" y="1090440"/>
              <a:ext cx="189000" cy="3024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6960" y="1076400"/>
              <a:ext cx="189000" cy="3024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06960" y="1060560"/>
              <a:ext cx="189000" cy="2988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6960" y="1046160"/>
              <a:ext cx="189000" cy="3024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06960" y="1031760"/>
              <a:ext cx="189000" cy="288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06960" y="1015920"/>
              <a:ext cx="189000" cy="3024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06960" y="1001880"/>
              <a:ext cx="189000" cy="2988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6960" y="985680"/>
              <a:ext cx="18900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6960" y="971640"/>
              <a:ext cx="189000" cy="3024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6960" y="957240"/>
              <a:ext cx="189000" cy="2844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6960" y="941400"/>
              <a:ext cx="189000" cy="3024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06960" y="927000"/>
              <a:ext cx="189000" cy="3024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06960" y="911160"/>
              <a:ext cx="189000" cy="3024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06960" y="896760"/>
              <a:ext cx="189000" cy="3024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6960" y="880920"/>
              <a:ext cx="189000" cy="3024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06960" y="866880"/>
              <a:ext cx="189000" cy="2988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06960" y="851040"/>
              <a:ext cx="189000" cy="2988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06960" y="836640"/>
              <a:ext cx="189000" cy="3024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06960" y="822240"/>
              <a:ext cx="189000" cy="2880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06960" y="806400"/>
              <a:ext cx="189000" cy="3024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06960" y="792000"/>
              <a:ext cx="189000" cy="3024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06960" y="776160"/>
              <a:ext cx="189000" cy="302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06960" y="773280"/>
              <a:ext cx="189000" cy="1872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5920" y="1479600"/>
              <a:ext cx="277920" cy="19080"/>
            </a:xfrm>
            <a:custGeom>
              <a:avLst/>
              <a:gdLst/>
              <a:ahLst/>
              <a:rect l="l" t="t" r="r" b="b"/>
              <a:pathLst>
                <a:path w="875" h="58">
                  <a:moveTo>
                    <a:pt x="0" y="58"/>
                  </a:moveTo>
                  <a:lnTo>
                    <a:pt x="0" y="0"/>
                  </a:lnTo>
                  <a:lnTo>
                    <a:pt x="875" y="0"/>
                  </a:lnTo>
                  <a:lnTo>
                    <a:pt x="868" y="1"/>
                  </a:lnTo>
                  <a:lnTo>
                    <a:pt x="861" y="3"/>
                  </a:lnTo>
                  <a:lnTo>
                    <a:pt x="854" y="5"/>
                  </a:lnTo>
                  <a:lnTo>
                    <a:pt x="846" y="7"/>
                  </a:lnTo>
                  <a:lnTo>
                    <a:pt x="839" y="9"/>
                  </a:lnTo>
                  <a:lnTo>
                    <a:pt x="832" y="10"/>
                  </a:lnTo>
                  <a:lnTo>
                    <a:pt x="825" y="12"/>
                  </a:lnTo>
                  <a:lnTo>
                    <a:pt x="818" y="14"/>
                  </a:lnTo>
                  <a:lnTo>
                    <a:pt x="766" y="24"/>
                  </a:lnTo>
                  <a:lnTo>
                    <a:pt x="713" y="34"/>
                  </a:lnTo>
                  <a:lnTo>
                    <a:pt x="657" y="41"/>
                  </a:lnTo>
                  <a:lnTo>
                    <a:pt x="600" y="47"/>
                  </a:lnTo>
                  <a:lnTo>
                    <a:pt x="539" y="52"/>
                  </a:lnTo>
                  <a:lnTo>
                    <a:pt x="476" y="55"/>
                  </a:lnTo>
                  <a:lnTo>
                    <a:pt x="412" y="57"/>
                  </a:lnTo>
                  <a:lnTo>
                    <a:pt x="345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5920" y="1465200"/>
              <a:ext cx="322200" cy="30240"/>
            </a:xfrm>
            <a:custGeom>
              <a:avLst/>
              <a:gdLst/>
              <a:ahLst/>
              <a:rect l="l" t="t" r="r" b="b"/>
              <a:pathLst>
                <a:path w="1016" h="95">
                  <a:moveTo>
                    <a:pt x="60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16" y="0"/>
                  </a:lnTo>
                  <a:lnTo>
                    <a:pt x="992" y="9"/>
                  </a:lnTo>
                  <a:lnTo>
                    <a:pt x="969" y="18"/>
                  </a:lnTo>
                  <a:lnTo>
                    <a:pt x="944" y="27"/>
                  </a:lnTo>
                  <a:lnTo>
                    <a:pt x="920" y="35"/>
                  </a:lnTo>
                  <a:lnTo>
                    <a:pt x="894" y="42"/>
                  </a:lnTo>
                  <a:lnTo>
                    <a:pt x="869" y="49"/>
                  </a:lnTo>
                  <a:lnTo>
                    <a:pt x="843" y="56"/>
                  </a:lnTo>
                  <a:lnTo>
                    <a:pt x="818" y="62"/>
                  </a:lnTo>
                  <a:lnTo>
                    <a:pt x="792" y="67"/>
                  </a:lnTo>
                  <a:lnTo>
                    <a:pt x="767" y="72"/>
                  </a:lnTo>
                  <a:lnTo>
                    <a:pt x="741" y="77"/>
                  </a:lnTo>
                  <a:lnTo>
                    <a:pt x="715" y="81"/>
                  </a:lnTo>
                  <a:lnTo>
                    <a:pt x="687" y="85"/>
                  </a:lnTo>
                  <a:lnTo>
                    <a:pt x="660" y="89"/>
                  </a:lnTo>
                  <a:lnTo>
                    <a:pt x="631" y="92"/>
                  </a:lnTo>
                  <a:lnTo>
                    <a:pt x="603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25920" y="1449360"/>
              <a:ext cx="355680" cy="30240"/>
            </a:xfrm>
            <a:custGeom>
              <a:avLst/>
              <a:gdLst/>
              <a:ahLst/>
              <a:rect l="l" t="t" r="r" b="b"/>
              <a:pathLst>
                <a:path w="1118" h="95">
                  <a:moveTo>
                    <a:pt x="87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18" y="0"/>
                  </a:lnTo>
                  <a:lnTo>
                    <a:pt x="1089" y="14"/>
                  </a:lnTo>
                  <a:lnTo>
                    <a:pt x="1061" y="29"/>
                  </a:lnTo>
                  <a:lnTo>
                    <a:pt x="1031" y="41"/>
                  </a:lnTo>
                  <a:lnTo>
                    <a:pt x="1001" y="53"/>
                  </a:lnTo>
                  <a:lnTo>
                    <a:pt x="971" y="64"/>
                  </a:lnTo>
                  <a:lnTo>
                    <a:pt x="939" y="76"/>
                  </a:lnTo>
                  <a:lnTo>
                    <a:pt x="908" y="86"/>
                  </a:lnTo>
                  <a:lnTo>
                    <a:pt x="875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25920" y="1434960"/>
              <a:ext cx="380880" cy="30240"/>
            </a:xfrm>
            <a:custGeom>
              <a:avLst/>
              <a:gdLst/>
              <a:ahLst/>
              <a:rect l="l" t="t" r="r" b="b"/>
              <a:pathLst>
                <a:path w="1199" h="94">
                  <a:moveTo>
                    <a:pt x="101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199" y="0"/>
                  </a:lnTo>
                  <a:lnTo>
                    <a:pt x="1196" y="2"/>
                  </a:lnTo>
                  <a:lnTo>
                    <a:pt x="1193" y="3"/>
                  </a:lnTo>
                  <a:lnTo>
                    <a:pt x="1190" y="5"/>
                  </a:lnTo>
                  <a:lnTo>
                    <a:pt x="1188" y="7"/>
                  </a:lnTo>
                  <a:lnTo>
                    <a:pt x="1185" y="9"/>
                  </a:lnTo>
                  <a:lnTo>
                    <a:pt x="1182" y="10"/>
                  </a:lnTo>
                  <a:lnTo>
                    <a:pt x="1179" y="13"/>
                  </a:lnTo>
                  <a:lnTo>
                    <a:pt x="1177" y="15"/>
                  </a:lnTo>
                  <a:lnTo>
                    <a:pt x="1157" y="26"/>
                  </a:lnTo>
                  <a:lnTo>
                    <a:pt x="1138" y="36"/>
                  </a:lnTo>
                  <a:lnTo>
                    <a:pt x="1119" y="47"/>
                  </a:lnTo>
                  <a:lnTo>
                    <a:pt x="1098" y="57"/>
                  </a:lnTo>
                  <a:lnTo>
                    <a:pt x="1078" y="68"/>
                  </a:lnTo>
                  <a:lnTo>
                    <a:pt x="1058" y="77"/>
                  </a:lnTo>
                  <a:lnTo>
                    <a:pt x="1037" y="86"/>
                  </a:lnTo>
                  <a:lnTo>
                    <a:pt x="1016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5920" y="1419120"/>
              <a:ext cx="403200" cy="30240"/>
            </a:xfrm>
            <a:custGeom>
              <a:avLst/>
              <a:gdLst/>
              <a:ahLst/>
              <a:rect l="l" t="t" r="r" b="b"/>
              <a:pathLst>
                <a:path w="1268" h="94">
                  <a:moveTo>
                    <a:pt x="111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68" y="0"/>
                  </a:lnTo>
                  <a:lnTo>
                    <a:pt x="1256" y="9"/>
                  </a:lnTo>
                  <a:lnTo>
                    <a:pt x="1245" y="16"/>
                  </a:lnTo>
                  <a:lnTo>
                    <a:pt x="1234" y="24"/>
                  </a:lnTo>
                  <a:lnTo>
                    <a:pt x="1223" y="31"/>
                  </a:lnTo>
                  <a:lnTo>
                    <a:pt x="1212" y="39"/>
                  </a:lnTo>
                  <a:lnTo>
                    <a:pt x="1200" y="46"/>
                  </a:lnTo>
                  <a:lnTo>
                    <a:pt x="1188" y="54"/>
                  </a:lnTo>
                  <a:lnTo>
                    <a:pt x="1177" y="62"/>
                  </a:lnTo>
                  <a:lnTo>
                    <a:pt x="1169" y="66"/>
                  </a:lnTo>
                  <a:lnTo>
                    <a:pt x="1162" y="70"/>
                  </a:lnTo>
                  <a:lnTo>
                    <a:pt x="1154" y="74"/>
                  </a:lnTo>
                  <a:lnTo>
                    <a:pt x="1147" y="78"/>
                  </a:lnTo>
                  <a:lnTo>
                    <a:pt x="1140" y="82"/>
                  </a:lnTo>
                  <a:lnTo>
                    <a:pt x="1133" y="86"/>
                  </a:lnTo>
                  <a:lnTo>
                    <a:pt x="1125" y="90"/>
                  </a:lnTo>
                  <a:lnTo>
                    <a:pt x="1118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5920" y="1405080"/>
              <a:ext cx="422280" cy="29880"/>
            </a:xfrm>
            <a:custGeom>
              <a:avLst/>
              <a:gdLst/>
              <a:ahLst/>
              <a:rect l="l" t="t" r="r" b="b"/>
              <a:pathLst>
                <a:path w="1328" h="94">
                  <a:moveTo>
                    <a:pt x="119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28" y="0"/>
                  </a:lnTo>
                  <a:lnTo>
                    <a:pt x="1313" y="13"/>
                  </a:lnTo>
                  <a:lnTo>
                    <a:pt x="1297" y="25"/>
                  </a:lnTo>
                  <a:lnTo>
                    <a:pt x="1281" y="37"/>
                  </a:lnTo>
                  <a:lnTo>
                    <a:pt x="1266" y="48"/>
                  </a:lnTo>
                  <a:lnTo>
                    <a:pt x="1249" y="61"/>
                  </a:lnTo>
                  <a:lnTo>
                    <a:pt x="1233" y="72"/>
                  </a:lnTo>
                  <a:lnTo>
                    <a:pt x="1216" y="83"/>
                  </a:lnTo>
                  <a:lnTo>
                    <a:pt x="1199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25920" y="1390680"/>
              <a:ext cx="438120" cy="28440"/>
            </a:xfrm>
            <a:custGeom>
              <a:avLst/>
              <a:gdLst/>
              <a:ahLst/>
              <a:rect l="l" t="t" r="r" b="b"/>
              <a:pathLst>
                <a:path w="1380" h="94">
                  <a:moveTo>
                    <a:pt x="12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80" y="0"/>
                  </a:lnTo>
                  <a:lnTo>
                    <a:pt x="1367" y="13"/>
                  </a:lnTo>
                  <a:lnTo>
                    <a:pt x="1353" y="25"/>
                  </a:lnTo>
                  <a:lnTo>
                    <a:pt x="1340" y="36"/>
                  </a:lnTo>
                  <a:lnTo>
                    <a:pt x="1326" y="49"/>
                  </a:lnTo>
                  <a:lnTo>
                    <a:pt x="1312" y="60"/>
                  </a:lnTo>
                  <a:lnTo>
                    <a:pt x="1297" y="72"/>
                  </a:lnTo>
                  <a:lnTo>
                    <a:pt x="1282" y="83"/>
                  </a:lnTo>
                  <a:lnTo>
                    <a:pt x="1268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25920" y="1374840"/>
              <a:ext cx="453960" cy="30240"/>
            </a:xfrm>
            <a:custGeom>
              <a:avLst/>
              <a:gdLst/>
              <a:ahLst/>
              <a:rect l="l" t="t" r="r" b="b"/>
              <a:pathLst>
                <a:path w="1427" h="94">
                  <a:moveTo>
                    <a:pt x="132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27" y="0"/>
                  </a:lnTo>
                  <a:lnTo>
                    <a:pt x="1415" y="12"/>
                  </a:lnTo>
                  <a:lnTo>
                    <a:pt x="1403" y="24"/>
                  </a:lnTo>
                  <a:lnTo>
                    <a:pt x="1391" y="36"/>
                  </a:lnTo>
                  <a:lnTo>
                    <a:pt x="1379" y="49"/>
                  </a:lnTo>
                  <a:lnTo>
                    <a:pt x="1367" y="60"/>
                  </a:lnTo>
                  <a:lnTo>
                    <a:pt x="1353" y="71"/>
                  </a:lnTo>
                  <a:lnTo>
                    <a:pt x="1340" y="83"/>
                  </a:lnTo>
                  <a:lnTo>
                    <a:pt x="1328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25920" y="1360440"/>
              <a:ext cx="466920" cy="30240"/>
            </a:xfrm>
            <a:custGeom>
              <a:avLst/>
              <a:gdLst/>
              <a:ahLst/>
              <a:rect l="l" t="t" r="r" b="b"/>
              <a:pathLst>
                <a:path w="1468" h="94">
                  <a:moveTo>
                    <a:pt x="138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68" y="0"/>
                  </a:lnTo>
                  <a:lnTo>
                    <a:pt x="1457" y="12"/>
                  </a:lnTo>
                  <a:lnTo>
                    <a:pt x="1447" y="24"/>
                  </a:lnTo>
                  <a:lnTo>
                    <a:pt x="1436" y="37"/>
                  </a:lnTo>
                  <a:lnTo>
                    <a:pt x="1426" y="48"/>
                  </a:lnTo>
                  <a:lnTo>
                    <a:pt x="1415" y="60"/>
                  </a:lnTo>
                  <a:lnTo>
                    <a:pt x="1403" y="71"/>
                  </a:lnTo>
                  <a:lnTo>
                    <a:pt x="1392" y="82"/>
                  </a:lnTo>
                  <a:lnTo>
                    <a:pt x="138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25920" y="1344600"/>
              <a:ext cx="477720" cy="30240"/>
            </a:xfrm>
            <a:custGeom>
              <a:avLst/>
              <a:gdLst/>
              <a:ahLst/>
              <a:rect l="l" t="t" r="r" b="b"/>
              <a:pathLst>
                <a:path w="1504" h="94">
                  <a:moveTo>
                    <a:pt x="142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495" y="12"/>
                  </a:lnTo>
                  <a:lnTo>
                    <a:pt x="1486" y="24"/>
                  </a:lnTo>
                  <a:lnTo>
                    <a:pt x="1477" y="36"/>
                  </a:lnTo>
                  <a:lnTo>
                    <a:pt x="1467" y="48"/>
                  </a:lnTo>
                  <a:lnTo>
                    <a:pt x="1457" y="60"/>
                  </a:lnTo>
                  <a:lnTo>
                    <a:pt x="1447" y="71"/>
                  </a:lnTo>
                  <a:lnTo>
                    <a:pt x="1437" y="82"/>
                  </a:lnTo>
                  <a:lnTo>
                    <a:pt x="1427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5920" y="1330200"/>
              <a:ext cx="488880" cy="30240"/>
            </a:xfrm>
            <a:custGeom>
              <a:avLst/>
              <a:gdLst/>
              <a:ahLst/>
              <a:rect l="l" t="t" r="r" b="b"/>
              <a:pathLst>
                <a:path w="1537" h="94">
                  <a:moveTo>
                    <a:pt x="14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37" y="0"/>
                  </a:lnTo>
                  <a:lnTo>
                    <a:pt x="1529" y="12"/>
                  </a:lnTo>
                  <a:lnTo>
                    <a:pt x="1521" y="23"/>
                  </a:lnTo>
                  <a:lnTo>
                    <a:pt x="1512" y="36"/>
                  </a:lnTo>
                  <a:lnTo>
                    <a:pt x="1503" y="48"/>
                  </a:lnTo>
                  <a:lnTo>
                    <a:pt x="1495" y="59"/>
                  </a:lnTo>
                  <a:lnTo>
                    <a:pt x="1486" y="71"/>
                  </a:lnTo>
                  <a:lnTo>
                    <a:pt x="1477" y="83"/>
                  </a:lnTo>
                  <a:lnTo>
                    <a:pt x="146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5920" y="1314360"/>
              <a:ext cx="498600" cy="30240"/>
            </a:xfrm>
            <a:custGeom>
              <a:avLst/>
              <a:gdLst/>
              <a:ahLst/>
              <a:rect l="l" t="t" r="r" b="b"/>
              <a:pathLst>
                <a:path w="1567" h="95">
                  <a:moveTo>
                    <a:pt x="150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67" y="0"/>
                  </a:lnTo>
                  <a:lnTo>
                    <a:pt x="1559" y="12"/>
                  </a:lnTo>
                  <a:lnTo>
                    <a:pt x="1552" y="25"/>
                  </a:lnTo>
                  <a:lnTo>
                    <a:pt x="1544" y="37"/>
                  </a:lnTo>
                  <a:lnTo>
                    <a:pt x="1537" y="48"/>
                  </a:lnTo>
                  <a:lnTo>
                    <a:pt x="1529" y="60"/>
                  </a:lnTo>
                  <a:lnTo>
                    <a:pt x="1521" y="71"/>
                  </a:lnTo>
                  <a:lnTo>
                    <a:pt x="1512" y="84"/>
                  </a:lnTo>
                  <a:lnTo>
                    <a:pt x="1504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25920" y="1300320"/>
              <a:ext cx="506520" cy="29880"/>
            </a:xfrm>
            <a:custGeom>
              <a:avLst/>
              <a:gdLst/>
              <a:ahLst/>
              <a:rect l="l" t="t" r="r" b="b"/>
              <a:pathLst>
                <a:path w="1593" h="95">
                  <a:moveTo>
                    <a:pt x="153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13"/>
                  </a:lnTo>
                  <a:lnTo>
                    <a:pt x="602" y="12"/>
                  </a:lnTo>
                  <a:lnTo>
                    <a:pt x="613" y="11"/>
                  </a:lnTo>
                  <a:lnTo>
                    <a:pt x="624" y="10"/>
                  </a:lnTo>
                  <a:lnTo>
                    <a:pt x="634" y="8"/>
                  </a:lnTo>
                  <a:lnTo>
                    <a:pt x="644" y="6"/>
                  </a:lnTo>
                  <a:lnTo>
                    <a:pt x="656" y="4"/>
                  </a:lnTo>
                  <a:lnTo>
                    <a:pt x="666" y="2"/>
                  </a:lnTo>
                  <a:lnTo>
                    <a:pt x="676" y="0"/>
                  </a:lnTo>
                  <a:lnTo>
                    <a:pt x="1593" y="0"/>
                  </a:lnTo>
                  <a:lnTo>
                    <a:pt x="1590" y="5"/>
                  </a:lnTo>
                  <a:lnTo>
                    <a:pt x="1588" y="9"/>
                  </a:lnTo>
                  <a:lnTo>
                    <a:pt x="1585" y="14"/>
                  </a:lnTo>
                  <a:lnTo>
                    <a:pt x="1583" y="19"/>
                  </a:lnTo>
                  <a:lnTo>
                    <a:pt x="1581" y="24"/>
                  </a:lnTo>
                  <a:lnTo>
                    <a:pt x="1578" y="28"/>
                  </a:lnTo>
                  <a:lnTo>
                    <a:pt x="1576" y="32"/>
                  </a:lnTo>
                  <a:lnTo>
                    <a:pt x="1573" y="37"/>
                  </a:lnTo>
                  <a:lnTo>
                    <a:pt x="1569" y="44"/>
                  </a:lnTo>
                  <a:lnTo>
                    <a:pt x="1564" y="51"/>
                  </a:lnTo>
                  <a:lnTo>
                    <a:pt x="1559" y="58"/>
                  </a:lnTo>
                  <a:lnTo>
                    <a:pt x="1555" y="66"/>
                  </a:lnTo>
                  <a:lnTo>
                    <a:pt x="1551" y="74"/>
                  </a:lnTo>
                  <a:lnTo>
                    <a:pt x="1546" y="81"/>
                  </a:lnTo>
                  <a:lnTo>
                    <a:pt x="1542" y="88"/>
                  </a:lnTo>
                  <a:lnTo>
                    <a:pt x="1537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25920" y="1285920"/>
              <a:ext cx="512640" cy="28440"/>
            </a:xfrm>
            <a:custGeom>
              <a:avLst/>
              <a:gdLst/>
              <a:ahLst/>
              <a:rect l="l" t="t" r="r" b="b"/>
              <a:pathLst>
                <a:path w="1615" h="94">
                  <a:moveTo>
                    <a:pt x="156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60"/>
                  </a:lnTo>
                  <a:lnTo>
                    <a:pt x="621" y="57"/>
                  </a:lnTo>
                  <a:lnTo>
                    <a:pt x="651" y="52"/>
                  </a:lnTo>
                  <a:lnTo>
                    <a:pt x="679" y="46"/>
                  </a:lnTo>
                  <a:lnTo>
                    <a:pt x="708" y="39"/>
                  </a:lnTo>
                  <a:lnTo>
                    <a:pt x="734" y="31"/>
                  </a:lnTo>
                  <a:lnTo>
                    <a:pt x="761" y="22"/>
                  </a:lnTo>
                  <a:lnTo>
                    <a:pt x="786" y="12"/>
                  </a:lnTo>
                  <a:lnTo>
                    <a:pt x="811" y="0"/>
                  </a:lnTo>
                  <a:lnTo>
                    <a:pt x="1615" y="0"/>
                  </a:lnTo>
                  <a:lnTo>
                    <a:pt x="1610" y="11"/>
                  </a:lnTo>
                  <a:lnTo>
                    <a:pt x="1605" y="22"/>
                  </a:lnTo>
                  <a:lnTo>
                    <a:pt x="1600" y="32"/>
                  </a:lnTo>
                  <a:lnTo>
                    <a:pt x="1595" y="42"/>
                  </a:lnTo>
                  <a:lnTo>
                    <a:pt x="1590" y="52"/>
                  </a:lnTo>
                  <a:lnTo>
                    <a:pt x="1584" y="64"/>
                  </a:lnTo>
                  <a:lnTo>
                    <a:pt x="1579" y="74"/>
                  </a:lnTo>
                  <a:lnTo>
                    <a:pt x="1573" y="84"/>
                  </a:lnTo>
                  <a:lnTo>
                    <a:pt x="1572" y="85"/>
                  </a:lnTo>
                  <a:lnTo>
                    <a:pt x="1572" y="87"/>
                  </a:lnTo>
                  <a:lnTo>
                    <a:pt x="1571" y="88"/>
                  </a:lnTo>
                  <a:lnTo>
                    <a:pt x="1570" y="89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3"/>
                  </a:lnTo>
                  <a:lnTo>
                    <a:pt x="1567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270080"/>
              <a:ext cx="519120" cy="30240"/>
            </a:xfrm>
            <a:custGeom>
              <a:avLst/>
              <a:gdLst/>
              <a:ahLst/>
              <a:rect l="l" t="t" r="r" b="b"/>
              <a:pathLst>
                <a:path w="1636" h="94">
                  <a:moveTo>
                    <a:pt x="1593" y="94"/>
                  </a:moveTo>
                  <a:lnTo>
                    <a:pt x="676" y="94"/>
                  </a:lnTo>
                  <a:lnTo>
                    <a:pt x="706" y="87"/>
                  </a:lnTo>
                  <a:lnTo>
                    <a:pt x="734" y="78"/>
                  </a:lnTo>
                  <a:lnTo>
                    <a:pt x="763" y="69"/>
                  </a:lnTo>
                  <a:lnTo>
                    <a:pt x="789" y="58"/>
                  </a:lnTo>
                  <a:lnTo>
                    <a:pt x="816" y="45"/>
                  </a:lnTo>
                  <a:lnTo>
                    <a:pt x="840" y="31"/>
                  </a:lnTo>
                  <a:lnTo>
                    <a:pt x="865" y="17"/>
                  </a:lnTo>
                  <a:lnTo>
                    <a:pt x="888" y="0"/>
                  </a:lnTo>
                  <a:lnTo>
                    <a:pt x="1636" y="0"/>
                  </a:lnTo>
                  <a:lnTo>
                    <a:pt x="1631" y="13"/>
                  </a:lnTo>
                  <a:lnTo>
                    <a:pt x="1626" y="24"/>
                  </a:lnTo>
                  <a:lnTo>
                    <a:pt x="1621" y="36"/>
                  </a:lnTo>
                  <a:lnTo>
                    <a:pt x="1615" y="47"/>
                  </a:lnTo>
                  <a:lnTo>
                    <a:pt x="1610" y="60"/>
                  </a:lnTo>
                  <a:lnTo>
                    <a:pt x="1604" y="71"/>
                  </a:lnTo>
                  <a:lnTo>
                    <a:pt x="1598" y="83"/>
                  </a:lnTo>
                  <a:lnTo>
                    <a:pt x="15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25920" y="1255680"/>
              <a:ext cx="525600" cy="30240"/>
            </a:xfrm>
            <a:custGeom>
              <a:avLst/>
              <a:gdLst/>
              <a:ahLst/>
              <a:rect l="l" t="t" r="r" b="b"/>
              <a:pathLst>
                <a:path w="1654" h="93">
                  <a:moveTo>
                    <a:pt x="1615" y="93"/>
                  </a:moveTo>
                  <a:lnTo>
                    <a:pt x="811" y="93"/>
                  </a:lnTo>
                  <a:lnTo>
                    <a:pt x="829" y="84"/>
                  </a:lnTo>
                  <a:lnTo>
                    <a:pt x="846" y="74"/>
                  </a:lnTo>
                  <a:lnTo>
                    <a:pt x="864" y="63"/>
                  </a:lnTo>
                  <a:lnTo>
                    <a:pt x="881" y="52"/>
                  </a:lnTo>
                  <a:lnTo>
                    <a:pt x="897" y="39"/>
                  </a:lnTo>
                  <a:lnTo>
                    <a:pt x="913" y="26"/>
                  </a:lnTo>
                  <a:lnTo>
                    <a:pt x="928" y="13"/>
                  </a:lnTo>
                  <a:lnTo>
                    <a:pt x="943" y="0"/>
                  </a:lnTo>
                  <a:lnTo>
                    <a:pt x="1654" y="0"/>
                  </a:lnTo>
                  <a:lnTo>
                    <a:pt x="1649" y="11"/>
                  </a:lnTo>
                  <a:lnTo>
                    <a:pt x="1645" y="23"/>
                  </a:lnTo>
                  <a:lnTo>
                    <a:pt x="1641" y="35"/>
                  </a:lnTo>
                  <a:lnTo>
                    <a:pt x="1636" y="46"/>
                  </a:lnTo>
                  <a:lnTo>
                    <a:pt x="1631" y="59"/>
                  </a:lnTo>
                  <a:lnTo>
                    <a:pt x="1626" y="70"/>
                  </a:lnTo>
                  <a:lnTo>
                    <a:pt x="1621" y="82"/>
                  </a:lnTo>
                  <a:lnTo>
                    <a:pt x="161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5920" y="1239840"/>
              <a:ext cx="530280" cy="302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36" y="94"/>
                  </a:moveTo>
                  <a:lnTo>
                    <a:pt x="888" y="94"/>
                  </a:lnTo>
                  <a:lnTo>
                    <a:pt x="897" y="87"/>
                  </a:lnTo>
                  <a:lnTo>
                    <a:pt x="907" y="80"/>
                  </a:lnTo>
                  <a:lnTo>
                    <a:pt x="916" y="72"/>
                  </a:lnTo>
                  <a:lnTo>
                    <a:pt x="924" y="65"/>
                  </a:lnTo>
                  <a:lnTo>
                    <a:pt x="933" y="57"/>
                  </a:lnTo>
                  <a:lnTo>
                    <a:pt x="941" y="49"/>
                  </a:lnTo>
                  <a:lnTo>
                    <a:pt x="949" y="40"/>
                  </a:lnTo>
                  <a:lnTo>
                    <a:pt x="958" y="32"/>
                  </a:lnTo>
                  <a:lnTo>
                    <a:pt x="962" y="28"/>
                  </a:lnTo>
                  <a:lnTo>
                    <a:pt x="965" y="24"/>
                  </a:lnTo>
                  <a:lnTo>
                    <a:pt x="969" y="20"/>
                  </a:lnTo>
                  <a:lnTo>
                    <a:pt x="972" y="16"/>
                  </a:lnTo>
                  <a:lnTo>
                    <a:pt x="976" y="12"/>
                  </a:lnTo>
                  <a:lnTo>
                    <a:pt x="979" y="8"/>
                  </a:lnTo>
                  <a:lnTo>
                    <a:pt x="982" y="4"/>
                  </a:lnTo>
                  <a:lnTo>
                    <a:pt x="986" y="0"/>
                  </a:lnTo>
                  <a:lnTo>
                    <a:pt x="1669" y="0"/>
                  </a:lnTo>
                  <a:lnTo>
                    <a:pt x="1665" y="12"/>
                  </a:lnTo>
                  <a:lnTo>
                    <a:pt x="1661" y="24"/>
                  </a:lnTo>
                  <a:lnTo>
                    <a:pt x="1657" y="35"/>
                  </a:lnTo>
                  <a:lnTo>
                    <a:pt x="1653" y="48"/>
                  </a:lnTo>
                  <a:lnTo>
                    <a:pt x="1649" y="60"/>
                  </a:lnTo>
                  <a:lnTo>
                    <a:pt x="1645" y="71"/>
                  </a:lnTo>
                  <a:lnTo>
                    <a:pt x="1641" y="82"/>
                  </a:lnTo>
                  <a:lnTo>
                    <a:pt x="1636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5920" y="1225440"/>
              <a:ext cx="534960" cy="30240"/>
            </a:xfrm>
            <a:custGeom>
              <a:avLst/>
              <a:gdLst/>
              <a:ahLst/>
              <a:rect l="l" t="t" r="r" b="b"/>
              <a:pathLst>
                <a:path w="1682" h="95">
                  <a:moveTo>
                    <a:pt x="1654" y="95"/>
                  </a:moveTo>
                  <a:lnTo>
                    <a:pt x="943" y="95"/>
                  </a:lnTo>
                  <a:lnTo>
                    <a:pt x="945" y="93"/>
                  </a:lnTo>
                  <a:lnTo>
                    <a:pt x="947" y="90"/>
                  </a:lnTo>
                  <a:lnTo>
                    <a:pt x="948" y="88"/>
                  </a:lnTo>
                  <a:lnTo>
                    <a:pt x="950" y="86"/>
                  </a:lnTo>
                  <a:lnTo>
                    <a:pt x="952" y="84"/>
                  </a:lnTo>
                  <a:lnTo>
                    <a:pt x="954" y="83"/>
                  </a:lnTo>
                  <a:lnTo>
                    <a:pt x="957" y="81"/>
                  </a:lnTo>
                  <a:lnTo>
                    <a:pt x="958" y="79"/>
                  </a:lnTo>
                  <a:lnTo>
                    <a:pt x="967" y="70"/>
                  </a:lnTo>
                  <a:lnTo>
                    <a:pt x="975" y="60"/>
                  </a:lnTo>
                  <a:lnTo>
                    <a:pt x="983" y="51"/>
                  </a:lnTo>
                  <a:lnTo>
                    <a:pt x="990" y="41"/>
                  </a:lnTo>
                  <a:lnTo>
                    <a:pt x="998" y="30"/>
                  </a:lnTo>
                  <a:lnTo>
                    <a:pt x="1005" y="20"/>
                  </a:lnTo>
                  <a:lnTo>
                    <a:pt x="1013" y="10"/>
                  </a:lnTo>
                  <a:lnTo>
                    <a:pt x="1019" y="0"/>
                  </a:lnTo>
                  <a:lnTo>
                    <a:pt x="1682" y="0"/>
                  </a:lnTo>
                  <a:lnTo>
                    <a:pt x="1679" y="12"/>
                  </a:lnTo>
                  <a:lnTo>
                    <a:pt x="1676" y="24"/>
                  </a:lnTo>
                  <a:lnTo>
                    <a:pt x="1673" y="35"/>
                  </a:lnTo>
                  <a:lnTo>
                    <a:pt x="1669" y="48"/>
                  </a:lnTo>
                  <a:lnTo>
                    <a:pt x="1665" y="59"/>
                  </a:lnTo>
                  <a:lnTo>
                    <a:pt x="1661" y="71"/>
                  </a:lnTo>
                  <a:lnTo>
                    <a:pt x="1657" y="82"/>
                  </a:lnTo>
                  <a:lnTo>
                    <a:pt x="165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25920" y="1211400"/>
              <a:ext cx="538200" cy="28440"/>
            </a:xfrm>
            <a:custGeom>
              <a:avLst/>
              <a:gdLst/>
              <a:ahLst/>
              <a:rect l="l" t="t" r="r" b="b"/>
              <a:pathLst>
                <a:path w="1692" h="94">
                  <a:moveTo>
                    <a:pt x="1669" y="94"/>
                  </a:moveTo>
                  <a:lnTo>
                    <a:pt x="986" y="94"/>
                  </a:lnTo>
                  <a:lnTo>
                    <a:pt x="994" y="82"/>
                  </a:lnTo>
                  <a:lnTo>
                    <a:pt x="1002" y="71"/>
                  </a:lnTo>
                  <a:lnTo>
                    <a:pt x="1011" y="60"/>
                  </a:lnTo>
                  <a:lnTo>
                    <a:pt x="1018" y="49"/>
                  </a:lnTo>
                  <a:lnTo>
                    <a:pt x="1025" y="37"/>
                  </a:lnTo>
                  <a:lnTo>
                    <a:pt x="1032" y="24"/>
                  </a:lnTo>
                  <a:lnTo>
                    <a:pt x="1038" y="12"/>
                  </a:lnTo>
                  <a:lnTo>
                    <a:pt x="1044" y="0"/>
                  </a:lnTo>
                  <a:lnTo>
                    <a:pt x="1692" y="0"/>
                  </a:lnTo>
                  <a:lnTo>
                    <a:pt x="1690" y="12"/>
                  </a:lnTo>
                  <a:lnTo>
                    <a:pt x="1687" y="23"/>
                  </a:lnTo>
                  <a:lnTo>
                    <a:pt x="1685" y="36"/>
                  </a:lnTo>
                  <a:lnTo>
                    <a:pt x="1682" y="48"/>
                  </a:lnTo>
                  <a:lnTo>
                    <a:pt x="1679" y="59"/>
                  </a:lnTo>
                  <a:lnTo>
                    <a:pt x="1676" y="71"/>
                  </a:lnTo>
                  <a:lnTo>
                    <a:pt x="1673" y="82"/>
                  </a:lnTo>
                  <a:lnTo>
                    <a:pt x="1669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25920" y="1195560"/>
              <a:ext cx="539640" cy="2988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682" y="94"/>
                  </a:moveTo>
                  <a:lnTo>
                    <a:pt x="1019" y="94"/>
                  </a:lnTo>
                  <a:lnTo>
                    <a:pt x="1026" y="83"/>
                  </a:lnTo>
                  <a:lnTo>
                    <a:pt x="1032" y="71"/>
                  </a:lnTo>
                  <a:lnTo>
                    <a:pt x="1038" y="60"/>
                  </a:lnTo>
                  <a:lnTo>
                    <a:pt x="1044" y="48"/>
                  </a:lnTo>
                  <a:lnTo>
                    <a:pt x="1049" y="37"/>
                  </a:lnTo>
                  <a:lnTo>
                    <a:pt x="1054" y="24"/>
                  </a:lnTo>
                  <a:lnTo>
                    <a:pt x="1060" y="12"/>
                  </a:lnTo>
                  <a:lnTo>
                    <a:pt x="1064" y="0"/>
                  </a:lnTo>
                  <a:lnTo>
                    <a:pt x="1700" y="0"/>
                  </a:lnTo>
                  <a:lnTo>
                    <a:pt x="1698" y="11"/>
                  </a:lnTo>
                  <a:lnTo>
                    <a:pt x="1696" y="23"/>
                  </a:lnTo>
                  <a:lnTo>
                    <a:pt x="1694" y="36"/>
                  </a:lnTo>
                  <a:lnTo>
                    <a:pt x="1692" y="47"/>
                  </a:lnTo>
                  <a:lnTo>
                    <a:pt x="1690" y="59"/>
                  </a:lnTo>
                  <a:lnTo>
                    <a:pt x="1687" y="70"/>
                  </a:lnTo>
                  <a:lnTo>
                    <a:pt x="1685" y="83"/>
                  </a:lnTo>
                  <a:lnTo>
                    <a:pt x="168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25920" y="1181160"/>
              <a:ext cx="541440" cy="30240"/>
            </a:xfrm>
            <a:custGeom>
              <a:avLst/>
              <a:gdLst/>
              <a:ahLst/>
              <a:rect l="l" t="t" r="r" b="b"/>
              <a:pathLst>
                <a:path w="1706" h="94">
                  <a:moveTo>
                    <a:pt x="1692" y="94"/>
                  </a:moveTo>
                  <a:lnTo>
                    <a:pt x="1044" y="94"/>
                  </a:lnTo>
                  <a:lnTo>
                    <a:pt x="1049" y="83"/>
                  </a:lnTo>
                  <a:lnTo>
                    <a:pt x="1054" y="71"/>
                  </a:lnTo>
                  <a:lnTo>
                    <a:pt x="1060" y="59"/>
                  </a:lnTo>
                  <a:lnTo>
                    <a:pt x="1064" y="48"/>
                  </a:lnTo>
                  <a:lnTo>
                    <a:pt x="1068" y="36"/>
                  </a:lnTo>
                  <a:lnTo>
                    <a:pt x="1072" y="25"/>
                  </a:lnTo>
                  <a:lnTo>
                    <a:pt x="1075" y="12"/>
                  </a:lnTo>
                  <a:lnTo>
                    <a:pt x="1078" y="0"/>
                  </a:lnTo>
                  <a:lnTo>
                    <a:pt x="1706" y="0"/>
                  </a:lnTo>
                  <a:lnTo>
                    <a:pt x="1705" y="11"/>
                  </a:lnTo>
                  <a:lnTo>
                    <a:pt x="1703" y="24"/>
                  </a:lnTo>
                  <a:lnTo>
                    <a:pt x="1702" y="36"/>
                  </a:lnTo>
                  <a:lnTo>
                    <a:pt x="1700" y="47"/>
                  </a:lnTo>
                  <a:lnTo>
                    <a:pt x="1698" y="59"/>
                  </a:lnTo>
                  <a:lnTo>
                    <a:pt x="1696" y="70"/>
                  </a:lnTo>
                  <a:lnTo>
                    <a:pt x="1694" y="83"/>
                  </a:lnTo>
                  <a:lnTo>
                    <a:pt x="169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25920" y="1165320"/>
              <a:ext cx="542880" cy="30240"/>
            </a:xfrm>
            <a:custGeom>
              <a:avLst/>
              <a:gdLst/>
              <a:ahLst/>
              <a:rect l="l" t="t" r="r" b="b"/>
              <a:pathLst>
                <a:path w="1710" h="95">
                  <a:moveTo>
                    <a:pt x="1700" y="95"/>
                  </a:moveTo>
                  <a:lnTo>
                    <a:pt x="1064" y="95"/>
                  </a:lnTo>
                  <a:lnTo>
                    <a:pt x="1068" y="84"/>
                  </a:lnTo>
                  <a:lnTo>
                    <a:pt x="1072" y="72"/>
                  </a:lnTo>
                  <a:lnTo>
                    <a:pt x="1075" y="60"/>
                  </a:lnTo>
                  <a:lnTo>
                    <a:pt x="1078" y="49"/>
                  </a:lnTo>
                  <a:lnTo>
                    <a:pt x="1081" y="37"/>
                  </a:lnTo>
                  <a:lnTo>
                    <a:pt x="1083" y="25"/>
                  </a:lnTo>
                  <a:lnTo>
                    <a:pt x="1086" y="12"/>
                  </a:lnTo>
                  <a:lnTo>
                    <a:pt x="1088" y="0"/>
                  </a:lnTo>
                  <a:lnTo>
                    <a:pt x="1710" y="0"/>
                  </a:lnTo>
                  <a:lnTo>
                    <a:pt x="1709" y="12"/>
                  </a:lnTo>
                  <a:lnTo>
                    <a:pt x="1708" y="25"/>
                  </a:lnTo>
                  <a:lnTo>
                    <a:pt x="1707" y="36"/>
                  </a:lnTo>
                  <a:lnTo>
                    <a:pt x="1706" y="48"/>
                  </a:lnTo>
                  <a:lnTo>
                    <a:pt x="1705" y="59"/>
                  </a:lnTo>
                  <a:lnTo>
                    <a:pt x="1703" y="72"/>
                  </a:lnTo>
                  <a:lnTo>
                    <a:pt x="1702" y="83"/>
                  </a:lnTo>
                  <a:lnTo>
                    <a:pt x="1700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15092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5">
                  <a:moveTo>
                    <a:pt x="1706" y="95"/>
                  </a:moveTo>
                  <a:lnTo>
                    <a:pt x="1078" y="95"/>
                  </a:lnTo>
                  <a:lnTo>
                    <a:pt x="1081" y="83"/>
                  </a:lnTo>
                  <a:lnTo>
                    <a:pt x="1083" y="72"/>
                  </a:lnTo>
                  <a:lnTo>
                    <a:pt x="1086" y="60"/>
                  </a:lnTo>
                  <a:lnTo>
                    <a:pt x="1088" y="48"/>
                  </a:lnTo>
                  <a:lnTo>
                    <a:pt x="1089" y="37"/>
                  </a:lnTo>
                  <a:lnTo>
                    <a:pt x="1091" y="25"/>
                  </a:lnTo>
                  <a:lnTo>
                    <a:pt x="1092" y="13"/>
                  </a:lnTo>
                  <a:lnTo>
                    <a:pt x="1093" y="0"/>
                  </a:lnTo>
                  <a:lnTo>
                    <a:pt x="1712" y="0"/>
                  </a:lnTo>
                  <a:lnTo>
                    <a:pt x="1712" y="13"/>
                  </a:lnTo>
                  <a:lnTo>
                    <a:pt x="1712" y="25"/>
                  </a:lnTo>
                  <a:lnTo>
                    <a:pt x="1711" y="36"/>
                  </a:lnTo>
                  <a:lnTo>
                    <a:pt x="1710" y="48"/>
                  </a:lnTo>
                  <a:lnTo>
                    <a:pt x="1709" y="59"/>
                  </a:lnTo>
                  <a:lnTo>
                    <a:pt x="1708" y="72"/>
                  </a:lnTo>
                  <a:lnTo>
                    <a:pt x="1707" y="83"/>
                  </a:lnTo>
                  <a:lnTo>
                    <a:pt x="1706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5920" y="11350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0" y="94"/>
                  </a:moveTo>
                  <a:lnTo>
                    <a:pt x="1088" y="94"/>
                  </a:lnTo>
                  <a:lnTo>
                    <a:pt x="1089" y="83"/>
                  </a:lnTo>
                  <a:lnTo>
                    <a:pt x="1091" y="72"/>
                  </a:lnTo>
                  <a:lnTo>
                    <a:pt x="1092" y="61"/>
                  </a:lnTo>
                  <a:lnTo>
                    <a:pt x="1093" y="48"/>
                  </a:lnTo>
                  <a:lnTo>
                    <a:pt x="1094" y="36"/>
                  </a:lnTo>
                  <a:lnTo>
                    <a:pt x="1095" y="25"/>
                  </a:lnTo>
                  <a:lnTo>
                    <a:pt x="1095" y="13"/>
                  </a:lnTo>
                  <a:lnTo>
                    <a:pt x="1095" y="0"/>
                  </a:lnTo>
                  <a:lnTo>
                    <a:pt x="1713" y="0"/>
                  </a:lnTo>
                  <a:lnTo>
                    <a:pt x="1713" y="2"/>
                  </a:lnTo>
                  <a:lnTo>
                    <a:pt x="1713" y="3"/>
                  </a:lnTo>
                  <a:lnTo>
                    <a:pt x="1713" y="5"/>
                  </a:lnTo>
                  <a:lnTo>
                    <a:pt x="1713" y="8"/>
                  </a:lnTo>
                  <a:lnTo>
                    <a:pt x="1713" y="10"/>
                  </a:lnTo>
                  <a:lnTo>
                    <a:pt x="1713" y="11"/>
                  </a:lnTo>
                  <a:lnTo>
                    <a:pt x="1713" y="13"/>
                  </a:lnTo>
                  <a:lnTo>
                    <a:pt x="1713" y="15"/>
                  </a:lnTo>
                  <a:lnTo>
                    <a:pt x="1713" y="25"/>
                  </a:lnTo>
                  <a:lnTo>
                    <a:pt x="1713" y="35"/>
                  </a:lnTo>
                  <a:lnTo>
                    <a:pt x="1713" y="45"/>
                  </a:lnTo>
                  <a:lnTo>
                    <a:pt x="1712" y="54"/>
                  </a:lnTo>
                  <a:lnTo>
                    <a:pt x="1712" y="65"/>
                  </a:lnTo>
                  <a:lnTo>
                    <a:pt x="1711" y="75"/>
                  </a:lnTo>
                  <a:lnTo>
                    <a:pt x="1711" y="85"/>
                  </a:lnTo>
                  <a:lnTo>
                    <a:pt x="171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5920" y="11206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2" y="94"/>
                  </a:moveTo>
                  <a:lnTo>
                    <a:pt x="1093" y="94"/>
                  </a:lnTo>
                  <a:lnTo>
                    <a:pt x="1094" y="88"/>
                  </a:lnTo>
                  <a:lnTo>
                    <a:pt x="1094" y="82"/>
                  </a:lnTo>
                  <a:lnTo>
                    <a:pt x="1094" y="75"/>
                  </a:lnTo>
                  <a:lnTo>
                    <a:pt x="1095" y="69"/>
                  </a:lnTo>
                  <a:lnTo>
                    <a:pt x="1095" y="62"/>
                  </a:lnTo>
                  <a:lnTo>
                    <a:pt x="1095" y="56"/>
                  </a:lnTo>
                  <a:lnTo>
                    <a:pt x="1095" y="49"/>
                  </a:lnTo>
                  <a:lnTo>
                    <a:pt x="1095" y="42"/>
                  </a:lnTo>
                  <a:lnTo>
                    <a:pt x="1095" y="37"/>
                  </a:lnTo>
                  <a:lnTo>
                    <a:pt x="1095" y="32"/>
                  </a:lnTo>
                  <a:lnTo>
                    <a:pt x="1095" y="26"/>
                  </a:lnTo>
                  <a:lnTo>
                    <a:pt x="1095" y="21"/>
                  </a:lnTo>
                  <a:lnTo>
                    <a:pt x="1095" y="16"/>
                  </a:lnTo>
                  <a:lnTo>
                    <a:pt x="1094" y="11"/>
                  </a:lnTo>
                  <a:lnTo>
                    <a:pt x="1094" y="6"/>
                  </a:lnTo>
                  <a:lnTo>
                    <a:pt x="1094" y="0"/>
                  </a:lnTo>
                  <a:lnTo>
                    <a:pt x="1712" y="0"/>
                  </a:lnTo>
                  <a:lnTo>
                    <a:pt x="1712" y="8"/>
                  </a:lnTo>
                  <a:lnTo>
                    <a:pt x="1712" y="16"/>
                  </a:lnTo>
                  <a:lnTo>
                    <a:pt x="1712" y="23"/>
                  </a:lnTo>
                  <a:lnTo>
                    <a:pt x="1713" y="31"/>
                  </a:lnTo>
                  <a:lnTo>
                    <a:pt x="1713" y="38"/>
                  </a:lnTo>
                  <a:lnTo>
                    <a:pt x="1713" y="46"/>
                  </a:lnTo>
                  <a:lnTo>
                    <a:pt x="1713" y="53"/>
                  </a:lnTo>
                  <a:lnTo>
                    <a:pt x="1713" y="62"/>
                  </a:lnTo>
                  <a:lnTo>
                    <a:pt x="1713" y="66"/>
                  </a:lnTo>
                  <a:lnTo>
                    <a:pt x="1713" y="70"/>
                  </a:lnTo>
                  <a:lnTo>
                    <a:pt x="1713" y="74"/>
                  </a:lnTo>
                  <a:lnTo>
                    <a:pt x="1713" y="78"/>
                  </a:lnTo>
                  <a:lnTo>
                    <a:pt x="1713" y="82"/>
                  </a:lnTo>
                  <a:lnTo>
                    <a:pt x="1713" y="86"/>
                  </a:lnTo>
                  <a:lnTo>
                    <a:pt x="1713" y="90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5920" y="1106640"/>
              <a:ext cx="544680" cy="28440"/>
            </a:xfrm>
            <a:custGeom>
              <a:avLst/>
              <a:gdLst/>
              <a:ahLst/>
              <a:rect l="l" t="t" r="r" b="b"/>
              <a:pathLst>
                <a:path w="1713" h="93">
                  <a:moveTo>
                    <a:pt x="1713" y="93"/>
                  </a:moveTo>
                  <a:lnTo>
                    <a:pt x="1095" y="93"/>
                  </a:lnTo>
                  <a:lnTo>
                    <a:pt x="1095" y="92"/>
                  </a:lnTo>
                  <a:lnTo>
                    <a:pt x="1095" y="92"/>
                  </a:lnTo>
                  <a:lnTo>
                    <a:pt x="1095" y="91"/>
                  </a:lnTo>
                  <a:lnTo>
                    <a:pt x="1095" y="90"/>
                  </a:lnTo>
                  <a:lnTo>
                    <a:pt x="1095" y="90"/>
                  </a:lnTo>
                  <a:lnTo>
                    <a:pt x="1095" y="89"/>
                  </a:lnTo>
                  <a:lnTo>
                    <a:pt x="1095" y="89"/>
                  </a:lnTo>
                  <a:lnTo>
                    <a:pt x="1095" y="88"/>
                  </a:lnTo>
                  <a:lnTo>
                    <a:pt x="1095" y="77"/>
                  </a:lnTo>
                  <a:lnTo>
                    <a:pt x="1095" y="66"/>
                  </a:lnTo>
                  <a:lnTo>
                    <a:pt x="1094" y="54"/>
                  </a:lnTo>
                  <a:lnTo>
                    <a:pt x="1094" y="42"/>
                  </a:lnTo>
                  <a:lnTo>
                    <a:pt x="1093" y="32"/>
                  </a:lnTo>
                  <a:lnTo>
                    <a:pt x="1092" y="21"/>
                  </a:lnTo>
                  <a:lnTo>
                    <a:pt x="1091" y="10"/>
                  </a:lnTo>
                  <a:lnTo>
                    <a:pt x="1090" y="0"/>
                  </a:lnTo>
                  <a:lnTo>
                    <a:pt x="1709" y="0"/>
                  </a:lnTo>
                  <a:lnTo>
                    <a:pt x="1710" y="11"/>
                  </a:lnTo>
                  <a:lnTo>
                    <a:pt x="1711" y="22"/>
                  </a:lnTo>
                  <a:lnTo>
                    <a:pt x="1711" y="34"/>
                  </a:lnTo>
                  <a:lnTo>
                    <a:pt x="1712" y="45"/>
                  </a:lnTo>
                  <a:lnTo>
                    <a:pt x="1712" y="58"/>
                  </a:lnTo>
                  <a:lnTo>
                    <a:pt x="1712" y="70"/>
                  </a:lnTo>
                  <a:lnTo>
                    <a:pt x="1713" y="81"/>
                  </a:lnTo>
                  <a:lnTo>
                    <a:pt x="1713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25920" y="109044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4">
                  <a:moveTo>
                    <a:pt x="1712" y="94"/>
                  </a:moveTo>
                  <a:lnTo>
                    <a:pt x="1094" y="94"/>
                  </a:lnTo>
                  <a:lnTo>
                    <a:pt x="1093" y="82"/>
                  </a:lnTo>
                  <a:lnTo>
                    <a:pt x="1092" y="70"/>
                  </a:lnTo>
                  <a:lnTo>
                    <a:pt x="1091" y="58"/>
                  </a:lnTo>
                  <a:lnTo>
                    <a:pt x="1090" y="47"/>
                  </a:lnTo>
                  <a:lnTo>
                    <a:pt x="1088" y="34"/>
                  </a:lnTo>
                  <a:lnTo>
                    <a:pt x="1087" y="23"/>
                  </a:lnTo>
                  <a:lnTo>
                    <a:pt x="1085" y="12"/>
                  </a:lnTo>
                  <a:lnTo>
                    <a:pt x="1083" y="0"/>
                  </a:lnTo>
                  <a:lnTo>
                    <a:pt x="1705" y="0"/>
                  </a:lnTo>
                  <a:lnTo>
                    <a:pt x="1707" y="12"/>
                  </a:lnTo>
                  <a:lnTo>
                    <a:pt x="1708" y="23"/>
                  </a:lnTo>
                  <a:lnTo>
                    <a:pt x="1708" y="35"/>
                  </a:lnTo>
                  <a:lnTo>
                    <a:pt x="1709" y="47"/>
                  </a:lnTo>
                  <a:lnTo>
                    <a:pt x="1710" y="59"/>
                  </a:lnTo>
                  <a:lnTo>
                    <a:pt x="1711" y="70"/>
                  </a:lnTo>
                  <a:lnTo>
                    <a:pt x="1711" y="82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25920" y="1076400"/>
              <a:ext cx="542880" cy="30240"/>
            </a:xfrm>
            <a:custGeom>
              <a:avLst/>
              <a:gdLst/>
              <a:ahLst/>
              <a:rect l="l" t="t" r="r" b="b"/>
              <a:pathLst>
                <a:path w="1709" h="95">
                  <a:moveTo>
                    <a:pt x="1709" y="95"/>
                  </a:moveTo>
                  <a:lnTo>
                    <a:pt x="1090" y="95"/>
                  </a:lnTo>
                  <a:lnTo>
                    <a:pt x="1088" y="82"/>
                  </a:lnTo>
                  <a:lnTo>
                    <a:pt x="1087" y="70"/>
                  </a:lnTo>
                  <a:lnTo>
                    <a:pt x="1085" y="58"/>
                  </a:lnTo>
                  <a:lnTo>
                    <a:pt x="1082" y="46"/>
                  </a:lnTo>
                  <a:lnTo>
                    <a:pt x="1080" y="34"/>
                  </a:lnTo>
                  <a:lnTo>
                    <a:pt x="1077" y="23"/>
                  </a:lnTo>
                  <a:lnTo>
                    <a:pt x="1074" y="11"/>
                  </a:lnTo>
                  <a:lnTo>
                    <a:pt x="1071" y="0"/>
                  </a:lnTo>
                  <a:lnTo>
                    <a:pt x="1700" y="0"/>
                  </a:lnTo>
                  <a:lnTo>
                    <a:pt x="1701" y="12"/>
                  </a:lnTo>
                  <a:lnTo>
                    <a:pt x="1703" y="23"/>
                  </a:lnTo>
                  <a:lnTo>
                    <a:pt x="1704" y="34"/>
                  </a:lnTo>
                  <a:lnTo>
                    <a:pt x="1705" y="47"/>
                  </a:lnTo>
                  <a:lnTo>
                    <a:pt x="1707" y="59"/>
                  </a:lnTo>
                  <a:lnTo>
                    <a:pt x="1708" y="70"/>
                  </a:lnTo>
                  <a:lnTo>
                    <a:pt x="1708" y="82"/>
                  </a:lnTo>
                  <a:lnTo>
                    <a:pt x="1709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5920" y="1060560"/>
              <a:ext cx="541440" cy="29880"/>
            </a:xfrm>
            <a:custGeom>
              <a:avLst/>
              <a:gdLst/>
              <a:ahLst/>
              <a:rect l="l" t="t" r="r" b="b"/>
              <a:pathLst>
                <a:path w="1705" h="94">
                  <a:moveTo>
                    <a:pt x="1705" y="94"/>
                  </a:moveTo>
                  <a:lnTo>
                    <a:pt x="1083" y="94"/>
                  </a:lnTo>
                  <a:lnTo>
                    <a:pt x="1080" y="81"/>
                  </a:lnTo>
                  <a:lnTo>
                    <a:pt x="1077" y="69"/>
                  </a:lnTo>
                  <a:lnTo>
                    <a:pt x="1074" y="58"/>
                  </a:lnTo>
                  <a:lnTo>
                    <a:pt x="1071" y="46"/>
                  </a:lnTo>
                  <a:lnTo>
                    <a:pt x="1067" y="35"/>
                  </a:lnTo>
                  <a:lnTo>
                    <a:pt x="1064" y="22"/>
                  </a:lnTo>
                  <a:lnTo>
                    <a:pt x="1060" y="11"/>
                  </a:lnTo>
                  <a:lnTo>
                    <a:pt x="1055" y="0"/>
                  </a:lnTo>
                  <a:lnTo>
                    <a:pt x="1693" y="0"/>
                  </a:lnTo>
                  <a:lnTo>
                    <a:pt x="1695" y="11"/>
                  </a:lnTo>
                  <a:lnTo>
                    <a:pt x="1697" y="23"/>
                  </a:lnTo>
                  <a:lnTo>
                    <a:pt x="1698" y="35"/>
                  </a:lnTo>
                  <a:lnTo>
                    <a:pt x="1700" y="47"/>
                  </a:lnTo>
                  <a:lnTo>
                    <a:pt x="1701" y="58"/>
                  </a:lnTo>
                  <a:lnTo>
                    <a:pt x="1703" y="70"/>
                  </a:lnTo>
                  <a:lnTo>
                    <a:pt x="1704" y="82"/>
                  </a:lnTo>
                  <a:lnTo>
                    <a:pt x="1705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5920" y="1046160"/>
              <a:ext cx="539640" cy="3024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700" y="94"/>
                  </a:moveTo>
                  <a:lnTo>
                    <a:pt x="1071" y="94"/>
                  </a:lnTo>
                  <a:lnTo>
                    <a:pt x="1068" y="82"/>
                  </a:lnTo>
                  <a:lnTo>
                    <a:pt x="1064" y="69"/>
                  </a:lnTo>
                  <a:lnTo>
                    <a:pt x="1059" y="57"/>
                  </a:lnTo>
                  <a:lnTo>
                    <a:pt x="1054" y="46"/>
                  </a:lnTo>
                  <a:lnTo>
                    <a:pt x="1049" y="34"/>
                  </a:lnTo>
                  <a:lnTo>
                    <a:pt x="1044" y="22"/>
                  </a:lnTo>
                  <a:lnTo>
                    <a:pt x="1039" y="11"/>
                  </a:lnTo>
                  <a:lnTo>
                    <a:pt x="1034" y="0"/>
                  </a:lnTo>
                  <a:lnTo>
                    <a:pt x="1684" y="0"/>
                  </a:lnTo>
                  <a:lnTo>
                    <a:pt x="1686" y="11"/>
                  </a:lnTo>
                  <a:lnTo>
                    <a:pt x="1689" y="23"/>
                  </a:lnTo>
                  <a:lnTo>
                    <a:pt x="1691" y="35"/>
                  </a:lnTo>
                  <a:lnTo>
                    <a:pt x="1693" y="47"/>
                  </a:lnTo>
                  <a:lnTo>
                    <a:pt x="1695" y="58"/>
                  </a:lnTo>
                  <a:lnTo>
                    <a:pt x="1697" y="70"/>
                  </a:lnTo>
                  <a:lnTo>
                    <a:pt x="1698" y="82"/>
                  </a:lnTo>
                  <a:lnTo>
                    <a:pt x="170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5920" y="1031760"/>
              <a:ext cx="538200" cy="28800"/>
            </a:xfrm>
            <a:custGeom>
              <a:avLst/>
              <a:gdLst/>
              <a:ahLst/>
              <a:rect l="l" t="t" r="r" b="b"/>
              <a:pathLst>
                <a:path w="1693" h="94">
                  <a:moveTo>
                    <a:pt x="1693" y="94"/>
                  </a:moveTo>
                  <a:lnTo>
                    <a:pt x="1055" y="94"/>
                  </a:lnTo>
                  <a:lnTo>
                    <a:pt x="1050" y="82"/>
                  </a:lnTo>
                  <a:lnTo>
                    <a:pt x="1044" y="69"/>
                  </a:lnTo>
                  <a:lnTo>
                    <a:pt x="1039" y="57"/>
                  </a:lnTo>
                  <a:lnTo>
                    <a:pt x="1033" y="45"/>
                  </a:lnTo>
                  <a:lnTo>
                    <a:pt x="1027" y="34"/>
                  </a:lnTo>
                  <a:lnTo>
                    <a:pt x="1020" y="23"/>
                  </a:lnTo>
                  <a:lnTo>
                    <a:pt x="1014" y="11"/>
                  </a:lnTo>
                  <a:lnTo>
                    <a:pt x="1007" y="0"/>
                  </a:lnTo>
                  <a:lnTo>
                    <a:pt x="1673" y="0"/>
                  </a:lnTo>
                  <a:lnTo>
                    <a:pt x="1676" y="11"/>
                  </a:lnTo>
                  <a:lnTo>
                    <a:pt x="1679" y="23"/>
                  </a:lnTo>
                  <a:lnTo>
                    <a:pt x="1681" y="35"/>
                  </a:lnTo>
                  <a:lnTo>
                    <a:pt x="1684" y="46"/>
                  </a:lnTo>
                  <a:lnTo>
                    <a:pt x="1686" y="58"/>
                  </a:lnTo>
                  <a:lnTo>
                    <a:pt x="1689" y="70"/>
                  </a:lnTo>
                  <a:lnTo>
                    <a:pt x="1691" y="82"/>
                  </a:lnTo>
                  <a:lnTo>
                    <a:pt x="16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25920" y="1015920"/>
              <a:ext cx="534960" cy="30240"/>
            </a:xfrm>
            <a:custGeom>
              <a:avLst/>
              <a:gdLst/>
              <a:ahLst/>
              <a:rect l="l" t="t" r="r" b="b"/>
              <a:pathLst>
                <a:path w="1684" h="95">
                  <a:moveTo>
                    <a:pt x="1684" y="95"/>
                  </a:moveTo>
                  <a:lnTo>
                    <a:pt x="1034" y="95"/>
                  </a:lnTo>
                  <a:lnTo>
                    <a:pt x="1027" y="83"/>
                  </a:lnTo>
                  <a:lnTo>
                    <a:pt x="1020" y="70"/>
                  </a:lnTo>
                  <a:lnTo>
                    <a:pt x="1013" y="58"/>
                  </a:lnTo>
                  <a:lnTo>
                    <a:pt x="1005" y="46"/>
                  </a:lnTo>
                  <a:lnTo>
                    <a:pt x="997" y="35"/>
                  </a:lnTo>
                  <a:lnTo>
                    <a:pt x="989" y="23"/>
                  </a:lnTo>
                  <a:lnTo>
                    <a:pt x="980" y="11"/>
                  </a:lnTo>
                  <a:lnTo>
                    <a:pt x="971" y="0"/>
                  </a:lnTo>
                  <a:lnTo>
                    <a:pt x="1660" y="0"/>
                  </a:lnTo>
                  <a:lnTo>
                    <a:pt x="1663" y="12"/>
                  </a:lnTo>
                  <a:lnTo>
                    <a:pt x="1666" y="24"/>
                  </a:lnTo>
                  <a:lnTo>
                    <a:pt x="1670" y="36"/>
                  </a:lnTo>
                  <a:lnTo>
                    <a:pt x="1673" y="47"/>
                  </a:lnTo>
                  <a:lnTo>
                    <a:pt x="1676" y="59"/>
                  </a:lnTo>
                  <a:lnTo>
                    <a:pt x="1679" y="71"/>
                  </a:lnTo>
                  <a:lnTo>
                    <a:pt x="1681" y="83"/>
                  </a:lnTo>
                  <a:lnTo>
                    <a:pt x="168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25920" y="1001880"/>
              <a:ext cx="531720" cy="29880"/>
            </a:xfrm>
            <a:custGeom>
              <a:avLst/>
              <a:gdLst/>
              <a:ahLst/>
              <a:rect l="l" t="t" r="r" b="b"/>
              <a:pathLst>
                <a:path w="1673" h="95">
                  <a:moveTo>
                    <a:pt x="1673" y="95"/>
                  </a:moveTo>
                  <a:lnTo>
                    <a:pt x="1007" y="95"/>
                  </a:lnTo>
                  <a:lnTo>
                    <a:pt x="1000" y="86"/>
                  </a:lnTo>
                  <a:lnTo>
                    <a:pt x="994" y="78"/>
                  </a:lnTo>
                  <a:lnTo>
                    <a:pt x="988" y="70"/>
                  </a:lnTo>
                  <a:lnTo>
                    <a:pt x="982" y="61"/>
                  </a:lnTo>
                  <a:lnTo>
                    <a:pt x="976" y="53"/>
                  </a:lnTo>
                  <a:lnTo>
                    <a:pt x="970" y="45"/>
                  </a:lnTo>
                  <a:lnTo>
                    <a:pt x="963" y="38"/>
                  </a:lnTo>
                  <a:lnTo>
                    <a:pt x="956" y="30"/>
                  </a:lnTo>
                  <a:lnTo>
                    <a:pt x="952" y="26"/>
                  </a:lnTo>
                  <a:lnTo>
                    <a:pt x="948" y="23"/>
                  </a:lnTo>
                  <a:lnTo>
                    <a:pt x="945" y="19"/>
                  </a:lnTo>
                  <a:lnTo>
                    <a:pt x="941" y="15"/>
                  </a:lnTo>
                  <a:lnTo>
                    <a:pt x="937" y="12"/>
                  </a:lnTo>
                  <a:lnTo>
                    <a:pt x="934" y="7"/>
                  </a:lnTo>
                  <a:lnTo>
                    <a:pt x="930" y="4"/>
                  </a:lnTo>
                  <a:lnTo>
                    <a:pt x="926" y="0"/>
                  </a:lnTo>
                  <a:lnTo>
                    <a:pt x="1645" y="0"/>
                  </a:lnTo>
                  <a:lnTo>
                    <a:pt x="1649" y="13"/>
                  </a:lnTo>
                  <a:lnTo>
                    <a:pt x="1652" y="24"/>
                  </a:lnTo>
                  <a:lnTo>
                    <a:pt x="1656" y="35"/>
                  </a:lnTo>
                  <a:lnTo>
                    <a:pt x="1659" y="47"/>
                  </a:lnTo>
                  <a:lnTo>
                    <a:pt x="1663" y="58"/>
                  </a:lnTo>
                  <a:lnTo>
                    <a:pt x="1666" y="71"/>
                  </a:lnTo>
                  <a:lnTo>
                    <a:pt x="1670" y="83"/>
                  </a:lnTo>
                  <a:lnTo>
                    <a:pt x="1673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25920" y="985680"/>
              <a:ext cx="527040" cy="30240"/>
            </a:xfrm>
            <a:custGeom>
              <a:avLst/>
              <a:gdLst/>
              <a:ahLst/>
              <a:rect l="l" t="t" r="r" b="b"/>
              <a:pathLst>
                <a:path w="1660" h="94">
                  <a:moveTo>
                    <a:pt x="1660" y="94"/>
                  </a:moveTo>
                  <a:lnTo>
                    <a:pt x="971" y="94"/>
                  </a:lnTo>
                  <a:lnTo>
                    <a:pt x="969" y="92"/>
                  </a:lnTo>
                  <a:lnTo>
                    <a:pt x="968" y="90"/>
                  </a:lnTo>
                  <a:lnTo>
                    <a:pt x="966" y="88"/>
                  </a:lnTo>
                  <a:lnTo>
                    <a:pt x="964" y="86"/>
                  </a:lnTo>
                  <a:lnTo>
                    <a:pt x="962" y="84"/>
                  </a:lnTo>
                  <a:lnTo>
                    <a:pt x="960" y="81"/>
                  </a:lnTo>
                  <a:lnTo>
                    <a:pt x="958" y="79"/>
                  </a:lnTo>
                  <a:lnTo>
                    <a:pt x="956" y="77"/>
                  </a:lnTo>
                  <a:lnTo>
                    <a:pt x="945" y="66"/>
                  </a:lnTo>
                  <a:lnTo>
                    <a:pt x="935" y="55"/>
                  </a:lnTo>
                  <a:lnTo>
                    <a:pt x="924" y="45"/>
                  </a:lnTo>
                  <a:lnTo>
                    <a:pt x="913" y="35"/>
                  </a:lnTo>
                  <a:lnTo>
                    <a:pt x="901" y="26"/>
                  </a:lnTo>
                  <a:lnTo>
                    <a:pt x="889" y="17"/>
                  </a:lnTo>
                  <a:lnTo>
                    <a:pt x="878" y="9"/>
                  </a:lnTo>
                  <a:lnTo>
                    <a:pt x="866" y="0"/>
                  </a:lnTo>
                  <a:lnTo>
                    <a:pt x="1628" y="0"/>
                  </a:lnTo>
                  <a:lnTo>
                    <a:pt x="1632" y="12"/>
                  </a:lnTo>
                  <a:lnTo>
                    <a:pt x="1636" y="24"/>
                  </a:lnTo>
                  <a:lnTo>
                    <a:pt x="1641" y="35"/>
                  </a:lnTo>
                  <a:lnTo>
                    <a:pt x="1645" y="47"/>
                  </a:lnTo>
                  <a:lnTo>
                    <a:pt x="1648" y="59"/>
                  </a:lnTo>
                  <a:lnTo>
                    <a:pt x="1652" y="71"/>
                  </a:lnTo>
                  <a:lnTo>
                    <a:pt x="1656" y="83"/>
                  </a:lnTo>
                  <a:lnTo>
                    <a:pt x="166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25920" y="971640"/>
              <a:ext cx="522360" cy="30240"/>
            </a:xfrm>
            <a:custGeom>
              <a:avLst/>
              <a:gdLst/>
              <a:ahLst/>
              <a:rect l="l" t="t" r="r" b="b"/>
              <a:pathLst>
                <a:path w="1645" h="93">
                  <a:moveTo>
                    <a:pt x="1645" y="93"/>
                  </a:moveTo>
                  <a:lnTo>
                    <a:pt x="926" y="93"/>
                  </a:lnTo>
                  <a:lnTo>
                    <a:pt x="909" y="78"/>
                  </a:lnTo>
                  <a:lnTo>
                    <a:pt x="891" y="64"/>
                  </a:lnTo>
                  <a:lnTo>
                    <a:pt x="873" y="52"/>
                  </a:lnTo>
                  <a:lnTo>
                    <a:pt x="854" y="38"/>
                  </a:lnTo>
                  <a:lnTo>
                    <a:pt x="834" y="27"/>
                  </a:lnTo>
                  <a:lnTo>
                    <a:pt x="814" y="17"/>
                  </a:lnTo>
                  <a:lnTo>
                    <a:pt x="793" y="8"/>
                  </a:lnTo>
                  <a:lnTo>
                    <a:pt x="772" y="0"/>
                  </a:lnTo>
                  <a:lnTo>
                    <a:pt x="1607" y="0"/>
                  </a:lnTo>
                  <a:lnTo>
                    <a:pt x="1612" y="11"/>
                  </a:lnTo>
                  <a:lnTo>
                    <a:pt x="1618" y="22"/>
                  </a:lnTo>
                  <a:lnTo>
                    <a:pt x="1623" y="34"/>
                  </a:lnTo>
                  <a:lnTo>
                    <a:pt x="1627" y="45"/>
                  </a:lnTo>
                  <a:lnTo>
                    <a:pt x="1632" y="58"/>
                  </a:lnTo>
                  <a:lnTo>
                    <a:pt x="1636" y="70"/>
                  </a:lnTo>
                  <a:lnTo>
                    <a:pt x="1641" y="81"/>
                  </a:lnTo>
                  <a:lnTo>
                    <a:pt x="164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25920" y="957240"/>
              <a:ext cx="517680" cy="28440"/>
            </a:xfrm>
            <a:custGeom>
              <a:avLst/>
              <a:gdLst/>
              <a:ahLst/>
              <a:rect l="l" t="t" r="r" b="b"/>
              <a:pathLst>
                <a:path w="1628" h="93">
                  <a:moveTo>
                    <a:pt x="1628" y="93"/>
                  </a:moveTo>
                  <a:lnTo>
                    <a:pt x="866" y="93"/>
                  </a:lnTo>
                  <a:lnTo>
                    <a:pt x="851" y="84"/>
                  </a:lnTo>
                  <a:lnTo>
                    <a:pt x="836" y="75"/>
                  </a:lnTo>
                  <a:lnTo>
                    <a:pt x="821" y="67"/>
                  </a:lnTo>
                  <a:lnTo>
                    <a:pt x="805" y="60"/>
                  </a:lnTo>
                  <a:lnTo>
                    <a:pt x="789" y="53"/>
                  </a:lnTo>
                  <a:lnTo>
                    <a:pt x="773" y="47"/>
                  </a:lnTo>
                  <a:lnTo>
                    <a:pt x="756" y="40"/>
                  </a:lnTo>
                  <a:lnTo>
                    <a:pt x="739" y="35"/>
                  </a:lnTo>
                  <a:lnTo>
                    <a:pt x="722" y="30"/>
                  </a:lnTo>
                  <a:lnTo>
                    <a:pt x="704" y="26"/>
                  </a:lnTo>
                  <a:lnTo>
                    <a:pt x="686" y="23"/>
                  </a:lnTo>
                  <a:lnTo>
                    <a:pt x="668" y="20"/>
                  </a:lnTo>
                  <a:lnTo>
                    <a:pt x="648" y="17"/>
                  </a:lnTo>
                  <a:lnTo>
                    <a:pt x="630" y="16"/>
                  </a:lnTo>
                  <a:lnTo>
                    <a:pt x="611" y="14"/>
                  </a:lnTo>
                  <a:lnTo>
                    <a:pt x="591" y="14"/>
                  </a:lnTo>
                  <a:lnTo>
                    <a:pt x="591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1"/>
                  </a:lnTo>
                  <a:lnTo>
                    <a:pt x="1585" y="1"/>
                  </a:lnTo>
                  <a:lnTo>
                    <a:pt x="1586" y="1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92" y="13"/>
                  </a:lnTo>
                  <a:lnTo>
                    <a:pt x="1597" y="24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12" y="59"/>
                  </a:lnTo>
                  <a:lnTo>
                    <a:pt x="1618" y="70"/>
                  </a:lnTo>
                  <a:lnTo>
                    <a:pt x="1623" y="82"/>
                  </a:lnTo>
                  <a:lnTo>
                    <a:pt x="1628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5920" y="941400"/>
              <a:ext cx="511200" cy="30240"/>
            </a:xfrm>
            <a:custGeom>
              <a:avLst/>
              <a:gdLst/>
              <a:ahLst/>
              <a:rect l="l" t="t" r="r" b="b"/>
              <a:pathLst>
                <a:path w="1607" h="95">
                  <a:moveTo>
                    <a:pt x="1607" y="95"/>
                  </a:moveTo>
                  <a:lnTo>
                    <a:pt x="772" y="95"/>
                  </a:lnTo>
                  <a:lnTo>
                    <a:pt x="752" y="87"/>
                  </a:lnTo>
                  <a:lnTo>
                    <a:pt x="730" y="81"/>
                  </a:lnTo>
                  <a:lnTo>
                    <a:pt x="708" y="75"/>
                  </a:lnTo>
                  <a:lnTo>
                    <a:pt x="685" y="71"/>
                  </a:lnTo>
                  <a:lnTo>
                    <a:pt x="663" y="67"/>
                  </a:lnTo>
                  <a:lnTo>
                    <a:pt x="639" y="64"/>
                  </a:lnTo>
                  <a:lnTo>
                    <a:pt x="615" y="63"/>
                  </a:lnTo>
                  <a:lnTo>
                    <a:pt x="591" y="62"/>
                  </a:lnTo>
                  <a:lnTo>
                    <a:pt x="591" y="95"/>
                  </a:lnTo>
                  <a:lnTo>
                    <a:pt x="0" y="95"/>
                  </a:lnTo>
                  <a:lnTo>
                    <a:pt x="0" y="0"/>
                  </a:lnTo>
                  <a:lnTo>
                    <a:pt x="1558" y="0"/>
                  </a:lnTo>
                  <a:lnTo>
                    <a:pt x="1562" y="6"/>
                  </a:lnTo>
                  <a:lnTo>
                    <a:pt x="1565" y="12"/>
                  </a:lnTo>
                  <a:lnTo>
                    <a:pt x="1570" y="18"/>
                  </a:lnTo>
                  <a:lnTo>
                    <a:pt x="1573" y="25"/>
                  </a:lnTo>
                  <a:lnTo>
                    <a:pt x="1576" y="31"/>
                  </a:lnTo>
                  <a:lnTo>
                    <a:pt x="1580" y="37"/>
                  </a:lnTo>
                  <a:lnTo>
                    <a:pt x="1583" y="44"/>
                  </a:lnTo>
                  <a:lnTo>
                    <a:pt x="1586" y="50"/>
                  </a:lnTo>
                  <a:lnTo>
                    <a:pt x="1589" y="56"/>
                  </a:lnTo>
                  <a:lnTo>
                    <a:pt x="1592" y="61"/>
                  </a:lnTo>
                  <a:lnTo>
                    <a:pt x="1594" y="66"/>
                  </a:lnTo>
                  <a:lnTo>
                    <a:pt x="1597" y="72"/>
                  </a:lnTo>
                  <a:lnTo>
                    <a:pt x="1599" y="77"/>
                  </a:lnTo>
                  <a:lnTo>
                    <a:pt x="1602" y="83"/>
                  </a:lnTo>
                  <a:lnTo>
                    <a:pt x="1605" y="88"/>
                  </a:lnTo>
                  <a:lnTo>
                    <a:pt x="1607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5920" y="927000"/>
              <a:ext cx="503280" cy="30240"/>
            </a:xfrm>
            <a:custGeom>
              <a:avLst/>
              <a:gdLst/>
              <a:ahLst/>
              <a:rect l="l" t="t" r="r" b="b"/>
              <a:pathLst>
                <a:path w="1585" h="95">
                  <a:moveTo>
                    <a:pt x="158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30" y="0"/>
                  </a:lnTo>
                  <a:lnTo>
                    <a:pt x="1537" y="11"/>
                  </a:lnTo>
                  <a:lnTo>
                    <a:pt x="1544" y="23"/>
                  </a:lnTo>
                  <a:lnTo>
                    <a:pt x="1551" y="35"/>
                  </a:lnTo>
                  <a:lnTo>
                    <a:pt x="1558" y="46"/>
                  </a:lnTo>
                  <a:lnTo>
                    <a:pt x="1565" y="58"/>
                  </a:lnTo>
                  <a:lnTo>
                    <a:pt x="1572" y="70"/>
                  </a:lnTo>
                  <a:lnTo>
                    <a:pt x="1579" y="82"/>
                  </a:lnTo>
                  <a:lnTo>
                    <a:pt x="1585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5920" y="911160"/>
              <a:ext cx="495360" cy="30240"/>
            </a:xfrm>
            <a:custGeom>
              <a:avLst/>
              <a:gdLst/>
              <a:ahLst/>
              <a:rect l="l" t="t" r="r" b="b"/>
              <a:pathLst>
                <a:path w="1558" h="94">
                  <a:moveTo>
                    <a:pt x="155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96" y="0"/>
                  </a:lnTo>
                  <a:lnTo>
                    <a:pt x="1505" y="11"/>
                  </a:lnTo>
                  <a:lnTo>
                    <a:pt x="1513" y="22"/>
                  </a:lnTo>
                  <a:lnTo>
                    <a:pt x="1521" y="35"/>
                  </a:lnTo>
                  <a:lnTo>
                    <a:pt x="1529" y="46"/>
                  </a:lnTo>
                  <a:lnTo>
                    <a:pt x="1537" y="58"/>
                  </a:lnTo>
                  <a:lnTo>
                    <a:pt x="1544" y="70"/>
                  </a:lnTo>
                  <a:lnTo>
                    <a:pt x="1551" y="82"/>
                  </a:lnTo>
                  <a:lnTo>
                    <a:pt x="1558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5920" y="896760"/>
              <a:ext cx="485640" cy="30240"/>
            </a:xfrm>
            <a:custGeom>
              <a:avLst/>
              <a:gdLst/>
              <a:ahLst/>
              <a:rect l="l" t="t" r="r" b="b"/>
              <a:pathLst>
                <a:path w="1530" h="94">
                  <a:moveTo>
                    <a:pt x="153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59" y="0"/>
                  </a:lnTo>
                  <a:lnTo>
                    <a:pt x="1469" y="11"/>
                  </a:lnTo>
                  <a:lnTo>
                    <a:pt x="1478" y="22"/>
                  </a:lnTo>
                  <a:lnTo>
                    <a:pt x="1487" y="34"/>
                  </a:lnTo>
                  <a:lnTo>
                    <a:pt x="1496" y="46"/>
                  </a:lnTo>
                  <a:lnTo>
                    <a:pt x="1504" y="58"/>
                  </a:lnTo>
                  <a:lnTo>
                    <a:pt x="1513" y="69"/>
                  </a:lnTo>
                  <a:lnTo>
                    <a:pt x="1522" y="82"/>
                  </a:lnTo>
                  <a:lnTo>
                    <a:pt x="1530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25920" y="880920"/>
              <a:ext cx="474840" cy="30240"/>
            </a:xfrm>
            <a:custGeom>
              <a:avLst/>
              <a:gdLst/>
              <a:ahLst/>
              <a:rect l="l" t="t" r="r" b="b"/>
              <a:pathLst>
                <a:path w="1496" h="94">
                  <a:moveTo>
                    <a:pt x="149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17" y="0"/>
                  </a:lnTo>
                  <a:lnTo>
                    <a:pt x="1427" y="11"/>
                  </a:lnTo>
                  <a:lnTo>
                    <a:pt x="1438" y="23"/>
                  </a:lnTo>
                  <a:lnTo>
                    <a:pt x="1448" y="34"/>
                  </a:lnTo>
                  <a:lnTo>
                    <a:pt x="1458" y="46"/>
                  </a:lnTo>
                  <a:lnTo>
                    <a:pt x="1468" y="57"/>
                  </a:lnTo>
                  <a:lnTo>
                    <a:pt x="1478" y="69"/>
                  </a:lnTo>
                  <a:lnTo>
                    <a:pt x="1487" y="82"/>
                  </a:lnTo>
                  <a:lnTo>
                    <a:pt x="1496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25920" y="866880"/>
              <a:ext cx="463680" cy="29880"/>
            </a:xfrm>
            <a:custGeom>
              <a:avLst/>
              <a:gdLst/>
              <a:ahLst/>
              <a:rect l="l" t="t" r="r" b="b"/>
              <a:pathLst>
                <a:path w="1459" h="95">
                  <a:moveTo>
                    <a:pt x="145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69" y="0"/>
                  </a:lnTo>
                  <a:lnTo>
                    <a:pt x="1380" y="11"/>
                  </a:lnTo>
                  <a:lnTo>
                    <a:pt x="1392" y="24"/>
                  </a:lnTo>
                  <a:lnTo>
                    <a:pt x="1403" y="35"/>
                  </a:lnTo>
                  <a:lnTo>
                    <a:pt x="1416" y="46"/>
                  </a:lnTo>
                  <a:lnTo>
                    <a:pt x="1427" y="58"/>
                  </a:lnTo>
                  <a:lnTo>
                    <a:pt x="1438" y="71"/>
                  </a:lnTo>
                  <a:lnTo>
                    <a:pt x="1448" y="83"/>
                  </a:lnTo>
                  <a:lnTo>
                    <a:pt x="1459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5920" y="851040"/>
              <a:ext cx="450720" cy="29880"/>
            </a:xfrm>
            <a:custGeom>
              <a:avLst/>
              <a:gdLst/>
              <a:ahLst/>
              <a:rect l="l" t="t" r="r" b="b"/>
              <a:pathLst>
                <a:path w="1417" h="95">
                  <a:moveTo>
                    <a:pt x="141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13" y="0"/>
                  </a:lnTo>
                  <a:lnTo>
                    <a:pt x="1326" y="12"/>
                  </a:lnTo>
                  <a:lnTo>
                    <a:pt x="1340" y="23"/>
                  </a:lnTo>
                  <a:lnTo>
                    <a:pt x="1353" y="34"/>
                  </a:lnTo>
                  <a:lnTo>
                    <a:pt x="1367" y="46"/>
                  </a:lnTo>
                  <a:lnTo>
                    <a:pt x="1379" y="58"/>
                  </a:lnTo>
                  <a:lnTo>
                    <a:pt x="1392" y="70"/>
                  </a:lnTo>
                  <a:lnTo>
                    <a:pt x="1404" y="82"/>
                  </a:lnTo>
                  <a:lnTo>
                    <a:pt x="1417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25920" y="836640"/>
              <a:ext cx="434880" cy="30240"/>
            </a:xfrm>
            <a:custGeom>
              <a:avLst/>
              <a:gdLst/>
              <a:ahLst/>
              <a:rect l="l" t="t" r="r" b="b"/>
              <a:pathLst>
                <a:path w="1369" h="94">
                  <a:moveTo>
                    <a:pt x="136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64" y="12"/>
                  </a:lnTo>
                  <a:lnTo>
                    <a:pt x="1279" y="23"/>
                  </a:lnTo>
                  <a:lnTo>
                    <a:pt x="1295" y="34"/>
                  </a:lnTo>
                  <a:lnTo>
                    <a:pt x="1310" y="45"/>
                  </a:lnTo>
                  <a:lnTo>
                    <a:pt x="1325" y="58"/>
                  </a:lnTo>
                  <a:lnTo>
                    <a:pt x="1340" y="70"/>
                  </a:lnTo>
                  <a:lnTo>
                    <a:pt x="1354" y="82"/>
                  </a:lnTo>
                  <a:lnTo>
                    <a:pt x="1369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25920" y="822240"/>
              <a:ext cx="417600" cy="28800"/>
            </a:xfrm>
            <a:custGeom>
              <a:avLst/>
              <a:gdLst/>
              <a:ahLst/>
              <a:rect l="l" t="t" r="r" b="b"/>
              <a:pathLst>
                <a:path w="1313" h="93">
                  <a:moveTo>
                    <a:pt x="1313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76" y="3"/>
                  </a:lnTo>
                  <a:lnTo>
                    <a:pt x="1181" y="6"/>
                  </a:lnTo>
                  <a:lnTo>
                    <a:pt x="1187" y="9"/>
                  </a:lnTo>
                  <a:lnTo>
                    <a:pt x="1192" y="12"/>
                  </a:lnTo>
                  <a:lnTo>
                    <a:pt x="1197" y="15"/>
                  </a:lnTo>
                  <a:lnTo>
                    <a:pt x="1203" y="18"/>
                  </a:lnTo>
                  <a:lnTo>
                    <a:pt x="1208" y="21"/>
                  </a:lnTo>
                  <a:lnTo>
                    <a:pt x="1214" y="24"/>
                  </a:lnTo>
                  <a:lnTo>
                    <a:pt x="1227" y="32"/>
                  </a:lnTo>
                  <a:lnTo>
                    <a:pt x="1239" y="41"/>
                  </a:lnTo>
                  <a:lnTo>
                    <a:pt x="1252" y="50"/>
                  </a:lnTo>
                  <a:lnTo>
                    <a:pt x="1265" y="58"/>
                  </a:lnTo>
                  <a:lnTo>
                    <a:pt x="1277" y="67"/>
                  </a:lnTo>
                  <a:lnTo>
                    <a:pt x="1289" y="75"/>
                  </a:lnTo>
                  <a:lnTo>
                    <a:pt x="1300" y="84"/>
                  </a:lnTo>
                  <a:lnTo>
                    <a:pt x="1313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25920" y="806400"/>
              <a:ext cx="397080" cy="30240"/>
            </a:xfrm>
            <a:custGeom>
              <a:avLst/>
              <a:gdLst/>
              <a:ahLst/>
              <a:rect l="l" t="t" r="r" b="b"/>
              <a:pathLst>
                <a:path w="1247" h="93">
                  <a:moveTo>
                    <a:pt x="1247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073" y="0"/>
                  </a:lnTo>
                  <a:lnTo>
                    <a:pt x="1091" y="7"/>
                  </a:lnTo>
                  <a:lnTo>
                    <a:pt x="1110" y="15"/>
                  </a:lnTo>
                  <a:lnTo>
                    <a:pt x="1127" y="24"/>
                  </a:lnTo>
                  <a:lnTo>
                    <a:pt x="1145" y="33"/>
                  </a:lnTo>
                  <a:lnTo>
                    <a:pt x="1163" y="43"/>
                  </a:lnTo>
                  <a:lnTo>
                    <a:pt x="1180" y="52"/>
                  </a:lnTo>
                  <a:lnTo>
                    <a:pt x="1197" y="62"/>
                  </a:lnTo>
                  <a:lnTo>
                    <a:pt x="1214" y="71"/>
                  </a:lnTo>
                  <a:lnTo>
                    <a:pt x="1218" y="74"/>
                  </a:lnTo>
                  <a:lnTo>
                    <a:pt x="1222" y="77"/>
                  </a:lnTo>
                  <a:lnTo>
                    <a:pt x="1227" y="79"/>
                  </a:lnTo>
                  <a:lnTo>
                    <a:pt x="1231" y="82"/>
                  </a:lnTo>
                  <a:lnTo>
                    <a:pt x="1235" y="85"/>
                  </a:lnTo>
                  <a:lnTo>
                    <a:pt x="1239" y="88"/>
                  </a:lnTo>
                  <a:lnTo>
                    <a:pt x="1243" y="90"/>
                  </a:lnTo>
                  <a:lnTo>
                    <a:pt x="1247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79200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7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67" y="9"/>
                  </a:lnTo>
                  <a:lnTo>
                    <a:pt x="997" y="19"/>
                  </a:lnTo>
                  <a:lnTo>
                    <a:pt x="1028" y="29"/>
                  </a:lnTo>
                  <a:lnTo>
                    <a:pt x="1058" y="42"/>
                  </a:lnTo>
                  <a:lnTo>
                    <a:pt x="1087" y="53"/>
                  </a:lnTo>
                  <a:lnTo>
                    <a:pt x="1116" y="66"/>
                  </a:lnTo>
                  <a:lnTo>
                    <a:pt x="1143" y="80"/>
                  </a:lnTo>
                  <a:lnTo>
                    <a:pt x="11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25920" y="776160"/>
              <a:ext cx="341280" cy="30240"/>
            </a:xfrm>
            <a:custGeom>
              <a:avLst/>
              <a:gdLst/>
              <a:ahLst/>
              <a:rect l="l" t="t" r="r" b="b"/>
              <a:pathLst>
                <a:path w="1073" h="95">
                  <a:moveTo>
                    <a:pt x="107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651" y="0"/>
                  </a:lnTo>
                  <a:lnTo>
                    <a:pt x="680" y="3"/>
                  </a:lnTo>
                  <a:lnTo>
                    <a:pt x="710" y="6"/>
                  </a:lnTo>
                  <a:lnTo>
                    <a:pt x="737" y="9"/>
                  </a:lnTo>
                  <a:lnTo>
                    <a:pt x="765" y="13"/>
                  </a:lnTo>
                  <a:lnTo>
                    <a:pt x="791" y="17"/>
                  </a:lnTo>
                  <a:lnTo>
                    <a:pt x="817" y="21"/>
                  </a:lnTo>
                  <a:lnTo>
                    <a:pt x="841" y="25"/>
                  </a:lnTo>
                  <a:lnTo>
                    <a:pt x="865" y="30"/>
                  </a:lnTo>
                  <a:lnTo>
                    <a:pt x="892" y="37"/>
                  </a:lnTo>
                  <a:lnTo>
                    <a:pt x="919" y="43"/>
                  </a:lnTo>
                  <a:lnTo>
                    <a:pt x="946" y="50"/>
                  </a:lnTo>
                  <a:lnTo>
                    <a:pt x="972" y="58"/>
                  </a:lnTo>
                  <a:lnTo>
                    <a:pt x="997" y="66"/>
                  </a:lnTo>
                  <a:lnTo>
                    <a:pt x="1023" y="75"/>
                  </a:lnTo>
                  <a:lnTo>
                    <a:pt x="1048" y="84"/>
                  </a:lnTo>
                  <a:lnTo>
                    <a:pt x="1073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25920" y="773280"/>
              <a:ext cx="297000" cy="18720"/>
            </a:xfrm>
            <a:custGeom>
              <a:avLst/>
              <a:gdLst/>
              <a:ahLst/>
              <a:rect l="l" t="t" r="r" b="b"/>
              <a:pathLst>
                <a:path w="935" h="58">
                  <a:moveTo>
                    <a:pt x="935" y="58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874" y="44"/>
                  </a:lnTo>
                  <a:lnTo>
                    <a:pt x="883" y="46"/>
                  </a:lnTo>
                  <a:lnTo>
                    <a:pt x="891" y="48"/>
                  </a:lnTo>
                  <a:lnTo>
                    <a:pt x="900" y="50"/>
                  </a:lnTo>
                  <a:lnTo>
                    <a:pt x="910" y="52"/>
                  </a:lnTo>
                  <a:lnTo>
                    <a:pt x="918" y="54"/>
                  </a:lnTo>
                  <a:lnTo>
                    <a:pt x="927" y="56"/>
                  </a:lnTo>
                  <a:lnTo>
                    <a:pt x="935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25920" y="773280"/>
              <a:ext cx="206280" cy="2880"/>
            </a:xfrm>
            <a:custGeom>
              <a:avLst/>
              <a:gdLst/>
              <a:ahLst/>
              <a:rect l="l" t="t" r="r" b="b"/>
              <a:pathLst>
                <a:path w="651" h="11">
                  <a:moveTo>
                    <a:pt x="6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386" y="0"/>
                  </a:lnTo>
                  <a:lnTo>
                    <a:pt x="427" y="1"/>
                  </a:lnTo>
                  <a:lnTo>
                    <a:pt x="468" y="2"/>
                  </a:lnTo>
                  <a:lnTo>
                    <a:pt x="507" y="3"/>
                  </a:lnTo>
                  <a:lnTo>
                    <a:pt x="544" y="4"/>
                  </a:lnTo>
                  <a:lnTo>
                    <a:pt x="580" y="6"/>
                  </a:lnTo>
                  <a:lnTo>
                    <a:pt x="616" y="9"/>
                  </a:lnTo>
                  <a:lnTo>
                    <a:pt x="651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46560" y="1495440"/>
              <a:ext cx="209520" cy="14400"/>
            </a:xfrm>
            <a:custGeom>
              <a:avLst/>
              <a:gdLst/>
              <a:ahLst/>
              <a:rect l="l" t="t" r="r" b="b"/>
              <a:pathLst>
                <a:path w="661" h="47">
                  <a:moveTo>
                    <a:pt x="0" y="0"/>
                  </a:moveTo>
                  <a:lnTo>
                    <a:pt x="661" y="0"/>
                  </a:lnTo>
                  <a:lnTo>
                    <a:pt x="621" y="11"/>
                  </a:lnTo>
                  <a:lnTo>
                    <a:pt x="580" y="20"/>
                  </a:lnTo>
                  <a:lnTo>
                    <a:pt x="539" y="28"/>
                  </a:lnTo>
                  <a:lnTo>
                    <a:pt x="495" y="35"/>
                  </a:lnTo>
                  <a:lnTo>
                    <a:pt x="450" y="40"/>
                  </a:lnTo>
                  <a:lnTo>
                    <a:pt x="404" y="44"/>
                  </a:lnTo>
                  <a:lnTo>
                    <a:pt x="356" y="46"/>
                  </a:lnTo>
                  <a:lnTo>
                    <a:pt x="307" y="47"/>
                  </a:lnTo>
                  <a:lnTo>
                    <a:pt x="287" y="46"/>
                  </a:lnTo>
                  <a:lnTo>
                    <a:pt x="266" y="46"/>
                  </a:lnTo>
                  <a:lnTo>
                    <a:pt x="246" y="45"/>
                  </a:lnTo>
                  <a:lnTo>
                    <a:pt x="227" y="44"/>
                  </a:lnTo>
                  <a:lnTo>
                    <a:pt x="206" y="43"/>
                  </a:lnTo>
                  <a:lnTo>
                    <a:pt x="187" y="42"/>
                  </a:lnTo>
                  <a:lnTo>
                    <a:pt x="167" y="40"/>
                  </a:lnTo>
                  <a:lnTo>
                    <a:pt x="148" y="39"/>
                  </a:lnTo>
                  <a:lnTo>
                    <a:pt x="130" y="37"/>
                  </a:lnTo>
                  <a:lnTo>
                    <a:pt x="110" y="35"/>
                  </a:lnTo>
                  <a:lnTo>
                    <a:pt x="92" y="31"/>
                  </a:lnTo>
                  <a:lnTo>
                    <a:pt x="74" y="29"/>
                  </a:lnTo>
                  <a:lnTo>
                    <a:pt x="54" y="26"/>
                  </a:lnTo>
                  <a:lnTo>
                    <a:pt x="36" y="23"/>
                  </a:lnTo>
                  <a:lnTo>
                    <a:pt x="18" y="20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5120" y="1479600"/>
              <a:ext cx="249120" cy="30240"/>
            </a:xfrm>
            <a:custGeom>
              <a:avLst/>
              <a:gdLst/>
              <a:ahLst/>
              <a:rect l="l" t="t" r="r" b="b"/>
              <a:pathLst>
                <a:path w="784" h="94">
                  <a:moveTo>
                    <a:pt x="0" y="0"/>
                  </a:moveTo>
                  <a:lnTo>
                    <a:pt x="784" y="0"/>
                  </a:lnTo>
                  <a:lnTo>
                    <a:pt x="760" y="11"/>
                  </a:lnTo>
                  <a:lnTo>
                    <a:pt x="734" y="21"/>
                  </a:lnTo>
                  <a:lnTo>
                    <a:pt x="708" y="32"/>
                  </a:lnTo>
                  <a:lnTo>
                    <a:pt x="681" y="41"/>
                  </a:lnTo>
                  <a:lnTo>
                    <a:pt x="654" y="49"/>
                  </a:lnTo>
                  <a:lnTo>
                    <a:pt x="626" y="57"/>
                  </a:lnTo>
                  <a:lnTo>
                    <a:pt x="598" y="64"/>
                  </a:lnTo>
                  <a:lnTo>
                    <a:pt x="568" y="70"/>
                  </a:lnTo>
                  <a:lnTo>
                    <a:pt x="539" y="75"/>
                  </a:lnTo>
                  <a:lnTo>
                    <a:pt x="507" y="81"/>
                  </a:lnTo>
                  <a:lnTo>
                    <a:pt x="476" y="85"/>
                  </a:lnTo>
                  <a:lnTo>
                    <a:pt x="444" y="88"/>
                  </a:lnTo>
                  <a:lnTo>
                    <a:pt x="411" y="91"/>
                  </a:lnTo>
                  <a:lnTo>
                    <a:pt x="378" y="93"/>
                  </a:lnTo>
                  <a:lnTo>
                    <a:pt x="344" y="94"/>
                  </a:lnTo>
                  <a:lnTo>
                    <a:pt x="309" y="94"/>
                  </a:lnTo>
                  <a:lnTo>
                    <a:pt x="289" y="93"/>
                  </a:lnTo>
                  <a:lnTo>
                    <a:pt x="268" y="93"/>
                  </a:lnTo>
                  <a:lnTo>
                    <a:pt x="248" y="92"/>
                  </a:lnTo>
                  <a:lnTo>
                    <a:pt x="229" y="91"/>
                  </a:lnTo>
                  <a:lnTo>
                    <a:pt x="208" y="90"/>
                  </a:lnTo>
                  <a:lnTo>
                    <a:pt x="189" y="89"/>
                  </a:lnTo>
                  <a:lnTo>
                    <a:pt x="169" y="87"/>
                  </a:lnTo>
                  <a:lnTo>
                    <a:pt x="150" y="86"/>
                  </a:lnTo>
                  <a:lnTo>
                    <a:pt x="132" y="84"/>
                  </a:lnTo>
                  <a:lnTo>
                    <a:pt x="112" y="82"/>
                  </a:lnTo>
                  <a:lnTo>
                    <a:pt x="94" y="78"/>
                  </a:lnTo>
                  <a:lnTo>
                    <a:pt x="76" y="76"/>
                  </a:lnTo>
                  <a:lnTo>
                    <a:pt x="56" y="73"/>
                  </a:lnTo>
                  <a:lnTo>
                    <a:pt x="38" y="70"/>
                  </a:lnTo>
                  <a:lnTo>
                    <a:pt x="20" y="67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45120" y="1465200"/>
              <a:ext cx="276120" cy="30240"/>
            </a:xfrm>
            <a:custGeom>
              <a:avLst/>
              <a:gdLst/>
              <a:ahLst/>
              <a:rect l="l" t="t" r="r" b="b"/>
              <a:pathLst>
                <a:path w="869" h="95">
                  <a:moveTo>
                    <a:pt x="664" y="95"/>
                  </a:moveTo>
                  <a:lnTo>
                    <a:pt x="3" y="95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46" y="15"/>
                  </a:lnTo>
                  <a:lnTo>
                    <a:pt x="822" y="29"/>
                  </a:lnTo>
                  <a:lnTo>
                    <a:pt x="798" y="42"/>
                  </a:lnTo>
                  <a:lnTo>
                    <a:pt x="772" y="54"/>
                  </a:lnTo>
                  <a:lnTo>
                    <a:pt x="746" y="65"/>
                  </a:lnTo>
                  <a:lnTo>
                    <a:pt x="719" y="75"/>
                  </a:lnTo>
                  <a:lnTo>
                    <a:pt x="692" y="86"/>
                  </a:lnTo>
                  <a:lnTo>
                    <a:pt x="664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5120" y="1449360"/>
              <a:ext cx="297000" cy="30240"/>
            </a:xfrm>
            <a:custGeom>
              <a:avLst/>
              <a:gdLst/>
              <a:ahLst/>
              <a:rect l="l" t="t" r="r" b="b"/>
              <a:pathLst>
                <a:path w="934" h="95">
                  <a:moveTo>
                    <a:pt x="786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934" y="0"/>
                  </a:lnTo>
                  <a:lnTo>
                    <a:pt x="917" y="13"/>
                  </a:lnTo>
                  <a:lnTo>
                    <a:pt x="900" y="27"/>
                  </a:lnTo>
                  <a:lnTo>
                    <a:pt x="882" y="40"/>
                  </a:lnTo>
                  <a:lnTo>
                    <a:pt x="864" y="51"/>
                  </a:lnTo>
                  <a:lnTo>
                    <a:pt x="846" y="63"/>
                  </a:lnTo>
                  <a:lnTo>
                    <a:pt x="826" y="74"/>
                  </a:lnTo>
                  <a:lnTo>
                    <a:pt x="807" y="85"/>
                  </a:lnTo>
                  <a:lnTo>
                    <a:pt x="78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45120" y="1434960"/>
              <a:ext cx="312840" cy="30240"/>
            </a:xfrm>
            <a:custGeom>
              <a:avLst/>
              <a:gdLst/>
              <a:ahLst/>
              <a:rect l="l" t="t" r="r" b="b"/>
              <a:pathLst>
                <a:path w="986" h="94">
                  <a:moveTo>
                    <a:pt x="871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986" y="0"/>
                  </a:lnTo>
                  <a:lnTo>
                    <a:pt x="980" y="5"/>
                  </a:lnTo>
                  <a:lnTo>
                    <a:pt x="975" y="10"/>
                  </a:lnTo>
                  <a:lnTo>
                    <a:pt x="970" y="16"/>
                  </a:lnTo>
                  <a:lnTo>
                    <a:pt x="965" y="21"/>
                  </a:lnTo>
                  <a:lnTo>
                    <a:pt x="960" y="26"/>
                  </a:lnTo>
                  <a:lnTo>
                    <a:pt x="954" y="31"/>
                  </a:lnTo>
                  <a:lnTo>
                    <a:pt x="949" y="36"/>
                  </a:lnTo>
                  <a:lnTo>
                    <a:pt x="942" y="41"/>
                  </a:lnTo>
                  <a:lnTo>
                    <a:pt x="934" y="48"/>
                  </a:lnTo>
                  <a:lnTo>
                    <a:pt x="925" y="55"/>
                  </a:lnTo>
                  <a:lnTo>
                    <a:pt x="917" y="62"/>
                  </a:lnTo>
                  <a:lnTo>
                    <a:pt x="908" y="69"/>
                  </a:lnTo>
                  <a:lnTo>
                    <a:pt x="899" y="76"/>
                  </a:lnTo>
                  <a:lnTo>
                    <a:pt x="889" y="82"/>
                  </a:lnTo>
                  <a:lnTo>
                    <a:pt x="880" y="88"/>
                  </a:lnTo>
                  <a:lnTo>
                    <a:pt x="871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43680" y="1419120"/>
              <a:ext cx="326880" cy="30240"/>
            </a:xfrm>
            <a:custGeom>
              <a:avLst/>
              <a:gdLst/>
              <a:ahLst/>
              <a:rect l="l" t="t" r="r" b="b"/>
              <a:pathLst>
                <a:path w="1028" h="94">
                  <a:moveTo>
                    <a:pt x="936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28" y="0"/>
                  </a:lnTo>
                  <a:lnTo>
                    <a:pt x="1019" y="12"/>
                  </a:lnTo>
                  <a:lnTo>
                    <a:pt x="1009" y="23"/>
                  </a:lnTo>
                  <a:lnTo>
                    <a:pt x="999" y="35"/>
                  </a:lnTo>
                  <a:lnTo>
                    <a:pt x="988" y="45"/>
                  </a:lnTo>
                  <a:lnTo>
                    <a:pt x="978" y="56"/>
                  </a:lnTo>
                  <a:lnTo>
                    <a:pt x="967" y="67"/>
                  </a:lnTo>
                  <a:lnTo>
                    <a:pt x="956" y="78"/>
                  </a:lnTo>
                  <a:lnTo>
                    <a:pt x="943" y="88"/>
                  </a:lnTo>
                  <a:lnTo>
                    <a:pt x="942" y="89"/>
                  </a:lnTo>
                  <a:lnTo>
                    <a:pt x="941" y="89"/>
                  </a:lnTo>
                  <a:lnTo>
                    <a:pt x="940" y="90"/>
                  </a:lnTo>
                  <a:lnTo>
                    <a:pt x="939" y="91"/>
                  </a:lnTo>
                  <a:lnTo>
                    <a:pt x="938" y="92"/>
                  </a:lnTo>
                  <a:lnTo>
                    <a:pt x="937" y="93"/>
                  </a:lnTo>
                  <a:lnTo>
                    <a:pt x="937" y="93"/>
                  </a:lnTo>
                  <a:lnTo>
                    <a:pt x="936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43680" y="1405080"/>
              <a:ext cx="338040" cy="29880"/>
            </a:xfrm>
            <a:custGeom>
              <a:avLst/>
              <a:gdLst/>
              <a:ahLst/>
              <a:rect l="l" t="t" r="r" b="b"/>
              <a:pathLst>
                <a:path w="1064" h="94">
                  <a:moveTo>
                    <a:pt x="98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64" y="0"/>
                  </a:lnTo>
                  <a:lnTo>
                    <a:pt x="1055" y="13"/>
                  </a:lnTo>
                  <a:lnTo>
                    <a:pt x="1046" y="25"/>
                  </a:lnTo>
                  <a:lnTo>
                    <a:pt x="1037" y="37"/>
                  </a:lnTo>
                  <a:lnTo>
                    <a:pt x="1028" y="48"/>
                  </a:lnTo>
                  <a:lnTo>
                    <a:pt x="1019" y="61"/>
                  </a:lnTo>
                  <a:lnTo>
                    <a:pt x="1009" y="72"/>
                  </a:lnTo>
                  <a:lnTo>
                    <a:pt x="999" y="83"/>
                  </a:lnTo>
                  <a:lnTo>
                    <a:pt x="988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43680" y="1390680"/>
              <a:ext cx="345960" cy="28440"/>
            </a:xfrm>
            <a:custGeom>
              <a:avLst/>
              <a:gdLst/>
              <a:ahLst/>
              <a:rect l="l" t="t" r="r" b="b"/>
              <a:pathLst>
                <a:path w="1092" h="94">
                  <a:moveTo>
                    <a:pt x="1030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92" y="0"/>
                  </a:lnTo>
                  <a:lnTo>
                    <a:pt x="1085" y="13"/>
                  </a:lnTo>
                  <a:lnTo>
                    <a:pt x="1078" y="25"/>
                  </a:lnTo>
                  <a:lnTo>
                    <a:pt x="1071" y="36"/>
                  </a:lnTo>
                  <a:lnTo>
                    <a:pt x="1064" y="49"/>
                  </a:lnTo>
                  <a:lnTo>
                    <a:pt x="1056" y="60"/>
                  </a:lnTo>
                  <a:lnTo>
                    <a:pt x="1047" y="72"/>
                  </a:lnTo>
                  <a:lnTo>
                    <a:pt x="1039" y="83"/>
                  </a:lnTo>
                  <a:lnTo>
                    <a:pt x="1030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43680" y="1374840"/>
              <a:ext cx="353880" cy="30240"/>
            </a:xfrm>
            <a:custGeom>
              <a:avLst/>
              <a:gdLst/>
              <a:ahLst/>
              <a:rect l="l" t="t" r="r" b="b"/>
              <a:pathLst>
                <a:path w="1117" h="94">
                  <a:moveTo>
                    <a:pt x="1067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17" y="0"/>
                  </a:lnTo>
                  <a:lnTo>
                    <a:pt x="1112" y="12"/>
                  </a:lnTo>
                  <a:lnTo>
                    <a:pt x="1106" y="24"/>
                  </a:lnTo>
                  <a:lnTo>
                    <a:pt x="1099" y="36"/>
                  </a:lnTo>
                  <a:lnTo>
                    <a:pt x="1093" y="49"/>
                  </a:lnTo>
                  <a:lnTo>
                    <a:pt x="1087" y="60"/>
                  </a:lnTo>
                  <a:lnTo>
                    <a:pt x="1080" y="71"/>
                  </a:lnTo>
                  <a:lnTo>
                    <a:pt x="1074" y="83"/>
                  </a:lnTo>
                  <a:lnTo>
                    <a:pt x="1067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41880" y="1360440"/>
              <a:ext cx="362160" cy="30240"/>
            </a:xfrm>
            <a:custGeom>
              <a:avLst/>
              <a:gdLst/>
              <a:ahLst/>
              <a:rect l="l" t="t" r="r" b="b"/>
              <a:pathLst>
                <a:path w="1136" h="94">
                  <a:moveTo>
                    <a:pt x="1095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36" y="0"/>
                  </a:lnTo>
                  <a:lnTo>
                    <a:pt x="1131" y="12"/>
                  </a:lnTo>
                  <a:lnTo>
                    <a:pt x="1127" y="24"/>
                  </a:lnTo>
                  <a:lnTo>
                    <a:pt x="1122" y="37"/>
                  </a:lnTo>
                  <a:lnTo>
                    <a:pt x="1117" y="48"/>
                  </a:lnTo>
                  <a:lnTo>
                    <a:pt x="1112" y="60"/>
                  </a:lnTo>
                  <a:lnTo>
                    <a:pt x="1107" y="71"/>
                  </a:lnTo>
                  <a:lnTo>
                    <a:pt x="1100" y="82"/>
                  </a:lnTo>
                  <a:lnTo>
                    <a:pt x="1095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41880" y="1344600"/>
              <a:ext cx="365040" cy="30240"/>
            </a:xfrm>
            <a:custGeom>
              <a:avLst/>
              <a:gdLst/>
              <a:ahLst/>
              <a:rect l="l" t="t" r="r" b="b"/>
              <a:pathLst>
                <a:path w="1150" h="94">
                  <a:moveTo>
                    <a:pt x="1119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50" y="0"/>
                  </a:lnTo>
                  <a:lnTo>
                    <a:pt x="1147" y="12"/>
                  </a:lnTo>
                  <a:lnTo>
                    <a:pt x="1144" y="24"/>
                  </a:lnTo>
                  <a:lnTo>
                    <a:pt x="1140" y="36"/>
                  </a:lnTo>
                  <a:lnTo>
                    <a:pt x="1136" y="48"/>
                  </a:lnTo>
                  <a:lnTo>
                    <a:pt x="1132" y="59"/>
                  </a:lnTo>
                  <a:lnTo>
                    <a:pt x="1128" y="71"/>
                  </a:lnTo>
                  <a:lnTo>
                    <a:pt x="1123" y="82"/>
                  </a:lnTo>
                  <a:lnTo>
                    <a:pt x="1119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41880" y="1330200"/>
              <a:ext cx="370080" cy="30240"/>
            </a:xfrm>
            <a:custGeom>
              <a:avLst/>
              <a:gdLst/>
              <a:ahLst/>
              <a:rect l="l" t="t" r="r" b="b"/>
              <a:pathLst>
                <a:path w="1163" h="94">
                  <a:moveTo>
                    <a:pt x="113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60" y="12"/>
                  </a:lnTo>
                  <a:lnTo>
                    <a:pt x="1158" y="23"/>
                  </a:lnTo>
                  <a:lnTo>
                    <a:pt x="1154" y="36"/>
                  </a:lnTo>
                  <a:lnTo>
                    <a:pt x="1151" y="48"/>
                  </a:lnTo>
                  <a:lnTo>
                    <a:pt x="1148" y="59"/>
                  </a:lnTo>
                  <a:lnTo>
                    <a:pt x="1145" y="71"/>
                  </a:lnTo>
                  <a:lnTo>
                    <a:pt x="1141" y="83"/>
                  </a:lnTo>
                  <a:lnTo>
                    <a:pt x="113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41880" y="131436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52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6" y="5"/>
                  </a:lnTo>
                  <a:lnTo>
                    <a:pt x="179" y="7"/>
                  </a:lnTo>
                  <a:lnTo>
                    <a:pt x="193" y="9"/>
                  </a:lnTo>
                  <a:lnTo>
                    <a:pt x="205" y="10"/>
                  </a:lnTo>
                  <a:lnTo>
                    <a:pt x="217" y="11"/>
                  </a:lnTo>
                  <a:lnTo>
                    <a:pt x="230" y="12"/>
                  </a:lnTo>
                  <a:lnTo>
                    <a:pt x="242" y="12"/>
                  </a:lnTo>
                  <a:lnTo>
                    <a:pt x="254" y="12"/>
                  </a:lnTo>
                  <a:lnTo>
                    <a:pt x="265" y="11"/>
                  </a:lnTo>
                  <a:lnTo>
                    <a:pt x="276" y="10"/>
                  </a:lnTo>
                  <a:lnTo>
                    <a:pt x="286" y="9"/>
                  </a:lnTo>
                  <a:lnTo>
                    <a:pt x="298" y="7"/>
                  </a:lnTo>
                  <a:lnTo>
                    <a:pt x="308" y="5"/>
                  </a:lnTo>
                  <a:lnTo>
                    <a:pt x="318" y="3"/>
                  </a:lnTo>
                  <a:lnTo>
                    <a:pt x="328" y="0"/>
                  </a:lnTo>
                  <a:lnTo>
                    <a:pt x="1171" y="0"/>
                  </a:lnTo>
                  <a:lnTo>
                    <a:pt x="1170" y="12"/>
                  </a:lnTo>
                  <a:lnTo>
                    <a:pt x="1168" y="25"/>
                  </a:lnTo>
                  <a:lnTo>
                    <a:pt x="1166" y="37"/>
                  </a:lnTo>
                  <a:lnTo>
                    <a:pt x="1164" y="48"/>
                  </a:lnTo>
                  <a:lnTo>
                    <a:pt x="1161" y="60"/>
                  </a:lnTo>
                  <a:lnTo>
                    <a:pt x="1159" y="71"/>
                  </a:lnTo>
                  <a:lnTo>
                    <a:pt x="1155" y="84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1880" y="1300320"/>
              <a:ext cx="372960" cy="29880"/>
            </a:xfrm>
            <a:custGeom>
              <a:avLst/>
              <a:gdLst/>
              <a:ahLst/>
              <a:rect l="l" t="t" r="r" b="b"/>
              <a:pathLst>
                <a:path w="1177" h="95">
                  <a:moveTo>
                    <a:pt x="1165" y="95"/>
                  </a:moveTo>
                  <a:lnTo>
                    <a:pt x="2" y="95"/>
                  </a:lnTo>
                  <a:lnTo>
                    <a:pt x="0" y="1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2"/>
                  </a:lnTo>
                  <a:lnTo>
                    <a:pt x="97" y="36"/>
                  </a:lnTo>
                  <a:lnTo>
                    <a:pt x="112" y="40"/>
                  </a:lnTo>
                  <a:lnTo>
                    <a:pt x="127" y="44"/>
                  </a:lnTo>
                  <a:lnTo>
                    <a:pt x="143" y="48"/>
                  </a:lnTo>
                  <a:lnTo>
                    <a:pt x="158" y="51"/>
                  </a:lnTo>
                  <a:lnTo>
                    <a:pt x="172" y="53"/>
                  </a:lnTo>
                  <a:lnTo>
                    <a:pt x="186" y="55"/>
                  </a:lnTo>
                  <a:lnTo>
                    <a:pt x="201" y="57"/>
                  </a:lnTo>
                  <a:lnTo>
                    <a:pt x="215" y="58"/>
                  </a:lnTo>
                  <a:lnTo>
                    <a:pt x="229" y="59"/>
                  </a:lnTo>
                  <a:lnTo>
                    <a:pt x="243" y="59"/>
                  </a:lnTo>
                  <a:lnTo>
                    <a:pt x="267" y="58"/>
                  </a:lnTo>
                  <a:lnTo>
                    <a:pt x="289" y="56"/>
                  </a:lnTo>
                  <a:lnTo>
                    <a:pt x="312" y="52"/>
                  </a:lnTo>
                  <a:lnTo>
                    <a:pt x="332" y="46"/>
                  </a:lnTo>
                  <a:lnTo>
                    <a:pt x="352" y="39"/>
                  </a:lnTo>
                  <a:lnTo>
                    <a:pt x="370" y="30"/>
                  </a:lnTo>
                  <a:lnTo>
                    <a:pt x="387" y="20"/>
                  </a:lnTo>
                  <a:lnTo>
                    <a:pt x="404" y="7"/>
                  </a:lnTo>
                  <a:lnTo>
                    <a:pt x="405" y="6"/>
                  </a:lnTo>
                  <a:lnTo>
                    <a:pt x="406" y="5"/>
                  </a:lnTo>
                  <a:lnTo>
                    <a:pt x="407" y="5"/>
                  </a:lnTo>
                  <a:lnTo>
                    <a:pt x="408" y="4"/>
                  </a:lnTo>
                  <a:lnTo>
                    <a:pt x="409" y="3"/>
                  </a:lnTo>
                  <a:lnTo>
                    <a:pt x="410" y="2"/>
                  </a:lnTo>
                  <a:lnTo>
                    <a:pt x="411" y="1"/>
                  </a:lnTo>
                  <a:lnTo>
                    <a:pt x="412" y="0"/>
                  </a:lnTo>
                  <a:lnTo>
                    <a:pt x="1177" y="0"/>
                  </a:lnTo>
                  <a:lnTo>
                    <a:pt x="1176" y="12"/>
                  </a:lnTo>
                  <a:lnTo>
                    <a:pt x="1175" y="25"/>
                  </a:lnTo>
                  <a:lnTo>
                    <a:pt x="1174" y="37"/>
                  </a:lnTo>
                  <a:lnTo>
                    <a:pt x="1172" y="48"/>
                  </a:lnTo>
                  <a:lnTo>
                    <a:pt x="1170" y="60"/>
                  </a:lnTo>
                  <a:lnTo>
                    <a:pt x="1169" y="72"/>
                  </a:lnTo>
                  <a:lnTo>
                    <a:pt x="1167" y="83"/>
                  </a:lnTo>
                  <a:lnTo>
                    <a:pt x="1165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41880" y="1285920"/>
              <a:ext cx="372960" cy="28440"/>
            </a:xfrm>
            <a:custGeom>
              <a:avLst/>
              <a:gdLst/>
              <a:ahLst/>
              <a:rect l="l" t="t" r="r" b="b"/>
              <a:pathLst>
                <a:path w="1179" h="94">
                  <a:moveTo>
                    <a:pt x="1172" y="94"/>
                  </a:moveTo>
                  <a:lnTo>
                    <a:pt x="329" y="94"/>
                  </a:lnTo>
                  <a:lnTo>
                    <a:pt x="339" y="91"/>
                  </a:lnTo>
                  <a:lnTo>
                    <a:pt x="350" y="87"/>
                  </a:lnTo>
                  <a:lnTo>
                    <a:pt x="359" y="83"/>
                  </a:lnTo>
                  <a:lnTo>
                    <a:pt x="369" y="78"/>
                  </a:lnTo>
                  <a:lnTo>
                    <a:pt x="378" y="73"/>
                  </a:lnTo>
                  <a:lnTo>
                    <a:pt x="387" y="68"/>
                  </a:lnTo>
                  <a:lnTo>
                    <a:pt x="396" y="61"/>
                  </a:lnTo>
                  <a:lnTo>
                    <a:pt x="404" y="54"/>
                  </a:lnTo>
                  <a:lnTo>
                    <a:pt x="411" y="48"/>
                  </a:lnTo>
                  <a:lnTo>
                    <a:pt x="418" y="42"/>
                  </a:lnTo>
                  <a:lnTo>
                    <a:pt x="424" y="36"/>
                  </a:lnTo>
                  <a:lnTo>
                    <a:pt x="430" y="29"/>
                  </a:lnTo>
                  <a:lnTo>
                    <a:pt x="435" y="22"/>
                  </a:lnTo>
                  <a:lnTo>
                    <a:pt x="440" y="15"/>
                  </a:lnTo>
                  <a:lnTo>
                    <a:pt x="444" y="7"/>
                  </a:lnTo>
                  <a:lnTo>
                    <a:pt x="449" y="0"/>
                  </a:lnTo>
                  <a:lnTo>
                    <a:pt x="1179" y="0"/>
                  </a:lnTo>
                  <a:lnTo>
                    <a:pt x="1179" y="13"/>
                  </a:lnTo>
                  <a:lnTo>
                    <a:pt x="1178" y="25"/>
                  </a:lnTo>
                  <a:lnTo>
                    <a:pt x="1178" y="36"/>
                  </a:lnTo>
                  <a:lnTo>
                    <a:pt x="1177" y="48"/>
                  </a:lnTo>
                  <a:lnTo>
                    <a:pt x="1176" y="59"/>
                  </a:lnTo>
                  <a:lnTo>
                    <a:pt x="1175" y="72"/>
                  </a:lnTo>
                  <a:lnTo>
                    <a:pt x="1174" y="83"/>
                  </a:lnTo>
                  <a:lnTo>
                    <a:pt x="1172" y="94"/>
                  </a:lnTo>
                  <a:close/>
                  <a:moveTo>
                    <a:pt x="141" y="94"/>
                  </a:moveTo>
                  <a:lnTo>
                    <a:pt x="1" y="94"/>
                  </a:lnTo>
                  <a:lnTo>
                    <a:pt x="0" y="48"/>
                  </a:lnTo>
                  <a:lnTo>
                    <a:pt x="16" y="55"/>
                  </a:lnTo>
                  <a:lnTo>
                    <a:pt x="32" y="61"/>
                  </a:lnTo>
                  <a:lnTo>
                    <a:pt x="49" y="68"/>
                  </a:lnTo>
                  <a:lnTo>
                    <a:pt x="65" y="74"/>
                  </a:lnTo>
                  <a:lnTo>
                    <a:pt x="81" y="79"/>
                  </a:lnTo>
                  <a:lnTo>
                    <a:pt x="97" y="83"/>
                  </a:lnTo>
                  <a:lnTo>
                    <a:pt x="112" y="87"/>
                  </a:lnTo>
                  <a:lnTo>
                    <a:pt x="127" y="91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2" y="92"/>
                  </a:lnTo>
                  <a:lnTo>
                    <a:pt x="134" y="93"/>
                  </a:lnTo>
                  <a:lnTo>
                    <a:pt x="135" y="93"/>
                  </a:lnTo>
                  <a:lnTo>
                    <a:pt x="137" y="94"/>
                  </a:lnTo>
                  <a:lnTo>
                    <a:pt x="140" y="9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2200" y="1270080"/>
              <a:ext cx="244440" cy="30240"/>
            </a:xfrm>
            <a:custGeom>
              <a:avLst/>
              <a:gdLst/>
              <a:ahLst/>
              <a:rect l="l" t="t" r="r" b="b"/>
              <a:pathLst>
                <a:path w="768" h="94">
                  <a:moveTo>
                    <a:pt x="765" y="94"/>
                  </a:moveTo>
                  <a:lnTo>
                    <a:pt x="0" y="94"/>
                  </a:lnTo>
                  <a:lnTo>
                    <a:pt x="10" y="84"/>
                  </a:lnTo>
                  <a:lnTo>
                    <a:pt x="20" y="74"/>
                  </a:lnTo>
                  <a:lnTo>
                    <a:pt x="28" y="63"/>
                  </a:lnTo>
                  <a:lnTo>
                    <a:pt x="35" y="51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4"/>
                  </a:lnTo>
                  <a:lnTo>
                    <a:pt x="52" y="0"/>
                  </a:lnTo>
                  <a:lnTo>
                    <a:pt x="767" y="0"/>
                  </a:lnTo>
                  <a:lnTo>
                    <a:pt x="767" y="2"/>
                  </a:lnTo>
                  <a:lnTo>
                    <a:pt x="767" y="6"/>
                  </a:lnTo>
                  <a:lnTo>
                    <a:pt x="767" y="9"/>
                  </a:lnTo>
                  <a:lnTo>
                    <a:pt x="767" y="12"/>
                  </a:lnTo>
                  <a:lnTo>
                    <a:pt x="768" y="14"/>
                  </a:lnTo>
                  <a:lnTo>
                    <a:pt x="768" y="17"/>
                  </a:lnTo>
                  <a:lnTo>
                    <a:pt x="768" y="20"/>
                  </a:lnTo>
                  <a:lnTo>
                    <a:pt x="768" y="22"/>
                  </a:lnTo>
                  <a:lnTo>
                    <a:pt x="768" y="31"/>
                  </a:lnTo>
                  <a:lnTo>
                    <a:pt x="767" y="40"/>
                  </a:lnTo>
                  <a:lnTo>
                    <a:pt x="767" y="49"/>
                  </a:lnTo>
                  <a:lnTo>
                    <a:pt x="767" y="59"/>
                  </a:lnTo>
                  <a:lnTo>
                    <a:pt x="767" y="68"/>
                  </a:lnTo>
                  <a:lnTo>
                    <a:pt x="766" y="77"/>
                  </a:lnTo>
                  <a:lnTo>
                    <a:pt x="766" y="86"/>
                  </a:lnTo>
                  <a:lnTo>
                    <a:pt x="765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3360" y="1255680"/>
              <a:ext cx="233280" cy="30240"/>
            </a:xfrm>
            <a:custGeom>
              <a:avLst/>
              <a:gdLst/>
              <a:ahLst/>
              <a:rect l="l" t="t" r="r" b="b"/>
              <a:pathLst>
                <a:path w="731" h="93">
                  <a:moveTo>
                    <a:pt x="730" y="93"/>
                  </a:moveTo>
                  <a:lnTo>
                    <a:pt x="0" y="93"/>
                  </a:lnTo>
                  <a:lnTo>
                    <a:pt x="4" y="85"/>
                  </a:lnTo>
                  <a:lnTo>
                    <a:pt x="8" y="76"/>
                  </a:lnTo>
                  <a:lnTo>
                    <a:pt x="11" y="68"/>
                  </a:lnTo>
                  <a:lnTo>
                    <a:pt x="13" y="59"/>
                  </a:lnTo>
                  <a:lnTo>
                    <a:pt x="15" y="49"/>
                  </a:lnTo>
                  <a:lnTo>
                    <a:pt x="16" y="39"/>
                  </a:lnTo>
                  <a:lnTo>
                    <a:pt x="17" y="30"/>
                  </a:lnTo>
                  <a:lnTo>
                    <a:pt x="17" y="20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28" y="0"/>
                  </a:lnTo>
                  <a:lnTo>
                    <a:pt x="728" y="8"/>
                  </a:lnTo>
                  <a:lnTo>
                    <a:pt x="729" y="16"/>
                  </a:lnTo>
                  <a:lnTo>
                    <a:pt x="729" y="25"/>
                  </a:lnTo>
                  <a:lnTo>
                    <a:pt x="730" y="33"/>
                  </a:lnTo>
                  <a:lnTo>
                    <a:pt x="730" y="42"/>
                  </a:lnTo>
                  <a:lnTo>
                    <a:pt x="730" y="51"/>
                  </a:lnTo>
                  <a:lnTo>
                    <a:pt x="731" y="60"/>
                  </a:lnTo>
                  <a:lnTo>
                    <a:pt x="731" y="68"/>
                  </a:lnTo>
                  <a:lnTo>
                    <a:pt x="731" y="71"/>
                  </a:lnTo>
                  <a:lnTo>
                    <a:pt x="731" y="75"/>
                  </a:lnTo>
                  <a:lnTo>
                    <a:pt x="731" y="78"/>
                  </a:lnTo>
                  <a:lnTo>
                    <a:pt x="730" y="81"/>
                  </a:lnTo>
                  <a:lnTo>
                    <a:pt x="730" y="84"/>
                  </a:lnTo>
                  <a:lnTo>
                    <a:pt x="730" y="87"/>
                  </a:lnTo>
                  <a:lnTo>
                    <a:pt x="730" y="90"/>
                  </a:lnTo>
                  <a:lnTo>
                    <a:pt x="730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4800" y="1239840"/>
              <a:ext cx="230040" cy="30240"/>
            </a:xfrm>
            <a:custGeom>
              <a:avLst/>
              <a:gdLst/>
              <a:ahLst/>
              <a:rect l="l" t="t" r="r" b="b"/>
              <a:pathLst>
                <a:path w="729" h="94">
                  <a:moveTo>
                    <a:pt x="729" y="94"/>
                  </a:moveTo>
                  <a:lnTo>
                    <a:pt x="14" y="94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4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6" y="74"/>
                  </a:lnTo>
                  <a:lnTo>
                    <a:pt x="16" y="71"/>
                  </a:lnTo>
                  <a:lnTo>
                    <a:pt x="16" y="68"/>
                  </a:lnTo>
                  <a:lnTo>
                    <a:pt x="16" y="60"/>
                  </a:lnTo>
                  <a:lnTo>
                    <a:pt x="15" y="52"/>
                  </a:lnTo>
                  <a:lnTo>
                    <a:pt x="14" y="43"/>
                  </a:lnTo>
                  <a:lnTo>
                    <a:pt x="12" y="35"/>
                  </a:lnTo>
                  <a:lnTo>
                    <a:pt x="10" y="26"/>
                  </a:lnTo>
                  <a:lnTo>
                    <a:pt x="7" y="18"/>
                  </a:lnTo>
                  <a:lnTo>
                    <a:pt x="4" y="9"/>
                  </a:lnTo>
                  <a:lnTo>
                    <a:pt x="0" y="0"/>
                  </a:lnTo>
                  <a:lnTo>
                    <a:pt x="721" y="0"/>
                  </a:lnTo>
                  <a:lnTo>
                    <a:pt x="723" y="12"/>
                  </a:lnTo>
                  <a:lnTo>
                    <a:pt x="724" y="23"/>
                  </a:lnTo>
                  <a:lnTo>
                    <a:pt x="726" y="35"/>
                  </a:lnTo>
                  <a:lnTo>
                    <a:pt x="727" y="47"/>
                  </a:lnTo>
                  <a:lnTo>
                    <a:pt x="728" y="59"/>
                  </a:lnTo>
                  <a:lnTo>
                    <a:pt x="728" y="70"/>
                  </a:lnTo>
                  <a:lnTo>
                    <a:pt x="729" y="82"/>
                  </a:lnTo>
                  <a:lnTo>
                    <a:pt x="729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75440" y="1225440"/>
              <a:ext cx="239400" cy="30240"/>
            </a:xfrm>
            <a:custGeom>
              <a:avLst/>
              <a:gdLst/>
              <a:ahLst/>
              <a:rect l="l" t="t" r="r" b="b"/>
              <a:pathLst>
                <a:path w="753" h="95">
                  <a:moveTo>
                    <a:pt x="753" y="95"/>
                  </a:moveTo>
                  <a:lnTo>
                    <a:pt x="41" y="95"/>
                  </a:lnTo>
                  <a:lnTo>
                    <a:pt x="39" y="83"/>
                  </a:lnTo>
                  <a:lnTo>
                    <a:pt x="36" y="72"/>
                  </a:lnTo>
                  <a:lnTo>
                    <a:pt x="32" y="61"/>
                  </a:lnTo>
                  <a:lnTo>
                    <a:pt x="27" y="50"/>
                  </a:lnTo>
                  <a:lnTo>
                    <a:pt x="22" y="37"/>
                  </a:lnTo>
                  <a:lnTo>
                    <a:pt x="15" y="25"/>
                  </a:lnTo>
                  <a:lnTo>
                    <a:pt x="8" y="13"/>
                  </a:lnTo>
                  <a:lnTo>
                    <a:pt x="0" y="0"/>
                  </a:lnTo>
                  <a:lnTo>
                    <a:pt x="739" y="0"/>
                  </a:lnTo>
                  <a:lnTo>
                    <a:pt x="741" y="12"/>
                  </a:lnTo>
                  <a:lnTo>
                    <a:pt x="743" y="23"/>
                  </a:lnTo>
                  <a:lnTo>
                    <a:pt x="745" y="34"/>
                  </a:lnTo>
                  <a:lnTo>
                    <a:pt x="747" y="47"/>
                  </a:lnTo>
                  <a:lnTo>
                    <a:pt x="749" y="59"/>
                  </a:lnTo>
                  <a:lnTo>
                    <a:pt x="750" y="70"/>
                  </a:lnTo>
                  <a:lnTo>
                    <a:pt x="752" y="82"/>
                  </a:lnTo>
                  <a:lnTo>
                    <a:pt x="753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4280" y="1211400"/>
              <a:ext cx="249120" cy="28440"/>
            </a:xfrm>
            <a:custGeom>
              <a:avLst/>
              <a:gdLst/>
              <a:ahLst/>
              <a:rect l="l" t="t" r="r" b="b"/>
              <a:pathLst>
                <a:path w="783" h="94">
                  <a:moveTo>
                    <a:pt x="783" y="94"/>
                  </a:moveTo>
                  <a:lnTo>
                    <a:pt x="62" y="94"/>
                  </a:lnTo>
                  <a:lnTo>
                    <a:pt x="56" y="83"/>
                  </a:lnTo>
                  <a:lnTo>
                    <a:pt x="51" y="72"/>
                  </a:lnTo>
                  <a:lnTo>
                    <a:pt x="44" y="60"/>
                  </a:lnTo>
                  <a:lnTo>
                    <a:pt x="37" y="49"/>
                  </a:lnTo>
                  <a:lnTo>
                    <a:pt x="29" y="37"/>
                  </a:lnTo>
                  <a:lnTo>
                    <a:pt x="20" y="24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763" y="0"/>
                  </a:lnTo>
                  <a:lnTo>
                    <a:pt x="766" y="11"/>
                  </a:lnTo>
                  <a:lnTo>
                    <a:pt x="769" y="23"/>
                  </a:lnTo>
                  <a:lnTo>
                    <a:pt x="772" y="35"/>
                  </a:lnTo>
                  <a:lnTo>
                    <a:pt x="775" y="47"/>
                  </a:lnTo>
                  <a:lnTo>
                    <a:pt x="777" y="58"/>
                  </a:lnTo>
                  <a:lnTo>
                    <a:pt x="779" y="70"/>
                  </a:lnTo>
                  <a:lnTo>
                    <a:pt x="781" y="82"/>
                  </a:lnTo>
                  <a:lnTo>
                    <a:pt x="783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51320" y="1195560"/>
              <a:ext cx="258840" cy="29880"/>
            </a:xfrm>
            <a:custGeom>
              <a:avLst/>
              <a:gdLst/>
              <a:ahLst/>
              <a:rect l="l" t="t" r="r" b="b"/>
              <a:pathLst>
                <a:path w="817" h="94">
                  <a:moveTo>
                    <a:pt x="817" y="94"/>
                  </a:moveTo>
                  <a:lnTo>
                    <a:pt x="78" y="94"/>
                  </a:lnTo>
                  <a:lnTo>
                    <a:pt x="70" y="83"/>
                  </a:lnTo>
                  <a:lnTo>
                    <a:pt x="62" y="71"/>
                  </a:lnTo>
                  <a:lnTo>
                    <a:pt x="54" y="60"/>
                  </a:lnTo>
                  <a:lnTo>
                    <a:pt x="43" y="49"/>
                  </a:lnTo>
                  <a:lnTo>
                    <a:pt x="34" y="37"/>
                  </a:lnTo>
                  <a:lnTo>
                    <a:pt x="23" y="24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790" y="0"/>
                  </a:lnTo>
                  <a:lnTo>
                    <a:pt x="794" y="11"/>
                  </a:lnTo>
                  <a:lnTo>
                    <a:pt x="797" y="23"/>
                  </a:lnTo>
                  <a:lnTo>
                    <a:pt x="801" y="35"/>
                  </a:lnTo>
                  <a:lnTo>
                    <a:pt x="804" y="47"/>
                  </a:lnTo>
                  <a:lnTo>
                    <a:pt x="808" y="58"/>
                  </a:lnTo>
                  <a:lnTo>
                    <a:pt x="811" y="70"/>
                  </a:lnTo>
                  <a:lnTo>
                    <a:pt x="814" y="82"/>
                  </a:lnTo>
                  <a:lnTo>
                    <a:pt x="817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35480" y="1181160"/>
              <a:ext cx="271440" cy="30240"/>
            </a:xfrm>
            <a:custGeom>
              <a:avLst/>
              <a:gdLst/>
              <a:ahLst/>
              <a:rect l="l" t="t" r="r" b="b"/>
              <a:pathLst>
                <a:path w="853" h="94">
                  <a:moveTo>
                    <a:pt x="853" y="94"/>
                  </a:moveTo>
                  <a:lnTo>
                    <a:pt x="90" y="94"/>
                  </a:lnTo>
                  <a:lnTo>
                    <a:pt x="81" y="83"/>
                  </a:lnTo>
                  <a:lnTo>
                    <a:pt x="71" y="71"/>
                  </a:lnTo>
                  <a:lnTo>
                    <a:pt x="61" y="60"/>
                  </a:lnTo>
                  <a:lnTo>
                    <a:pt x="50" y="48"/>
                  </a:lnTo>
                  <a:lnTo>
                    <a:pt x="37" y="37"/>
                  </a:lnTo>
                  <a:lnTo>
                    <a:pt x="25" y="25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819" y="0"/>
                  </a:lnTo>
                  <a:lnTo>
                    <a:pt x="824" y="11"/>
                  </a:lnTo>
                  <a:lnTo>
                    <a:pt x="829" y="22"/>
                  </a:lnTo>
                  <a:lnTo>
                    <a:pt x="833" y="35"/>
                  </a:lnTo>
                  <a:lnTo>
                    <a:pt x="837" y="46"/>
                  </a:lnTo>
                  <a:lnTo>
                    <a:pt x="842" y="58"/>
                  </a:lnTo>
                  <a:lnTo>
                    <a:pt x="845" y="70"/>
                  </a:lnTo>
                  <a:lnTo>
                    <a:pt x="849" y="82"/>
                  </a:lnTo>
                  <a:lnTo>
                    <a:pt x="853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9640" y="1165320"/>
              <a:ext cx="282600" cy="30240"/>
            </a:xfrm>
            <a:custGeom>
              <a:avLst/>
              <a:gdLst/>
              <a:ahLst/>
              <a:rect l="l" t="t" r="r" b="b"/>
              <a:pathLst>
                <a:path w="889" h="95">
                  <a:moveTo>
                    <a:pt x="889" y="95"/>
                  </a:moveTo>
                  <a:lnTo>
                    <a:pt x="99" y="95"/>
                  </a:lnTo>
                  <a:lnTo>
                    <a:pt x="93" y="89"/>
                  </a:lnTo>
                  <a:lnTo>
                    <a:pt x="87" y="83"/>
                  </a:lnTo>
                  <a:lnTo>
                    <a:pt x="81" y="77"/>
                  </a:lnTo>
                  <a:lnTo>
                    <a:pt x="75" y="72"/>
                  </a:lnTo>
                  <a:lnTo>
                    <a:pt x="69" y="65"/>
                  </a:lnTo>
                  <a:lnTo>
                    <a:pt x="63" y="59"/>
                  </a:lnTo>
                  <a:lnTo>
                    <a:pt x="56" y="53"/>
                  </a:lnTo>
                  <a:lnTo>
                    <a:pt x="50" y="47"/>
                  </a:lnTo>
                  <a:lnTo>
                    <a:pt x="42" y="40"/>
                  </a:lnTo>
                  <a:lnTo>
                    <a:pt x="35" y="34"/>
                  </a:lnTo>
                  <a:lnTo>
                    <a:pt x="29" y="29"/>
                  </a:lnTo>
                  <a:lnTo>
                    <a:pt x="23" y="23"/>
                  </a:lnTo>
                  <a:lnTo>
                    <a:pt x="17" y="16"/>
                  </a:lnTo>
                  <a:lnTo>
                    <a:pt x="11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847" y="0"/>
                  </a:lnTo>
                  <a:lnTo>
                    <a:pt x="849" y="4"/>
                  </a:lnTo>
                  <a:lnTo>
                    <a:pt x="851" y="8"/>
                  </a:lnTo>
                  <a:lnTo>
                    <a:pt x="853" y="12"/>
                  </a:lnTo>
                  <a:lnTo>
                    <a:pt x="855" y="16"/>
                  </a:lnTo>
                  <a:lnTo>
                    <a:pt x="857" y="21"/>
                  </a:lnTo>
                  <a:lnTo>
                    <a:pt x="859" y="25"/>
                  </a:lnTo>
                  <a:lnTo>
                    <a:pt x="862" y="29"/>
                  </a:lnTo>
                  <a:lnTo>
                    <a:pt x="864" y="33"/>
                  </a:lnTo>
                  <a:lnTo>
                    <a:pt x="867" y="41"/>
                  </a:lnTo>
                  <a:lnTo>
                    <a:pt x="870" y="48"/>
                  </a:lnTo>
                  <a:lnTo>
                    <a:pt x="874" y="56"/>
                  </a:lnTo>
                  <a:lnTo>
                    <a:pt x="877" y="63"/>
                  </a:lnTo>
                  <a:lnTo>
                    <a:pt x="880" y="72"/>
                  </a:lnTo>
                  <a:lnTo>
                    <a:pt x="883" y="79"/>
                  </a:lnTo>
                  <a:lnTo>
                    <a:pt x="886" y="87"/>
                  </a:lnTo>
                  <a:lnTo>
                    <a:pt x="889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03800" y="1150920"/>
              <a:ext cx="291960" cy="30240"/>
            </a:xfrm>
            <a:custGeom>
              <a:avLst/>
              <a:gdLst/>
              <a:ahLst/>
              <a:rect l="l" t="t" r="r" b="b"/>
              <a:pathLst>
                <a:path w="918" h="95">
                  <a:moveTo>
                    <a:pt x="918" y="95"/>
                  </a:moveTo>
                  <a:lnTo>
                    <a:pt x="99" y="95"/>
                  </a:lnTo>
                  <a:lnTo>
                    <a:pt x="99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3" y="81"/>
                  </a:lnTo>
                  <a:lnTo>
                    <a:pt x="70" y="69"/>
                  </a:lnTo>
                  <a:lnTo>
                    <a:pt x="58" y="57"/>
                  </a:lnTo>
                  <a:lnTo>
                    <a:pt x="46" y="46"/>
                  </a:lnTo>
                  <a:lnTo>
                    <a:pt x="35" y="36"/>
                  </a:lnTo>
                  <a:lnTo>
                    <a:pt x="25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75" y="10"/>
                  </a:lnTo>
                  <a:lnTo>
                    <a:pt x="880" y="20"/>
                  </a:lnTo>
                  <a:lnTo>
                    <a:pt x="886" y="30"/>
                  </a:lnTo>
                  <a:lnTo>
                    <a:pt x="891" y="39"/>
                  </a:lnTo>
                  <a:lnTo>
                    <a:pt x="896" y="49"/>
                  </a:lnTo>
                  <a:lnTo>
                    <a:pt x="901" y="59"/>
                  </a:lnTo>
                  <a:lnTo>
                    <a:pt x="906" y="70"/>
                  </a:lnTo>
                  <a:lnTo>
                    <a:pt x="912" y="80"/>
                  </a:lnTo>
                  <a:lnTo>
                    <a:pt x="913" y="82"/>
                  </a:lnTo>
                  <a:lnTo>
                    <a:pt x="913" y="84"/>
                  </a:lnTo>
                  <a:lnTo>
                    <a:pt x="914" y="85"/>
                  </a:lnTo>
                  <a:lnTo>
                    <a:pt x="915" y="87"/>
                  </a:lnTo>
                  <a:lnTo>
                    <a:pt x="916" y="89"/>
                  </a:lnTo>
                  <a:lnTo>
                    <a:pt x="917" y="91"/>
                  </a:lnTo>
                  <a:lnTo>
                    <a:pt x="917" y="93"/>
                  </a:lnTo>
                  <a:lnTo>
                    <a:pt x="918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91200" y="1135080"/>
              <a:ext cx="296640" cy="30240"/>
            </a:xfrm>
            <a:custGeom>
              <a:avLst/>
              <a:gdLst/>
              <a:ahLst/>
              <a:rect l="l" t="t" r="r" b="b"/>
              <a:pathLst>
                <a:path w="938" h="94">
                  <a:moveTo>
                    <a:pt x="938" y="94"/>
                  </a:moveTo>
                  <a:lnTo>
                    <a:pt x="91" y="94"/>
                  </a:lnTo>
                  <a:lnTo>
                    <a:pt x="84" y="89"/>
                  </a:lnTo>
                  <a:lnTo>
                    <a:pt x="79" y="84"/>
                  </a:lnTo>
                  <a:lnTo>
                    <a:pt x="74" y="79"/>
                  </a:lnTo>
                  <a:lnTo>
                    <a:pt x="69" y="74"/>
                  </a:lnTo>
                  <a:lnTo>
                    <a:pt x="64" y="70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1" y="56"/>
                  </a:lnTo>
                  <a:lnTo>
                    <a:pt x="45" y="49"/>
                  </a:lnTo>
                  <a:lnTo>
                    <a:pt x="38" y="42"/>
                  </a:lnTo>
                  <a:lnTo>
                    <a:pt x="31" y="36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12" y="15"/>
                  </a:lnTo>
                  <a:lnTo>
                    <a:pt x="6" y="8"/>
                  </a:lnTo>
                  <a:lnTo>
                    <a:pt x="0" y="0"/>
                  </a:lnTo>
                  <a:lnTo>
                    <a:pt x="880" y="0"/>
                  </a:lnTo>
                  <a:lnTo>
                    <a:pt x="888" y="12"/>
                  </a:lnTo>
                  <a:lnTo>
                    <a:pt x="895" y="23"/>
                  </a:lnTo>
                  <a:lnTo>
                    <a:pt x="904" y="35"/>
                  </a:lnTo>
                  <a:lnTo>
                    <a:pt x="911" y="46"/>
                  </a:lnTo>
                  <a:lnTo>
                    <a:pt x="918" y="58"/>
                  </a:lnTo>
                  <a:lnTo>
                    <a:pt x="925" y="71"/>
                  </a:lnTo>
                  <a:lnTo>
                    <a:pt x="932" y="82"/>
                  </a:lnTo>
                  <a:lnTo>
                    <a:pt x="938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78600" y="1120680"/>
              <a:ext cx="301320" cy="30240"/>
            </a:xfrm>
            <a:custGeom>
              <a:avLst/>
              <a:gdLst/>
              <a:ahLst/>
              <a:rect l="l" t="t" r="r" b="b"/>
              <a:pathLst>
                <a:path w="951" h="94">
                  <a:moveTo>
                    <a:pt x="951" y="94"/>
                  </a:moveTo>
                  <a:lnTo>
                    <a:pt x="82" y="94"/>
                  </a:lnTo>
                  <a:lnTo>
                    <a:pt x="70" y="83"/>
                  </a:lnTo>
                  <a:lnTo>
                    <a:pt x="59" y="71"/>
                  </a:lnTo>
                  <a:lnTo>
                    <a:pt x="49" y="60"/>
                  </a:lnTo>
                  <a:lnTo>
                    <a:pt x="39" y="47"/>
                  </a:lnTo>
                  <a:lnTo>
                    <a:pt x="29" y="36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2" y="12"/>
                  </a:lnTo>
                  <a:lnTo>
                    <a:pt x="901" y="23"/>
                  </a:lnTo>
                  <a:lnTo>
                    <a:pt x="909" y="34"/>
                  </a:lnTo>
                  <a:lnTo>
                    <a:pt x="918" y="46"/>
                  </a:lnTo>
                  <a:lnTo>
                    <a:pt x="926" y="59"/>
                  </a:lnTo>
                  <a:lnTo>
                    <a:pt x="934" y="70"/>
                  </a:lnTo>
                  <a:lnTo>
                    <a:pt x="943" y="82"/>
                  </a:lnTo>
                  <a:lnTo>
                    <a:pt x="95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67440" y="1106640"/>
              <a:ext cx="303120" cy="28440"/>
            </a:xfrm>
            <a:custGeom>
              <a:avLst/>
              <a:gdLst/>
              <a:ahLst/>
              <a:rect l="l" t="t" r="r" b="b"/>
              <a:pathLst>
                <a:path w="952" h="93">
                  <a:moveTo>
                    <a:pt x="952" y="93"/>
                  </a:moveTo>
                  <a:lnTo>
                    <a:pt x="72" y="93"/>
                  </a:lnTo>
                  <a:lnTo>
                    <a:pt x="62" y="82"/>
                  </a:lnTo>
                  <a:lnTo>
                    <a:pt x="52" y="70"/>
                  </a:lnTo>
                  <a:lnTo>
                    <a:pt x="42" y="59"/>
                  </a:lnTo>
                  <a:lnTo>
                    <a:pt x="34" y="46"/>
                  </a:lnTo>
                  <a:lnTo>
                    <a:pt x="25" y="34"/>
                  </a:ln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872" y="0"/>
                  </a:lnTo>
                  <a:lnTo>
                    <a:pt x="883" y="11"/>
                  </a:lnTo>
                  <a:lnTo>
                    <a:pt x="893" y="22"/>
                  </a:lnTo>
                  <a:lnTo>
                    <a:pt x="903" y="33"/>
                  </a:lnTo>
                  <a:lnTo>
                    <a:pt x="913" y="45"/>
                  </a:lnTo>
                  <a:lnTo>
                    <a:pt x="924" y="57"/>
                  </a:lnTo>
                  <a:lnTo>
                    <a:pt x="934" y="69"/>
                  </a:lnTo>
                  <a:lnTo>
                    <a:pt x="943" y="81"/>
                  </a:lnTo>
                  <a:lnTo>
                    <a:pt x="952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59520" y="1090440"/>
              <a:ext cx="298440" cy="30240"/>
            </a:xfrm>
            <a:custGeom>
              <a:avLst/>
              <a:gdLst/>
              <a:ahLst/>
              <a:rect l="l" t="t" r="r" b="b"/>
              <a:pathLst>
                <a:path w="942" h="94">
                  <a:moveTo>
                    <a:pt x="942" y="94"/>
                  </a:moveTo>
                  <a:lnTo>
                    <a:pt x="61" y="94"/>
                  </a:lnTo>
                  <a:lnTo>
                    <a:pt x="53" y="82"/>
                  </a:lnTo>
                  <a:lnTo>
                    <a:pt x="45" y="71"/>
                  </a:lnTo>
                  <a:lnTo>
                    <a:pt x="37" y="59"/>
                  </a:lnTo>
                  <a:lnTo>
                    <a:pt x="28" y="48"/>
                  </a:lnTo>
                  <a:lnTo>
                    <a:pt x="21" y="35"/>
                  </a:lnTo>
                  <a:lnTo>
                    <a:pt x="14" y="24"/>
                  </a:lnTo>
                  <a:lnTo>
                    <a:pt x="7" y="12"/>
                  </a:lnTo>
                  <a:lnTo>
                    <a:pt x="0" y="0"/>
                  </a:lnTo>
                  <a:lnTo>
                    <a:pt x="849" y="0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2" y="3"/>
                  </a:lnTo>
                  <a:lnTo>
                    <a:pt x="852" y="3"/>
                  </a:lnTo>
                  <a:lnTo>
                    <a:pt x="864" y="14"/>
                  </a:lnTo>
                  <a:lnTo>
                    <a:pt x="876" y="24"/>
                  </a:lnTo>
                  <a:lnTo>
                    <a:pt x="888" y="35"/>
                  </a:lnTo>
                  <a:lnTo>
                    <a:pt x="900" y="48"/>
                  </a:lnTo>
                  <a:lnTo>
                    <a:pt x="911" y="59"/>
                  </a:lnTo>
                  <a:lnTo>
                    <a:pt x="922" y="70"/>
                  </a:lnTo>
                  <a:lnTo>
                    <a:pt x="932" y="82"/>
                  </a:lnTo>
                  <a:lnTo>
                    <a:pt x="942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51600" y="1076400"/>
              <a:ext cx="293400" cy="30240"/>
            </a:xfrm>
            <a:custGeom>
              <a:avLst/>
              <a:gdLst/>
              <a:ahLst/>
              <a:rect l="l" t="t" r="r" b="b"/>
              <a:pathLst>
                <a:path w="924" h="95">
                  <a:moveTo>
                    <a:pt x="924" y="95"/>
                  </a:moveTo>
                  <a:lnTo>
                    <a:pt x="52" y="95"/>
                  </a:lnTo>
                  <a:lnTo>
                    <a:pt x="45" y="82"/>
                  </a:lnTo>
                  <a:lnTo>
                    <a:pt x="38" y="71"/>
                  </a:lnTo>
                  <a:lnTo>
                    <a:pt x="31" y="59"/>
                  </a:lnTo>
                  <a:lnTo>
                    <a:pt x="24" y="48"/>
                  </a:lnTo>
                  <a:lnTo>
                    <a:pt x="18" y="35"/>
                  </a:lnTo>
                  <a:lnTo>
                    <a:pt x="12" y="23"/>
                  </a:lnTo>
                  <a:lnTo>
                    <a:pt x="6" y="12"/>
                  </a:lnTo>
                  <a:lnTo>
                    <a:pt x="0" y="0"/>
                  </a:lnTo>
                  <a:lnTo>
                    <a:pt x="817" y="0"/>
                  </a:lnTo>
                  <a:lnTo>
                    <a:pt x="826" y="7"/>
                  </a:lnTo>
                  <a:lnTo>
                    <a:pt x="834" y="14"/>
                  </a:lnTo>
                  <a:lnTo>
                    <a:pt x="842" y="21"/>
                  </a:lnTo>
                  <a:lnTo>
                    <a:pt x="849" y="27"/>
                  </a:lnTo>
                  <a:lnTo>
                    <a:pt x="856" y="33"/>
                  </a:lnTo>
                  <a:lnTo>
                    <a:pt x="863" y="39"/>
                  </a:lnTo>
                  <a:lnTo>
                    <a:pt x="869" y="45"/>
                  </a:lnTo>
                  <a:lnTo>
                    <a:pt x="876" y="50"/>
                  </a:lnTo>
                  <a:lnTo>
                    <a:pt x="882" y="55"/>
                  </a:lnTo>
                  <a:lnTo>
                    <a:pt x="888" y="61"/>
                  </a:lnTo>
                  <a:lnTo>
                    <a:pt x="894" y="66"/>
                  </a:lnTo>
                  <a:lnTo>
                    <a:pt x="900" y="71"/>
                  </a:lnTo>
                  <a:lnTo>
                    <a:pt x="906" y="77"/>
                  </a:lnTo>
                  <a:lnTo>
                    <a:pt x="912" y="82"/>
                  </a:lnTo>
                  <a:lnTo>
                    <a:pt x="917" y="88"/>
                  </a:lnTo>
                  <a:lnTo>
                    <a:pt x="924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5120" y="1060560"/>
              <a:ext cx="284040" cy="29880"/>
            </a:xfrm>
            <a:custGeom>
              <a:avLst/>
              <a:gdLst/>
              <a:ahLst/>
              <a:rect l="l" t="t" r="r" b="b"/>
              <a:pathLst>
                <a:path w="893" h="94">
                  <a:moveTo>
                    <a:pt x="893" y="94"/>
                  </a:moveTo>
                  <a:lnTo>
                    <a:pt x="44" y="94"/>
                  </a:lnTo>
                  <a:lnTo>
                    <a:pt x="40" y="88"/>
                  </a:lnTo>
                  <a:lnTo>
                    <a:pt x="37" y="80"/>
                  </a:lnTo>
                  <a:lnTo>
                    <a:pt x="33" y="74"/>
                  </a:lnTo>
                  <a:lnTo>
                    <a:pt x="30" y="67"/>
                  </a:lnTo>
                  <a:lnTo>
                    <a:pt x="27" y="60"/>
                  </a:lnTo>
                  <a:lnTo>
                    <a:pt x="23" y="54"/>
                  </a:lnTo>
                  <a:lnTo>
                    <a:pt x="20" y="47"/>
                  </a:lnTo>
                  <a:lnTo>
                    <a:pt x="17" y="41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10" y="25"/>
                  </a:lnTo>
                  <a:lnTo>
                    <a:pt x="8" y="20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779" y="0"/>
                  </a:lnTo>
                  <a:lnTo>
                    <a:pt x="781" y="1"/>
                  </a:lnTo>
                  <a:lnTo>
                    <a:pt x="783" y="3"/>
                  </a:lnTo>
                  <a:lnTo>
                    <a:pt x="785" y="4"/>
                  </a:lnTo>
                  <a:lnTo>
                    <a:pt x="786" y="6"/>
                  </a:lnTo>
                  <a:lnTo>
                    <a:pt x="788" y="7"/>
                  </a:lnTo>
                  <a:lnTo>
                    <a:pt x="791" y="9"/>
                  </a:lnTo>
                  <a:lnTo>
                    <a:pt x="793" y="10"/>
                  </a:lnTo>
                  <a:lnTo>
                    <a:pt x="795" y="12"/>
                  </a:lnTo>
                  <a:lnTo>
                    <a:pt x="810" y="24"/>
                  </a:lnTo>
                  <a:lnTo>
                    <a:pt x="824" y="37"/>
                  </a:lnTo>
                  <a:lnTo>
                    <a:pt x="837" y="48"/>
                  </a:lnTo>
                  <a:lnTo>
                    <a:pt x="851" y="58"/>
                  </a:lnTo>
                  <a:lnTo>
                    <a:pt x="862" y="68"/>
                  </a:lnTo>
                  <a:lnTo>
                    <a:pt x="873" y="77"/>
                  </a:lnTo>
                  <a:lnTo>
                    <a:pt x="883" y="87"/>
                  </a:lnTo>
                  <a:lnTo>
                    <a:pt x="893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0440" y="1046160"/>
              <a:ext cx="269640" cy="30240"/>
            </a:xfrm>
            <a:custGeom>
              <a:avLst/>
              <a:gdLst/>
              <a:ahLst/>
              <a:rect l="l" t="t" r="r" b="b"/>
              <a:pathLst>
                <a:path w="852" h="94">
                  <a:moveTo>
                    <a:pt x="852" y="94"/>
                  </a:moveTo>
                  <a:lnTo>
                    <a:pt x="35" y="94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33" y="92"/>
                  </a:lnTo>
                  <a:lnTo>
                    <a:pt x="33" y="91"/>
                  </a:lnTo>
                  <a:lnTo>
                    <a:pt x="33" y="90"/>
                  </a:lnTo>
                  <a:lnTo>
                    <a:pt x="32" y="89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7" y="76"/>
                  </a:lnTo>
                  <a:lnTo>
                    <a:pt x="23" y="66"/>
                  </a:lnTo>
                  <a:lnTo>
                    <a:pt x="18" y="55"/>
                  </a:lnTo>
                  <a:lnTo>
                    <a:pt x="14" y="44"/>
                  </a:lnTo>
                  <a:lnTo>
                    <a:pt x="11" y="33"/>
                  </a:lnTo>
                  <a:lnTo>
                    <a:pt x="7" y="22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48" y="7"/>
                  </a:lnTo>
                  <a:lnTo>
                    <a:pt x="757" y="14"/>
                  </a:lnTo>
                  <a:lnTo>
                    <a:pt x="765" y="21"/>
                  </a:lnTo>
                  <a:lnTo>
                    <a:pt x="773" y="29"/>
                  </a:lnTo>
                  <a:lnTo>
                    <a:pt x="782" y="37"/>
                  </a:lnTo>
                  <a:lnTo>
                    <a:pt x="791" y="44"/>
                  </a:lnTo>
                  <a:lnTo>
                    <a:pt x="800" y="51"/>
                  </a:lnTo>
                  <a:lnTo>
                    <a:pt x="810" y="59"/>
                  </a:lnTo>
                  <a:lnTo>
                    <a:pt x="816" y="63"/>
                  </a:lnTo>
                  <a:lnTo>
                    <a:pt x="821" y="68"/>
                  </a:lnTo>
                  <a:lnTo>
                    <a:pt x="826" y="72"/>
                  </a:lnTo>
                  <a:lnTo>
                    <a:pt x="832" y="77"/>
                  </a:lnTo>
                  <a:lnTo>
                    <a:pt x="837" y="82"/>
                  </a:lnTo>
                  <a:lnTo>
                    <a:pt x="842" y="86"/>
                  </a:lnTo>
                  <a:lnTo>
                    <a:pt x="847" y="90"/>
                  </a:lnTo>
                  <a:lnTo>
                    <a:pt x="852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37200" y="1031760"/>
              <a:ext cx="255600" cy="28800"/>
            </a:xfrm>
            <a:custGeom>
              <a:avLst/>
              <a:gdLst/>
              <a:ahLst/>
              <a:rect l="l" t="t" r="r" b="b"/>
              <a:pathLst>
                <a:path w="806" h="94">
                  <a:moveTo>
                    <a:pt x="806" y="94"/>
                  </a:moveTo>
                  <a:lnTo>
                    <a:pt x="27" y="94"/>
                  </a:lnTo>
                  <a:lnTo>
                    <a:pt x="23" y="83"/>
                  </a:lnTo>
                  <a:lnTo>
                    <a:pt x="20" y="70"/>
                  </a:lnTo>
                  <a:lnTo>
                    <a:pt x="16" y="59"/>
                  </a:lnTo>
                  <a:lnTo>
                    <a:pt x="13" y="47"/>
                  </a:lnTo>
                  <a:lnTo>
                    <a:pt x="9" y="36"/>
                  </a:lnTo>
                  <a:lnTo>
                    <a:pt x="6" y="24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09" y="0"/>
                  </a:lnTo>
                  <a:lnTo>
                    <a:pt x="720" y="11"/>
                  </a:lnTo>
                  <a:lnTo>
                    <a:pt x="730" y="23"/>
                  </a:lnTo>
                  <a:lnTo>
                    <a:pt x="740" y="34"/>
                  </a:lnTo>
                  <a:lnTo>
                    <a:pt x="752" y="46"/>
                  </a:lnTo>
                  <a:lnTo>
                    <a:pt x="764" y="57"/>
                  </a:lnTo>
                  <a:lnTo>
                    <a:pt x="778" y="69"/>
                  </a:lnTo>
                  <a:lnTo>
                    <a:pt x="792" y="82"/>
                  </a:lnTo>
                  <a:lnTo>
                    <a:pt x="806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33960" y="1015920"/>
              <a:ext cx="241200" cy="30240"/>
            </a:xfrm>
            <a:custGeom>
              <a:avLst/>
              <a:gdLst/>
              <a:ahLst/>
              <a:rect l="l" t="t" r="r" b="b"/>
              <a:pathLst>
                <a:path w="761" h="95">
                  <a:moveTo>
                    <a:pt x="761" y="95"/>
                  </a:moveTo>
                  <a:lnTo>
                    <a:pt x="20" y="95"/>
                  </a:lnTo>
                  <a:lnTo>
                    <a:pt x="17" y="83"/>
                  </a:lnTo>
                  <a:lnTo>
                    <a:pt x="14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6" y="37"/>
                  </a:lnTo>
                  <a:lnTo>
                    <a:pt x="4" y="25"/>
                  </a:lnTo>
                  <a:lnTo>
                    <a:pt x="2" y="12"/>
                  </a:lnTo>
                  <a:lnTo>
                    <a:pt x="0" y="0"/>
                  </a:lnTo>
                  <a:lnTo>
                    <a:pt x="686" y="0"/>
                  </a:lnTo>
                  <a:lnTo>
                    <a:pt x="693" y="11"/>
                  </a:lnTo>
                  <a:lnTo>
                    <a:pt x="700" y="23"/>
                  </a:lnTo>
                  <a:lnTo>
                    <a:pt x="708" y="35"/>
                  </a:lnTo>
                  <a:lnTo>
                    <a:pt x="716" y="46"/>
                  </a:lnTo>
                  <a:lnTo>
                    <a:pt x="727" y="58"/>
                  </a:lnTo>
                  <a:lnTo>
                    <a:pt x="738" y="71"/>
                  </a:lnTo>
                  <a:lnTo>
                    <a:pt x="749" y="83"/>
                  </a:lnTo>
                  <a:lnTo>
                    <a:pt x="76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32520" y="1001880"/>
              <a:ext cx="228600" cy="29880"/>
            </a:xfrm>
            <a:custGeom>
              <a:avLst/>
              <a:gdLst/>
              <a:ahLst/>
              <a:rect l="l" t="t" r="r" b="b"/>
              <a:pathLst>
                <a:path w="721" h="95">
                  <a:moveTo>
                    <a:pt x="721" y="95"/>
                  </a:moveTo>
                  <a:lnTo>
                    <a:pt x="12" y="95"/>
                  </a:lnTo>
                  <a:lnTo>
                    <a:pt x="10" y="83"/>
                  </a:lnTo>
                  <a:lnTo>
                    <a:pt x="8" y="72"/>
                  </a:lnTo>
                  <a:lnTo>
                    <a:pt x="6" y="59"/>
                  </a:lnTo>
                  <a:lnTo>
                    <a:pt x="4" y="48"/>
                  </a:lnTo>
                  <a:lnTo>
                    <a:pt x="3" y="36"/>
                  </a:lnTo>
                  <a:lnTo>
                    <a:pt x="2" y="25"/>
                  </a:lnTo>
                  <a:lnTo>
                    <a:pt x="1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5" y="12"/>
                  </a:lnTo>
                  <a:lnTo>
                    <a:pt x="679" y="23"/>
                  </a:lnTo>
                  <a:lnTo>
                    <a:pt x="684" y="34"/>
                  </a:lnTo>
                  <a:lnTo>
                    <a:pt x="689" y="46"/>
                  </a:lnTo>
                  <a:lnTo>
                    <a:pt x="696" y="58"/>
                  </a:lnTo>
                  <a:lnTo>
                    <a:pt x="704" y="70"/>
                  </a:lnTo>
                  <a:lnTo>
                    <a:pt x="712" y="82"/>
                  </a:lnTo>
                  <a:lnTo>
                    <a:pt x="72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32520" y="985680"/>
              <a:ext cx="218880" cy="30240"/>
            </a:xfrm>
            <a:custGeom>
              <a:avLst/>
              <a:gdLst/>
              <a:ahLst/>
              <a:rect l="l" t="t" r="r" b="b"/>
              <a:pathLst>
                <a:path w="692" h="94">
                  <a:moveTo>
                    <a:pt x="692" y="94"/>
                  </a:moveTo>
                  <a:lnTo>
                    <a:pt x="6" y="94"/>
                  </a:lnTo>
                  <a:lnTo>
                    <a:pt x="5" y="83"/>
                  </a:lnTo>
                  <a:lnTo>
                    <a:pt x="4" y="72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6"/>
                  </a:lnTo>
                  <a:lnTo>
                    <a:pt x="1" y="2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3"/>
                  </a:lnTo>
                  <a:lnTo>
                    <a:pt x="672" y="6"/>
                  </a:lnTo>
                  <a:lnTo>
                    <a:pt x="672" y="9"/>
                  </a:lnTo>
                  <a:lnTo>
                    <a:pt x="671" y="12"/>
                  </a:lnTo>
                  <a:lnTo>
                    <a:pt x="671" y="14"/>
                  </a:lnTo>
                  <a:lnTo>
                    <a:pt x="671" y="17"/>
                  </a:lnTo>
                  <a:lnTo>
                    <a:pt x="671" y="20"/>
                  </a:lnTo>
                  <a:lnTo>
                    <a:pt x="671" y="22"/>
                  </a:lnTo>
                  <a:lnTo>
                    <a:pt x="671" y="31"/>
                  </a:lnTo>
                  <a:lnTo>
                    <a:pt x="672" y="39"/>
                  </a:lnTo>
                  <a:lnTo>
                    <a:pt x="674" y="48"/>
                  </a:lnTo>
                  <a:lnTo>
                    <a:pt x="676" y="58"/>
                  </a:lnTo>
                  <a:lnTo>
                    <a:pt x="680" y="67"/>
                  </a:lnTo>
                  <a:lnTo>
                    <a:pt x="683" y="76"/>
                  </a:lnTo>
                  <a:lnTo>
                    <a:pt x="688" y="85"/>
                  </a:lnTo>
                  <a:lnTo>
                    <a:pt x="692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32520" y="971640"/>
              <a:ext cx="217440" cy="30240"/>
            </a:xfrm>
            <a:custGeom>
              <a:avLst/>
              <a:gdLst/>
              <a:ahLst/>
              <a:rect l="l" t="t" r="r" b="b"/>
              <a:pathLst>
                <a:path w="684" h="93">
                  <a:moveTo>
                    <a:pt x="674" y="93"/>
                  </a:moveTo>
                  <a:lnTo>
                    <a:pt x="2" y="93"/>
                  </a:lnTo>
                  <a:lnTo>
                    <a:pt x="1" y="87"/>
                  </a:lnTo>
                  <a:lnTo>
                    <a:pt x="1" y="81"/>
                  </a:lnTo>
                  <a:lnTo>
                    <a:pt x="1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84" y="0"/>
                  </a:lnTo>
                  <a:lnTo>
                    <a:pt x="681" y="7"/>
                  </a:lnTo>
                  <a:lnTo>
                    <a:pt x="679" y="15"/>
                  </a:lnTo>
                  <a:lnTo>
                    <a:pt x="676" y="23"/>
                  </a:lnTo>
                  <a:lnTo>
                    <a:pt x="674" y="32"/>
                  </a:lnTo>
                  <a:lnTo>
                    <a:pt x="673" y="40"/>
                  </a:lnTo>
                  <a:lnTo>
                    <a:pt x="672" y="49"/>
                  </a:lnTo>
                  <a:lnTo>
                    <a:pt x="671" y="59"/>
                  </a:lnTo>
                  <a:lnTo>
                    <a:pt x="671" y="68"/>
                  </a:lnTo>
                  <a:lnTo>
                    <a:pt x="671" y="72"/>
                  </a:lnTo>
                  <a:lnTo>
                    <a:pt x="671" y="75"/>
                  </a:lnTo>
                  <a:lnTo>
                    <a:pt x="672" y="78"/>
                  </a:lnTo>
                  <a:lnTo>
                    <a:pt x="672" y="81"/>
                  </a:lnTo>
                  <a:lnTo>
                    <a:pt x="672" y="84"/>
                  </a:lnTo>
                  <a:lnTo>
                    <a:pt x="673" y="87"/>
                  </a:lnTo>
                  <a:lnTo>
                    <a:pt x="673" y="90"/>
                  </a:lnTo>
                  <a:lnTo>
                    <a:pt x="674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2520" y="957240"/>
              <a:ext cx="366480" cy="28440"/>
            </a:xfrm>
            <a:custGeom>
              <a:avLst/>
              <a:gdLst/>
              <a:ahLst/>
              <a:rect l="l" t="t" r="r" b="b"/>
              <a:pathLst>
                <a:path w="1157" h="93">
                  <a:moveTo>
                    <a:pt x="672" y="93"/>
                  </a:moveTo>
                  <a:lnTo>
                    <a:pt x="0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2" y="33"/>
                  </a:lnTo>
                  <a:lnTo>
                    <a:pt x="3" y="21"/>
                  </a:lnTo>
                  <a:lnTo>
                    <a:pt x="4" y="11"/>
                  </a:lnTo>
                  <a:lnTo>
                    <a:pt x="5" y="0"/>
                  </a:lnTo>
                  <a:lnTo>
                    <a:pt x="713" y="0"/>
                  </a:lnTo>
                  <a:lnTo>
                    <a:pt x="705" y="9"/>
                  </a:lnTo>
                  <a:lnTo>
                    <a:pt x="698" y="19"/>
                  </a:lnTo>
                  <a:lnTo>
                    <a:pt x="691" y="30"/>
                  </a:lnTo>
                  <a:lnTo>
                    <a:pt x="686" y="41"/>
                  </a:lnTo>
                  <a:lnTo>
                    <a:pt x="681" y="54"/>
                  </a:lnTo>
                  <a:lnTo>
                    <a:pt x="677" y="66"/>
                  </a:lnTo>
                  <a:lnTo>
                    <a:pt x="674" y="79"/>
                  </a:lnTo>
                  <a:lnTo>
                    <a:pt x="672" y="93"/>
                  </a:lnTo>
                  <a:close/>
                  <a:moveTo>
                    <a:pt x="1132" y="0"/>
                  </a:moveTo>
                  <a:lnTo>
                    <a:pt x="1157" y="0"/>
                  </a:lnTo>
                  <a:lnTo>
                    <a:pt x="1157" y="11"/>
                  </a:lnTo>
                  <a:lnTo>
                    <a:pt x="1154" y="10"/>
                  </a:lnTo>
                  <a:lnTo>
                    <a:pt x="1151" y="8"/>
                  </a:lnTo>
                  <a:lnTo>
                    <a:pt x="1148" y="7"/>
                  </a:lnTo>
                  <a:lnTo>
                    <a:pt x="1145" y="5"/>
                  </a:lnTo>
                  <a:lnTo>
                    <a:pt x="1142" y="4"/>
                  </a:lnTo>
                  <a:lnTo>
                    <a:pt x="1139" y="2"/>
                  </a:lnTo>
                  <a:lnTo>
                    <a:pt x="1135" y="1"/>
                  </a:lnTo>
                  <a:lnTo>
                    <a:pt x="113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2520" y="941400"/>
              <a:ext cx="366480" cy="30240"/>
            </a:xfrm>
            <a:custGeom>
              <a:avLst/>
              <a:gdLst/>
              <a:ahLst/>
              <a:rect l="l" t="t" r="r" b="b"/>
              <a:pathLst>
                <a:path w="1156" h="95">
                  <a:moveTo>
                    <a:pt x="683" y="95"/>
                  </a:moveTo>
                  <a:lnTo>
                    <a:pt x="0" y="95"/>
                  </a:lnTo>
                  <a:lnTo>
                    <a:pt x="1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7" y="23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789" y="0"/>
                  </a:lnTo>
                  <a:lnTo>
                    <a:pt x="781" y="3"/>
                  </a:lnTo>
                  <a:lnTo>
                    <a:pt x="772" y="6"/>
                  </a:lnTo>
                  <a:lnTo>
                    <a:pt x="765" y="10"/>
                  </a:lnTo>
                  <a:lnTo>
                    <a:pt x="757" y="13"/>
                  </a:lnTo>
                  <a:lnTo>
                    <a:pt x="750" y="17"/>
                  </a:lnTo>
                  <a:lnTo>
                    <a:pt x="744" y="21"/>
                  </a:lnTo>
                  <a:lnTo>
                    <a:pt x="737" y="26"/>
                  </a:lnTo>
                  <a:lnTo>
                    <a:pt x="731" y="30"/>
                  </a:lnTo>
                  <a:lnTo>
                    <a:pt x="722" y="37"/>
                  </a:lnTo>
                  <a:lnTo>
                    <a:pt x="715" y="45"/>
                  </a:lnTo>
                  <a:lnTo>
                    <a:pt x="708" y="52"/>
                  </a:lnTo>
                  <a:lnTo>
                    <a:pt x="702" y="60"/>
                  </a:lnTo>
                  <a:lnTo>
                    <a:pt x="696" y="68"/>
                  </a:lnTo>
                  <a:lnTo>
                    <a:pt x="691" y="76"/>
                  </a:lnTo>
                  <a:lnTo>
                    <a:pt x="687" y="85"/>
                  </a:lnTo>
                  <a:lnTo>
                    <a:pt x="683" y="95"/>
                  </a:lnTo>
                  <a:close/>
                  <a:moveTo>
                    <a:pt x="1009" y="0"/>
                  </a:moveTo>
                  <a:lnTo>
                    <a:pt x="1156" y="0"/>
                  </a:lnTo>
                  <a:lnTo>
                    <a:pt x="1156" y="59"/>
                  </a:lnTo>
                  <a:lnTo>
                    <a:pt x="1138" y="50"/>
                  </a:lnTo>
                  <a:lnTo>
                    <a:pt x="1119" y="42"/>
                  </a:lnTo>
                  <a:lnTo>
                    <a:pt x="1102" y="33"/>
                  </a:lnTo>
                  <a:lnTo>
                    <a:pt x="1083" y="26"/>
                  </a:lnTo>
                  <a:lnTo>
                    <a:pt x="1067" y="19"/>
                  </a:lnTo>
                  <a:lnTo>
                    <a:pt x="1050" y="13"/>
                  </a:lnTo>
                  <a:lnTo>
                    <a:pt x="1033" y="8"/>
                  </a:lnTo>
                  <a:lnTo>
                    <a:pt x="1017" y="3"/>
                  </a:lnTo>
                  <a:lnTo>
                    <a:pt x="1016" y="2"/>
                  </a:lnTo>
                  <a:lnTo>
                    <a:pt x="1015" y="2"/>
                  </a:lnTo>
                  <a:lnTo>
                    <a:pt x="1014" y="2"/>
                  </a:lnTo>
                  <a:lnTo>
                    <a:pt x="1013" y="2"/>
                  </a:lnTo>
                  <a:lnTo>
                    <a:pt x="1012" y="1"/>
                  </a:lnTo>
                  <a:lnTo>
                    <a:pt x="1011" y="1"/>
                  </a:lnTo>
                  <a:lnTo>
                    <a:pt x="1010" y="1"/>
                  </a:lnTo>
                  <a:lnTo>
                    <a:pt x="1009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33960" y="927000"/>
              <a:ext cx="365040" cy="30240"/>
            </a:xfrm>
            <a:custGeom>
              <a:avLst/>
              <a:gdLst/>
              <a:ahLst/>
              <a:rect l="l" t="t" r="r" b="b"/>
              <a:pathLst>
                <a:path w="1152" h="95">
                  <a:moveTo>
                    <a:pt x="1152" y="95"/>
                  </a:moveTo>
                  <a:lnTo>
                    <a:pt x="1127" y="95"/>
                  </a:lnTo>
                  <a:lnTo>
                    <a:pt x="1113" y="88"/>
                  </a:lnTo>
                  <a:lnTo>
                    <a:pt x="1098" y="80"/>
                  </a:lnTo>
                  <a:lnTo>
                    <a:pt x="1084" y="74"/>
                  </a:lnTo>
                  <a:lnTo>
                    <a:pt x="1068" y="69"/>
                  </a:lnTo>
                  <a:lnTo>
                    <a:pt x="1055" y="63"/>
                  </a:lnTo>
                  <a:lnTo>
                    <a:pt x="1041" y="58"/>
                  </a:lnTo>
                  <a:lnTo>
                    <a:pt x="1026" y="54"/>
                  </a:lnTo>
                  <a:lnTo>
                    <a:pt x="1013" y="50"/>
                  </a:lnTo>
                  <a:lnTo>
                    <a:pt x="998" y="46"/>
                  </a:lnTo>
                  <a:lnTo>
                    <a:pt x="982" y="42"/>
                  </a:lnTo>
                  <a:lnTo>
                    <a:pt x="967" y="39"/>
                  </a:lnTo>
                  <a:lnTo>
                    <a:pt x="953" y="36"/>
                  </a:lnTo>
                  <a:lnTo>
                    <a:pt x="939" y="33"/>
                  </a:lnTo>
                  <a:lnTo>
                    <a:pt x="925" y="32"/>
                  </a:lnTo>
                  <a:lnTo>
                    <a:pt x="912" y="31"/>
                  </a:lnTo>
                  <a:lnTo>
                    <a:pt x="899" y="30"/>
                  </a:lnTo>
                  <a:lnTo>
                    <a:pt x="872" y="31"/>
                  </a:lnTo>
                  <a:lnTo>
                    <a:pt x="846" y="33"/>
                  </a:lnTo>
                  <a:lnTo>
                    <a:pt x="822" y="38"/>
                  </a:lnTo>
                  <a:lnTo>
                    <a:pt x="800" y="43"/>
                  </a:lnTo>
                  <a:lnTo>
                    <a:pt x="779" y="49"/>
                  </a:lnTo>
                  <a:lnTo>
                    <a:pt x="760" y="57"/>
                  </a:lnTo>
                  <a:lnTo>
                    <a:pt x="751" y="62"/>
                  </a:lnTo>
                  <a:lnTo>
                    <a:pt x="743" y="67"/>
                  </a:lnTo>
                  <a:lnTo>
                    <a:pt x="735" y="72"/>
                  </a:lnTo>
                  <a:lnTo>
                    <a:pt x="727" y="77"/>
                  </a:lnTo>
                  <a:lnTo>
                    <a:pt x="725" y="79"/>
                  </a:lnTo>
                  <a:lnTo>
                    <a:pt x="721" y="81"/>
                  </a:lnTo>
                  <a:lnTo>
                    <a:pt x="719" y="83"/>
                  </a:lnTo>
                  <a:lnTo>
                    <a:pt x="717" y="85"/>
                  </a:lnTo>
                  <a:lnTo>
                    <a:pt x="715" y="88"/>
                  </a:lnTo>
                  <a:lnTo>
                    <a:pt x="712" y="90"/>
                  </a:lnTo>
                  <a:lnTo>
                    <a:pt x="710" y="92"/>
                  </a:lnTo>
                  <a:lnTo>
                    <a:pt x="708" y="95"/>
                  </a:lnTo>
                  <a:lnTo>
                    <a:pt x="0" y="95"/>
                  </a:lnTo>
                  <a:lnTo>
                    <a:pt x="1" y="82"/>
                  </a:lnTo>
                  <a:lnTo>
                    <a:pt x="3" y="70"/>
                  </a:lnTo>
                  <a:lnTo>
                    <a:pt x="5" y="58"/>
                  </a:lnTo>
                  <a:lnTo>
                    <a:pt x="7" y="47"/>
                  </a:lnTo>
                  <a:lnTo>
                    <a:pt x="9" y="35"/>
                  </a:lnTo>
                  <a:lnTo>
                    <a:pt x="12" y="23"/>
                  </a:lnTo>
                  <a:lnTo>
                    <a:pt x="15" y="11"/>
                  </a:lnTo>
                  <a:lnTo>
                    <a:pt x="18" y="0"/>
                  </a:lnTo>
                  <a:lnTo>
                    <a:pt x="1152" y="0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5400" y="911160"/>
              <a:ext cx="363600" cy="30240"/>
            </a:xfrm>
            <a:custGeom>
              <a:avLst/>
              <a:gdLst/>
              <a:ahLst/>
              <a:rect l="l" t="t" r="r" b="b"/>
              <a:pathLst>
                <a:path w="1145" h="94">
                  <a:moveTo>
                    <a:pt x="1145" y="94"/>
                  </a:moveTo>
                  <a:lnTo>
                    <a:pt x="998" y="94"/>
                  </a:lnTo>
                  <a:lnTo>
                    <a:pt x="983" y="91"/>
                  </a:lnTo>
                  <a:lnTo>
                    <a:pt x="968" y="88"/>
                  </a:lnTo>
                  <a:lnTo>
                    <a:pt x="955" y="85"/>
                  </a:lnTo>
                  <a:lnTo>
                    <a:pt x="942" y="83"/>
                  </a:lnTo>
                  <a:lnTo>
                    <a:pt x="929" y="80"/>
                  </a:lnTo>
                  <a:lnTo>
                    <a:pt x="916" y="78"/>
                  </a:lnTo>
                  <a:lnTo>
                    <a:pt x="904" y="78"/>
                  </a:lnTo>
                  <a:lnTo>
                    <a:pt x="892" y="77"/>
                  </a:lnTo>
                  <a:lnTo>
                    <a:pt x="876" y="78"/>
                  </a:lnTo>
                  <a:lnTo>
                    <a:pt x="860" y="78"/>
                  </a:lnTo>
                  <a:lnTo>
                    <a:pt x="845" y="80"/>
                  </a:lnTo>
                  <a:lnTo>
                    <a:pt x="831" y="82"/>
                  </a:lnTo>
                  <a:lnTo>
                    <a:pt x="816" y="85"/>
                  </a:lnTo>
                  <a:lnTo>
                    <a:pt x="803" y="87"/>
                  </a:lnTo>
                  <a:lnTo>
                    <a:pt x="790" y="91"/>
                  </a:lnTo>
                  <a:lnTo>
                    <a:pt x="778" y="94"/>
                  </a:lnTo>
                  <a:lnTo>
                    <a:pt x="0" y="94"/>
                  </a:lnTo>
                  <a:lnTo>
                    <a:pt x="2" y="82"/>
                  </a:lnTo>
                  <a:lnTo>
                    <a:pt x="5" y="70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4" y="35"/>
                  </a:lnTo>
                  <a:lnTo>
                    <a:pt x="17" y="23"/>
                  </a:lnTo>
                  <a:lnTo>
                    <a:pt x="21" y="11"/>
                  </a:lnTo>
                  <a:lnTo>
                    <a:pt x="24" y="0"/>
                  </a:lnTo>
                  <a:lnTo>
                    <a:pt x="1145" y="0"/>
                  </a:lnTo>
                  <a:lnTo>
                    <a:pt x="1145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8640" y="896760"/>
              <a:ext cx="360360" cy="30240"/>
            </a:xfrm>
            <a:custGeom>
              <a:avLst/>
              <a:gdLst/>
              <a:ahLst/>
              <a:rect l="l" t="t" r="r" b="b"/>
              <a:pathLst>
                <a:path w="1134" h="94">
                  <a:moveTo>
                    <a:pt x="1134" y="94"/>
                  </a:moveTo>
                  <a:lnTo>
                    <a:pt x="0" y="94"/>
                  </a:lnTo>
                  <a:lnTo>
                    <a:pt x="3" y="82"/>
                  </a:lnTo>
                  <a:lnTo>
                    <a:pt x="6" y="69"/>
                  </a:lnTo>
                  <a:lnTo>
                    <a:pt x="10" y="58"/>
                  </a:lnTo>
                  <a:lnTo>
                    <a:pt x="13" y="46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1"/>
                  </a:lnTo>
                  <a:lnTo>
                    <a:pt x="31" y="0"/>
                  </a:lnTo>
                  <a:lnTo>
                    <a:pt x="1134" y="0"/>
                  </a:lnTo>
                  <a:lnTo>
                    <a:pt x="1134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3680" y="880920"/>
              <a:ext cx="355320" cy="30240"/>
            </a:xfrm>
            <a:custGeom>
              <a:avLst/>
              <a:gdLst/>
              <a:ahLst/>
              <a:rect l="l" t="t" r="r" b="b"/>
              <a:pathLst>
                <a:path w="1121" h="94">
                  <a:moveTo>
                    <a:pt x="1121" y="94"/>
                  </a:moveTo>
                  <a:lnTo>
                    <a:pt x="0" y="94"/>
                  </a:lnTo>
                  <a:lnTo>
                    <a:pt x="4" y="82"/>
                  </a:lnTo>
                  <a:lnTo>
                    <a:pt x="9" y="69"/>
                  </a:lnTo>
                  <a:lnTo>
                    <a:pt x="13" y="57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8" y="23"/>
                  </a:lnTo>
                  <a:lnTo>
                    <a:pt x="35" y="11"/>
                  </a:lnTo>
                  <a:lnTo>
                    <a:pt x="41" y="0"/>
                  </a:lnTo>
                  <a:lnTo>
                    <a:pt x="1121" y="0"/>
                  </a:lnTo>
                  <a:lnTo>
                    <a:pt x="1121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49800" y="866880"/>
              <a:ext cx="349200" cy="29880"/>
            </a:xfrm>
            <a:custGeom>
              <a:avLst/>
              <a:gdLst/>
              <a:ahLst/>
              <a:rect l="l" t="t" r="r" b="b"/>
              <a:pathLst>
                <a:path w="1103" h="95">
                  <a:moveTo>
                    <a:pt x="1103" y="95"/>
                  </a:moveTo>
                  <a:lnTo>
                    <a:pt x="0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7" y="58"/>
                  </a:lnTo>
                  <a:lnTo>
                    <a:pt x="23" y="47"/>
                  </a:lnTo>
                  <a:lnTo>
                    <a:pt x="29" y="35"/>
                  </a:lnTo>
                  <a:lnTo>
                    <a:pt x="36" y="24"/>
                  </a:lnTo>
                  <a:lnTo>
                    <a:pt x="43" y="12"/>
                  </a:lnTo>
                  <a:lnTo>
                    <a:pt x="50" y="0"/>
                  </a:lnTo>
                  <a:lnTo>
                    <a:pt x="1103" y="0"/>
                  </a:lnTo>
                  <a:lnTo>
                    <a:pt x="1103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6280" y="851040"/>
              <a:ext cx="342720" cy="29880"/>
            </a:xfrm>
            <a:custGeom>
              <a:avLst/>
              <a:gdLst/>
              <a:ahLst/>
              <a:rect l="l" t="t" r="r" b="b"/>
              <a:pathLst>
                <a:path w="1080" h="95">
                  <a:moveTo>
                    <a:pt x="1080" y="95"/>
                  </a:moveTo>
                  <a:lnTo>
                    <a:pt x="0" y="95"/>
                  </a:lnTo>
                  <a:lnTo>
                    <a:pt x="6" y="83"/>
                  </a:lnTo>
                  <a:lnTo>
                    <a:pt x="13" y="71"/>
                  </a:lnTo>
                  <a:lnTo>
                    <a:pt x="20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3"/>
                  </a:lnTo>
                  <a:lnTo>
                    <a:pt x="52" y="12"/>
                  </a:lnTo>
                  <a:lnTo>
                    <a:pt x="60" y="0"/>
                  </a:lnTo>
                  <a:lnTo>
                    <a:pt x="1080" y="0"/>
                  </a:lnTo>
                  <a:lnTo>
                    <a:pt x="1080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5640" y="836640"/>
              <a:ext cx="333360" cy="30240"/>
            </a:xfrm>
            <a:custGeom>
              <a:avLst/>
              <a:gdLst/>
              <a:ahLst/>
              <a:rect l="l" t="t" r="r" b="b"/>
              <a:pathLst>
                <a:path w="1053" h="94">
                  <a:moveTo>
                    <a:pt x="1053" y="94"/>
                  </a:moveTo>
                  <a:lnTo>
                    <a:pt x="0" y="94"/>
                  </a:lnTo>
                  <a:lnTo>
                    <a:pt x="8" y="82"/>
                  </a:lnTo>
                  <a:lnTo>
                    <a:pt x="17" y="70"/>
                  </a:lnTo>
                  <a:lnTo>
                    <a:pt x="26" y="59"/>
                  </a:lnTo>
                  <a:lnTo>
                    <a:pt x="34" y="46"/>
                  </a:lnTo>
                  <a:lnTo>
                    <a:pt x="44" y="35"/>
                  </a:lnTo>
                  <a:lnTo>
                    <a:pt x="53" y="23"/>
                  </a:lnTo>
                  <a:lnTo>
                    <a:pt x="63" y="12"/>
                  </a:lnTo>
                  <a:lnTo>
                    <a:pt x="74" y="0"/>
                  </a:lnTo>
                  <a:lnTo>
                    <a:pt x="1053" y="0"/>
                  </a:lnTo>
                  <a:lnTo>
                    <a:pt x="1053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75360" y="822240"/>
              <a:ext cx="323640" cy="28800"/>
            </a:xfrm>
            <a:custGeom>
              <a:avLst/>
              <a:gdLst/>
              <a:ahLst/>
              <a:rect l="l" t="t" r="r" b="b"/>
              <a:pathLst>
                <a:path w="1020" h="93">
                  <a:moveTo>
                    <a:pt x="1020" y="93"/>
                  </a:moveTo>
                  <a:lnTo>
                    <a:pt x="0" y="93"/>
                  </a:lnTo>
                  <a:lnTo>
                    <a:pt x="9" y="82"/>
                  </a:lnTo>
                  <a:lnTo>
                    <a:pt x="18" y="72"/>
                  </a:lnTo>
                  <a:lnTo>
                    <a:pt x="27" y="61"/>
                  </a:lnTo>
                  <a:lnTo>
                    <a:pt x="38" y="51"/>
                  </a:lnTo>
                  <a:lnTo>
                    <a:pt x="47" y="39"/>
                  </a:lnTo>
                  <a:lnTo>
                    <a:pt x="57" y="29"/>
                  </a:lnTo>
                  <a:lnTo>
                    <a:pt x="68" y="19"/>
                  </a:lnTo>
                  <a:lnTo>
                    <a:pt x="78" y="9"/>
                  </a:lnTo>
                  <a:lnTo>
                    <a:pt x="79" y="8"/>
                  </a:lnTo>
                  <a:lnTo>
                    <a:pt x="81" y="7"/>
                  </a:lnTo>
                  <a:lnTo>
                    <a:pt x="83" y="6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8" y="1"/>
                  </a:lnTo>
                  <a:lnTo>
                    <a:pt x="90" y="0"/>
                  </a:lnTo>
                  <a:lnTo>
                    <a:pt x="1020" y="0"/>
                  </a:lnTo>
                  <a:lnTo>
                    <a:pt x="1020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87960" y="806400"/>
              <a:ext cx="311040" cy="30240"/>
            </a:xfrm>
            <a:custGeom>
              <a:avLst/>
              <a:gdLst/>
              <a:ahLst/>
              <a:rect l="l" t="t" r="r" b="b"/>
              <a:pathLst>
                <a:path w="979" h="93">
                  <a:moveTo>
                    <a:pt x="979" y="93"/>
                  </a:moveTo>
                  <a:lnTo>
                    <a:pt x="0" y="93"/>
                  </a:lnTo>
                  <a:lnTo>
                    <a:pt x="4" y="88"/>
                  </a:lnTo>
                  <a:lnTo>
                    <a:pt x="9" y="84"/>
                  </a:lnTo>
                  <a:lnTo>
                    <a:pt x="14" y="79"/>
                  </a:lnTo>
                  <a:lnTo>
                    <a:pt x="18" y="74"/>
                  </a:lnTo>
                  <a:lnTo>
                    <a:pt x="23" y="70"/>
                  </a:lnTo>
                  <a:lnTo>
                    <a:pt x="27" y="65"/>
                  </a:lnTo>
                  <a:lnTo>
                    <a:pt x="32" y="61"/>
                  </a:lnTo>
                  <a:lnTo>
                    <a:pt x="37" y="56"/>
                  </a:lnTo>
                  <a:lnTo>
                    <a:pt x="46" y="49"/>
                  </a:lnTo>
                  <a:lnTo>
                    <a:pt x="55" y="40"/>
                  </a:lnTo>
                  <a:lnTo>
                    <a:pt x="63" y="33"/>
                  </a:lnTo>
                  <a:lnTo>
                    <a:pt x="72" y="26"/>
                  </a:lnTo>
                  <a:lnTo>
                    <a:pt x="80" y="19"/>
                  </a:lnTo>
                  <a:lnTo>
                    <a:pt x="89" y="13"/>
                  </a:lnTo>
                  <a:lnTo>
                    <a:pt x="99" y="6"/>
                  </a:lnTo>
                  <a:lnTo>
                    <a:pt x="108" y="0"/>
                  </a:lnTo>
                  <a:lnTo>
                    <a:pt x="979" y="0"/>
                  </a:lnTo>
                  <a:lnTo>
                    <a:pt x="979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03800" y="792000"/>
              <a:ext cx="295200" cy="30240"/>
            </a:xfrm>
            <a:custGeom>
              <a:avLst/>
              <a:gdLst/>
              <a:ahLst/>
              <a:rect l="l" t="t" r="r" b="b"/>
              <a:pathLst>
                <a:path w="930" h="95">
                  <a:moveTo>
                    <a:pt x="930" y="95"/>
                  </a:moveTo>
                  <a:lnTo>
                    <a:pt x="0" y="95"/>
                  </a:lnTo>
                  <a:lnTo>
                    <a:pt x="15" y="81"/>
                  </a:lnTo>
                  <a:lnTo>
                    <a:pt x="31" y="68"/>
                  </a:lnTo>
                  <a:lnTo>
                    <a:pt x="48" y="55"/>
                  </a:lnTo>
                  <a:lnTo>
                    <a:pt x="64" y="44"/>
                  </a:lnTo>
                  <a:lnTo>
                    <a:pt x="81" y="31"/>
                  </a:lnTo>
                  <a:lnTo>
                    <a:pt x="99" y="21"/>
                  </a:lnTo>
                  <a:lnTo>
                    <a:pt x="117" y="10"/>
                  </a:lnTo>
                  <a:lnTo>
                    <a:pt x="134" y="0"/>
                  </a:lnTo>
                  <a:lnTo>
                    <a:pt x="930" y="0"/>
                  </a:lnTo>
                  <a:lnTo>
                    <a:pt x="93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22880" y="776160"/>
              <a:ext cx="276120" cy="30240"/>
            </a:xfrm>
            <a:custGeom>
              <a:avLst/>
              <a:gdLst/>
              <a:ahLst/>
              <a:rect l="l" t="t" r="r" b="b"/>
              <a:pathLst>
                <a:path w="871" h="95">
                  <a:moveTo>
                    <a:pt x="871" y="95"/>
                  </a:moveTo>
                  <a:lnTo>
                    <a:pt x="0" y="95"/>
                  </a:lnTo>
                  <a:lnTo>
                    <a:pt x="21" y="79"/>
                  </a:lnTo>
                  <a:lnTo>
                    <a:pt x="43" y="66"/>
                  </a:lnTo>
                  <a:lnTo>
                    <a:pt x="65" y="53"/>
                  </a:lnTo>
                  <a:lnTo>
                    <a:pt x="88" y="41"/>
                  </a:lnTo>
                  <a:lnTo>
                    <a:pt x="111" y="29"/>
                  </a:lnTo>
                  <a:lnTo>
                    <a:pt x="134" y="19"/>
                  </a:lnTo>
                  <a:lnTo>
                    <a:pt x="159" y="9"/>
                  </a:lnTo>
                  <a:lnTo>
                    <a:pt x="183" y="0"/>
                  </a:lnTo>
                  <a:lnTo>
                    <a:pt x="838" y="0"/>
                  </a:lnTo>
                  <a:lnTo>
                    <a:pt x="842" y="1"/>
                  </a:lnTo>
                  <a:lnTo>
                    <a:pt x="846" y="3"/>
                  </a:lnTo>
                  <a:lnTo>
                    <a:pt x="851" y="4"/>
                  </a:lnTo>
                  <a:lnTo>
                    <a:pt x="855" y="5"/>
                  </a:lnTo>
                  <a:lnTo>
                    <a:pt x="859" y="6"/>
                  </a:lnTo>
                  <a:lnTo>
                    <a:pt x="863" y="8"/>
                  </a:lnTo>
                  <a:lnTo>
                    <a:pt x="867" y="9"/>
                  </a:lnTo>
                  <a:lnTo>
                    <a:pt x="871" y="10"/>
                  </a:lnTo>
                  <a:lnTo>
                    <a:pt x="871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46640" y="762120"/>
              <a:ext cx="252360" cy="29880"/>
            </a:xfrm>
            <a:custGeom>
              <a:avLst/>
              <a:gdLst/>
              <a:ahLst/>
              <a:rect l="l" t="t" r="r" b="b"/>
              <a:pathLst>
                <a:path w="796" h="94">
                  <a:moveTo>
                    <a:pt x="796" y="94"/>
                  </a:moveTo>
                  <a:lnTo>
                    <a:pt x="0" y="94"/>
                  </a:lnTo>
                  <a:lnTo>
                    <a:pt x="23" y="83"/>
                  </a:lnTo>
                  <a:lnTo>
                    <a:pt x="45" y="72"/>
                  </a:lnTo>
                  <a:lnTo>
                    <a:pt x="69" y="62"/>
                  </a:lnTo>
                  <a:lnTo>
                    <a:pt x="92" y="53"/>
                  </a:lnTo>
                  <a:lnTo>
                    <a:pt x="117" y="45"/>
                  </a:lnTo>
                  <a:lnTo>
                    <a:pt x="141" y="37"/>
                  </a:lnTo>
                  <a:lnTo>
                    <a:pt x="166" y="30"/>
                  </a:lnTo>
                  <a:lnTo>
                    <a:pt x="191" y="23"/>
                  </a:lnTo>
                  <a:lnTo>
                    <a:pt x="218" y="18"/>
                  </a:lnTo>
                  <a:lnTo>
                    <a:pt x="244" y="13"/>
                  </a:lnTo>
                  <a:lnTo>
                    <a:pt x="271" y="9"/>
                  </a:lnTo>
                  <a:lnTo>
                    <a:pt x="298" y="6"/>
                  </a:lnTo>
                  <a:lnTo>
                    <a:pt x="326" y="3"/>
                  </a:lnTo>
                  <a:lnTo>
                    <a:pt x="354" y="1"/>
                  </a:lnTo>
                  <a:lnTo>
                    <a:pt x="383" y="0"/>
                  </a:lnTo>
                  <a:lnTo>
                    <a:pt x="411" y="0"/>
                  </a:lnTo>
                  <a:lnTo>
                    <a:pt x="439" y="0"/>
                  </a:lnTo>
                  <a:lnTo>
                    <a:pt x="464" y="1"/>
                  </a:lnTo>
                  <a:lnTo>
                    <a:pt x="491" y="2"/>
                  </a:lnTo>
                  <a:lnTo>
                    <a:pt x="516" y="3"/>
                  </a:lnTo>
                  <a:lnTo>
                    <a:pt x="542" y="5"/>
                  </a:lnTo>
                  <a:lnTo>
                    <a:pt x="566" y="8"/>
                  </a:lnTo>
                  <a:lnTo>
                    <a:pt x="591" y="10"/>
                  </a:lnTo>
                  <a:lnTo>
                    <a:pt x="614" y="14"/>
                  </a:lnTo>
                  <a:lnTo>
                    <a:pt x="638" y="17"/>
                  </a:lnTo>
                  <a:lnTo>
                    <a:pt x="661" y="22"/>
                  </a:lnTo>
                  <a:lnTo>
                    <a:pt x="684" y="27"/>
                  </a:lnTo>
                  <a:lnTo>
                    <a:pt x="707" y="32"/>
                  </a:lnTo>
                  <a:lnTo>
                    <a:pt x="730" y="38"/>
                  </a:lnTo>
                  <a:lnTo>
                    <a:pt x="752" y="44"/>
                  </a:lnTo>
                  <a:lnTo>
                    <a:pt x="773" y="50"/>
                  </a:lnTo>
                  <a:lnTo>
                    <a:pt x="796" y="57"/>
                  </a:lnTo>
                  <a:lnTo>
                    <a:pt x="796" y="9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81560" y="762120"/>
              <a:ext cx="208080" cy="14040"/>
            </a:xfrm>
            <a:custGeom>
              <a:avLst/>
              <a:gdLst/>
              <a:ahLst/>
              <a:rect l="l" t="t" r="r" b="b"/>
              <a:pathLst>
                <a:path w="655" h="47">
                  <a:moveTo>
                    <a:pt x="655" y="47"/>
                  </a:moveTo>
                  <a:lnTo>
                    <a:pt x="0" y="47"/>
                  </a:lnTo>
                  <a:lnTo>
                    <a:pt x="35" y="36"/>
                  </a:lnTo>
                  <a:lnTo>
                    <a:pt x="71" y="27"/>
                  </a:lnTo>
                  <a:lnTo>
                    <a:pt x="108" y="18"/>
                  </a:lnTo>
                  <a:lnTo>
                    <a:pt x="145" y="12"/>
                  </a:lnTo>
                  <a:lnTo>
                    <a:pt x="183" y="7"/>
                  </a:lnTo>
                  <a:lnTo>
                    <a:pt x="223" y="3"/>
                  </a:lnTo>
                  <a:lnTo>
                    <a:pt x="263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6" y="1"/>
                  </a:lnTo>
                  <a:lnTo>
                    <a:pt x="383" y="2"/>
                  </a:lnTo>
                  <a:lnTo>
                    <a:pt x="408" y="3"/>
                  </a:lnTo>
                  <a:lnTo>
                    <a:pt x="434" y="5"/>
                  </a:lnTo>
                  <a:lnTo>
                    <a:pt x="458" y="8"/>
                  </a:lnTo>
                  <a:lnTo>
                    <a:pt x="483" y="10"/>
                  </a:lnTo>
                  <a:lnTo>
                    <a:pt x="506" y="14"/>
                  </a:lnTo>
                  <a:lnTo>
                    <a:pt x="526" y="17"/>
                  </a:lnTo>
                  <a:lnTo>
                    <a:pt x="544" y="20"/>
                  </a:lnTo>
                  <a:lnTo>
                    <a:pt x="563" y="24"/>
                  </a:lnTo>
                  <a:lnTo>
                    <a:pt x="582" y="28"/>
                  </a:lnTo>
                  <a:lnTo>
                    <a:pt x="600" y="33"/>
                  </a:lnTo>
                  <a:lnTo>
                    <a:pt x="619" y="37"/>
                  </a:lnTo>
                  <a:lnTo>
                    <a:pt x="637" y="42"/>
                  </a:lnTo>
                  <a:lnTo>
                    <a:pt x="655" y="47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6920" y="990720"/>
              <a:ext cx="149040" cy="244440"/>
            </a:xfrm>
            <a:custGeom>
              <a:avLst/>
              <a:gdLst/>
              <a:ahLst/>
              <a:rect l="l" t="t" r="r" b="b"/>
              <a:pathLst>
                <a:path w="470" h="770">
                  <a:moveTo>
                    <a:pt x="0" y="770"/>
                  </a:moveTo>
                  <a:lnTo>
                    <a:pt x="470" y="770"/>
                  </a:lnTo>
                  <a:lnTo>
                    <a:pt x="234" y="0"/>
                  </a:lnTo>
                  <a:lnTo>
                    <a:pt x="0" y="7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30440" y="773280"/>
              <a:ext cx="704880" cy="725400"/>
            </a:xfrm>
            <a:custGeom>
              <a:avLst/>
              <a:gdLst/>
              <a:ahLst/>
              <a:rect l="l" t="t" r="r" b="b"/>
              <a:pathLst>
                <a:path w="2222" h="2283">
                  <a:moveTo>
                    <a:pt x="0" y="2283"/>
                  </a:moveTo>
                  <a:lnTo>
                    <a:pt x="799" y="0"/>
                  </a:lnTo>
                  <a:lnTo>
                    <a:pt x="1467" y="0"/>
                  </a:lnTo>
                  <a:lnTo>
                    <a:pt x="2222" y="2283"/>
                  </a:lnTo>
                  <a:lnTo>
                    <a:pt x="1594" y="2283"/>
                  </a:lnTo>
                  <a:lnTo>
                    <a:pt x="1512" y="2027"/>
                  </a:lnTo>
                  <a:lnTo>
                    <a:pt x="703" y="2027"/>
                  </a:lnTo>
                  <a:lnTo>
                    <a:pt x="616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06960" y="773280"/>
              <a:ext cx="189000" cy="72540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13120" y="960480"/>
              <a:ext cx="160560" cy="344520"/>
            </a:xfrm>
            <a:custGeom>
              <a:avLst/>
              <a:gdLst/>
              <a:ahLst/>
              <a:rect l="l" t="t" r="r" b="b"/>
              <a:pathLst>
                <a:path w="504" h="1081">
                  <a:moveTo>
                    <a:pt x="0" y="1081"/>
                  </a:moveTo>
                  <a:lnTo>
                    <a:pt x="28" y="1078"/>
                  </a:lnTo>
                  <a:lnTo>
                    <a:pt x="55" y="1074"/>
                  </a:lnTo>
                  <a:lnTo>
                    <a:pt x="83" y="1069"/>
                  </a:lnTo>
                  <a:lnTo>
                    <a:pt x="108" y="1062"/>
                  </a:lnTo>
                  <a:lnTo>
                    <a:pt x="134" y="1055"/>
                  </a:lnTo>
                  <a:lnTo>
                    <a:pt x="159" y="1047"/>
                  </a:lnTo>
                  <a:lnTo>
                    <a:pt x="183" y="1038"/>
                  </a:lnTo>
                  <a:lnTo>
                    <a:pt x="206" y="1027"/>
                  </a:lnTo>
                  <a:lnTo>
                    <a:pt x="229" y="1016"/>
                  </a:lnTo>
                  <a:lnTo>
                    <a:pt x="251" y="1005"/>
                  </a:lnTo>
                  <a:lnTo>
                    <a:pt x="272" y="992"/>
                  </a:lnTo>
                  <a:lnTo>
                    <a:pt x="292" y="977"/>
                  </a:lnTo>
                  <a:lnTo>
                    <a:pt x="312" y="962"/>
                  </a:lnTo>
                  <a:lnTo>
                    <a:pt x="331" y="947"/>
                  </a:lnTo>
                  <a:lnTo>
                    <a:pt x="349" y="930"/>
                  </a:lnTo>
                  <a:lnTo>
                    <a:pt x="367" y="912"/>
                  </a:lnTo>
                  <a:lnTo>
                    <a:pt x="384" y="894"/>
                  </a:lnTo>
                  <a:lnTo>
                    <a:pt x="399" y="875"/>
                  </a:lnTo>
                  <a:lnTo>
                    <a:pt x="413" y="854"/>
                  </a:lnTo>
                  <a:lnTo>
                    <a:pt x="427" y="834"/>
                  </a:lnTo>
                  <a:lnTo>
                    <a:pt x="439" y="813"/>
                  </a:lnTo>
                  <a:lnTo>
                    <a:pt x="450" y="792"/>
                  </a:lnTo>
                  <a:lnTo>
                    <a:pt x="460" y="770"/>
                  </a:lnTo>
                  <a:lnTo>
                    <a:pt x="470" y="747"/>
                  </a:lnTo>
                  <a:lnTo>
                    <a:pt x="478" y="724"/>
                  </a:lnTo>
                  <a:lnTo>
                    <a:pt x="485" y="700"/>
                  </a:lnTo>
                  <a:lnTo>
                    <a:pt x="491" y="676"/>
                  </a:lnTo>
                  <a:lnTo>
                    <a:pt x="496" y="651"/>
                  </a:lnTo>
                  <a:lnTo>
                    <a:pt x="499" y="626"/>
                  </a:lnTo>
                  <a:lnTo>
                    <a:pt x="502" y="599"/>
                  </a:lnTo>
                  <a:lnTo>
                    <a:pt x="504" y="573"/>
                  </a:lnTo>
                  <a:lnTo>
                    <a:pt x="504" y="545"/>
                  </a:lnTo>
                  <a:lnTo>
                    <a:pt x="504" y="516"/>
                  </a:lnTo>
                  <a:lnTo>
                    <a:pt x="502" y="487"/>
                  </a:lnTo>
                  <a:lnTo>
                    <a:pt x="499" y="460"/>
                  </a:lnTo>
                  <a:lnTo>
                    <a:pt x="496" y="432"/>
                  </a:lnTo>
                  <a:lnTo>
                    <a:pt x="491" y="406"/>
                  </a:lnTo>
                  <a:lnTo>
                    <a:pt x="485" y="379"/>
                  </a:lnTo>
                  <a:lnTo>
                    <a:pt x="478" y="355"/>
                  </a:lnTo>
                  <a:lnTo>
                    <a:pt x="470" y="329"/>
                  </a:lnTo>
                  <a:lnTo>
                    <a:pt x="460" y="306"/>
                  </a:lnTo>
                  <a:lnTo>
                    <a:pt x="450" y="282"/>
                  </a:lnTo>
                  <a:lnTo>
                    <a:pt x="439" y="260"/>
                  </a:lnTo>
                  <a:lnTo>
                    <a:pt x="426" y="237"/>
                  </a:lnTo>
                  <a:lnTo>
                    <a:pt x="412" y="216"/>
                  </a:lnTo>
                  <a:lnTo>
                    <a:pt x="397" y="196"/>
                  </a:lnTo>
                  <a:lnTo>
                    <a:pt x="382" y="175"/>
                  </a:lnTo>
                  <a:lnTo>
                    <a:pt x="365" y="156"/>
                  </a:lnTo>
                  <a:lnTo>
                    <a:pt x="347" y="138"/>
                  </a:lnTo>
                  <a:lnTo>
                    <a:pt x="329" y="120"/>
                  </a:lnTo>
                  <a:lnTo>
                    <a:pt x="309" y="105"/>
                  </a:lnTo>
                  <a:lnTo>
                    <a:pt x="289" y="90"/>
                  </a:lnTo>
                  <a:lnTo>
                    <a:pt x="269" y="75"/>
                  </a:lnTo>
                  <a:lnTo>
                    <a:pt x="248" y="63"/>
                  </a:lnTo>
                  <a:lnTo>
                    <a:pt x="226" y="52"/>
                  </a:lnTo>
                  <a:lnTo>
                    <a:pt x="203" y="41"/>
                  </a:lnTo>
                  <a:lnTo>
                    <a:pt x="180" y="32"/>
                  </a:lnTo>
                  <a:lnTo>
                    <a:pt x="156" y="24"/>
                  </a:lnTo>
                  <a:lnTo>
                    <a:pt x="132" y="17"/>
                  </a:lnTo>
                  <a:lnTo>
                    <a:pt x="106" y="11"/>
                  </a:lnTo>
                  <a:lnTo>
                    <a:pt x="81" y="7"/>
                  </a:lnTo>
                  <a:lnTo>
                    <a:pt x="54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10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5920" y="773280"/>
              <a:ext cx="544680" cy="725400"/>
            </a:xfrm>
            <a:custGeom>
              <a:avLst/>
              <a:gdLst/>
              <a:ahLst/>
              <a:rect l="l" t="t" r="r" b="b"/>
              <a:pathLst>
                <a:path w="1713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79"/>
                  </a:lnTo>
                  <a:lnTo>
                    <a:pt x="1049" y="95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4" y="143"/>
                  </a:lnTo>
                  <a:lnTo>
                    <a:pt x="1175" y="155"/>
                  </a:lnTo>
                  <a:lnTo>
                    <a:pt x="1194" y="166"/>
                  </a:lnTo>
                  <a:lnTo>
                    <a:pt x="1214" y="177"/>
                  </a:lnTo>
                  <a:lnTo>
                    <a:pt x="1244" y="197"/>
                  </a:lnTo>
                  <a:lnTo>
                    <a:pt x="1273" y="217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5" y="282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30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6" y="460"/>
                  </a:lnTo>
                  <a:lnTo>
                    <a:pt x="1534" y="489"/>
                  </a:lnTo>
                  <a:lnTo>
                    <a:pt x="1552" y="519"/>
                  </a:lnTo>
                  <a:lnTo>
                    <a:pt x="1570" y="548"/>
                  </a:lnTo>
                  <a:lnTo>
                    <a:pt x="1586" y="579"/>
                  </a:lnTo>
                  <a:lnTo>
                    <a:pt x="1601" y="610"/>
                  </a:lnTo>
                  <a:lnTo>
                    <a:pt x="1615" y="643"/>
                  </a:lnTo>
                  <a:lnTo>
                    <a:pt x="1629" y="676"/>
                  </a:lnTo>
                  <a:lnTo>
                    <a:pt x="1642" y="708"/>
                  </a:lnTo>
                  <a:lnTo>
                    <a:pt x="1653" y="742"/>
                  </a:lnTo>
                  <a:lnTo>
                    <a:pt x="1663" y="776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3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7"/>
                  </a:lnTo>
                  <a:lnTo>
                    <a:pt x="1709" y="1035"/>
                  </a:lnTo>
                  <a:lnTo>
                    <a:pt x="1711" y="1075"/>
                  </a:lnTo>
                  <a:lnTo>
                    <a:pt x="1712" y="1115"/>
                  </a:lnTo>
                  <a:lnTo>
                    <a:pt x="1713" y="1156"/>
                  </a:lnTo>
                  <a:lnTo>
                    <a:pt x="1712" y="1192"/>
                  </a:lnTo>
                  <a:lnTo>
                    <a:pt x="1711" y="1228"/>
                  </a:lnTo>
                  <a:lnTo>
                    <a:pt x="1708" y="1265"/>
                  </a:lnTo>
                  <a:lnTo>
                    <a:pt x="1704" y="1299"/>
                  </a:lnTo>
                  <a:lnTo>
                    <a:pt x="1699" y="1335"/>
                  </a:lnTo>
                  <a:lnTo>
                    <a:pt x="1694" y="1370"/>
                  </a:lnTo>
                  <a:lnTo>
                    <a:pt x="1687" y="1404"/>
                  </a:lnTo>
                  <a:lnTo>
                    <a:pt x="1678" y="1438"/>
                  </a:lnTo>
                  <a:lnTo>
                    <a:pt x="1669" y="1472"/>
                  </a:lnTo>
                  <a:lnTo>
                    <a:pt x="1658" y="1504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7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2" y="1968"/>
                  </a:lnTo>
                  <a:lnTo>
                    <a:pt x="1325" y="1992"/>
                  </a:lnTo>
                  <a:lnTo>
                    <a:pt x="1297" y="2014"/>
                  </a:lnTo>
                  <a:lnTo>
                    <a:pt x="1269" y="2035"/>
                  </a:lnTo>
                  <a:lnTo>
                    <a:pt x="1238" y="2057"/>
                  </a:lnTo>
                  <a:lnTo>
                    <a:pt x="1207" y="2077"/>
                  </a:lnTo>
                  <a:lnTo>
                    <a:pt x="1177" y="2098"/>
                  </a:lnTo>
                  <a:lnTo>
                    <a:pt x="1156" y="2109"/>
                  </a:lnTo>
                  <a:lnTo>
                    <a:pt x="1136" y="2121"/>
                  </a:lnTo>
                  <a:lnTo>
                    <a:pt x="1116" y="2131"/>
                  </a:lnTo>
                  <a:lnTo>
                    <a:pt x="1094" y="2142"/>
                  </a:lnTo>
                  <a:lnTo>
                    <a:pt x="1051" y="2163"/>
                  </a:lnTo>
                  <a:lnTo>
                    <a:pt x="1007" y="2181"/>
                  </a:lnTo>
                  <a:lnTo>
                    <a:pt x="962" y="2197"/>
                  </a:lnTo>
                  <a:lnTo>
                    <a:pt x="915" y="2213"/>
                  </a:lnTo>
                  <a:lnTo>
                    <a:pt x="867" y="2227"/>
                  </a:lnTo>
                  <a:lnTo>
                    <a:pt x="818" y="2239"/>
                  </a:lnTo>
                  <a:lnTo>
                    <a:pt x="766" y="2249"/>
                  </a:lnTo>
                  <a:lnTo>
                    <a:pt x="713" y="2259"/>
                  </a:lnTo>
                  <a:lnTo>
                    <a:pt x="657" y="2266"/>
                  </a:lnTo>
                  <a:lnTo>
                    <a:pt x="600" y="2272"/>
                  </a:lnTo>
                  <a:lnTo>
                    <a:pt x="539" y="2277"/>
                  </a:lnTo>
                  <a:lnTo>
                    <a:pt x="476" y="2280"/>
                  </a:lnTo>
                  <a:lnTo>
                    <a:pt x="412" y="2282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32520" y="762120"/>
              <a:ext cx="384120" cy="747720"/>
            </a:xfrm>
            <a:custGeom>
              <a:avLst/>
              <a:gdLst/>
              <a:ahLst/>
              <a:rect l="l" t="t" r="r" b="b"/>
              <a:pathLst>
                <a:path w="1209" h="2355">
                  <a:moveTo>
                    <a:pt x="44" y="2325"/>
                  </a:moveTo>
                  <a:lnTo>
                    <a:pt x="29" y="1696"/>
                  </a:lnTo>
                  <a:lnTo>
                    <a:pt x="45" y="1703"/>
                  </a:lnTo>
                  <a:lnTo>
                    <a:pt x="61" y="1709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10" y="1727"/>
                  </a:lnTo>
                  <a:lnTo>
                    <a:pt x="126" y="1731"/>
                  </a:lnTo>
                  <a:lnTo>
                    <a:pt x="141" y="1735"/>
                  </a:lnTo>
                  <a:lnTo>
                    <a:pt x="156" y="1739"/>
                  </a:lnTo>
                  <a:lnTo>
                    <a:pt x="172" y="1743"/>
                  </a:lnTo>
                  <a:lnTo>
                    <a:pt x="187" y="1746"/>
                  </a:lnTo>
                  <a:lnTo>
                    <a:pt x="201" y="1748"/>
                  </a:lnTo>
                  <a:lnTo>
                    <a:pt x="215" y="1750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8" y="1751"/>
                  </a:lnTo>
                  <a:lnTo>
                    <a:pt x="341" y="1747"/>
                  </a:lnTo>
                  <a:lnTo>
                    <a:pt x="361" y="1741"/>
                  </a:lnTo>
                  <a:lnTo>
                    <a:pt x="381" y="1734"/>
                  </a:lnTo>
                  <a:lnTo>
                    <a:pt x="399" y="1725"/>
                  </a:lnTo>
                  <a:lnTo>
                    <a:pt x="416" y="1715"/>
                  </a:lnTo>
                  <a:lnTo>
                    <a:pt x="433" y="1702"/>
                  </a:lnTo>
                  <a:lnTo>
                    <a:pt x="447" y="1689"/>
                  </a:lnTo>
                  <a:lnTo>
                    <a:pt x="460" y="1676"/>
                  </a:lnTo>
                  <a:lnTo>
                    <a:pt x="465" y="1668"/>
                  </a:lnTo>
                  <a:lnTo>
                    <a:pt x="470" y="1661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4" y="1637"/>
                  </a:lnTo>
                  <a:lnTo>
                    <a:pt x="487" y="1629"/>
                  </a:lnTo>
                  <a:lnTo>
                    <a:pt x="489" y="1620"/>
                  </a:lnTo>
                  <a:lnTo>
                    <a:pt x="491" y="1612"/>
                  </a:lnTo>
                  <a:lnTo>
                    <a:pt x="494" y="1593"/>
                  </a:lnTo>
                  <a:lnTo>
                    <a:pt x="495" y="1575"/>
                  </a:lnTo>
                  <a:lnTo>
                    <a:pt x="495" y="1562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1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2" y="1443"/>
                  </a:lnTo>
                  <a:lnTo>
                    <a:pt x="429" y="1427"/>
                  </a:lnTo>
                  <a:lnTo>
                    <a:pt x="415" y="1410"/>
                  </a:lnTo>
                  <a:lnTo>
                    <a:pt x="400" y="1392"/>
                  </a:lnTo>
                  <a:lnTo>
                    <a:pt x="383" y="1374"/>
                  </a:lnTo>
                  <a:lnTo>
                    <a:pt x="365" y="1356"/>
                  </a:lnTo>
                  <a:lnTo>
                    <a:pt x="346" y="1336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3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3" y="1260"/>
                  </a:lnTo>
                  <a:lnTo>
                    <a:pt x="253" y="1251"/>
                  </a:lnTo>
                  <a:lnTo>
                    <a:pt x="244" y="1242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1"/>
                  </a:lnTo>
                  <a:lnTo>
                    <a:pt x="132" y="1110"/>
                  </a:lnTo>
                  <a:lnTo>
                    <a:pt x="110" y="1078"/>
                  </a:lnTo>
                  <a:lnTo>
                    <a:pt x="91" y="1047"/>
                  </a:lnTo>
                  <a:lnTo>
                    <a:pt x="74" y="1014"/>
                  </a:lnTo>
                  <a:lnTo>
                    <a:pt x="58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4" y="848"/>
                  </a:lnTo>
                  <a:lnTo>
                    <a:pt x="8" y="812"/>
                  </a:lnTo>
                  <a:lnTo>
                    <a:pt x="4" y="777"/>
                  </a:lnTo>
                  <a:lnTo>
                    <a:pt x="1" y="740"/>
                  </a:lnTo>
                  <a:lnTo>
                    <a:pt x="0" y="703"/>
                  </a:lnTo>
                  <a:lnTo>
                    <a:pt x="1" y="666"/>
                  </a:lnTo>
                  <a:lnTo>
                    <a:pt x="3" y="628"/>
                  </a:lnTo>
                  <a:lnTo>
                    <a:pt x="8" y="592"/>
                  </a:lnTo>
                  <a:lnTo>
                    <a:pt x="13" y="557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2" y="456"/>
                  </a:lnTo>
                  <a:lnTo>
                    <a:pt x="54" y="423"/>
                  </a:lnTo>
                  <a:lnTo>
                    <a:pt x="69" y="392"/>
                  </a:lnTo>
                  <a:lnTo>
                    <a:pt x="85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5" y="250"/>
                  </a:lnTo>
                  <a:lnTo>
                    <a:pt x="190" y="223"/>
                  </a:lnTo>
                  <a:lnTo>
                    <a:pt x="215" y="198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0"/>
                  </a:lnTo>
                  <a:lnTo>
                    <a:pt x="332" y="111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2"/>
                  </a:lnTo>
                  <a:lnTo>
                    <a:pt x="462" y="50"/>
                  </a:lnTo>
                  <a:lnTo>
                    <a:pt x="498" y="38"/>
                  </a:lnTo>
                  <a:lnTo>
                    <a:pt x="535" y="28"/>
                  </a:lnTo>
                  <a:lnTo>
                    <a:pt x="571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800" y="0"/>
                  </a:lnTo>
                  <a:lnTo>
                    <a:pt x="825" y="1"/>
                  </a:lnTo>
                  <a:lnTo>
                    <a:pt x="852" y="2"/>
                  </a:lnTo>
                  <a:lnTo>
                    <a:pt x="877" y="3"/>
                  </a:lnTo>
                  <a:lnTo>
                    <a:pt x="903" y="5"/>
                  </a:lnTo>
                  <a:lnTo>
                    <a:pt x="927" y="8"/>
                  </a:lnTo>
                  <a:lnTo>
                    <a:pt x="952" y="10"/>
                  </a:lnTo>
                  <a:lnTo>
                    <a:pt x="975" y="14"/>
                  </a:lnTo>
                  <a:lnTo>
                    <a:pt x="999" y="17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8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4" y="50"/>
                  </a:lnTo>
                  <a:lnTo>
                    <a:pt x="1157" y="57"/>
                  </a:lnTo>
                  <a:lnTo>
                    <a:pt x="1157" y="624"/>
                  </a:lnTo>
                  <a:lnTo>
                    <a:pt x="1139" y="615"/>
                  </a:lnTo>
                  <a:lnTo>
                    <a:pt x="1120" y="607"/>
                  </a:lnTo>
                  <a:lnTo>
                    <a:pt x="1103" y="598"/>
                  </a:lnTo>
                  <a:lnTo>
                    <a:pt x="1084" y="591"/>
                  </a:lnTo>
                  <a:lnTo>
                    <a:pt x="1068" y="584"/>
                  </a:lnTo>
                  <a:lnTo>
                    <a:pt x="1051" y="578"/>
                  </a:lnTo>
                  <a:lnTo>
                    <a:pt x="1034" y="573"/>
                  </a:lnTo>
                  <a:lnTo>
                    <a:pt x="1018" y="568"/>
                  </a:lnTo>
                  <a:lnTo>
                    <a:pt x="1003" y="564"/>
                  </a:lnTo>
                  <a:lnTo>
                    <a:pt x="987" y="560"/>
                  </a:lnTo>
                  <a:lnTo>
                    <a:pt x="972" y="557"/>
                  </a:lnTo>
                  <a:lnTo>
                    <a:pt x="958" y="554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8"/>
                  </a:lnTo>
                  <a:lnTo>
                    <a:pt x="877" y="549"/>
                  </a:lnTo>
                  <a:lnTo>
                    <a:pt x="851" y="551"/>
                  </a:lnTo>
                  <a:lnTo>
                    <a:pt x="827" y="556"/>
                  </a:lnTo>
                  <a:lnTo>
                    <a:pt x="805" y="561"/>
                  </a:lnTo>
                  <a:lnTo>
                    <a:pt x="784" y="567"/>
                  </a:lnTo>
                  <a:lnTo>
                    <a:pt x="765" y="575"/>
                  </a:lnTo>
                  <a:lnTo>
                    <a:pt x="756" y="580"/>
                  </a:lnTo>
                  <a:lnTo>
                    <a:pt x="748" y="585"/>
                  </a:lnTo>
                  <a:lnTo>
                    <a:pt x="740" y="590"/>
                  </a:lnTo>
                  <a:lnTo>
                    <a:pt x="732" y="595"/>
                  </a:lnTo>
                  <a:lnTo>
                    <a:pt x="724" y="601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1"/>
                  </a:lnTo>
                  <a:lnTo>
                    <a:pt x="680" y="670"/>
                  </a:lnTo>
                  <a:lnTo>
                    <a:pt x="677" y="678"/>
                  </a:lnTo>
                  <a:lnTo>
                    <a:pt x="675" y="688"/>
                  </a:lnTo>
                  <a:lnTo>
                    <a:pt x="672" y="707"/>
                  </a:lnTo>
                  <a:lnTo>
                    <a:pt x="671" y="728"/>
                  </a:lnTo>
                  <a:lnTo>
                    <a:pt x="672" y="740"/>
                  </a:lnTo>
                  <a:lnTo>
                    <a:pt x="674" y="753"/>
                  </a:lnTo>
                  <a:lnTo>
                    <a:pt x="677" y="766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3" y="847"/>
                  </a:lnTo>
                  <a:lnTo>
                    <a:pt x="736" y="861"/>
                  </a:lnTo>
                  <a:lnTo>
                    <a:pt x="749" y="877"/>
                  </a:lnTo>
                  <a:lnTo>
                    <a:pt x="764" y="891"/>
                  </a:lnTo>
                  <a:lnTo>
                    <a:pt x="779" y="906"/>
                  </a:lnTo>
                  <a:lnTo>
                    <a:pt x="797" y="923"/>
                  </a:lnTo>
                  <a:lnTo>
                    <a:pt x="816" y="938"/>
                  </a:lnTo>
                  <a:lnTo>
                    <a:pt x="836" y="954"/>
                  </a:lnTo>
                  <a:lnTo>
                    <a:pt x="852" y="967"/>
                  </a:lnTo>
                  <a:lnTo>
                    <a:pt x="866" y="980"/>
                  </a:lnTo>
                  <a:lnTo>
                    <a:pt x="880" y="991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1"/>
                  </a:lnTo>
                  <a:lnTo>
                    <a:pt x="927" y="1031"/>
                  </a:lnTo>
                  <a:lnTo>
                    <a:pt x="937" y="1039"/>
                  </a:lnTo>
                  <a:lnTo>
                    <a:pt x="953" y="1053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4" y="1114"/>
                  </a:lnTo>
                  <a:lnTo>
                    <a:pt x="1027" y="1129"/>
                  </a:lnTo>
                  <a:lnTo>
                    <a:pt x="1041" y="1146"/>
                  </a:lnTo>
                  <a:lnTo>
                    <a:pt x="1054" y="1162"/>
                  </a:lnTo>
                  <a:lnTo>
                    <a:pt x="1066" y="1179"/>
                  </a:lnTo>
                  <a:lnTo>
                    <a:pt x="1078" y="1196"/>
                  </a:lnTo>
                  <a:lnTo>
                    <a:pt x="1090" y="1213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0" y="1285"/>
                  </a:lnTo>
                  <a:lnTo>
                    <a:pt x="1140" y="1304"/>
                  </a:lnTo>
                  <a:lnTo>
                    <a:pt x="1148" y="1322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6" y="1400"/>
                  </a:lnTo>
                  <a:lnTo>
                    <a:pt x="1181" y="1419"/>
                  </a:lnTo>
                  <a:lnTo>
                    <a:pt x="1186" y="1438"/>
                  </a:lnTo>
                  <a:lnTo>
                    <a:pt x="1192" y="1459"/>
                  </a:lnTo>
                  <a:lnTo>
                    <a:pt x="1196" y="1478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39"/>
                  </a:lnTo>
                  <a:lnTo>
                    <a:pt x="1206" y="1561"/>
                  </a:lnTo>
                  <a:lnTo>
                    <a:pt x="1208" y="1581"/>
                  </a:lnTo>
                  <a:lnTo>
                    <a:pt x="1208" y="1602"/>
                  </a:lnTo>
                  <a:lnTo>
                    <a:pt x="1209" y="1623"/>
                  </a:lnTo>
                  <a:lnTo>
                    <a:pt x="1208" y="1666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6" y="1823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9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8"/>
                  </a:lnTo>
                  <a:lnTo>
                    <a:pt x="1120" y="1993"/>
                  </a:lnTo>
                  <a:lnTo>
                    <a:pt x="1111" y="2008"/>
                  </a:lnTo>
                  <a:lnTo>
                    <a:pt x="1101" y="2023"/>
                  </a:lnTo>
                  <a:lnTo>
                    <a:pt x="1092" y="2039"/>
                  </a:lnTo>
                  <a:lnTo>
                    <a:pt x="1080" y="2053"/>
                  </a:lnTo>
                  <a:lnTo>
                    <a:pt x="1070" y="2067"/>
                  </a:lnTo>
                  <a:lnTo>
                    <a:pt x="1059" y="2082"/>
                  </a:lnTo>
                  <a:lnTo>
                    <a:pt x="1047" y="2096"/>
                  </a:lnTo>
                  <a:lnTo>
                    <a:pt x="1034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1" y="2160"/>
                  </a:lnTo>
                  <a:lnTo>
                    <a:pt x="953" y="2184"/>
                  </a:lnTo>
                  <a:lnTo>
                    <a:pt x="922" y="2206"/>
                  </a:lnTo>
                  <a:lnTo>
                    <a:pt x="890" y="2226"/>
                  </a:lnTo>
                  <a:lnTo>
                    <a:pt x="857" y="2245"/>
                  </a:lnTo>
                  <a:lnTo>
                    <a:pt x="822" y="2263"/>
                  </a:lnTo>
                  <a:lnTo>
                    <a:pt x="787" y="2278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7"/>
                  </a:lnTo>
                  <a:lnTo>
                    <a:pt x="629" y="2327"/>
                  </a:lnTo>
                  <a:lnTo>
                    <a:pt x="586" y="2335"/>
                  </a:lnTo>
                  <a:lnTo>
                    <a:pt x="542" y="2343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4"/>
                  </a:lnTo>
                  <a:lnTo>
                    <a:pt x="351" y="2355"/>
                  </a:lnTo>
                  <a:lnTo>
                    <a:pt x="331" y="2354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7"/>
                  </a:lnTo>
                  <a:lnTo>
                    <a:pt x="174" y="2345"/>
                  </a:lnTo>
                  <a:lnTo>
                    <a:pt x="154" y="2343"/>
                  </a:lnTo>
                  <a:lnTo>
                    <a:pt x="136" y="2339"/>
                  </a:lnTo>
                  <a:lnTo>
                    <a:pt x="118" y="2337"/>
                  </a:lnTo>
                  <a:lnTo>
                    <a:pt x="98" y="2334"/>
                  </a:lnTo>
                  <a:lnTo>
                    <a:pt x="80" y="2331"/>
                  </a:lnTo>
                  <a:lnTo>
                    <a:pt x="62" y="2328"/>
                  </a:lnTo>
                  <a:lnTo>
                    <a:pt x="44" y="232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723320" y="569880"/>
            <a:ext cx="61545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THE HIV VIRUS H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DIFFERENT STRAI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533960" y="2438280"/>
            <a:ext cx="6237000" cy="3449520"/>
            <a:chOff x="1533960" y="2438280"/>
            <a:chExt cx="6237000" cy="3449520"/>
          </a:xfrm>
        </p:grpSpPr>
        <p:sp>
          <p:nvSpPr>
            <p:cNvPr id="559" name=""/>
            <p:cNvSpPr/>
            <p:nvPr/>
          </p:nvSpPr>
          <p:spPr>
            <a:xfrm>
              <a:off x="1935360" y="2438280"/>
              <a:ext cx="5618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A”&amp;“C” strain are most prevalen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5480" y="2773080"/>
              <a:ext cx="1361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n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3960" y="3444840"/>
              <a:ext cx="623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” strain is most common in S.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54680" y="4117680"/>
              <a:ext cx="4903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B” strain is most common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66200" y="4452840"/>
              <a:ext cx="297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USA and the W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84160" y="5124240"/>
              <a:ext cx="5833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Most available research and drug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5880" y="5460840"/>
              <a:ext cx="3780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cerns the “B” str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143080" y="762120"/>
            <a:ext cx="5182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1839960"/>
            <a:ext cx="82296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1. A woman goes away on a job opportunity, away from her husband, and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ears later she begins to get symptoms and finds out she is HIV positive. H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do you feel about her? Do you fe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omewhat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Not sympathetic (serves her right for getting inf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2. A pastor finds out he is HIV positive. Do you feel sympathetic, some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or not sympathetic for this pas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3. A doctor performs an operation on a patient that he doesn’t know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He accidentally gets a needle prick and becomes HIV positive.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ou feel sympathetic, somewhat sympathetic or not sympathetic for this doc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694880" y="762120"/>
            <a:ext cx="60800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- 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981080"/>
            <a:ext cx="7772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4. A young man moves in with his gay lover only to find out that he too, h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become HIV positive. Do you feel sympathetic, somewhat sympathetic, o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not sympathetic for this young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5. A small baby has just been diagnosed with HIV because the mother was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HIV positive. Do you feel sympathetic, somewhat sympathetic, or no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newly born bab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6. A married man takes a job in a city away from his wife and family. He fi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out when called home to donate blood for his sick child, that he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Do  you feel sympathetic, somewhat sympathetic, o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married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3:08Z</dcterms:modified>
  <cp:revision>267</cp:revision>
  <dc:subject/>
  <dc:title>No Slide Title</dc:title>
</cp:coreProperties>
</file>