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CAD-CEF1-47E3-8614-861C49B9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710-E277-48B4-8771-5A5D1364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6BC-B087-4842-A336-8538DE9F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FC1-AB1F-496B-8037-FC2CE093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9B9-5DDE-4637-B836-E24D77DC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FB5-5FCE-453F-9386-9C7B9673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A0B-93AE-437F-965B-28FEC142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0AA-BCD4-4EB2-8B21-432BB148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D93-FA51-43F7-8555-CEABE9EA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57A-20E3-47F5-A2E4-D7FD82A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F61-3D4B-47E1-BC7F-EACA31BD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757-023B-41F3-B29D-9A3B6B8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2BC6-1C7A-42EF-BEF8-901D31933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0064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0064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sic Counsell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28120" y="3581280"/>
            <a:ext cx="39038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300" spc="-1" strike="noStrike">
                <a:solidFill>
                  <a:srgbClr val="1f1a17"/>
                </a:solidFill>
                <a:latin typeface="Geometr231 Hv BT"/>
              </a:rPr>
              <a:t>1. Support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6520" y="4743360"/>
            <a:ext cx="46198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300" spc="-1" strike="noStrike">
                <a:solidFill>
                  <a:srgbClr val="1f1a17"/>
                </a:solidFill>
                <a:latin typeface="Geometr231 Hv BT"/>
              </a:rPr>
              <a:t>2. Education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178000" y="914400"/>
            <a:ext cx="4756320" cy="2071800"/>
            <a:chOff x="2178000" y="914400"/>
            <a:chExt cx="4756320" cy="2071800"/>
          </a:xfrm>
        </p:grpSpPr>
        <p:sp>
          <p:nvSpPr>
            <p:cNvPr id="114" name=""/>
            <p:cNvSpPr/>
            <p:nvPr/>
          </p:nvSpPr>
          <p:spPr>
            <a:xfrm>
              <a:off x="3129120" y="928800"/>
              <a:ext cx="536400" cy="552240"/>
            </a:xfrm>
            <a:custGeom>
              <a:avLst/>
              <a:gdLst/>
              <a:ahLst/>
              <a:rect l="l" t="t" r="r" b="b"/>
              <a:pathLst>
                <a:path w="2026" h="2087">
                  <a:moveTo>
                    <a:pt x="792" y="1331"/>
                  </a:moveTo>
                  <a:lnTo>
                    <a:pt x="1221" y="1331"/>
                  </a:lnTo>
                  <a:lnTo>
                    <a:pt x="1005" y="626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9" y="0"/>
                  </a:lnTo>
                  <a:lnTo>
                    <a:pt x="1337" y="0"/>
                  </a:lnTo>
                  <a:lnTo>
                    <a:pt x="2026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2" y="1853"/>
                  </a:lnTo>
                  <a:lnTo>
                    <a:pt x="562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19520" y="928800"/>
              <a:ext cx="142920" cy="5522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5520" y="928800"/>
              <a:ext cx="573120" cy="555480"/>
            </a:xfrm>
            <a:custGeom>
              <a:avLst/>
              <a:gdLst/>
              <a:ahLst/>
              <a:rect l="l" t="t" r="r" b="b"/>
              <a:pathLst>
                <a:path w="2167" h="2096">
                  <a:moveTo>
                    <a:pt x="0" y="2087"/>
                  </a:moveTo>
                  <a:lnTo>
                    <a:pt x="263" y="0"/>
                  </a:lnTo>
                  <a:lnTo>
                    <a:pt x="702" y="0"/>
                  </a:lnTo>
                  <a:lnTo>
                    <a:pt x="1069" y="928"/>
                  </a:lnTo>
                  <a:lnTo>
                    <a:pt x="1442" y="0"/>
                  </a:lnTo>
                  <a:lnTo>
                    <a:pt x="1871" y="0"/>
                  </a:lnTo>
                  <a:lnTo>
                    <a:pt x="2167" y="2087"/>
                  </a:lnTo>
                  <a:lnTo>
                    <a:pt x="1611" y="2087"/>
                  </a:lnTo>
                  <a:lnTo>
                    <a:pt x="1494" y="1129"/>
                  </a:lnTo>
                  <a:lnTo>
                    <a:pt x="1092" y="2096"/>
                  </a:lnTo>
                  <a:lnTo>
                    <a:pt x="655" y="1129"/>
                  </a:lnTo>
                  <a:lnTo>
                    <a:pt x="556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51480" y="920880"/>
              <a:ext cx="29196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6"/>
                  </a:moveTo>
                  <a:lnTo>
                    <a:pt x="25" y="1551"/>
                  </a:lnTo>
                  <a:lnTo>
                    <a:pt x="40" y="1557"/>
                  </a:lnTo>
                  <a:lnTo>
                    <a:pt x="55" y="1563"/>
                  </a:lnTo>
                  <a:lnTo>
                    <a:pt x="70" y="1568"/>
                  </a:lnTo>
                  <a:lnTo>
                    <a:pt x="84" y="1574"/>
                  </a:lnTo>
                  <a:lnTo>
                    <a:pt x="99" y="1578"/>
                  </a:lnTo>
                  <a:lnTo>
                    <a:pt x="113" y="1583"/>
                  </a:lnTo>
                  <a:lnTo>
                    <a:pt x="128" y="1586"/>
                  </a:lnTo>
                  <a:lnTo>
                    <a:pt x="141" y="1590"/>
                  </a:lnTo>
                  <a:lnTo>
                    <a:pt x="156" y="1593"/>
                  </a:lnTo>
                  <a:lnTo>
                    <a:pt x="169" y="1596"/>
                  </a:lnTo>
                  <a:lnTo>
                    <a:pt x="182" y="1599"/>
                  </a:lnTo>
                  <a:lnTo>
                    <a:pt x="196" y="1600"/>
                  </a:lnTo>
                  <a:lnTo>
                    <a:pt x="209" y="1602"/>
                  </a:lnTo>
                  <a:lnTo>
                    <a:pt x="221" y="1603"/>
                  </a:lnTo>
                  <a:lnTo>
                    <a:pt x="235" y="1603"/>
                  </a:lnTo>
                  <a:lnTo>
                    <a:pt x="247" y="1603"/>
                  </a:lnTo>
                  <a:lnTo>
                    <a:pt x="269" y="1603"/>
                  </a:lnTo>
                  <a:lnTo>
                    <a:pt x="289" y="1601"/>
                  </a:lnTo>
                  <a:lnTo>
                    <a:pt x="309" y="1597"/>
                  </a:lnTo>
                  <a:lnTo>
                    <a:pt x="328" y="1592"/>
                  </a:lnTo>
                  <a:lnTo>
                    <a:pt x="346" y="1585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3" y="1556"/>
                  </a:lnTo>
                  <a:lnTo>
                    <a:pt x="406" y="1544"/>
                  </a:lnTo>
                  <a:lnTo>
                    <a:pt x="419" y="1532"/>
                  </a:lnTo>
                  <a:lnTo>
                    <a:pt x="428" y="1518"/>
                  </a:lnTo>
                  <a:lnTo>
                    <a:pt x="436" y="1504"/>
                  </a:lnTo>
                  <a:lnTo>
                    <a:pt x="442" y="1489"/>
                  </a:lnTo>
                  <a:lnTo>
                    <a:pt x="447" y="1473"/>
                  </a:lnTo>
                  <a:lnTo>
                    <a:pt x="450" y="1457"/>
                  </a:lnTo>
                  <a:lnTo>
                    <a:pt x="451" y="1440"/>
                  </a:lnTo>
                  <a:lnTo>
                    <a:pt x="450" y="1428"/>
                  </a:lnTo>
                  <a:lnTo>
                    <a:pt x="448" y="1415"/>
                  </a:lnTo>
                  <a:lnTo>
                    <a:pt x="445" y="1403"/>
                  </a:lnTo>
                  <a:lnTo>
                    <a:pt x="441" y="1390"/>
                  </a:lnTo>
                  <a:lnTo>
                    <a:pt x="435" y="1376"/>
                  </a:lnTo>
                  <a:lnTo>
                    <a:pt x="429" y="1363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5"/>
                  </a:lnTo>
                  <a:lnTo>
                    <a:pt x="377" y="1288"/>
                  </a:lnTo>
                  <a:lnTo>
                    <a:pt x="363" y="1272"/>
                  </a:lnTo>
                  <a:lnTo>
                    <a:pt x="332" y="1239"/>
                  </a:lnTo>
                  <a:lnTo>
                    <a:pt x="296" y="1204"/>
                  </a:lnTo>
                  <a:lnTo>
                    <a:pt x="283" y="1193"/>
                  </a:lnTo>
                  <a:lnTo>
                    <a:pt x="270" y="1182"/>
                  </a:lnTo>
                  <a:lnTo>
                    <a:pt x="259" y="1171"/>
                  </a:lnTo>
                  <a:lnTo>
                    <a:pt x="249" y="1161"/>
                  </a:lnTo>
                  <a:lnTo>
                    <a:pt x="239" y="1152"/>
                  </a:lnTo>
                  <a:lnTo>
                    <a:pt x="230" y="1143"/>
                  </a:lnTo>
                  <a:lnTo>
                    <a:pt x="221" y="1135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3" y="1071"/>
                  </a:lnTo>
                  <a:lnTo>
                    <a:pt x="140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2" y="956"/>
                  </a:lnTo>
                  <a:lnTo>
                    <a:pt x="65" y="927"/>
                  </a:lnTo>
                  <a:lnTo>
                    <a:pt x="52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7"/>
                  </a:lnTo>
                  <a:lnTo>
                    <a:pt x="12" y="774"/>
                  </a:lnTo>
                  <a:lnTo>
                    <a:pt x="6" y="743"/>
                  </a:lnTo>
                  <a:lnTo>
                    <a:pt x="3" y="710"/>
                  </a:lnTo>
                  <a:lnTo>
                    <a:pt x="0" y="677"/>
                  </a:lnTo>
                  <a:lnTo>
                    <a:pt x="0" y="643"/>
                  </a:lnTo>
                  <a:lnTo>
                    <a:pt x="0" y="608"/>
                  </a:lnTo>
                  <a:lnTo>
                    <a:pt x="2" y="574"/>
                  </a:lnTo>
                  <a:lnTo>
                    <a:pt x="6" y="541"/>
                  </a:lnTo>
                  <a:lnTo>
                    <a:pt x="12" y="509"/>
                  </a:lnTo>
                  <a:lnTo>
                    <a:pt x="19" y="477"/>
                  </a:lnTo>
                  <a:lnTo>
                    <a:pt x="26" y="446"/>
                  </a:lnTo>
                  <a:lnTo>
                    <a:pt x="36" y="416"/>
                  </a:lnTo>
                  <a:lnTo>
                    <a:pt x="49" y="387"/>
                  </a:lnTo>
                  <a:lnTo>
                    <a:pt x="61" y="359"/>
                  </a:lnTo>
                  <a:lnTo>
                    <a:pt x="75" y="331"/>
                  </a:lnTo>
                  <a:lnTo>
                    <a:pt x="92" y="304"/>
                  </a:lnTo>
                  <a:lnTo>
                    <a:pt x="110" y="277"/>
                  </a:lnTo>
                  <a:lnTo>
                    <a:pt x="129" y="253"/>
                  </a:lnTo>
                  <a:lnTo>
                    <a:pt x="149" y="228"/>
                  </a:lnTo>
                  <a:lnTo>
                    <a:pt x="171" y="204"/>
                  </a:lnTo>
                  <a:lnTo>
                    <a:pt x="196" y="181"/>
                  </a:lnTo>
                  <a:lnTo>
                    <a:pt x="220" y="159"/>
                  </a:lnTo>
                  <a:lnTo>
                    <a:pt x="246" y="139"/>
                  </a:lnTo>
                  <a:lnTo>
                    <a:pt x="273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58" y="71"/>
                  </a:lnTo>
                  <a:lnTo>
                    <a:pt x="390" y="57"/>
                  </a:lnTo>
                  <a:lnTo>
                    <a:pt x="421" y="45"/>
                  </a:lnTo>
                  <a:lnTo>
                    <a:pt x="453" y="35"/>
                  </a:lnTo>
                  <a:lnTo>
                    <a:pt x="486" y="25"/>
                  </a:lnTo>
                  <a:lnTo>
                    <a:pt x="520" y="17"/>
                  </a:lnTo>
                  <a:lnTo>
                    <a:pt x="555" y="12"/>
                  </a:lnTo>
                  <a:lnTo>
                    <a:pt x="590" y="6"/>
                  </a:lnTo>
                  <a:lnTo>
                    <a:pt x="627" y="3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7" y="0"/>
                  </a:lnTo>
                  <a:lnTo>
                    <a:pt x="752" y="0"/>
                  </a:lnTo>
                  <a:lnTo>
                    <a:pt x="775" y="2"/>
                  </a:lnTo>
                  <a:lnTo>
                    <a:pt x="799" y="3"/>
                  </a:lnTo>
                  <a:lnTo>
                    <a:pt x="822" y="5"/>
                  </a:lnTo>
                  <a:lnTo>
                    <a:pt x="844" y="7"/>
                  </a:lnTo>
                  <a:lnTo>
                    <a:pt x="867" y="9"/>
                  </a:lnTo>
                  <a:lnTo>
                    <a:pt x="888" y="13"/>
                  </a:lnTo>
                  <a:lnTo>
                    <a:pt x="909" y="16"/>
                  </a:lnTo>
                  <a:lnTo>
                    <a:pt x="930" y="19"/>
                  </a:lnTo>
                  <a:lnTo>
                    <a:pt x="951" y="24"/>
                  </a:lnTo>
                  <a:lnTo>
                    <a:pt x="973" y="29"/>
                  </a:lnTo>
                  <a:lnTo>
                    <a:pt x="993" y="34"/>
                  </a:lnTo>
                  <a:lnTo>
                    <a:pt x="1014" y="40"/>
                  </a:lnTo>
                  <a:lnTo>
                    <a:pt x="1034" y="46"/>
                  </a:lnTo>
                  <a:lnTo>
                    <a:pt x="1054" y="53"/>
                  </a:lnTo>
                  <a:lnTo>
                    <a:pt x="1054" y="570"/>
                  </a:lnTo>
                  <a:lnTo>
                    <a:pt x="1037" y="562"/>
                  </a:lnTo>
                  <a:lnTo>
                    <a:pt x="1020" y="554"/>
                  </a:lnTo>
                  <a:lnTo>
                    <a:pt x="1004" y="548"/>
                  </a:lnTo>
                  <a:lnTo>
                    <a:pt x="988" y="540"/>
                  </a:lnTo>
                  <a:lnTo>
                    <a:pt x="973" y="534"/>
                  </a:lnTo>
                  <a:lnTo>
                    <a:pt x="957" y="529"/>
                  </a:lnTo>
                  <a:lnTo>
                    <a:pt x="942" y="523"/>
                  </a:lnTo>
                  <a:lnTo>
                    <a:pt x="927" y="519"/>
                  </a:lnTo>
                  <a:lnTo>
                    <a:pt x="912" y="515"/>
                  </a:lnTo>
                  <a:lnTo>
                    <a:pt x="899" y="512"/>
                  </a:lnTo>
                  <a:lnTo>
                    <a:pt x="886" y="509"/>
                  </a:lnTo>
                  <a:lnTo>
                    <a:pt x="872" y="506"/>
                  </a:lnTo>
                  <a:lnTo>
                    <a:pt x="859" y="504"/>
                  </a:lnTo>
                  <a:lnTo>
                    <a:pt x="847" y="503"/>
                  </a:lnTo>
                  <a:lnTo>
                    <a:pt x="834" y="502"/>
                  </a:lnTo>
                  <a:lnTo>
                    <a:pt x="823" y="502"/>
                  </a:lnTo>
                  <a:lnTo>
                    <a:pt x="799" y="502"/>
                  </a:lnTo>
                  <a:lnTo>
                    <a:pt x="775" y="504"/>
                  </a:lnTo>
                  <a:lnTo>
                    <a:pt x="753" y="507"/>
                  </a:lnTo>
                  <a:lnTo>
                    <a:pt x="733" y="512"/>
                  </a:lnTo>
                  <a:lnTo>
                    <a:pt x="714" y="519"/>
                  </a:lnTo>
                  <a:lnTo>
                    <a:pt x="696" y="525"/>
                  </a:lnTo>
                  <a:lnTo>
                    <a:pt x="681" y="534"/>
                  </a:lnTo>
                  <a:lnTo>
                    <a:pt x="666" y="544"/>
                  </a:lnTo>
                  <a:lnTo>
                    <a:pt x="653" y="555"/>
                  </a:lnTo>
                  <a:lnTo>
                    <a:pt x="642" y="568"/>
                  </a:lnTo>
                  <a:lnTo>
                    <a:pt x="633" y="581"/>
                  </a:lnTo>
                  <a:lnTo>
                    <a:pt x="625" y="596"/>
                  </a:lnTo>
                  <a:lnTo>
                    <a:pt x="619" y="611"/>
                  </a:lnTo>
                  <a:lnTo>
                    <a:pt x="615" y="628"/>
                  </a:lnTo>
                  <a:lnTo>
                    <a:pt x="611" y="647"/>
                  </a:lnTo>
                  <a:lnTo>
                    <a:pt x="611" y="666"/>
                  </a:lnTo>
                  <a:lnTo>
                    <a:pt x="611" y="677"/>
                  </a:lnTo>
                  <a:lnTo>
                    <a:pt x="614" y="688"/>
                  </a:lnTo>
                  <a:lnTo>
                    <a:pt x="616" y="700"/>
                  </a:lnTo>
                  <a:lnTo>
                    <a:pt x="620" y="712"/>
                  </a:lnTo>
                  <a:lnTo>
                    <a:pt x="626" y="724"/>
                  </a:lnTo>
                  <a:lnTo>
                    <a:pt x="633" y="736"/>
                  </a:lnTo>
                  <a:lnTo>
                    <a:pt x="639" y="749"/>
                  </a:lnTo>
                  <a:lnTo>
                    <a:pt x="648" y="761"/>
                  </a:lnTo>
                  <a:lnTo>
                    <a:pt x="658" y="774"/>
                  </a:lnTo>
                  <a:lnTo>
                    <a:pt x="669" y="788"/>
                  </a:lnTo>
                  <a:lnTo>
                    <a:pt x="682" y="801"/>
                  </a:lnTo>
                  <a:lnTo>
                    <a:pt x="695" y="815"/>
                  </a:lnTo>
                  <a:lnTo>
                    <a:pt x="710" y="829"/>
                  </a:lnTo>
                  <a:lnTo>
                    <a:pt x="725" y="842"/>
                  </a:lnTo>
                  <a:lnTo>
                    <a:pt x="743" y="857"/>
                  </a:lnTo>
                  <a:lnTo>
                    <a:pt x="761" y="872"/>
                  </a:lnTo>
                  <a:lnTo>
                    <a:pt x="775" y="884"/>
                  </a:lnTo>
                  <a:lnTo>
                    <a:pt x="789" y="895"/>
                  </a:lnTo>
                  <a:lnTo>
                    <a:pt x="802" y="906"/>
                  </a:lnTo>
                  <a:lnTo>
                    <a:pt x="813" y="916"/>
                  </a:lnTo>
                  <a:lnTo>
                    <a:pt x="824" y="925"/>
                  </a:lnTo>
                  <a:lnTo>
                    <a:pt x="835" y="934"/>
                  </a:lnTo>
                  <a:lnTo>
                    <a:pt x="844" y="942"/>
                  </a:lnTo>
                  <a:lnTo>
                    <a:pt x="853" y="950"/>
                  </a:lnTo>
                  <a:lnTo>
                    <a:pt x="882" y="976"/>
                  </a:lnTo>
                  <a:lnTo>
                    <a:pt x="910" y="1004"/>
                  </a:lnTo>
                  <a:lnTo>
                    <a:pt x="936" y="1032"/>
                  </a:lnTo>
                  <a:lnTo>
                    <a:pt x="959" y="1062"/>
                  </a:lnTo>
                  <a:lnTo>
                    <a:pt x="981" y="1094"/>
                  </a:lnTo>
                  <a:lnTo>
                    <a:pt x="1003" y="1125"/>
                  </a:lnTo>
                  <a:lnTo>
                    <a:pt x="1020" y="1159"/>
                  </a:lnTo>
                  <a:lnTo>
                    <a:pt x="1037" y="1192"/>
                  </a:lnTo>
                  <a:lnTo>
                    <a:pt x="1053" y="1227"/>
                  </a:lnTo>
                  <a:lnTo>
                    <a:pt x="1065" y="1261"/>
                  </a:lnTo>
                  <a:lnTo>
                    <a:pt x="1076" y="1297"/>
                  </a:lnTo>
                  <a:lnTo>
                    <a:pt x="1085" y="1333"/>
                  </a:lnTo>
                  <a:lnTo>
                    <a:pt x="1092" y="1370"/>
                  </a:lnTo>
                  <a:lnTo>
                    <a:pt x="1096" y="1408"/>
                  </a:lnTo>
                  <a:lnTo>
                    <a:pt x="1100" y="1446"/>
                  </a:lnTo>
                  <a:lnTo>
                    <a:pt x="1101" y="1483"/>
                  </a:lnTo>
                  <a:lnTo>
                    <a:pt x="1100" y="1523"/>
                  </a:lnTo>
                  <a:lnTo>
                    <a:pt x="1097" y="1559"/>
                  </a:lnTo>
                  <a:lnTo>
                    <a:pt x="1093" y="1596"/>
                  </a:lnTo>
                  <a:lnTo>
                    <a:pt x="1087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1" y="1731"/>
                  </a:lnTo>
                  <a:lnTo>
                    <a:pt x="1049" y="1763"/>
                  </a:lnTo>
                  <a:lnTo>
                    <a:pt x="1035" y="1793"/>
                  </a:lnTo>
                  <a:lnTo>
                    <a:pt x="1019" y="1822"/>
                  </a:lnTo>
                  <a:lnTo>
                    <a:pt x="1003" y="1850"/>
                  </a:lnTo>
                  <a:lnTo>
                    <a:pt x="985" y="1877"/>
                  </a:lnTo>
                  <a:lnTo>
                    <a:pt x="964" y="1903"/>
                  </a:lnTo>
                  <a:lnTo>
                    <a:pt x="942" y="1928"/>
                  </a:lnTo>
                  <a:lnTo>
                    <a:pt x="919" y="1951"/>
                  </a:lnTo>
                  <a:lnTo>
                    <a:pt x="893" y="1974"/>
                  </a:lnTo>
                  <a:lnTo>
                    <a:pt x="868" y="1996"/>
                  </a:lnTo>
                  <a:lnTo>
                    <a:pt x="840" y="2016"/>
                  </a:lnTo>
                  <a:lnTo>
                    <a:pt x="810" y="2035"/>
                  </a:lnTo>
                  <a:lnTo>
                    <a:pt x="780" y="2052"/>
                  </a:lnTo>
                  <a:lnTo>
                    <a:pt x="749" y="2069"/>
                  </a:lnTo>
                  <a:lnTo>
                    <a:pt x="716" y="2083"/>
                  </a:lnTo>
                  <a:lnTo>
                    <a:pt x="682" y="2097"/>
                  </a:lnTo>
                  <a:lnTo>
                    <a:pt x="646" y="2108"/>
                  </a:lnTo>
                  <a:lnTo>
                    <a:pt x="610" y="2119"/>
                  </a:lnTo>
                  <a:lnTo>
                    <a:pt x="572" y="2128"/>
                  </a:lnTo>
                  <a:lnTo>
                    <a:pt x="533" y="2135"/>
                  </a:lnTo>
                  <a:lnTo>
                    <a:pt x="493" y="2141"/>
                  </a:lnTo>
                  <a:lnTo>
                    <a:pt x="451" y="2146"/>
                  </a:lnTo>
                  <a:lnTo>
                    <a:pt x="409" y="2150"/>
                  </a:lnTo>
                  <a:lnTo>
                    <a:pt x="364" y="2151"/>
                  </a:lnTo>
                  <a:lnTo>
                    <a:pt x="319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9"/>
                  </a:lnTo>
                  <a:lnTo>
                    <a:pt x="209" y="2148"/>
                  </a:lnTo>
                  <a:lnTo>
                    <a:pt x="191" y="2146"/>
                  </a:lnTo>
                  <a:lnTo>
                    <a:pt x="175" y="2145"/>
                  </a:lnTo>
                  <a:lnTo>
                    <a:pt x="157" y="2143"/>
                  </a:lnTo>
                  <a:lnTo>
                    <a:pt x="140" y="2141"/>
                  </a:lnTo>
                  <a:lnTo>
                    <a:pt x="122" y="2139"/>
                  </a:lnTo>
                  <a:lnTo>
                    <a:pt x="106" y="2137"/>
                  </a:lnTo>
                  <a:lnTo>
                    <a:pt x="89" y="2135"/>
                  </a:lnTo>
                  <a:lnTo>
                    <a:pt x="72" y="2131"/>
                  </a:lnTo>
                  <a:lnTo>
                    <a:pt x="55" y="2129"/>
                  </a:lnTo>
                  <a:lnTo>
                    <a:pt x="39" y="212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0480" y="914400"/>
              <a:ext cx="557280" cy="581040"/>
            </a:xfrm>
            <a:custGeom>
              <a:avLst/>
              <a:gdLst/>
              <a:ahLst/>
              <a:rect l="l" t="t" r="r" b="b"/>
              <a:pathLst>
                <a:path w="2111" h="2198">
                  <a:moveTo>
                    <a:pt x="1057" y="580"/>
                  </a:moveTo>
                  <a:lnTo>
                    <a:pt x="1031" y="581"/>
                  </a:lnTo>
                  <a:lnTo>
                    <a:pt x="1006" y="583"/>
                  </a:lnTo>
                  <a:lnTo>
                    <a:pt x="980" y="585"/>
                  </a:lnTo>
                  <a:lnTo>
                    <a:pt x="955" y="590"/>
                  </a:lnTo>
                  <a:lnTo>
                    <a:pt x="932" y="595"/>
                  </a:lnTo>
                  <a:lnTo>
                    <a:pt x="909" y="601"/>
                  </a:lnTo>
                  <a:lnTo>
                    <a:pt x="885" y="609"/>
                  </a:lnTo>
                  <a:lnTo>
                    <a:pt x="863" y="618"/>
                  </a:lnTo>
                  <a:lnTo>
                    <a:pt x="842" y="628"/>
                  </a:lnTo>
                  <a:lnTo>
                    <a:pt x="821" y="639"/>
                  </a:lnTo>
                  <a:lnTo>
                    <a:pt x="799" y="651"/>
                  </a:lnTo>
                  <a:lnTo>
                    <a:pt x="779" y="664"/>
                  </a:lnTo>
                  <a:lnTo>
                    <a:pt x="759" y="679"/>
                  </a:lnTo>
                  <a:lnTo>
                    <a:pt x="740" y="695"/>
                  </a:lnTo>
                  <a:lnTo>
                    <a:pt x="721" y="711"/>
                  </a:lnTo>
                  <a:lnTo>
                    <a:pt x="704" y="729"/>
                  </a:lnTo>
                  <a:lnTo>
                    <a:pt x="687" y="748"/>
                  </a:lnTo>
                  <a:lnTo>
                    <a:pt x="670" y="767"/>
                  </a:lnTo>
                  <a:lnTo>
                    <a:pt x="656" y="787"/>
                  </a:lnTo>
                  <a:lnTo>
                    <a:pt x="641" y="809"/>
                  </a:lnTo>
                  <a:lnTo>
                    <a:pt x="629" y="829"/>
                  </a:lnTo>
                  <a:lnTo>
                    <a:pt x="617" y="851"/>
                  </a:lnTo>
                  <a:lnTo>
                    <a:pt x="607" y="873"/>
                  </a:lnTo>
                  <a:lnTo>
                    <a:pt x="597" y="896"/>
                  </a:lnTo>
                  <a:lnTo>
                    <a:pt x="589" y="919"/>
                  </a:lnTo>
                  <a:lnTo>
                    <a:pt x="581" y="943"/>
                  </a:lnTo>
                  <a:lnTo>
                    <a:pt x="575" y="967"/>
                  </a:lnTo>
                  <a:lnTo>
                    <a:pt x="570" y="993"/>
                  </a:lnTo>
                  <a:lnTo>
                    <a:pt x="566" y="1017"/>
                  </a:lnTo>
                  <a:lnTo>
                    <a:pt x="563" y="1044"/>
                  </a:lnTo>
                  <a:lnTo>
                    <a:pt x="562" y="1071"/>
                  </a:lnTo>
                  <a:lnTo>
                    <a:pt x="561" y="1098"/>
                  </a:lnTo>
                  <a:lnTo>
                    <a:pt x="562" y="1125"/>
                  </a:lnTo>
                  <a:lnTo>
                    <a:pt x="563" y="1151"/>
                  </a:lnTo>
                  <a:lnTo>
                    <a:pt x="566" y="1177"/>
                  </a:lnTo>
                  <a:lnTo>
                    <a:pt x="570" y="1203"/>
                  </a:lnTo>
                  <a:lnTo>
                    <a:pt x="575" y="1228"/>
                  </a:lnTo>
                  <a:lnTo>
                    <a:pt x="581" y="1252"/>
                  </a:lnTo>
                  <a:lnTo>
                    <a:pt x="589" y="1276"/>
                  </a:lnTo>
                  <a:lnTo>
                    <a:pt x="597" y="1300"/>
                  </a:lnTo>
                  <a:lnTo>
                    <a:pt x="607" y="1322"/>
                  </a:lnTo>
                  <a:lnTo>
                    <a:pt x="617" y="1345"/>
                  </a:lnTo>
                  <a:lnTo>
                    <a:pt x="628" y="1366"/>
                  </a:lnTo>
                  <a:lnTo>
                    <a:pt x="641" y="1387"/>
                  </a:lnTo>
                  <a:lnTo>
                    <a:pt x="655" y="1407"/>
                  </a:lnTo>
                  <a:lnTo>
                    <a:pt x="670" y="1427"/>
                  </a:lnTo>
                  <a:lnTo>
                    <a:pt x="686" y="1446"/>
                  </a:lnTo>
                  <a:lnTo>
                    <a:pt x="704" y="1465"/>
                  </a:lnTo>
                  <a:lnTo>
                    <a:pt x="721" y="1483"/>
                  </a:lnTo>
                  <a:lnTo>
                    <a:pt x="739" y="1500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9" y="1556"/>
                  </a:lnTo>
                  <a:lnTo>
                    <a:pt x="841" y="1567"/>
                  </a:lnTo>
                  <a:lnTo>
                    <a:pt x="862" y="1577"/>
                  </a:lnTo>
                  <a:lnTo>
                    <a:pt x="884" y="1586"/>
                  </a:lnTo>
                  <a:lnTo>
                    <a:pt x="907" y="1592"/>
                  </a:lnTo>
                  <a:lnTo>
                    <a:pt x="931" y="1599"/>
                  </a:lnTo>
                  <a:lnTo>
                    <a:pt x="955" y="1605"/>
                  </a:lnTo>
                  <a:lnTo>
                    <a:pt x="980" y="1609"/>
                  </a:lnTo>
                  <a:lnTo>
                    <a:pt x="1004" y="1611"/>
                  </a:lnTo>
                  <a:lnTo>
                    <a:pt x="1030" y="1614"/>
                  </a:lnTo>
                  <a:lnTo>
                    <a:pt x="1057" y="1614"/>
                  </a:lnTo>
                  <a:lnTo>
                    <a:pt x="1082" y="1614"/>
                  </a:lnTo>
                  <a:lnTo>
                    <a:pt x="1108" y="1611"/>
                  </a:lnTo>
                  <a:lnTo>
                    <a:pt x="1134" y="1609"/>
                  </a:lnTo>
                  <a:lnTo>
                    <a:pt x="1158" y="1605"/>
                  </a:lnTo>
                  <a:lnTo>
                    <a:pt x="1182" y="1599"/>
                  </a:lnTo>
                  <a:lnTo>
                    <a:pt x="1205" y="1592"/>
                  </a:lnTo>
                  <a:lnTo>
                    <a:pt x="1227" y="1586"/>
                  </a:lnTo>
                  <a:lnTo>
                    <a:pt x="1251" y="1577"/>
                  </a:lnTo>
                  <a:lnTo>
                    <a:pt x="1272" y="1567"/>
                  </a:lnTo>
                  <a:lnTo>
                    <a:pt x="1293" y="1556"/>
                  </a:lnTo>
                  <a:lnTo>
                    <a:pt x="1314" y="1543"/>
                  </a:lnTo>
                  <a:lnTo>
                    <a:pt x="1334" y="1530"/>
                  </a:lnTo>
                  <a:lnTo>
                    <a:pt x="1353" y="1515"/>
                  </a:lnTo>
                  <a:lnTo>
                    <a:pt x="1373" y="1500"/>
                  </a:lnTo>
                  <a:lnTo>
                    <a:pt x="1391" y="1483"/>
                  </a:lnTo>
                  <a:lnTo>
                    <a:pt x="1410" y="1465"/>
                  </a:lnTo>
                  <a:lnTo>
                    <a:pt x="1427" y="1446"/>
                  </a:lnTo>
                  <a:lnTo>
                    <a:pt x="1443" y="1427"/>
                  </a:lnTo>
                  <a:lnTo>
                    <a:pt x="1458" y="1407"/>
                  </a:lnTo>
                  <a:lnTo>
                    <a:pt x="1472" y="1386"/>
                  </a:lnTo>
                  <a:lnTo>
                    <a:pt x="1485" y="1365"/>
                  </a:lnTo>
                  <a:lnTo>
                    <a:pt x="1496" y="1343"/>
                  </a:lnTo>
                  <a:lnTo>
                    <a:pt x="1507" y="1321"/>
                  </a:lnTo>
                  <a:lnTo>
                    <a:pt x="1516" y="1299"/>
                  </a:lnTo>
                  <a:lnTo>
                    <a:pt x="1525" y="1275"/>
                  </a:lnTo>
                  <a:lnTo>
                    <a:pt x="1532" y="1252"/>
                  </a:lnTo>
                  <a:lnTo>
                    <a:pt x="1538" y="1227"/>
                  </a:lnTo>
                  <a:lnTo>
                    <a:pt x="1543" y="1203"/>
                  </a:lnTo>
                  <a:lnTo>
                    <a:pt x="1547" y="1177"/>
                  </a:lnTo>
                  <a:lnTo>
                    <a:pt x="1549" y="1151"/>
                  </a:lnTo>
                  <a:lnTo>
                    <a:pt x="1552" y="1125"/>
                  </a:lnTo>
                  <a:lnTo>
                    <a:pt x="1552" y="1098"/>
                  </a:lnTo>
                  <a:lnTo>
                    <a:pt x="1552" y="1071"/>
                  </a:lnTo>
                  <a:lnTo>
                    <a:pt x="1549" y="1044"/>
                  </a:lnTo>
                  <a:lnTo>
                    <a:pt x="1547" y="1018"/>
                  </a:lnTo>
                  <a:lnTo>
                    <a:pt x="1543" y="993"/>
                  </a:lnTo>
                  <a:lnTo>
                    <a:pt x="1538" y="968"/>
                  </a:lnTo>
                  <a:lnTo>
                    <a:pt x="1532" y="944"/>
                  </a:lnTo>
                  <a:lnTo>
                    <a:pt x="1525" y="920"/>
                  </a:lnTo>
                  <a:lnTo>
                    <a:pt x="1516" y="897"/>
                  </a:lnTo>
                  <a:lnTo>
                    <a:pt x="1507" y="874"/>
                  </a:lnTo>
                  <a:lnTo>
                    <a:pt x="1496" y="852"/>
                  </a:lnTo>
                  <a:lnTo>
                    <a:pt x="1485" y="831"/>
                  </a:lnTo>
                  <a:lnTo>
                    <a:pt x="1472" y="810"/>
                  </a:lnTo>
                  <a:lnTo>
                    <a:pt x="1458" y="788"/>
                  </a:lnTo>
                  <a:lnTo>
                    <a:pt x="1443" y="768"/>
                  </a:lnTo>
                  <a:lnTo>
                    <a:pt x="1427" y="749"/>
                  </a:lnTo>
                  <a:lnTo>
                    <a:pt x="1410" y="730"/>
                  </a:lnTo>
                  <a:lnTo>
                    <a:pt x="1391" y="711"/>
                  </a:lnTo>
                  <a:lnTo>
                    <a:pt x="1373" y="695"/>
                  </a:lnTo>
                  <a:lnTo>
                    <a:pt x="1353" y="679"/>
                  </a:lnTo>
                  <a:lnTo>
                    <a:pt x="1334" y="664"/>
                  </a:lnTo>
                  <a:lnTo>
                    <a:pt x="1314" y="651"/>
                  </a:lnTo>
                  <a:lnTo>
                    <a:pt x="1293" y="639"/>
                  </a:lnTo>
                  <a:lnTo>
                    <a:pt x="1272" y="628"/>
                  </a:lnTo>
                  <a:lnTo>
                    <a:pt x="1251" y="618"/>
                  </a:lnTo>
                  <a:lnTo>
                    <a:pt x="1227" y="609"/>
                  </a:lnTo>
                  <a:lnTo>
                    <a:pt x="1205" y="601"/>
                  </a:lnTo>
                  <a:lnTo>
                    <a:pt x="1182" y="595"/>
                  </a:lnTo>
                  <a:lnTo>
                    <a:pt x="1158" y="590"/>
                  </a:lnTo>
                  <a:lnTo>
                    <a:pt x="1134" y="585"/>
                  </a:lnTo>
                  <a:lnTo>
                    <a:pt x="1108" y="583"/>
                  </a:lnTo>
                  <a:lnTo>
                    <a:pt x="1082" y="581"/>
                  </a:lnTo>
                  <a:lnTo>
                    <a:pt x="1057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2" y="4"/>
                  </a:lnTo>
                  <a:lnTo>
                    <a:pt x="1199" y="10"/>
                  </a:lnTo>
                  <a:lnTo>
                    <a:pt x="1246" y="17"/>
                  </a:lnTo>
                  <a:lnTo>
                    <a:pt x="1293" y="27"/>
                  </a:lnTo>
                  <a:lnTo>
                    <a:pt x="1340" y="38"/>
                  </a:lnTo>
                  <a:lnTo>
                    <a:pt x="1384" y="51"/>
                  </a:lnTo>
                  <a:lnTo>
                    <a:pt x="1430" y="67"/>
                  </a:lnTo>
                  <a:lnTo>
                    <a:pt x="1474" y="85"/>
                  </a:lnTo>
                  <a:lnTo>
                    <a:pt x="1516" y="104"/>
                  </a:lnTo>
                  <a:lnTo>
                    <a:pt x="1557" y="125"/>
                  </a:lnTo>
                  <a:lnTo>
                    <a:pt x="1596" y="149"/>
                  </a:lnTo>
                  <a:lnTo>
                    <a:pt x="1634" y="173"/>
                  </a:lnTo>
                  <a:lnTo>
                    <a:pt x="1672" y="200"/>
                  </a:lnTo>
                  <a:lnTo>
                    <a:pt x="1706" y="229"/>
                  </a:lnTo>
                  <a:lnTo>
                    <a:pt x="1741" y="259"/>
                  </a:lnTo>
                  <a:lnTo>
                    <a:pt x="1763" y="280"/>
                  </a:lnTo>
                  <a:lnTo>
                    <a:pt x="1784" y="302"/>
                  </a:lnTo>
                  <a:lnTo>
                    <a:pt x="1806" y="323"/>
                  </a:lnTo>
                  <a:lnTo>
                    <a:pt x="1826" y="345"/>
                  </a:lnTo>
                  <a:lnTo>
                    <a:pt x="1845" y="367"/>
                  </a:lnTo>
                  <a:lnTo>
                    <a:pt x="1864" y="390"/>
                  </a:lnTo>
                  <a:lnTo>
                    <a:pt x="1881" y="413"/>
                  </a:lnTo>
                  <a:lnTo>
                    <a:pt x="1899" y="437"/>
                  </a:lnTo>
                  <a:lnTo>
                    <a:pt x="1916" y="461"/>
                  </a:lnTo>
                  <a:lnTo>
                    <a:pt x="1933" y="485"/>
                  </a:lnTo>
                  <a:lnTo>
                    <a:pt x="1948" y="510"/>
                  </a:lnTo>
                  <a:lnTo>
                    <a:pt x="1963" y="535"/>
                  </a:lnTo>
                  <a:lnTo>
                    <a:pt x="1977" y="561"/>
                  </a:lnTo>
                  <a:lnTo>
                    <a:pt x="1991" y="586"/>
                  </a:lnTo>
                  <a:lnTo>
                    <a:pt x="2004" y="613"/>
                  </a:lnTo>
                  <a:lnTo>
                    <a:pt x="2016" y="640"/>
                  </a:lnTo>
                  <a:lnTo>
                    <a:pt x="2027" y="668"/>
                  </a:lnTo>
                  <a:lnTo>
                    <a:pt x="2039" y="695"/>
                  </a:lnTo>
                  <a:lnTo>
                    <a:pt x="2049" y="723"/>
                  </a:lnTo>
                  <a:lnTo>
                    <a:pt x="2057" y="750"/>
                  </a:lnTo>
                  <a:lnTo>
                    <a:pt x="2066" y="778"/>
                  </a:lnTo>
                  <a:lnTo>
                    <a:pt x="2074" y="806"/>
                  </a:lnTo>
                  <a:lnTo>
                    <a:pt x="2081" y="834"/>
                  </a:lnTo>
                  <a:lnTo>
                    <a:pt x="2088" y="863"/>
                  </a:lnTo>
                  <a:lnTo>
                    <a:pt x="2093" y="892"/>
                  </a:lnTo>
                  <a:lnTo>
                    <a:pt x="2098" y="920"/>
                  </a:lnTo>
                  <a:lnTo>
                    <a:pt x="2102" y="949"/>
                  </a:lnTo>
                  <a:lnTo>
                    <a:pt x="2105" y="979"/>
                  </a:lnTo>
                  <a:lnTo>
                    <a:pt x="2108" y="1008"/>
                  </a:lnTo>
                  <a:lnTo>
                    <a:pt x="2110" y="1039"/>
                  </a:lnTo>
                  <a:lnTo>
                    <a:pt x="2111" y="1068"/>
                  </a:lnTo>
                  <a:lnTo>
                    <a:pt x="2111" y="1098"/>
                  </a:lnTo>
                  <a:lnTo>
                    <a:pt x="2111" y="1128"/>
                  </a:lnTo>
                  <a:lnTo>
                    <a:pt x="2110" y="1158"/>
                  </a:lnTo>
                  <a:lnTo>
                    <a:pt x="2108" y="1187"/>
                  </a:lnTo>
                  <a:lnTo>
                    <a:pt x="2105" y="1217"/>
                  </a:lnTo>
                  <a:lnTo>
                    <a:pt x="2101" y="1246"/>
                  </a:lnTo>
                  <a:lnTo>
                    <a:pt x="2098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1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7" y="1502"/>
                  </a:lnTo>
                  <a:lnTo>
                    <a:pt x="2026" y="1530"/>
                  </a:lnTo>
                  <a:lnTo>
                    <a:pt x="2015" y="1557"/>
                  </a:lnTo>
                  <a:lnTo>
                    <a:pt x="2003" y="1584"/>
                  </a:lnTo>
                  <a:lnTo>
                    <a:pt x="1990" y="1610"/>
                  </a:lnTo>
                  <a:lnTo>
                    <a:pt x="1976" y="1637"/>
                  </a:lnTo>
                  <a:lnTo>
                    <a:pt x="1962" y="1663"/>
                  </a:lnTo>
                  <a:lnTo>
                    <a:pt x="1947" y="1689"/>
                  </a:lnTo>
                  <a:lnTo>
                    <a:pt x="1932" y="1713"/>
                  </a:lnTo>
                  <a:lnTo>
                    <a:pt x="1915" y="1738"/>
                  </a:lnTo>
                  <a:lnTo>
                    <a:pt x="1898" y="1761"/>
                  </a:lnTo>
                  <a:lnTo>
                    <a:pt x="1880" y="1786"/>
                  </a:lnTo>
                  <a:lnTo>
                    <a:pt x="1862" y="1808"/>
                  </a:lnTo>
                  <a:lnTo>
                    <a:pt x="1844" y="1831"/>
                  </a:lnTo>
                  <a:lnTo>
                    <a:pt x="1825" y="1854"/>
                  </a:lnTo>
                  <a:lnTo>
                    <a:pt x="1805" y="1875"/>
                  </a:lnTo>
                  <a:lnTo>
                    <a:pt x="1784" y="1897"/>
                  </a:lnTo>
                  <a:lnTo>
                    <a:pt x="1763" y="1919"/>
                  </a:lnTo>
                  <a:lnTo>
                    <a:pt x="1741" y="1939"/>
                  </a:lnTo>
                  <a:lnTo>
                    <a:pt x="1706" y="1970"/>
                  </a:lnTo>
                  <a:lnTo>
                    <a:pt x="1670" y="1998"/>
                  </a:lnTo>
                  <a:lnTo>
                    <a:pt x="1652" y="2012"/>
                  </a:lnTo>
                  <a:lnTo>
                    <a:pt x="1633" y="2025"/>
                  </a:lnTo>
                  <a:lnTo>
                    <a:pt x="1614" y="2038"/>
                  </a:lnTo>
                  <a:lnTo>
                    <a:pt x="1594" y="2050"/>
                  </a:lnTo>
                  <a:lnTo>
                    <a:pt x="1574" y="2062"/>
                  </a:lnTo>
                  <a:lnTo>
                    <a:pt x="1554" y="2073"/>
                  </a:lnTo>
                  <a:lnTo>
                    <a:pt x="1534" y="2084"/>
                  </a:lnTo>
                  <a:lnTo>
                    <a:pt x="1514" y="2094"/>
                  </a:lnTo>
                  <a:lnTo>
                    <a:pt x="1493" y="2104"/>
                  </a:lnTo>
                  <a:lnTo>
                    <a:pt x="1471" y="2114"/>
                  </a:lnTo>
                  <a:lnTo>
                    <a:pt x="1449" y="2123"/>
                  </a:lnTo>
                  <a:lnTo>
                    <a:pt x="1427" y="2131"/>
                  </a:lnTo>
                  <a:lnTo>
                    <a:pt x="1404" y="2140"/>
                  </a:lnTo>
                  <a:lnTo>
                    <a:pt x="1382" y="2148"/>
                  </a:lnTo>
                  <a:lnTo>
                    <a:pt x="1360" y="2154"/>
                  </a:lnTo>
                  <a:lnTo>
                    <a:pt x="1338" y="2161"/>
                  </a:lnTo>
                  <a:lnTo>
                    <a:pt x="1292" y="2172"/>
                  </a:lnTo>
                  <a:lnTo>
                    <a:pt x="1245" y="2181"/>
                  </a:lnTo>
                  <a:lnTo>
                    <a:pt x="1222" y="2185"/>
                  </a:lnTo>
                  <a:lnTo>
                    <a:pt x="1198" y="2189"/>
                  </a:lnTo>
                  <a:lnTo>
                    <a:pt x="1175" y="2192"/>
                  </a:lnTo>
                  <a:lnTo>
                    <a:pt x="1150" y="2194"/>
                  </a:lnTo>
                  <a:lnTo>
                    <a:pt x="1102" y="2198"/>
                  </a:lnTo>
                  <a:lnTo>
                    <a:pt x="1053" y="2198"/>
                  </a:lnTo>
                  <a:lnTo>
                    <a:pt x="1006" y="2198"/>
                  </a:lnTo>
                  <a:lnTo>
                    <a:pt x="956" y="2194"/>
                  </a:lnTo>
                  <a:lnTo>
                    <a:pt x="933" y="2192"/>
                  </a:lnTo>
                  <a:lnTo>
                    <a:pt x="910" y="2189"/>
                  </a:lnTo>
                  <a:lnTo>
                    <a:pt x="886" y="2185"/>
                  </a:lnTo>
                  <a:lnTo>
                    <a:pt x="863" y="2181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8"/>
                  </a:lnTo>
                  <a:lnTo>
                    <a:pt x="704" y="2140"/>
                  </a:lnTo>
                  <a:lnTo>
                    <a:pt x="681" y="2131"/>
                  </a:lnTo>
                  <a:lnTo>
                    <a:pt x="660" y="2123"/>
                  </a:lnTo>
                  <a:lnTo>
                    <a:pt x="639" y="2114"/>
                  </a:lnTo>
                  <a:lnTo>
                    <a:pt x="617" y="2104"/>
                  </a:lnTo>
                  <a:lnTo>
                    <a:pt x="597" y="2094"/>
                  </a:lnTo>
                  <a:lnTo>
                    <a:pt x="575" y="2084"/>
                  </a:lnTo>
                  <a:lnTo>
                    <a:pt x="555" y="2073"/>
                  </a:lnTo>
                  <a:lnTo>
                    <a:pt x="535" y="2062"/>
                  </a:lnTo>
                  <a:lnTo>
                    <a:pt x="515" y="2050"/>
                  </a:lnTo>
                  <a:lnTo>
                    <a:pt x="496" y="2038"/>
                  </a:lnTo>
                  <a:lnTo>
                    <a:pt x="476" y="2025"/>
                  </a:lnTo>
                  <a:lnTo>
                    <a:pt x="457" y="2012"/>
                  </a:lnTo>
                  <a:lnTo>
                    <a:pt x="439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8" y="1939"/>
                  </a:lnTo>
                  <a:lnTo>
                    <a:pt x="346" y="1919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5" y="1854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6"/>
                  </a:lnTo>
                  <a:lnTo>
                    <a:pt x="212" y="1762"/>
                  </a:lnTo>
                  <a:lnTo>
                    <a:pt x="195" y="1739"/>
                  </a:lnTo>
                  <a:lnTo>
                    <a:pt x="179" y="1714"/>
                  </a:lnTo>
                  <a:lnTo>
                    <a:pt x="163" y="1690"/>
                  </a:lnTo>
                  <a:lnTo>
                    <a:pt x="149" y="1664"/>
                  </a:lnTo>
                  <a:lnTo>
                    <a:pt x="134" y="1638"/>
                  </a:lnTo>
                  <a:lnTo>
                    <a:pt x="121" y="1613"/>
                  </a:lnTo>
                  <a:lnTo>
                    <a:pt x="108" y="1586"/>
                  </a:lnTo>
                  <a:lnTo>
                    <a:pt x="96" y="1558"/>
                  </a:lnTo>
                  <a:lnTo>
                    <a:pt x="84" y="1531"/>
                  </a:lnTo>
                  <a:lnTo>
                    <a:pt x="74" y="1503"/>
                  </a:lnTo>
                  <a:lnTo>
                    <a:pt x="64" y="1475"/>
                  </a:lnTo>
                  <a:lnTo>
                    <a:pt x="54" y="1447"/>
                  </a:lnTo>
                  <a:lnTo>
                    <a:pt x="46" y="1419"/>
                  </a:lnTo>
                  <a:lnTo>
                    <a:pt x="38" y="1391"/>
                  </a:lnTo>
                  <a:lnTo>
                    <a:pt x="30" y="1364"/>
                  </a:lnTo>
                  <a:lnTo>
                    <a:pt x="25" y="1335"/>
                  </a:lnTo>
                  <a:lnTo>
                    <a:pt x="19" y="1305"/>
                  </a:lnTo>
                  <a:lnTo>
                    <a:pt x="14" y="1276"/>
                  </a:lnTo>
                  <a:lnTo>
                    <a:pt x="10" y="1247"/>
                  </a:lnTo>
                  <a:lnTo>
                    <a:pt x="7" y="1217"/>
                  </a:lnTo>
                  <a:lnTo>
                    <a:pt x="4" y="1188"/>
                  </a:lnTo>
                  <a:lnTo>
                    <a:pt x="3" y="1158"/>
                  </a:lnTo>
                  <a:lnTo>
                    <a:pt x="1" y="1128"/>
                  </a:lnTo>
                  <a:lnTo>
                    <a:pt x="0" y="1098"/>
                  </a:lnTo>
                  <a:lnTo>
                    <a:pt x="1" y="1068"/>
                  </a:lnTo>
                  <a:lnTo>
                    <a:pt x="3" y="1037"/>
                  </a:lnTo>
                  <a:lnTo>
                    <a:pt x="4" y="1008"/>
                  </a:lnTo>
                  <a:lnTo>
                    <a:pt x="7" y="978"/>
                  </a:lnTo>
                  <a:lnTo>
                    <a:pt x="10" y="949"/>
                  </a:lnTo>
                  <a:lnTo>
                    <a:pt x="14" y="920"/>
                  </a:lnTo>
                  <a:lnTo>
                    <a:pt x="19" y="891"/>
                  </a:lnTo>
                  <a:lnTo>
                    <a:pt x="25" y="862"/>
                  </a:lnTo>
                  <a:lnTo>
                    <a:pt x="30" y="833"/>
                  </a:lnTo>
                  <a:lnTo>
                    <a:pt x="38" y="805"/>
                  </a:lnTo>
                  <a:lnTo>
                    <a:pt x="46" y="776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4"/>
                  </a:lnTo>
                  <a:lnTo>
                    <a:pt x="84" y="666"/>
                  </a:lnTo>
                  <a:lnTo>
                    <a:pt x="95" y="639"/>
                  </a:lnTo>
                  <a:lnTo>
                    <a:pt x="107" y="612"/>
                  </a:lnTo>
                  <a:lnTo>
                    <a:pt x="121" y="585"/>
                  </a:lnTo>
                  <a:lnTo>
                    <a:pt x="134" y="559"/>
                  </a:lnTo>
                  <a:lnTo>
                    <a:pt x="149" y="534"/>
                  </a:lnTo>
                  <a:lnTo>
                    <a:pt x="163" y="508"/>
                  </a:lnTo>
                  <a:lnTo>
                    <a:pt x="179" y="484"/>
                  </a:lnTo>
                  <a:lnTo>
                    <a:pt x="194" y="459"/>
                  </a:lnTo>
                  <a:lnTo>
                    <a:pt x="211" y="436"/>
                  </a:lnTo>
                  <a:lnTo>
                    <a:pt x="229" y="412"/>
                  </a:lnTo>
                  <a:lnTo>
                    <a:pt x="247" y="389"/>
                  </a:lnTo>
                  <a:lnTo>
                    <a:pt x="264" y="366"/>
                  </a:lnTo>
                  <a:lnTo>
                    <a:pt x="285" y="344"/>
                  </a:lnTo>
                  <a:lnTo>
                    <a:pt x="305" y="323"/>
                  </a:lnTo>
                  <a:lnTo>
                    <a:pt x="325" y="302"/>
                  </a:lnTo>
                  <a:lnTo>
                    <a:pt x="346" y="280"/>
                  </a:lnTo>
                  <a:lnTo>
                    <a:pt x="368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9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5" y="125"/>
                  </a:lnTo>
                  <a:lnTo>
                    <a:pt x="597" y="103"/>
                  </a:lnTo>
                  <a:lnTo>
                    <a:pt x="639" y="84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6"/>
                  </a:lnTo>
                  <a:lnTo>
                    <a:pt x="863" y="17"/>
                  </a:lnTo>
                  <a:lnTo>
                    <a:pt x="910" y="9"/>
                  </a:lnTo>
                  <a:lnTo>
                    <a:pt x="956" y="4"/>
                  </a:lnTo>
                  <a:lnTo>
                    <a:pt x="1006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6160" y="928800"/>
              <a:ext cx="325440" cy="552240"/>
            </a:xfrm>
            <a:custGeom>
              <a:avLst/>
              <a:gdLst/>
              <a:ahLst/>
              <a:rect l="l" t="t" r="r" b="b"/>
              <a:pathLst>
                <a:path w="1227" h="2087">
                  <a:moveTo>
                    <a:pt x="0" y="2087"/>
                  </a:moveTo>
                  <a:lnTo>
                    <a:pt x="0" y="0"/>
                  </a:lnTo>
                  <a:lnTo>
                    <a:pt x="1142" y="0"/>
                  </a:lnTo>
                  <a:lnTo>
                    <a:pt x="1227" y="554"/>
                  </a:lnTo>
                  <a:lnTo>
                    <a:pt x="540" y="554"/>
                  </a:lnTo>
                  <a:lnTo>
                    <a:pt x="540" y="766"/>
                  </a:lnTo>
                  <a:lnTo>
                    <a:pt x="971" y="766"/>
                  </a:lnTo>
                  <a:lnTo>
                    <a:pt x="971" y="1319"/>
                  </a:lnTo>
                  <a:lnTo>
                    <a:pt x="540" y="1319"/>
                  </a:lnTo>
                  <a:lnTo>
                    <a:pt x="540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2640" y="167472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27360" y="167472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17800" y="167472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45120" y="167472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2160" y="167472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792" y="1331"/>
                  </a:moveTo>
                  <a:lnTo>
                    <a:pt x="1221" y="1331"/>
                  </a:lnTo>
                  <a:lnTo>
                    <a:pt x="1006" y="627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92560" y="167472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5560" y="167472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539" y="1529"/>
                  </a:moveTo>
                  <a:lnTo>
                    <a:pt x="565" y="1527"/>
                  </a:lnTo>
                  <a:lnTo>
                    <a:pt x="590" y="1522"/>
                  </a:lnTo>
                  <a:lnTo>
                    <a:pt x="615" y="1518"/>
                  </a:lnTo>
                  <a:lnTo>
                    <a:pt x="638" y="1512"/>
                  </a:lnTo>
                  <a:lnTo>
                    <a:pt x="661" y="1506"/>
                  </a:lnTo>
                  <a:lnTo>
                    <a:pt x="684" y="1498"/>
                  </a:lnTo>
                  <a:lnTo>
                    <a:pt x="706" y="1490"/>
                  </a:lnTo>
                  <a:lnTo>
                    <a:pt x="727" y="1480"/>
                  </a:lnTo>
                  <a:lnTo>
                    <a:pt x="747" y="1470"/>
                  </a:lnTo>
                  <a:lnTo>
                    <a:pt x="767" y="1459"/>
                  </a:lnTo>
                  <a:lnTo>
                    <a:pt x="786" y="1447"/>
                  </a:lnTo>
                  <a:lnTo>
                    <a:pt x="805" y="1434"/>
                  </a:lnTo>
                  <a:lnTo>
                    <a:pt x="823" y="1421"/>
                  </a:lnTo>
                  <a:lnTo>
                    <a:pt x="841" y="1406"/>
                  </a:lnTo>
                  <a:lnTo>
                    <a:pt x="858" y="1391"/>
                  </a:lnTo>
                  <a:lnTo>
                    <a:pt x="873" y="1374"/>
                  </a:lnTo>
                  <a:lnTo>
                    <a:pt x="889" y="1357"/>
                  </a:lnTo>
                  <a:lnTo>
                    <a:pt x="902" y="1339"/>
                  </a:lnTo>
                  <a:lnTo>
                    <a:pt x="916" y="1321"/>
                  </a:lnTo>
                  <a:lnTo>
                    <a:pt x="928" y="1303"/>
                  </a:lnTo>
                  <a:lnTo>
                    <a:pt x="939" y="1284"/>
                  </a:lnTo>
                  <a:lnTo>
                    <a:pt x="950" y="1264"/>
                  </a:lnTo>
                  <a:lnTo>
                    <a:pt x="959" y="1244"/>
                  </a:lnTo>
                  <a:lnTo>
                    <a:pt x="967" y="1223"/>
                  </a:lnTo>
                  <a:lnTo>
                    <a:pt x="975" y="1202"/>
                  </a:lnTo>
                  <a:lnTo>
                    <a:pt x="981" y="1181"/>
                  </a:lnTo>
                  <a:lnTo>
                    <a:pt x="987" y="1158"/>
                  </a:lnTo>
                  <a:lnTo>
                    <a:pt x="991" y="1136"/>
                  </a:lnTo>
                  <a:lnTo>
                    <a:pt x="995" y="1112"/>
                  </a:lnTo>
                  <a:lnTo>
                    <a:pt x="997" y="1088"/>
                  </a:lnTo>
                  <a:lnTo>
                    <a:pt x="998" y="1064"/>
                  </a:lnTo>
                  <a:lnTo>
                    <a:pt x="999" y="1039"/>
                  </a:lnTo>
                  <a:lnTo>
                    <a:pt x="998" y="1012"/>
                  </a:lnTo>
                  <a:lnTo>
                    <a:pt x="997" y="986"/>
                  </a:lnTo>
                  <a:lnTo>
                    <a:pt x="995" y="961"/>
                  </a:lnTo>
                  <a:lnTo>
                    <a:pt x="990" y="936"/>
                  </a:lnTo>
                  <a:lnTo>
                    <a:pt x="986" y="911"/>
                  </a:lnTo>
                  <a:lnTo>
                    <a:pt x="981" y="888"/>
                  </a:lnTo>
                  <a:lnTo>
                    <a:pt x="975" y="865"/>
                  </a:lnTo>
                  <a:lnTo>
                    <a:pt x="967" y="842"/>
                  </a:lnTo>
                  <a:lnTo>
                    <a:pt x="958" y="820"/>
                  </a:lnTo>
                  <a:lnTo>
                    <a:pt x="949" y="799"/>
                  </a:lnTo>
                  <a:lnTo>
                    <a:pt x="939" y="777"/>
                  </a:lnTo>
                  <a:lnTo>
                    <a:pt x="927" y="757"/>
                  </a:lnTo>
                  <a:lnTo>
                    <a:pt x="914" y="738"/>
                  </a:lnTo>
                  <a:lnTo>
                    <a:pt x="901" y="719"/>
                  </a:lnTo>
                  <a:lnTo>
                    <a:pt x="887" y="700"/>
                  </a:lnTo>
                  <a:lnTo>
                    <a:pt x="871" y="684"/>
                  </a:lnTo>
                  <a:lnTo>
                    <a:pt x="855" y="667"/>
                  </a:lnTo>
                  <a:lnTo>
                    <a:pt x="839" y="651"/>
                  </a:lnTo>
                  <a:lnTo>
                    <a:pt x="821" y="636"/>
                  </a:lnTo>
                  <a:lnTo>
                    <a:pt x="803" y="622"/>
                  </a:lnTo>
                  <a:lnTo>
                    <a:pt x="784" y="610"/>
                  </a:lnTo>
                  <a:lnTo>
                    <a:pt x="765" y="598"/>
                  </a:lnTo>
                  <a:lnTo>
                    <a:pt x="745" y="588"/>
                  </a:lnTo>
                  <a:lnTo>
                    <a:pt x="724" y="579"/>
                  </a:lnTo>
                  <a:lnTo>
                    <a:pt x="703" y="570"/>
                  </a:lnTo>
                  <a:lnTo>
                    <a:pt x="682" y="562"/>
                  </a:lnTo>
                  <a:lnTo>
                    <a:pt x="659" y="556"/>
                  </a:lnTo>
                  <a:lnTo>
                    <a:pt x="636" y="551"/>
                  </a:lnTo>
                  <a:lnTo>
                    <a:pt x="612" y="546"/>
                  </a:lnTo>
                  <a:lnTo>
                    <a:pt x="589" y="543"/>
                  </a:lnTo>
                  <a:lnTo>
                    <a:pt x="565" y="542"/>
                  </a:lnTo>
                  <a:lnTo>
                    <a:pt x="539" y="540"/>
                  </a:lnTo>
                  <a:lnTo>
                    <a:pt x="539" y="1529"/>
                  </a:lnTo>
                  <a:close/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6000" y="16653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8000" y="240984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04960" y="240336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6" y="580"/>
                  </a:moveTo>
                  <a:lnTo>
                    <a:pt x="1030" y="580"/>
                  </a:lnTo>
                  <a:lnTo>
                    <a:pt x="1004" y="583"/>
                  </a:lnTo>
                  <a:lnTo>
                    <a:pt x="980" y="585"/>
                  </a:lnTo>
                  <a:lnTo>
                    <a:pt x="955" y="589"/>
                  </a:lnTo>
                  <a:lnTo>
                    <a:pt x="931" y="595"/>
                  </a:lnTo>
                  <a:lnTo>
                    <a:pt x="907" y="600"/>
                  </a:lnTo>
                  <a:lnTo>
                    <a:pt x="885" y="608"/>
                  </a:lnTo>
                  <a:lnTo>
                    <a:pt x="863" y="617"/>
                  </a:lnTo>
                  <a:lnTo>
                    <a:pt x="841" y="627"/>
                  </a:lnTo>
                  <a:lnTo>
                    <a:pt x="819" y="638"/>
                  </a:lnTo>
                  <a:lnTo>
                    <a:pt x="798" y="651"/>
                  </a:lnTo>
                  <a:lnTo>
                    <a:pt x="778" y="664"/>
                  </a:lnTo>
                  <a:lnTo>
                    <a:pt x="759" y="679"/>
                  </a:lnTo>
                  <a:lnTo>
                    <a:pt x="740" y="694"/>
                  </a:lnTo>
                  <a:lnTo>
                    <a:pt x="721" y="711"/>
                  </a:lnTo>
                  <a:lnTo>
                    <a:pt x="703" y="729"/>
                  </a:lnTo>
                  <a:lnTo>
                    <a:pt x="686" y="748"/>
                  </a:lnTo>
                  <a:lnTo>
                    <a:pt x="670" y="767"/>
                  </a:lnTo>
                  <a:lnTo>
                    <a:pt x="654" y="787"/>
                  </a:lnTo>
                  <a:lnTo>
                    <a:pt x="641" y="808"/>
                  </a:lnTo>
                  <a:lnTo>
                    <a:pt x="628" y="829"/>
                  </a:lnTo>
                  <a:lnTo>
                    <a:pt x="617" y="851"/>
                  </a:lnTo>
                  <a:lnTo>
                    <a:pt x="605" y="873"/>
                  </a:lnTo>
                  <a:lnTo>
                    <a:pt x="596" y="895"/>
                  </a:lnTo>
                  <a:lnTo>
                    <a:pt x="588" y="919"/>
                  </a:lnTo>
                  <a:lnTo>
                    <a:pt x="581" y="943"/>
                  </a:lnTo>
                  <a:lnTo>
                    <a:pt x="574" y="967"/>
                  </a:lnTo>
                  <a:lnTo>
                    <a:pt x="570" y="992"/>
                  </a:lnTo>
                  <a:lnTo>
                    <a:pt x="565" y="1018"/>
                  </a:lnTo>
                  <a:lnTo>
                    <a:pt x="563" y="1044"/>
                  </a:lnTo>
                  <a:lnTo>
                    <a:pt x="561" y="1071"/>
                  </a:lnTo>
                  <a:lnTo>
                    <a:pt x="561" y="1097"/>
                  </a:lnTo>
                  <a:lnTo>
                    <a:pt x="561" y="1124"/>
                  </a:lnTo>
                  <a:lnTo>
                    <a:pt x="563" y="1151"/>
                  </a:lnTo>
                  <a:lnTo>
                    <a:pt x="565" y="1177"/>
                  </a:lnTo>
                  <a:lnTo>
                    <a:pt x="570" y="1202"/>
                  </a:lnTo>
                  <a:lnTo>
                    <a:pt x="574" y="1228"/>
                  </a:lnTo>
                  <a:lnTo>
                    <a:pt x="581" y="1252"/>
                  </a:lnTo>
                  <a:lnTo>
                    <a:pt x="588" y="1276"/>
                  </a:lnTo>
                  <a:lnTo>
                    <a:pt x="596" y="1300"/>
                  </a:lnTo>
                  <a:lnTo>
                    <a:pt x="605" y="1322"/>
                  </a:lnTo>
                  <a:lnTo>
                    <a:pt x="615" y="1344"/>
                  </a:lnTo>
                  <a:lnTo>
                    <a:pt x="628" y="1365"/>
                  </a:lnTo>
                  <a:lnTo>
                    <a:pt x="640" y="1387"/>
                  </a:lnTo>
                  <a:lnTo>
                    <a:pt x="654" y="1407"/>
                  </a:lnTo>
                  <a:lnTo>
                    <a:pt x="669" y="1427"/>
                  </a:lnTo>
                  <a:lnTo>
                    <a:pt x="686" y="1446"/>
                  </a:lnTo>
                  <a:lnTo>
                    <a:pt x="702" y="1465"/>
                  </a:lnTo>
                  <a:lnTo>
                    <a:pt x="720" y="1483"/>
                  </a:lnTo>
                  <a:lnTo>
                    <a:pt x="739" y="1499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8" y="1555"/>
                  </a:lnTo>
                  <a:lnTo>
                    <a:pt x="839" y="1566"/>
                  </a:lnTo>
                  <a:lnTo>
                    <a:pt x="862" y="1577"/>
                  </a:lnTo>
                  <a:lnTo>
                    <a:pt x="884" y="1585"/>
                  </a:lnTo>
                  <a:lnTo>
                    <a:pt x="907" y="1593"/>
                  </a:lnTo>
                  <a:lnTo>
                    <a:pt x="931" y="1599"/>
                  </a:lnTo>
                  <a:lnTo>
                    <a:pt x="954" y="1604"/>
                  </a:lnTo>
                  <a:lnTo>
                    <a:pt x="979" y="1609"/>
                  </a:lnTo>
                  <a:lnTo>
                    <a:pt x="1004" y="1611"/>
                  </a:lnTo>
                  <a:lnTo>
                    <a:pt x="1030" y="1613"/>
                  </a:lnTo>
                  <a:lnTo>
                    <a:pt x="1056" y="1613"/>
                  </a:lnTo>
                  <a:lnTo>
                    <a:pt x="1082" y="1613"/>
                  </a:lnTo>
                  <a:lnTo>
                    <a:pt x="1108" y="1611"/>
                  </a:lnTo>
                  <a:lnTo>
                    <a:pt x="1132" y="1609"/>
                  </a:lnTo>
                  <a:lnTo>
                    <a:pt x="1157" y="1604"/>
                  </a:lnTo>
                  <a:lnTo>
                    <a:pt x="1180" y="1599"/>
                  </a:lnTo>
                  <a:lnTo>
                    <a:pt x="1204" y="1593"/>
                  </a:lnTo>
                  <a:lnTo>
                    <a:pt x="1227" y="1585"/>
                  </a:lnTo>
                  <a:lnTo>
                    <a:pt x="1249" y="1577"/>
                  </a:lnTo>
                  <a:lnTo>
                    <a:pt x="1271" y="1566"/>
                  </a:lnTo>
                  <a:lnTo>
                    <a:pt x="1293" y="1555"/>
                  </a:lnTo>
                  <a:lnTo>
                    <a:pt x="1313" y="1543"/>
                  </a:lnTo>
                  <a:lnTo>
                    <a:pt x="1333" y="1530"/>
                  </a:lnTo>
                  <a:lnTo>
                    <a:pt x="1353" y="1515"/>
                  </a:lnTo>
                  <a:lnTo>
                    <a:pt x="1372" y="1499"/>
                  </a:lnTo>
                  <a:lnTo>
                    <a:pt x="1391" y="1483"/>
                  </a:lnTo>
                  <a:lnTo>
                    <a:pt x="1409" y="1465"/>
                  </a:lnTo>
                  <a:lnTo>
                    <a:pt x="1427" y="1446"/>
                  </a:lnTo>
                  <a:lnTo>
                    <a:pt x="1442" y="1427"/>
                  </a:lnTo>
                  <a:lnTo>
                    <a:pt x="1458" y="1407"/>
                  </a:lnTo>
                  <a:lnTo>
                    <a:pt x="1471" y="1386"/>
                  </a:lnTo>
                  <a:lnTo>
                    <a:pt x="1484" y="1365"/>
                  </a:lnTo>
                  <a:lnTo>
                    <a:pt x="1496" y="1343"/>
                  </a:lnTo>
                  <a:lnTo>
                    <a:pt x="1506" y="1321"/>
                  </a:lnTo>
                  <a:lnTo>
                    <a:pt x="1516" y="1298"/>
                  </a:lnTo>
                  <a:lnTo>
                    <a:pt x="1524" y="1275"/>
                  </a:lnTo>
                  <a:lnTo>
                    <a:pt x="1531" y="1252"/>
                  </a:lnTo>
                  <a:lnTo>
                    <a:pt x="1537" y="1227"/>
                  </a:lnTo>
                  <a:lnTo>
                    <a:pt x="1543" y="1202"/>
                  </a:lnTo>
                  <a:lnTo>
                    <a:pt x="1546" y="1177"/>
                  </a:lnTo>
                  <a:lnTo>
                    <a:pt x="1549" y="1151"/>
                  </a:lnTo>
                  <a:lnTo>
                    <a:pt x="1550" y="1124"/>
                  </a:lnTo>
                  <a:lnTo>
                    <a:pt x="1551" y="1097"/>
                  </a:lnTo>
                  <a:lnTo>
                    <a:pt x="1550" y="1071"/>
                  </a:lnTo>
                  <a:lnTo>
                    <a:pt x="1549" y="1044"/>
                  </a:lnTo>
                  <a:lnTo>
                    <a:pt x="1546" y="1018"/>
                  </a:lnTo>
                  <a:lnTo>
                    <a:pt x="1543" y="992"/>
                  </a:lnTo>
                  <a:lnTo>
                    <a:pt x="1537" y="968"/>
                  </a:lnTo>
                  <a:lnTo>
                    <a:pt x="1531" y="943"/>
                  </a:lnTo>
                  <a:lnTo>
                    <a:pt x="1524" y="920"/>
                  </a:lnTo>
                  <a:lnTo>
                    <a:pt x="1516" y="896"/>
                  </a:lnTo>
                  <a:lnTo>
                    <a:pt x="1506" y="874"/>
                  </a:lnTo>
                  <a:lnTo>
                    <a:pt x="1496" y="852"/>
                  </a:lnTo>
                  <a:lnTo>
                    <a:pt x="1484" y="831"/>
                  </a:lnTo>
                  <a:lnTo>
                    <a:pt x="1471" y="809"/>
                  </a:lnTo>
                  <a:lnTo>
                    <a:pt x="1458" y="788"/>
                  </a:lnTo>
                  <a:lnTo>
                    <a:pt x="1442" y="768"/>
                  </a:lnTo>
                  <a:lnTo>
                    <a:pt x="1427" y="749"/>
                  </a:lnTo>
                  <a:lnTo>
                    <a:pt x="1409" y="730"/>
                  </a:lnTo>
                  <a:lnTo>
                    <a:pt x="1391" y="712"/>
                  </a:lnTo>
                  <a:lnTo>
                    <a:pt x="1372" y="694"/>
                  </a:lnTo>
                  <a:lnTo>
                    <a:pt x="1353" y="679"/>
                  </a:lnTo>
                  <a:lnTo>
                    <a:pt x="1333" y="664"/>
                  </a:lnTo>
                  <a:lnTo>
                    <a:pt x="1313" y="651"/>
                  </a:lnTo>
                  <a:lnTo>
                    <a:pt x="1293" y="638"/>
                  </a:lnTo>
                  <a:lnTo>
                    <a:pt x="1271" y="627"/>
                  </a:lnTo>
                  <a:lnTo>
                    <a:pt x="1249" y="617"/>
                  </a:lnTo>
                  <a:lnTo>
                    <a:pt x="1227" y="608"/>
                  </a:lnTo>
                  <a:lnTo>
                    <a:pt x="1204" y="600"/>
                  </a:lnTo>
                  <a:lnTo>
                    <a:pt x="1180" y="595"/>
                  </a:lnTo>
                  <a:lnTo>
                    <a:pt x="1157" y="589"/>
                  </a:lnTo>
                  <a:lnTo>
                    <a:pt x="1132" y="585"/>
                  </a:lnTo>
                  <a:lnTo>
                    <a:pt x="1108" y="583"/>
                  </a:lnTo>
                  <a:lnTo>
                    <a:pt x="1082" y="580"/>
                  </a:lnTo>
                  <a:lnTo>
                    <a:pt x="1056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7400" y="241920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89280" y="241920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73480" y="240984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27720" y="241920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309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8640" y="1095480"/>
              <a:ext cx="114120" cy="185760"/>
            </a:xfrm>
            <a:custGeom>
              <a:avLst/>
              <a:gdLst/>
              <a:ahLst/>
              <a:rect l="l" t="t" r="r" b="b"/>
              <a:pathLst>
                <a:path w="429" h="705">
                  <a:moveTo>
                    <a:pt x="0" y="705"/>
                  </a:moveTo>
                  <a:lnTo>
                    <a:pt x="429" y="705"/>
                  </a:lnTo>
                  <a:lnTo>
                    <a:pt x="213" y="0"/>
                  </a:lnTo>
                  <a:lnTo>
                    <a:pt x="0" y="70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29120" y="928800"/>
              <a:ext cx="536400" cy="552240"/>
            </a:xfrm>
            <a:custGeom>
              <a:avLst/>
              <a:gdLst/>
              <a:ahLst/>
              <a:rect l="l" t="t" r="r" b="b"/>
              <a:pathLst>
                <a:path w="2026" h="2087">
                  <a:moveTo>
                    <a:pt x="0" y="2087"/>
                  </a:moveTo>
                  <a:lnTo>
                    <a:pt x="729" y="0"/>
                  </a:lnTo>
                  <a:lnTo>
                    <a:pt x="1337" y="0"/>
                  </a:lnTo>
                  <a:lnTo>
                    <a:pt x="2026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2" y="1853"/>
                  </a:lnTo>
                  <a:lnTo>
                    <a:pt x="562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19520" y="928800"/>
              <a:ext cx="142920" cy="5522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35520" y="928800"/>
              <a:ext cx="573120" cy="555480"/>
            </a:xfrm>
            <a:custGeom>
              <a:avLst/>
              <a:gdLst/>
              <a:ahLst/>
              <a:rect l="l" t="t" r="r" b="b"/>
              <a:pathLst>
                <a:path w="2167" h="2096">
                  <a:moveTo>
                    <a:pt x="0" y="2087"/>
                  </a:moveTo>
                  <a:lnTo>
                    <a:pt x="263" y="0"/>
                  </a:lnTo>
                  <a:lnTo>
                    <a:pt x="702" y="0"/>
                  </a:lnTo>
                  <a:lnTo>
                    <a:pt x="1069" y="928"/>
                  </a:lnTo>
                  <a:lnTo>
                    <a:pt x="1442" y="0"/>
                  </a:lnTo>
                  <a:lnTo>
                    <a:pt x="1871" y="0"/>
                  </a:lnTo>
                  <a:lnTo>
                    <a:pt x="2167" y="2087"/>
                  </a:lnTo>
                  <a:lnTo>
                    <a:pt x="1611" y="2087"/>
                  </a:lnTo>
                  <a:lnTo>
                    <a:pt x="1494" y="1129"/>
                  </a:lnTo>
                  <a:lnTo>
                    <a:pt x="1092" y="2096"/>
                  </a:lnTo>
                  <a:lnTo>
                    <a:pt x="655" y="1129"/>
                  </a:lnTo>
                  <a:lnTo>
                    <a:pt x="556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1480" y="920880"/>
              <a:ext cx="29196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6"/>
                  </a:moveTo>
                  <a:lnTo>
                    <a:pt x="25" y="1551"/>
                  </a:lnTo>
                  <a:lnTo>
                    <a:pt x="40" y="1557"/>
                  </a:lnTo>
                  <a:lnTo>
                    <a:pt x="55" y="1563"/>
                  </a:lnTo>
                  <a:lnTo>
                    <a:pt x="70" y="1568"/>
                  </a:lnTo>
                  <a:lnTo>
                    <a:pt x="84" y="1574"/>
                  </a:lnTo>
                  <a:lnTo>
                    <a:pt x="99" y="1578"/>
                  </a:lnTo>
                  <a:lnTo>
                    <a:pt x="113" y="1583"/>
                  </a:lnTo>
                  <a:lnTo>
                    <a:pt x="128" y="1586"/>
                  </a:lnTo>
                  <a:lnTo>
                    <a:pt x="141" y="1590"/>
                  </a:lnTo>
                  <a:lnTo>
                    <a:pt x="156" y="1593"/>
                  </a:lnTo>
                  <a:lnTo>
                    <a:pt x="169" y="1596"/>
                  </a:lnTo>
                  <a:lnTo>
                    <a:pt x="182" y="1599"/>
                  </a:lnTo>
                  <a:lnTo>
                    <a:pt x="196" y="1600"/>
                  </a:lnTo>
                  <a:lnTo>
                    <a:pt x="209" y="1602"/>
                  </a:lnTo>
                  <a:lnTo>
                    <a:pt x="221" y="1603"/>
                  </a:lnTo>
                  <a:lnTo>
                    <a:pt x="235" y="1603"/>
                  </a:lnTo>
                  <a:lnTo>
                    <a:pt x="247" y="1603"/>
                  </a:lnTo>
                  <a:lnTo>
                    <a:pt x="269" y="1603"/>
                  </a:lnTo>
                  <a:lnTo>
                    <a:pt x="289" y="1601"/>
                  </a:lnTo>
                  <a:lnTo>
                    <a:pt x="309" y="1597"/>
                  </a:lnTo>
                  <a:lnTo>
                    <a:pt x="328" y="1592"/>
                  </a:lnTo>
                  <a:lnTo>
                    <a:pt x="346" y="1585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3" y="1556"/>
                  </a:lnTo>
                  <a:lnTo>
                    <a:pt x="406" y="1544"/>
                  </a:lnTo>
                  <a:lnTo>
                    <a:pt x="419" y="1532"/>
                  </a:lnTo>
                  <a:lnTo>
                    <a:pt x="428" y="1518"/>
                  </a:lnTo>
                  <a:lnTo>
                    <a:pt x="436" y="1504"/>
                  </a:lnTo>
                  <a:lnTo>
                    <a:pt x="442" y="1489"/>
                  </a:lnTo>
                  <a:lnTo>
                    <a:pt x="447" y="1473"/>
                  </a:lnTo>
                  <a:lnTo>
                    <a:pt x="450" y="1457"/>
                  </a:lnTo>
                  <a:lnTo>
                    <a:pt x="451" y="1440"/>
                  </a:lnTo>
                  <a:lnTo>
                    <a:pt x="450" y="1428"/>
                  </a:lnTo>
                  <a:lnTo>
                    <a:pt x="448" y="1415"/>
                  </a:lnTo>
                  <a:lnTo>
                    <a:pt x="445" y="1403"/>
                  </a:lnTo>
                  <a:lnTo>
                    <a:pt x="441" y="1390"/>
                  </a:lnTo>
                  <a:lnTo>
                    <a:pt x="435" y="1376"/>
                  </a:lnTo>
                  <a:lnTo>
                    <a:pt x="429" y="1363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5"/>
                  </a:lnTo>
                  <a:lnTo>
                    <a:pt x="377" y="1288"/>
                  </a:lnTo>
                  <a:lnTo>
                    <a:pt x="363" y="1272"/>
                  </a:lnTo>
                  <a:lnTo>
                    <a:pt x="332" y="1239"/>
                  </a:lnTo>
                  <a:lnTo>
                    <a:pt x="296" y="1204"/>
                  </a:lnTo>
                  <a:lnTo>
                    <a:pt x="283" y="1193"/>
                  </a:lnTo>
                  <a:lnTo>
                    <a:pt x="270" y="1182"/>
                  </a:lnTo>
                  <a:lnTo>
                    <a:pt x="259" y="1171"/>
                  </a:lnTo>
                  <a:lnTo>
                    <a:pt x="249" y="1161"/>
                  </a:lnTo>
                  <a:lnTo>
                    <a:pt x="239" y="1152"/>
                  </a:lnTo>
                  <a:lnTo>
                    <a:pt x="230" y="1143"/>
                  </a:lnTo>
                  <a:lnTo>
                    <a:pt x="221" y="1135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3" y="1071"/>
                  </a:lnTo>
                  <a:lnTo>
                    <a:pt x="140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2" y="956"/>
                  </a:lnTo>
                  <a:lnTo>
                    <a:pt x="65" y="927"/>
                  </a:lnTo>
                  <a:lnTo>
                    <a:pt x="52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7"/>
                  </a:lnTo>
                  <a:lnTo>
                    <a:pt x="12" y="774"/>
                  </a:lnTo>
                  <a:lnTo>
                    <a:pt x="6" y="743"/>
                  </a:lnTo>
                  <a:lnTo>
                    <a:pt x="3" y="710"/>
                  </a:lnTo>
                  <a:lnTo>
                    <a:pt x="0" y="677"/>
                  </a:lnTo>
                  <a:lnTo>
                    <a:pt x="0" y="643"/>
                  </a:lnTo>
                  <a:lnTo>
                    <a:pt x="0" y="608"/>
                  </a:lnTo>
                  <a:lnTo>
                    <a:pt x="2" y="574"/>
                  </a:lnTo>
                  <a:lnTo>
                    <a:pt x="6" y="541"/>
                  </a:lnTo>
                  <a:lnTo>
                    <a:pt x="12" y="509"/>
                  </a:lnTo>
                  <a:lnTo>
                    <a:pt x="19" y="477"/>
                  </a:lnTo>
                  <a:lnTo>
                    <a:pt x="26" y="446"/>
                  </a:lnTo>
                  <a:lnTo>
                    <a:pt x="36" y="416"/>
                  </a:lnTo>
                  <a:lnTo>
                    <a:pt x="49" y="387"/>
                  </a:lnTo>
                  <a:lnTo>
                    <a:pt x="61" y="359"/>
                  </a:lnTo>
                  <a:lnTo>
                    <a:pt x="75" y="331"/>
                  </a:lnTo>
                  <a:lnTo>
                    <a:pt x="92" y="304"/>
                  </a:lnTo>
                  <a:lnTo>
                    <a:pt x="110" y="277"/>
                  </a:lnTo>
                  <a:lnTo>
                    <a:pt x="129" y="253"/>
                  </a:lnTo>
                  <a:lnTo>
                    <a:pt x="149" y="228"/>
                  </a:lnTo>
                  <a:lnTo>
                    <a:pt x="171" y="204"/>
                  </a:lnTo>
                  <a:lnTo>
                    <a:pt x="196" y="181"/>
                  </a:lnTo>
                  <a:lnTo>
                    <a:pt x="220" y="159"/>
                  </a:lnTo>
                  <a:lnTo>
                    <a:pt x="246" y="139"/>
                  </a:lnTo>
                  <a:lnTo>
                    <a:pt x="273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58" y="71"/>
                  </a:lnTo>
                  <a:lnTo>
                    <a:pt x="390" y="57"/>
                  </a:lnTo>
                  <a:lnTo>
                    <a:pt x="421" y="45"/>
                  </a:lnTo>
                  <a:lnTo>
                    <a:pt x="453" y="35"/>
                  </a:lnTo>
                  <a:lnTo>
                    <a:pt x="486" y="25"/>
                  </a:lnTo>
                  <a:lnTo>
                    <a:pt x="520" y="17"/>
                  </a:lnTo>
                  <a:lnTo>
                    <a:pt x="555" y="12"/>
                  </a:lnTo>
                  <a:lnTo>
                    <a:pt x="590" y="6"/>
                  </a:lnTo>
                  <a:lnTo>
                    <a:pt x="627" y="3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7" y="0"/>
                  </a:lnTo>
                  <a:lnTo>
                    <a:pt x="752" y="0"/>
                  </a:lnTo>
                  <a:lnTo>
                    <a:pt x="775" y="2"/>
                  </a:lnTo>
                  <a:lnTo>
                    <a:pt x="799" y="3"/>
                  </a:lnTo>
                  <a:lnTo>
                    <a:pt x="822" y="5"/>
                  </a:lnTo>
                  <a:lnTo>
                    <a:pt x="844" y="7"/>
                  </a:lnTo>
                  <a:lnTo>
                    <a:pt x="867" y="9"/>
                  </a:lnTo>
                  <a:lnTo>
                    <a:pt x="888" y="13"/>
                  </a:lnTo>
                  <a:lnTo>
                    <a:pt x="909" y="16"/>
                  </a:lnTo>
                  <a:lnTo>
                    <a:pt x="930" y="19"/>
                  </a:lnTo>
                  <a:lnTo>
                    <a:pt x="951" y="24"/>
                  </a:lnTo>
                  <a:lnTo>
                    <a:pt x="973" y="29"/>
                  </a:lnTo>
                  <a:lnTo>
                    <a:pt x="993" y="34"/>
                  </a:lnTo>
                  <a:lnTo>
                    <a:pt x="1014" y="40"/>
                  </a:lnTo>
                  <a:lnTo>
                    <a:pt x="1034" y="46"/>
                  </a:lnTo>
                  <a:lnTo>
                    <a:pt x="1054" y="53"/>
                  </a:lnTo>
                  <a:lnTo>
                    <a:pt x="1054" y="570"/>
                  </a:lnTo>
                  <a:lnTo>
                    <a:pt x="1037" y="562"/>
                  </a:lnTo>
                  <a:lnTo>
                    <a:pt x="1020" y="554"/>
                  </a:lnTo>
                  <a:lnTo>
                    <a:pt x="1004" y="548"/>
                  </a:lnTo>
                  <a:lnTo>
                    <a:pt x="988" y="540"/>
                  </a:lnTo>
                  <a:lnTo>
                    <a:pt x="973" y="534"/>
                  </a:lnTo>
                  <a:lnTo>
                    <a:pt x="957" y="529"/>
                  </a:lnTo>
                  <a:lnTo>
                    <a:pt x="942" y="523"/>
                  </a:lnTo>
                  <a:lnTo>
                    <a:pt x="927" y="519"/>
                  </a:lnTo>
                  <a:lnTo>
                    <a:pt x="912" y="515"/>
                  </a:lnTo>
                  <a:lnTo>
                    <a:pt x="899" y="512"/>
                  </a:lnTo>
                  <a:lnTo>
                    <a:pt x="886" y="509"/>
                  </a:lnTo>
                  <a:lnTo>
                    <a:pt x="872" y="506"/>
                  </a:lnTo>
                  <a:lnTo>
                    <a:pt x="859" y="504"/>
                  </a:lnTo>
                  <a:lnTo>
                    <a:pt x="847" y="503"/>
                  </a:lnTo>
                  <a:lnTo>
                    <a:pt x="834" y="502"/>
                  </a:lnTo>
                  <a:lnTo>
                    <a:pt x="823" y="502"/>
                  </a:lnTo>
                  <a:lnTo>
                    <a:pt x="799" y="502"/>
                  </a:lnTo>
                  <a:lnTo>
                    <a:pt x="775" y="504"/>
                  </a:lnTo>
                  <a:lnTo>
                    <a:pt x="753" y="507"/>
                  </a:lnTo>
                  <a:lnTo>
                    <a:pt x="733" y="512"/>
                  </a:lnTo>
                  <a:lnTo>
                    <a:pt x="714" y="519"/>
                  </a:lnTo>
                  <a:lnTo>
                    <a:pt x="696" y="525"/>
                  </a:lnTo>
                  <a:lnTo>
                    <a:pt x="681" y="534"/>
                  </a:lnTo>
                  <a:lnTo>
                    <a:pt x="666" y="544"/>
                  </a:lnTo>
                  <a:lnTo>
                    <a:pt x="653" y="555"/>
                  </a:lnTo>
                  <a:lnTo>
                    <a:pt x="642" y="568"/>
                  </a:lnTo>
                  <a:lnTo>
                    <a:pt x="633" y="581"/>
                  </a:lnTo>
                  <a:lnTo>
                    <a:pt x="625" y="596"/>
                  </a:lnTo>
                  <a:lnTo>
                    <a:pt x="619" y="611"/>
                  </a:lnTo>
                  <a:lnTo>
                    <a:pt x="615" y="628"/>
                  </a:lnTo>
                  <a:lnTo>
                    <a:pt x="611" y="647"/>
                  </a:lnTo>
                  <a:lnTo>
                    <a:pt x="611" y="666"/>
                  </a:lnTo>
                  <a:lnTo>
                    <a:pt x="611" y="677"/>
                  </a:lnTo>
                  <a:lnTo>
                    <a:pt x="614" y="688"/>
                  </a:lnTo>
                  <a:lnTo>
                    <a:pt x="616" y="700"/>
                  </a:lnTo>
                  <a:lnTo>
                    <a:pt x="620" y="712"/>
                  </a:lnTo>
                  <a:lnTo>
                    <a:pt x="626" y="724"/>
                  </a:lnTo>
                  <a:lnTo>
                    <a:pt x="633" y="736"/>
                  </a:lnTo>
                  <a:lnTo>
                    <a:pt x="639" y="749"/>
                  </a:lnTo>
                  <a:lnTo>
                    <a:pt x="648" y="761"/>
                  </a:lnTo>
                  <a:lnTo>
                    <a:pt x="658" y="774"/>
                  </a:lnTo>
                  <a:lnTo>
                    <a:pt x="669" y="788"/>
                  </a:lnTo>
                  <a:lnTo>
                    <a:pt x="682" y="801"/>
                  </a:lnTo>
                  <a:lnTo>
                    <a:pt x="695" y="815"/>
                  </a:lnTo>
                  <a:lnTo>
                    <a:pt x="710" y="829"/>
                  </a:lnTo>
                  <a:lnTo>
                    <a:pt x="725" y="842"/>
                  </a:lnTo>
                  <a:lnTo>
                    <a:pt x="743" y="857"/>
                  </a:lnTo>
                  <a:lnTo>
                    <a:pt x="761" y="872"/>
                  </a:lnTo>
                  <a:lnTo>
                    <a:pt x="775" y="884"/>
                  </a:lnTo>
                  <a:lnTo>
                    <a:pt x="789" y="895"/>
                  </a:lnTo>
                  <a:lnTo>
                    <a:pt x="802" y="906"/>
                  </a:lnTo>
                  <a:lnTo>
                    <a:pt x="813" y="916"/>
                  </a:lnTo>
                  <a:lnTo>
                    <a:pt x="824" y="925"/>
                  </a:lnTo>
                  <a:lnTo>
                    <a:pt x="835" y="934"/>
                  </a:lnTo>
                  <a:lnTo>
                    <a:pt x="844" y="942"/>
                  </a:lnTo>
                  <a:lnTo>
                    <a:pt x="853" y="950"/>
                  </a:lnTo>
                  <a:lnTo>
                    <a:pt x="882" y="976"/>
                  </a:lnTo>
                  <a:lnTo>
                    <a:pt x="910" y="1004"/>
                  </a:lnTo>
                  <a:lnTo>
                    <a:pt x="936" y="1032"/>
                  </a:lnTo>
                  <a:lnTo>
                    <a:pt x="959" y="1062"/>
                  </a:lnTo>
                  <a:lnTo>
                    <a:pt x="981" y="1094"/>
                  </a:lnTo>
                  <a:lnTo>
                    <a:pt x="1003" y="1125"/>
                  </a:lnTo>
                  <a:lnTo>
                    <a:pt x="1020" y="1159"/>
                  </a:lnTo>
                  <a:lnTo>
                    <a:pt x="1037" y="1192"/>
                  </a:lnTo>
                  <a:lnTo>
                    <a:pt x="1053" y="1227"/>
                  </a:lnTo>
                  <a:lnTo>
                    <a:pt x="1065" y="1261"/>
                  </a:lnTo>
                  <a:lnTo>
                    <a:pt x="1076" y="1297"/>
                  </a:lnTo>
                  <a:lnTo>
                    <a:pt x="1085" y="1333"/>
                  </a:lnTo>
                  <a:lnTo>
                    <a:pt x="1092" y="1370"/>
                  </a:lnTo>
                  <a:lnTo>
                    <a:pt x="1096" y="1408"/>
                  </a:lnTo>
                  <a:lnTo>
                    <a:pt x="1100" y="1446"/>
                  </a:lnTo>
                  <a:lnTo>
                    <a:pt x="1101" y="1483"/>
                  </a:lnTo>
                  <a:lnTo>
                    <a:pt x="1100" y="1523"/>
                  </a:lnTo>
                  <a:lnTo>
                    <a:pt x="1097" y="1559"/>
                  </a:lnTo>
                  <a:lnTo>
                    <a:pt x="1093" y="1596"/>
                  </a:lnTo>
                  <a:lnTo>
                    <a:pt x="1087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1" y="1731"/>
                  </a:lnTo>
                  <a:lnTo>
                    <a:pt x="1049" y="1763"/>
                  </a:lnTo>
                  <a:lnTo>
                    <a:pt x="1035" y="1793"/>
                  </a:lnTo>
                  <a:lnTo>
                    <a:pt x="1019" y="1822"/>
                  </a:lnTo>
                  <a:lnTo>
                    <a:pt x="1003" y="1850"/>
                  </a:lnTo>
                  <a:lnTo>
                    <a:pt x="985" y="1877"/>
                  </a:lnTo>
                  <a:lnTo>
                    <a:pt x="964" y="1903"/>
                  </a:lnTo>
                  <a:lnTo>
                    <a:pt x="942" y="1928"/>
                  </a:lnTo>
                  <a:lnTo>
                    <a:pt x="919" y="1951"/>
                  </a:lnTo>
                  <a:lnTo>
                    <a:pt x="893" y="1974"/>
                  </a:lnTo>
                  <a:lnTo>
                    <a:pt x="868" y="1996"/>
                  </a:lnTo>
                  <a:lnTo>
                    <a:pt x="840" y="2016"/>
                  </a:lnTo>
                  <a:lnTo>
                    <a:pt x="810" y="2035"/>
                  </a:lnTo>
                  <a:lnTo>
                    <a:pt x="780" y="2052"/>
                  </a:lnTo>
                  <a:lnTo>
                    <a:pt x="749" y="2069"/>
                  </a:lnTo>
                  <a:lnTo>
                    <a:pt x="716" y="2083"/>
                  </a:lnTo>
                  <a:lnTo>
                    <a:pt x="682" y="2097"/>
                  </a:lnTo>
                  <a:lnTo>
                    <a:pt x="646" y="2108"/>
                  </a:lnTo>
                  <a:lnTo>
                    <a:pt x="610" y="2119"/>
                  </a:lnTo>
                  <a:lnTo>
                    <a:pt x="572" y="2128"/>
                  </a:lnTo>
                  <a:lnTo>
                    <a:pt x="533" y="2135"/>
                  </a:lnTo>
                  <a:lnTo>
                    <a:pt x="493" y="2141"/>
                  </a:lnTo>
                  <a:lnTo>
                    <a:pt x="451" y="2146"/>
                  </a:lnTo>
                  <a:lnTo>
                    <a:pt x="409" y="2150"/>
                  </a:lnTo>
                  <a:lnTo>
                    <a:pt x="364" y="2151"/>
                  </a:lnTo>
                  <a:lnTo>
                    <a:pt x="319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9"/>
                  </a:lnTo>
                  <a:lnTo>
                    <a:pt x="209" y="2148"/>
                  </a:lnTo>
                  <a:lnTo>
                    <a:pt x="191" y="2146"/>
                  </a:lnTo>
                  <a:lnTo>
                    <a:pt x="175" y="2145"/>
                  </a:lnTo>
                  <a:lnTo>
                    <a:pt x="157" y="2143"/>
                  </a:lnTo>
                  <a:lnTo>
                    <a:pt x="140" y="2141"/>
                  </a:lnTo>
                  <a:lnTo>
                    <a:pt x="122" y="2139"/>
                  </a:lnTo>
                  <a:lnTo>
                    <a:pt x="106" y="2137"/>
                  </a:lnTo>
                  <a:lnTo>
                    <a:pt x="89" y="2135"/>
                  </a:lnTo>
                  <a:lnTo>
                    <a:pt x="72" y="2131"/>
                  </a:lnTo>
                  <a:lnTo>
                    <a:pt x="55" y="2129"/>
                  </a:lnTo>
                  <a:lnTo>
                    <a:pt x="39" y="212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8440" y="1068480"/>
              <a:ext cx="261720" cy="272880"/>
            </a:xfrm>
            <a:custGeom>
              <a:avLst/>
              <a:gdLst/>
              <a:ahLst/>
              <a:rect l="l" t="t" r="r" b="b"/>
              <a:pathLst>
                <a:path w="991" h="1034">
                  <a:moveTo>
                    <a:pt x="496" y="0"/>
                  </a:moveTo>
                  <a:lnTo>
                    <a:pt x="470" y="1"/>
                  </a:lnTo>
                  <a:lnTo>
                    <a:pt x="445" y="3"/>
                  </a:lnTo>
                  <a:lnTo>
                    <a:pt x="419" y="5"/>
                  </a:lnTo>
                  <a:lnTo>
                    <a:pt x="394" y="10"/>
                  </a:lnTo>
                  <a:lnTo>
                    <a:pt x="371" y="15"/>
                  </a:lnTo>
                  <a:lnTo>
                    <a:pt x="348" y="21"/>
                  </a:lnTo>
                  <a:lnTo>
                    <a:pt x="324" y="29"/>
                  </a:lnTo>
                  <a:lnTo>
                    <a:pt x="302" y="38"/>
                  </a:lnTo>
                  <a:lnTo>
                    <a:pt x="281" y="48"/>
                  </a:lnTo>
                  <a:lnTo>
                    <a:pt x="260" y="59"/>
                  </a:lnTo>
                  <a:lnTo>
                    <a:pt x="238" y="71"/>
                  </a:lnTo>
                  <a:lnTo>
                    <a:pt x="218" y="84"/>
                  </a:lnTo>
                  <a:lnTo>
                    <a:pt x="198" y="99"/>
                  </a:lnTo>
                  <a:lnTo>
                    <a:pt x="179" y="115"/>
                  </a:lnTo>
                  <a:lnTo>
                    <a:pt x="160" y="131"/>
                  </a:lnTo>
                  <a:lnTo>
                    <a:pt x="143" y="149"/>
                  </a:lnTo>
                  <a:lnTo>
                    <a:pt x="126" y="168"/>
                  </a:lnTo>
                  <a:lnTo>
                    <a:pt x="109" y="187"/>
                  </a:lnTo>
                  <a:lnTo>
                    <a:pt x="95" y="207"/>
                  </a:lnTo>
                  <a:lnTo>
                    <a:pt x="80" y="229"/>
                  </a:lnTo>
                  <a:lnTo>
                    <a:pt x="68" y="249"/>
                  </a:lnTo>
                  <a:lnTo>
                    <a:pt x="56" y="271"/>
                  </a:lnTo>
                  <a:lnTo>
                    <a:pt x="46" y="293"/>
                  </a:lnTo>
                  <a:lnTo>
                    <a:pt x="36" y="316"/>
                  </a:lnTo>
                  <a:lnTo>
                    <a:pt x="28" y="339"/>
                  </a:lnTo>
                  <a:lnTo>
                    <a:pt x="20" y="363"/>
                  </a:lnTo>
                  <a:lnTo>
                    <a:pt x="14" y="387"/>
                  </a:lnTo>
                  <a:lnTo>
                    <a:pt x="9" y="413"/>
                  </a:lnTo>
                  <a:lnTo>
                    <a:pt x="5" y="437"/>
                  </a:lnTo>
                  <a:lnTo>
                    <a:pt x="2" y="464"/>
                  </a:lnTo>
                  <a:lnTo>
                    <a:pt x="1" y="491"/>
                  </a:lnTo>
                  <a:lnTo>
                    <a:pt x="0" y="518"/>
                  </a:lnTo>
                  <a:lnTo>
                    <a:pt x="1" y="545"/>
                  </a:lnTo>
                  <a:lnTo>
                    <a:pt x="2" y="571"/>
                  </a:lnTo>
                  <a:lnTo>
                    <a:pt x="5" y="597"/>
                  </a:lnTo>
                  <a:lnTo>
                    <a:pt x="9" y="623"/>
                  </a:lnTo>
                  <a:lnTo>
                    <a:pt x="14" y="648"/>
                  </a:lnTo>
                  <a:lnTo>
                    <a:pt x="20" y="672"/>
                  </a:lnTo>
                  <a:lnTo>
                    <a:pt x="28" y="696"/>
                  </a:lnTo>
                  <a:lnTo>
                    <a:pt x="36" y="720"/>
                  </a:lnTo>
                  <a:lnTo>
                    <a:pt x="46" y="742"/>
                  </a:lnTo>
                  <a:lnTo>
                    <a:pt x="56" y="765"/>
                  </a:lnTo>
                  <a:lnTo>
                    <a:pt x="67" y="786"/>
                  </a:lnTo>
                  <a:lnTo>
                    <a:pt x="80" y="807"/>
                  </a:lnTo>
                  <a:lnTo>
                    <a:pt x="94" y="827"/>
                  </a:lnTo>
                  <a:lnTo>
                    <a:pt x="109" y="847"/>
                  </a:lnTo>
                  <a:lnTo>
                    <a:pt x="125" y="866"/>
                  </a:lnTo>
                  <a:lnTo>
                    <a:pt x="143" y="885"/>
                  </a:lnTo>
                  <a:lnTo>
                    <a:pt x="160" y="903"/>
                  </a:lnTo>
                  <a:lnTo>
                    <a:pt x="178" y="920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8" y="976"/>
                  </a:lnTo>
                  <a:lnTo>
                    <a:pt x="280" y="987"/>
                  </a:lnTo>
                  <a:lnTo>
                    <a:pt x="301" y="997"/>
                  </a:lnTo>
                  <a:lnTo>
                    <a:pt x="323" y="1006"/>
                  </a:lnTo>
                  <a:lnTo>
                    <a:pt x="346" y="1012"/>
                  </a:lnTo>
                  <a:lnTo>
                    <a:pt x="370" y="1019"/>
                  </a:lnTo>
                  <a:lnTo>
                    <a:pt x="394" y="1025"/>
                  </a:lnTo>
                  <a:lnTo>
                    <a:pt x="419" y="1029"/>
                  </a:lnTo>
                  <a:lnTo>
                    <a:pt x="443" y="1031"/>
                  </a:lnTo>
                  <a:lnTo>
                    <a:pt x="469" y="1034"/>
                  </a:lnTo>
                  <a:lnTo>
                    <a:pt x="496" y="1034"/>
                  </a:lnTo>
                  <a:lnTo>
                    <a:pt x="521" y="1034"/>
                  </a:lnTo>
                  <a:lnTo>
                    <a:pt x="547" y="1031"/>
                  </a:lnTo>
                  <a:lnTo>
                    <a:pt x="573" y="1029"/>
                  </a:lnTo>
                  <a:lnTo>
                    <a:pt x="597" y="1025"/>
                  </a:lnTo>
                  <a:lnTo>
                    <a:pt x="621" y="1019"/>
                  </a:lnTo>
                  <a:lnTo>
                    <a:pt x="644" y="1012"/>
                  </a:lnTo>
                  <a:lnTo>
                    <a:pt x="666" y="1006"/>
                  </a:lnTo>
                  <a:lnTo>
                    <a:pt x="690" y="997"/>
                  </a:lnTo>
                  <a:lnTo>
                    <a:pt x="711" y="987"/>
                  </a:lnTo>
                  <a:lnTo>
                    <a:pt x="732" y="976"/>
                  </a:lnTo>
                  <a:lnTo>
                    <a:pt x="753" y="963"/>
                  </a:lnTo>
                  <a:lnTo>
                    <a:pt x="773" y="950"/>
                  </a:lnTo>
                  <a:lnTo>
                    <a:pt x="792" y="935"/>
                  </a:lnTo>
                  <a:lnTo>
                    <a:pt x="812" y="920"/>
                  </a:lnTo>
                  <a:lnTo>
                    <a:pt x="830" y="903"/>
                  </a:lnTo>
                  <a:lnTo>
                    <a:pt x="849" y="885"/>
                  </a:lnTo>
                  <a:lnTo>
                    <a:pt x="866" y="866"/>
                  </a:lnTo>
                  <a:lnTo>
                    <a:pt x="882" y="847"/>
                  </a:lnTo>
                  <a:lnTo>
                    <a:pt x="897" y="827"/>
                  </a:lnTo>
                  <a:lnTo>
                    <a:pt x="911" y="806"/>
                  </a:lnTo>
                  <a:lnTo>
                    <a:pt x="924" y="785"/>
                  </a:lnTo>
                  <a:lnTo>
                    <a:pt x="935" y="763"/>
                  </a:lnTo>
                  <a:lnTo>
                    <a:pt x="946" y="741"/>
                  </a:lnTo>
                  <a:lnTo>
                    <a:pt x="955" y="719"/>
                  </a:lnTo>
                  <a:lnTo>
                    <a:pt x="964" y="695"/>
                  </a:lnTo>
                  <a:lnTo>
                    <a:pt x="971" y="672"/>
                  </a:lnTo>
                  <a:lnTo>
                    <a:pt x="977" y="647"/>
                  </a:lnTo>
                  <a:lnTo>
                    <a:pt x="982" y="623"/>
                  </a:lnTo>
                  <a:lnTo>
                    <a:pt x="986" y="597"/>
                  </a:lnTo>
                  <a:lnTo>
                    <a:pt x="988" y="571"/>
                  </a:lnTo>
                  <a:lnTo>
                    <a:pt x="991" y="545"/>
                  </a:lnTo>
                  <a:lnTo>
                    <a:pt x="991" y="518"/>
                  </a:lnTo>
                  <a:lnTo>
                    <a:pt x="991" y="491"/>
                  </a:lnTo>
                  <a:lnTo>
                    <a:pt x="988" y="464"/>
                  </a:lnTo>
                  <a:lnTo>
                    <a:pt x="986" y="438"/>
                  </a:lnTo>
                  <a:lnTo>
                    <a:pt x="982" y="413"/>
                  </a:lnTo>
                  <a:lnTo>
                    <a:pt x="977" y="388"/>
                  </a:lnTo>
                  <a:lnTo>
                    <a:pt x="971" y="364"/>
                  </a:lnTo>
                  <a:lnTo>
                    <a:pt x="964" y="340"/>
                  </a:lnTo>
                  <a:lnTo>
                    <a:pt x="955" y="317"/>
                  </a:lnTo>
                  <a:lnTo>
                    <a:pt x="946" y="294"/>
                  </a:lnTo>
                  <a:lnTo>
                    <a:pt x="935" y="272"/>
                  </a:lnTo>
                  <a:lnTo>
                    <a:pt x="924" y="251"/>
                  </a:lnTo>
                  <a:lnTo>
                    <a:pt x="911" y="230"/>
                  </a:lnTo>
                  <a:lnTo>
                    <a:pt x="897" y="208"/>
                  </a:lnTo>
                  <a:lnTo>
                    <a:pt x="882" y="188"/>
                  </a:lnTo>
                  <a:lnTo>
                    <a:pt x="866" y="169"/>
                  </a:lnTo>
                  <a:lnTo>
                    <a:pt x="849" y="150"/>
                  </a:lnTo>
                  <a:lnTo>
                    <a:pt x="830" y="131"/>
                  </a:lnTo>
                  <a:lnTo>
                    <a:pt x="812" y="115"/>
                  </a:lnTo>
                  <a:lnTo>
                    <a:pt x="792" y="99"/>
                  </a:lnTo>
                  <a:lnTo>
                    <a:pt x="773" y="84"/>
                  </a:lnTo>
                  <a:lnTo>
                    <a:pt x="753" y="71"/>
                  </a:lnTo>
                  <a:lnTo>
                    <a:pt x="732" y="59"/>
                  </a:lnTo>
                  <a:lnTo>
                    <a:pt x="711" y="48"/>
                  </a:lnTo>
                  <a:lnTo>
                    <a:pt x="690" y="38"/>
                  </a:lnTo>
                  <a:lnTo>
                    <a:pt x="666" y="29"/>
                  </a:lnTo>
                  <a:lnTo>
                    <a:pt x="644" y="21"/>
                  </a:lnTo>
                  <a:lnTo>
                    <a:pt x="621" y="15"/>
                  </a:lnTo>
                  <a:lnTo>
                    <a:pt x="597" y="10"/>
                  </a:lnTo>
                  <a:lnTo>
                    <a:pt x="573" y="5"/>
                  </a:lnTo>
                  <a:lnTo>
                    <a:pt x="547" y="3"/>
                  </a:lnTo>
                  <a:lnTo>
                    <a:pt x="521" y="1"/>
                  </a:lnTo>
                  <a:lnTo>
                    <a:pt x="496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0480" y="914400"/>
              <a:ext cx="557280" cy="581040"/>
            </a:xfrm>
            <a:custGeom>
              <a:avLst/>
              <a:gdLst/>
              <a:ahLst/>
              <a:rect l="l" t="t" r="r" b="b"/>
              <a:pathLst>
                <a:path w="2111" h="2198">
                  <a:moveTo>
                    <a:pt x="1053" y="0"/>
                  </a:moveTo>
                  <a:lnTo>
                    <a:pt x="1102" y="1"/>
                  </a:lnTo>
                  <a:lnTo>
                    <a:pt x="1152" y="4"/>
                  </a:lnTo>
                  <a:lnTo>
                    <a:pt x="1199" y="10"/>
                  </a:lnTo>
                  <a:lnTo>
                    <a:pt x="1246" y="17"/>
                  </a:lnTo>
                  <a:lnTo>
                    <a:pt x="1293" y="27"/>
                  </a:lnTo>
                  <a:lnTo>
                    <a:pt x="1340" y="38"/>
                  </a:lnTo>
                  <a:lnTo>
                    <a:pt x="1384" y="51"/>
                  </a:lnTo>
                  <a:lnTo>
                    <a:pt x="1430" y="67"/>
                  </a:lnTo>
                  <a:lnTo>
                    <a:pt x="1474" y="85"/>
                  </a:lnTo>
                  <a:lnTo>
                    <a:pt x="1516" y="104"/>
                  </a:lnTo>
                  <a:lnTo>
                    <a:pt x="1557" y="125"/>
                  </a:lnTo>
                  <a:lnTo>
                    <a:pt x="1596" y="149"/>
                  </a:lnTo>
                  <a:lnTo>
                    <a:pt x="1634" y="173"/>
                  </a:lnTo>
                  <a:lnTo>
                    <a:pt x="1672" y="200"/>
                  </a:lnTo>
                  <a:lnTo>
                    <a:pt x="1706" y="229"/>
                  </a:lnTo>
                  <a:lnTo>
                    <a:pt x="1741" y="259"/>
                  </a:lnTo>
                  <a:lnTo>
                    <a:pt x="1763" y="280"/>
                  </a:lnTo>
                  <a:lnTo>
                    <a:pt x="1784" y="302"/>
                  </a:lnTo>
                  <a:lnTo>
                    <a:pt x="1806" y="323"/>
                  </a:lnTo>
                  <a:lnTo>
                    <a:pt x="1826" y="345"/>
                  </a:lnTo>
                  <a:lnTo>
                    <a:pt x="1845" y="367"/>
                  </a:lnTo>
                  <a:lnTo>
                    <a:pt x="1864" y="390"/>
                  </a:lnTo>
                  <a:lnTo>
                    <a:pt x="1881" y="413"/>
                  </a:lnTo>
                  <a:lnTo>
                    <a:pt x="1899" y="437"/>
                  </a:lnTo>
                  <a:lnTo>
                    <a:pt x="1916" y="461"/>
                  </a:lnTo>
                  <a:lnTo>
                    <a:pt x="1933" y="485"/>
                  </a:lnTo>
                  <a:lnTo>
                    <a:pt x="1948" y="510"/>
                  </a:lnTo>
                  <a:lnTo>
                    <a:pt x="1963" y="535"/>
                  </a:lnTo>
                  <a:lnTo>
                    <a:pt x="1977" y="561"/>
                  </a:lnTo>
                  <a:lnTo>
                    <a:pt x="1991" y="586"/>
                  </a:lnTo>
                  <a:lnTo>
                    <a:pt x="2004" y="613"/>
                  </a:lnTo>
                  <a:lnTo>
                    <a:pt x="2016" y="640"/>
                  </a:lnTo>
                  <a:lnTo>
                    <a:pt x="2027" y="668"/>
                  </a:lnTo>
                  <a:lnTo>
                    <a:pt x="2039" y="695"/>
                  </a:lnTo>
                  <a:lnTo>
                    <a:pt x="2049" y="723"/>
                  </a:lnTo>
                  <a:lnTo>
                    <a:pt x="2057" y="750"/>
                  </a:lnTo>
                  <a:lnTo>
                    <a:pt x="2066" y="778"/>
                  </a:lnTo>
                  <a:lnTo>
                    <a:pt x="2074" y="806"/>
                  </a:lnTo>
                  <a:lnTo>
                    <a:pt x="2081" y="834"/>
                  </a:lnTo>
                  <a:lnTo>
                    <a:pt x="2088" y="863"/>
                  </a:lnTo>
                  <a:lnTo>
                    <a:pt x="2093" y="892"/>
                  </a:lnTo>
                  <a:lnTo>
                    <a:pt x="2098" y="920"/>
                  </a:lnTo>
                  <a:lnTo>
                    <a:pt x="2102" y="949"/>
                  </a:lnTo>
                  <a:lnTo>
                    <a:pt x="2105" y="979"/>
                  </a:lnTo>
                  <a:lnTo>
                    <a:pt x="2108" y="1008"/>
                  </a:lnTo>
                  <a:lnTo>
                    <a:pt x="2110" y="1039"/>
                  </a:lnTo>
                  <a:lnTo>
                    <a:pt x="2111" y="1068"/>
                  </a:lnTo>
                  <a:lnTo>
                    <a:pt x="2111" y="1098"/>
                  </a:lnTo>
                  <a:lnTo>
                    <a:pt x="2111" y="1128"/>
                  </a:lnTo>
                  <a:lnTo>
                    <a:pt x="2110" y="1158"/>
                  </a:lnTo>
                  <a:lnTo>
                    <a:pt x="2108" y="1187"/>
                  </a:lnTo>
                  <a:lnTo>
                    <a:pt x="2105" y="1217"/>
                  </a:lnTo>
                  <a:lnTo>
                    <a:pt x="2101" y="1246"/>
                  </a:lnTo>
                  <a:lnTo>
                    <a:pt x="2098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1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7" y="1502"/>
                  </a:lnTo>
                  <a:lnTo>
                    <a:pt x="2026" y="1530"/>
                  </a:lnTo>
                  <a:lnTo>
                    <a:pt x="2015" y="1557"/>
                  </a:lnTo>
                  <a:lnTo>
                    <a:pt x="2003" y="1584"/>
                  </a:lnTo>
                  <a:lnTo>
                    <a:pt x="1990" y="1610"/>
                  </a:lnTo>
                  <a:lnTo>
                    <a:pt x="1976" y="1637"/>
                  </a:lnTo>
                  <a:lnTo>
                    <a:pt x="1962" y="1663"/>
                  </a:lnTo>
                  <a:lnTo>
                    <a:pt x="1947" y="1689"/>
                  </a:lnTo>
                  <a:lnTo>
                    <a:pt x="1932" y="1713"/>
                  </a:lnTo>
                  <a:lnTo>
                    <a:pt x="1915" y="1738"/>
                  </a:lnTo>
                  <a:lnTo>
                    <a:pt x="1898" y="1761"/>
                  </a:lnTo>
                  <a:lnTo>
                    <a:pt x="1880" y="1786"/>
                  </a:lnTo>
                  <a:lnTo>
                    <a:pt x="1862" y="1808"/>
                  </a:lnTo>
                  <a:lnTo>
                    <a:pt x="1844" y="1831"/>
                  </a:lnTo>
                  <a:lnTo>
                    <a:pt x="1825" y="1854"/>
                  </a:lnTo>
                  <a:lnTo>
                    <a:pt x="1805" y="1875"/>
                  </a:lnTo>
                  <a:lnTo>
                    <a:pt x="1784" y="1897"/>
                  </a:lnTo>
                  <a:lnTo>
                    <a:pt x="1763" y="1919"/>
                  </a:lnTo>
                  <a:lnTo>
                    <a:pt x="1741" y="1939"/>
                  </a:lnTo>
                  <a:lnTo>
                    <a:pt x="1706" y="1970"/>
                  </a:lnTo>
                  <a:lnTo>
                    <a:pt x="1670" y="1998"/>
                  </a:lnTo>
                  <a:lnTo>
                    <a:pt x="1652" y="2012"/>
                  </a:lnTo>
                  <a:lnTo>
                    <a:pt x="1633" y="2025"/>
                  </a:lnTo>
                  <a:lnTo>
                    <a:pt x="1614" y="2038"/>
                  </a:lnTo>
                  <a:lnTo>
                    <a:pt x="1594" y="2050"/>
                  </a:lnTo>
                  <a:lnTo>
                    <a:pt x="1574" y="2062"/>
                  </a:lnTo>
                  <a:lnTo>
                    <a:pt x="1554" y="2073"/>
                  </a:lnTo>
                  <a:lnTo>
                    <a:pt x="1534" y="2084"/>
                  </a:lnTo>
                  <a:lnTo>
                    <a:pt x="1514" y="2094"/>
                  </a:lnTo>
                  <a:lnTo>
                    <a:pt x="1493" y="2104"/>
                  </a:lnTo>
                  <a:lnTo>
                    <a:pt x="1471" y="2114"/>
                  </a:lnTo>
                  <a:lnTo>
                    <a:pt x="1449" y="2123"/>
                  </a:lnTo>
                  <a:lnTo>
                    <a:pt x="1427" y="2131"/>
                  </a:lnTo>
                  <a:lnTo>
                    <a:pt x="1404" y="2140"/>
                  </a:lnTo>
                  <a:lnTo>
                    <a:pt x="1382" y="2148"/>
                  </a:lnTo>
                  <a:lnTo>
                    <a:pt x="1360" y="2154"/>
                  </a:lnTo>
                  <a:lnTo>
                    <a:pt x="1338" y="2161"/>
                  </a:lnTo>
                  <a:lnTo>
                    <a:pt x="1292" y="2172"/>
                  </a:lnTo>
                  <a:lnTo>
                    <a:pt x="1245" y="2181"/>
                  </a:lnTo>
                  <a:lnTo>
                    <a:pt x="1222" y="2185"/>
                  </a:lnTo>
                  <a:lnTo>
                    <a:pt x="1198" y="2189"/>
                  </a:lnTo>
                  <a:lnTo>
                    <a:pt x="1175" y="2192"/>
                  </a:lnTo>
                  <a:lnTo>
                    <a:pt x="1150" y="2194"/>
                  </a:lnTo>
                  <a:lnTo>
                    <a:pt x="1102" y="2198"/>
                  </a:lnTo>
                  <a:lnTo>
                    <a:pt x="1053" y="2198"/>
                  </a:lnTo>
                  <a:lnTo>
                    <a:pt x="1006" y="2198"/>
                  </a:lnTo>
                  <a:lnTo>
                    <a:pt x="956" y="2194"/>
                  </a:lnTo>
                  <a:lnTo>
                    <a:pt x="933" y="2192"/>
                  </a:lnTo>
                  <a:lnTo>
                    <a:pt x="910" y="2189"/>
                  </a:lnTo>
                  <a:lnTo>
                    <a:pt x="886" y="2185"/>
                  </a:lnTo>
                  <a:lnTo>
                    <a:pt x="863" y="2181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8"/>
                  </a:lnTo>
                  <a:lnTo>
                    <a:pt x="704" y="2140"/>
                  </a:lnTo>
                  <a:lnTo>
                    <a:pt x="681" y="2131"/>
                  </a:lnTo>
                  <a:lnTo>
                    <a:pt x="660" y="2123"/>
                  </a:lnTo>
                  <a:lnTo>
                    <a:pt x="639" y="2114"/>
                  </a:lnTo>
                  <a:lnTo>
                    <a:pt x="617" y="2104"/>
                  </a:lnTo>
                  <a:lnTo>
                    <a:pt x="597" y="2094"/>
                  </a:lnTo>
                  <a:lnTo>
                    <a:pt x="575" y="2084"/>
                  </a:lnTo>
                  <a:lnTo>
                    <a:pt x="555" y="2073"/>
                  </a:lnTo>
                  <a:lnTo>
                    <a:pt x="535" y="2062"/>
                  </a:lnTo>
                  <a:lnTo>
                    <a:pt x="515" y="2050"/>
                  </a:lnTo>
                  <a:lnTo>
                    <a:pt x="496" y="2038"/>
                  </a:lnTo>
                  <a:lnTo>
                    <a:pt x="476" y="2025"/>
                  </a:lnTo>
                  <a:lnTo>
                    <a:pt x="457" y="2012"/>
                  </a:lnTo>
                  <a:lnTo>
                    <a:pt x="439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8" y="1939"/>
                  </a:lnTo>
                  <a:lnTo>
                    <a:pt x="346" y="1919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5" y="1854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6"/>
                  </a:lnTo>
                  <a:lnTo>
                    <a:pt x="212" y="1762"/>
                  </a:lnTo>
                  <a:lnTo>
                    <a:pt x="195" y="1739"/>
                  </a:lnTo>
                  <a:lnTo>
                    <a:pt x="179" y="1714"/>
                  </a:lnTo>
                  <a:lnTo>
                    <a:pt x="163" y="1690"/>
                  </a:lnTo>
                  <a:lnTo>
                    <a:pt x="149" y="1664"/>
                  </a:lnTo>
                  <a:lnTo>
                    <a:pt x="134" y="1638"/>
                  </a:lnTo>
                  <a:lnTo>
                    <a:pt x="121" y="1613"/>
                  </a:lnTo>
                  <a:lnTo>
                    <a:pt x="108" y="1586"/>
                  </a:lnTo>
                  <a:lnTo>
                    <a:pt x="96" y="1558"/>
                  </a:lnTo>
                  <a:lnTo>
                    <a:pt x="84" y="1531"/>
                  </a:lnTo>
                  <a:lnTo>
                    <a:pt x="74" y="1503"/>
                  </a:lnTo>
                  <a:lnTo>
                    <a:pt x="64" y="1475"/>
                  </a:lnTo>
                  <a:lnTo>
                    <a:pt x="54" y="1447"/>
                  </a:lnTo>
                  <a:lnTo>
                    <a:pt x="46" y="1419"/>
                  </a:lnTo>
                  <a:lnTo>
                    <a:pt x="38" y="1391"/>
                  </a:lnTo>
                  <a:lnTo>
                    <a:pt x="30" y="1364"/>
                  </a:lnTo>
                  <a:lnTo>
                    <a:pt x="25" y="1335"/>
                  </a:lnTo>
                  <a:lnTo>
                    <a:pt x="19" y="1305"/>
                  </a:lnTo>
                  <a:lnTo>
                    <a:pt x="14" y="1276"/>
                  </a:lnTo>
                  <a:lnTo>
                    <a:pt x="10" y="1247"/>
                  </a:lnTo>
                  <a:lnTo>
                    <a:pt x="7" y="1217"/>
                  </a:lnTo>
                  <a:lnTo>
                    <a:pt x="4" y="1188"/>
                  </a:lnTo>
                  <a:lnTo>
                    <a:pt x="3" y="1158"/>
                  </a:lnTo>
                  <a:lnTo>
                    <a:pt x="1" y="1128"/>
                  </a:lnTo>
                  <a:lnTo>
                    <a:pt x="0" y="1098"/>
                  </a:lnTo>
                  <a:lnTo>
                    <a:pt x="1" y="1068"/>
                  </a:lnTo>
                  <a:lnTo>
                    <a:pt x="3" y="1037"/>
                  </a:lnTo>
                  <a:lnTo>
                    <a:pt x="4" y="1008"/>
                  </a:lnTo>
                  <a:lnTo>
                    <a:pt x="7" y="978"/>
                  </a:lnTo>
                  <a:lnTo>
                    <a:pt x="10" y="949"/>
                  </a:lnTo>
                  <a:lnTo>
                    <a:pt x="14" y="920"/>
                  </a:lnTo>
                  <a:lnTo>
                    <a:pt x="19" y="891"/>
                  </a:lnTo>
                  <a:lnTo>
                    <a:pt x="25" y="862"/>
                  </a:lnTo>
                  <a:lnTo>
                    <a:pt x="30" y="833"/>
                  </a:lnTo>
                  <a:lnTo>
                    <a:pt x="38" y="805"/>
                  </a:lnTo>
                  <a:lnTo>
                    <a:pt x="46" y="776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4"/>
                  </a:lnTo>
                  <a:lnTo>
                    <a:pt x="84" y="666"/>
                  </a:lnTo>
                  <a:lnTo>
                    <a:pt x="95" y="639"/>
                  </a:lnTo>
                  <a:lnTo>
                    <a:pt x="107" y="612"/>
                  </a:lnTo>
                  <a:lnTo>
                    <a:pt x="121" y="585"/>
                  </a:lnTo>
                  <a:lnTo>
                    <a:pt x="134" y="559"/>
                  </a:lnTo>
                  <a:lnTo>
                    <a:pt x="149" y="534"/>
                  </a:lnTo>
                  <a:lnTo>
                    <a:pt x="163" y="508"/>
                  </a:lnTo>
                  <a:lnTo>
                    <a:pt x="179" y="484"/>
                  </a:lnTo>
                  <a:lnTo>
                    <a:pt x="194" y="459"/>
                  </a:lnTo>
                  <a:lnTo>
                    <a:pt x="211" y="436"/>
                  </a:lnTo>
                  <a:lnTo>
                    <a:pt x="229" y="412"/>
                  </a:lnTo>
                  <a:lnTo>
                    <a:pt x="247" y="389"/>
                  </a:lnTo>
                  <a:lnTo>
                    <a:pt x="264" y="366"/>
                  </a:lnTo>
                  <a:lnTo>
                    <a:pt x="285" y="344"/>
                  </a:lnTo>
                  <a:lnTo>
                    <a:pt x="305" y="323"/>
                  </a:lnTo>
                  <a:lnTo>
                    <a:pt x="325" y="302"/>
                  </a:lnTo>
                  <a:lnTo>
                    <a:pt x="346" y="280"/>
                  </a:lnTo>
                  <a:lnTo>
                    <a:pt x="368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9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5" y="125"/>
                  </a:lnTo>
                  <a:lnTo>
                    <a:pt x="597" y="103"/>
                  </a:lnTo>
                  <a:lnTo>
                    <a:pt x="639" y="84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6"/>
                  </a:lnTo>
                  <a:lnTo>
                    <a:pt x="863" y="17"/>
                  </a:lnTo>
                  <a:lnTo>
                    <a:pt x="910" y="9"/>
                  </a:lnTo>
                  <a:lnTo>
                    <a:pt x="956" y="4"/>
                  </a:lnTo>
                  <a:lnTo>
                    <a:pt x="1006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6160" y="928800"/>
              <a:ext cx="325440" cy="552240"/>
            </a:xfrm>
            <a:custGeom>
              <a:avLst/>
              <a:gdLst/>
              <a:ahLst/>
              <a:rect l="l" t="t" r="r" b="b"/>
              <a:pathLst>
                <a:path w="1227" h="2087">
                  <a:moveTo>
                    <a:pt x="0" y="2087"/>
                  </a:moveTo>
                  <a:lnTo>
                    <a:pt x="0" y="0"/>
                  </a:lnTo>
                  <a:lnTo>
                    <a:pt x="1142" y="0"/>
                  </a:lnTo>
                  <a:lnTo>
                    <a:pt x="1227" y="554"/>
                  </a:lnTo>
                  <a:lnTo>
                    <a:pt x="540" y="554"/>
                  </a:lnTo>
                  <a:lnTo>
                    <a:pt x="540" y="766"/>
                  </a:lnTo>
                  <a:lnTo>
                    <a:pt x="971" y="766"/>
                  </a:lnTo>
                  <a:lnTo>
                    <a:pt x="971" y="1319"/>
                  </a:lnTo>
                  <a:lnTo>
                    <a:pt x="540" y="1319"/>
                  </a:lnTo>
                  <a:lnTo>
                    <a:pt x="540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2640" y="167472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27360" y="167472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7800" y="167472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5120" y="167472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1680" y="1839960"/>
              <a:ext cx="114480" cy="185760"/>
            </a:xfrm>
            <a:custGeom>
              <a:avLst/>
              <a:gdLst/>
              <a:ahLst/>
              <a:rect l="l" t="t" r="r" b="b"/>
              <a:pathLst>
                <a:path w="429" h="704">
                  <a:moveTo>
                    <a:pt x="0" y="704"/>
                  </a:moveTo>
                  <a:lnTo>
                    <a:pt x="429" y="704"/>
                  </a:lnTo>
                  <a:lnTo>
                    <a:pt x="214" y="0"/>
                  </a:lnTo>
                  <a:lnTo>
                    <a:pt x="0" y="70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02160" y="167472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2560" y="167472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78480" y="1816200"/>
              <a:ext cx="120600" cy="261720"/>
            </a:xfrm>
            <a:custGeom>
              <a:avLst/>
              <a:gdLst/>
              <a:ahLst/>
              <a:rect l="l" t="t" r="r" b="b"/>
              <a:pathLst>
                <a:path w="460" h="989">
                  <a:moveTo>
                    <a:pt x="0" y="989"/>
                  </a:moveTo>
                  <a:lnTo>
                    <a:pt x="26" y="987"/>
                  </a:lnTo>
                  <a:lnTo>
                    <a:pt x="51" y="982"/>
                  </a:lnTo>
                  <a:lnTo>
                    <a:pt x="76" y="978"/>
                  </a:lnTo>
                  <a:lnTo>
                    <a:pt x="99" y="972"/>
                  </a:lnTo>
                  <a:lnTo>
                    <a:pt x="122" y="966"/>
                  </a:lnTo>
                  <a:lnTo>
                    <a:pt x="145" y="958"/>
                  </a:lnTo>
                  <a:lnTo>
                    <a:pt x="167" y="950"/>
                  </a:lnTo>
                  <a:lnTo>
                    <a:pt x="188" y="940"/>
                  </a:lnTo>
                  <a:lnTo>
                    <a:pt x="208" y="930"/>
                  </a:lnTo>
                  <a:lnTo>
                    <a:pt x="228" y="919"/>
                  </a:lnTo>
                  <a:lnTo>
                    <a:pt x="247" y="907"/>
                  </a:lnTo>
                  <a:lnTo>
                    <a:pt x="266" y="894"/>
                  </a:lnTo>
                  <a:lnTo>
                    <a:pt x="284" y="881"/>
                  </a:lnTo>
                  <a:lnTo>
                    <a:pt x="302" y="866"/>
                  </a:lnTo>
                  <a:lnTo>
                    <a:pt x="319" y="851"/>
                  </a:lnTo>
                  <a:lnTo>
                    <a:pt x="334" y="834"/>
                  </a:lnTo>
                  <a:lnTo>
                    <a:pt x="350" y="817"/>
                  </a:lnTo>
                  <a:lnTo>
                    <a:pt x="363" y="799"/>
                  </a:lnTo>
                  <a:lnTo>
                    <a:pt x="377" y="781"/>
                  </a:lnTo>
                  <a:lnTo>
                    <a:pt x="389" y="763"/>
                  </a:lnTo>
                  <a:lnTo>
                    <a:pt x="400" y="744"/>
                  </a:lnTo>
                  <a:lnTo>
                    <a:pt x="411" y="724"/>
                  </a:lnTo>
                  <a:lnTo>
                    <a:pt x="420" y="704"/>
                  </a:lnTo>
                  <a:lnTo>
                    <a:pt x="428" y="683"/>
                  </a:lnTo>
                  <a:lnTo>
                    <a:pt x="436" y="662"/>
                  </a:lnTo>
                  <a:lnTo>
                    <a:pt x="442" y="641"/>
                  </a:lnTo>
                  <a:lnTo>
                    <a:pt x="448" y="618"/>
                  </a:lnTo>
                  <a:lnTo>
                    <a:pt x="452" y="596"/>
                  </a:lnTo>
                  <a:lnTo>
                    <a:pt x="456" y="572"/>
                  </a:lnTo>
                  <a:lnTo>
                    <a:pt x="458" y="548"/>
                  </a:lnTo>
                  <a:lnTo>
                    <a:pt x="459" y="524"/>
                  </a:lnTo>
                  <a:lnTo>
                    <a:pt x="460" y="499"/>
                  </a:lnTo>
                  <a:lnTo>
                    <a:pt x="459" y="472"/>
                  </a:lnTo>
                  <a:lnTo>
                    <a:pt x="458" y="446"/>
                  </a:lnTo>
                  <a:lnTo>
                    <a:pt x="456" y="421"/>
                  </a:lnTo>
                  <a:lnTo>
                    <a:pt x="451" y="396"/>
                  </a:lnTo>
                  <a:lnTo>
                    <a:pt x="447" y="371"/>
                  </a:lnTo>
                  <a:lnTo>
                    <a:pt x="442" y="348"/>
                  </a:lnTo>
                  <a:lnTo>
                    <a:pt x="436" y="325"/>
                  </a:lnTo>
                  <a:lnTo>
                    <a:pt x="428" y="302"/>
                  </a:lnTo>
                  <a:lnTo>
                    <a:pt x="419" y="280"/>
                  </a:lnTo>
                  <a:lnTo>
                    <a:pt x="410" y="259"/>
                  </a:lnTo>
                  <a:lnTo>
                    <a:pt x="400" y="237"/>
                  </a:lnTo>
                  <a:lnTo>
                    <a:pt x="388" y="217"/>
                  </a:lnTo>
                  <a:lnTo>
                    <a:pt x="375" y="198"/>
                  </a:lnTo>
                  <a:lnTo>
                    <a:pt x="362" y="179"/>
                  </a:lnTo>
                  <a:lnTo>
                    <a:pt x="348" y="160"/>
                  </a:lnTo>
                  <a:lnTo>
                    <a:pt x="332" y="144"/>
                  </a:lnTo>
                  <a:lnTo>
                    <a:pt x="316" y="127"/>
                  </a:lnTo>
                  <a:lnTo>
                    <a:pt x="300" y="111"/>
                  </a:lnTo>
                  <a:lnTo>
                    <a:pt x="282" y="96"/>
                  </a:lnTo>
                  <a:lnTo>
                    <a:pt x="264" y="82"/>
                  </a:lnTo>
                  <a:lnTo>
                    <a:pt x="245" y="70"/>
                  </a:lnTo>
                  <a:lnTo>
                    <a:pt x="226" y="58"/>
                  </a:lnTo>
                  <a:lnTo>
                    <a:pt x="206" y="48"/>
                  </a:lnTo>
                  <a:lnTo>
                    <a:pt x="185" y="39"/>
                  </a:lnTo>
                  <a:lnTo>
                    <a:pt x="164" y="30"/>
                  </a:lnTo>
                  <a:lnTo>
                    <a:pt x="143" y="22"/>
                  </a:lnTo>
                  <a:lnTo>
                    <a:pt x="120" y="16"/>
                  </a:lnTo>
                  <a:lnTo>
                    <a:pt x="97" y="11"/>
                  </a:lnTo>
                  <a:lnTo>
                    <a:pt x="73" y="6"/>
                  </a:lnTo>
                  <a:lnTo>
                    <a:pt x="50" y="3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98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560" y="167472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6000" y="16653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8000" y="240984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52560" y="2557440"/>
              <a:ext cx="263520" cy="273240"/>
            </a:xfrm>
            <a:custGeom>
              <a:avLst/>
              <a:gdLst/>
              <a:ahLst/>
              <a:rect l="l" t="t" r="r" b="b"/>
              <a:pathLst>
                <a:path w="990" h="1033">
                  <a:moveTo>
                    <a:pt x="495" y="0"/>
                  </a:moveTo>
                  <a:lnTo>
                    <a:pt x="469" y="0"/>
                  </a:lnTo>
                  <a:lnTo>
                    <a:pt x="443" y="3"/>
                  </a:lnTo>
                  <a:lnTo>
                    <a:pt x="419" y="5"/>
                  </a:lnTo>
                  <a:lnTo>
                    <a:pt x="394" y="9"/>
                  </a:lnTo>
                  <a:lnTo>
                    <a:pt x="370" y="15"/>
                  </a:lnTo>
                  <a:lnTo>
                    <a:pt x="346" y="20"/>
                  </a:lnTo>
                  <a:lnTo>
                    <a:pt x="324" y="28"/>
                  </a:lnTo>
                  <a:lnTo>
                    <a:pt x="302" y="37"/>
                  </a:lnTo>
                  <a:lnTo>
                    <a:pt x="280" y="47"/>
                  </a:lnTo>
                  <a:lnTo>
                    <a:pt x="258" y="58"/>
                  </a:lnTo>
                  <a:lnTo>
                    <a:pt x="237" y="71"/>
                  </a:lnTo>
                  <a:lnTo>
                    <a:pt x="217" y="84"/>
                  </a:lnTo>
                  <a:lnTo>
                    <a:pt x="198" y="99"/>
                  </a:lnTo>
                  <a:lnTo>
                    <a:pt x="179" y="114"/>
                  </a:lnTo>
                  <a:lnTo>
                    <a:pt x="160" y="131"/>
                  </a:lnTo>
                  <a:lnTo>
                    <a:pt x="142" y="149"/>
                  </a:lnTo>
                  <a:lnTo>
                    <a:pt x="125" y="168"/>
                  </a:lnTo>
                  <a:lnTo>
                    <a:pt x="109" y="187"/>
                  </a:lnTo>
                  <a:lnTo>
                    <a:pt x="93" y="207"/>
                  </a:lnTo>
                  <a:lnTo>
                    <a:pt x="80" y="228"/>
                  </a:lnTo>
                  <a:lnTo>
                    <a:pt x="67" y="249"/>
                  </a:lnTo>
                  <a:lnTo>
                    <a:pt x="56" y="271"/>
                  </a:lnTo>
                  <a:lnTo>
                    <a:pt x="44" y="293"/>
                  </a:lnTo>
                  <a:lnTo>
                    <a:pt x="35" y="315"/>
                  </a:lnTo>
                  <a:lnTo>
                    <a:pt x="27" y="339"/>
                  </a:lnTo>
                  <a:lnTo>
                    <a:pt x="20" y="363"/>
                  </a:lnTo>
                  <a:lnTo>
                    <a:pt x="13" y="387"/>
                  </a:lnTo>
                  <a:lnTo>
                    <a:pt x="9" y="412"/>
                  </a:lnTo>
                  <a:lnTo>
                    <a:pt x="4" y="438"/>
                  </a:lnTo>
                  <a:lnTo>
                    <a:pt x="2" y="464"/>
                  </a:lnTo>
                  <a:lnTo>
                    <a:pt x="0" y="491"/>
                  </a:lnTo>
                  <a:lnTo>
                    <a:pt x="0" y="517"/>
                  </a:lnTo>
                  <a:lnTo>
                    <a:pt x="0" y="544"/>
                  </a:lnTo>
                  <a:lnTo>
                    <a:pt x="2" y="571"/>
                  </a:lnTo>
                  <a:lnTo>
                    <a:pt x="4" y="597"/>
                  </a:lnTo>
                  <a:lnTo>
                    <a:pt x="9" y="622"/>
                  </a:lnTo>
                  <a:lnTo>
                    <a:pt x="13" y="648"/>
                  </a:lnTo>
                  <a:lnTo>
                    <a:pt x="20" y="672"/>
                  </a:lnTo>
                  <a:lnTo>
                    <a:pt x="27" y="696"/>
                  </a:lnTo>
                  <a:lnTo>
                    <a:pt x="35" y="720"/>
                  </a:lnTo>
                  <a:lnTo>
                    <a:pt x="44" y="742"/>
                  </a:lnTo>
                  <a:lnTo>
                    <a:pt x="54" y="764"/>
                  </a:lnTo>
                  <a:lnTo>
                    <a:pt x="67" y="785"/>
                  </a:lnTo>
                  <a:lnTo>
                    <a:pt x="79" y="807"/>
                  </a:lnTo>
                  <a:lnTo>
                    <a:pt x="93" y="827"/>
                  </a:lnTo>
                  <a:lnTo>
                    <a:pt x="108" y="847"/>
                  </a:lnTo>
                  <a:lnTo>
                    <a:pt x="125" y="866"/>
                  </a:lnTo>
                  <a:lnTo>
                    <a:pt x="141" y="885"/>
                  </a:lnTo>
                  <a:lnTo>
                    <a:pt x="159" y="903"/>
                  </a:lnTo>
                  <a:lnTo>
                    <a:pt x="178" y="919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7" y="975"/>
                  </a:lnTo>
                  <a:lnTo>
                    <a:pt x="278" y="986"/>
                  </a:lnTo>
                  <a:lnTo>
                    <a:pt x="301" y="997"/>
                  </a:lnTo>
                  <a:lnTo>
                    <a:pt x="323" y="1005"/>
                  </a:lnTo>
                  <a:lnTo>
                    <a:pt x="346" y="1013"/>
                  </a:lnTo>
                  <a:lnTo>
                    <a:pt x="370" y="1019"/>
                  </a:lnTo>
                  <a:lnTo>
                    <a:pt x="393" y="1024"/>
                  </a:lnTo>
                  <a:lnTo>
                    <a:pt x="418" y="1029"/>
                  </a:lnTo>
                  <a:lnTo>
                    <a:pt x="443" y="1031"/>
                  </a:lnTo>
                  <a:lnTo>
                    <a:pt x="469" y="1033"/>
                  </a:lnTo>
                  <a:lnTo>
                    <a:pt x="495" y="1033"/>
                  </a:lnTo>
                  <a:lnTo>
                    <a:pt x="521" y="1033"/>
                  </a:lnTo>
                  <a:lnTo>
                    <a:pt x="547" y="1031"/>
                  </a:lnTo>
                  <a:lnTo>
                    <a:pt x="571" y="1029"/>
                  </a:lnTo>
                  <a:lnTo>
                    <a:pt x="596" y="1024"/>
                  </a:lnTo>
                  <a:lnTo>
                    <a:pt x="619" y="1019"/>
                  </a:lnTo>
                  <a:lnTo>
                    <a:pt x="643" y="1013"/>
                  </a:lnTo>
                  <a:lnTo>
                    <a:pt x="666" y="1005"/>
                  </a:lnTo>
                  <a:lnTo>
                    <a:pt x="688" y="997"/>
                  </a:lnTo>
                  <a:lnTo>
                    <a:pt x="710" y="986"/>
                  </a:lnTo>
                  <a:lnTo>
                    <a:pt x="732" y="975"/>
                  </a:lnTo>
                  <a:lnTo>
                    <a:pt x="752" y="963"/>
                  </a:lnTo>
                  <a:lnTo>
                    <a:pt x="772" y="950"/>
                  </a:lnTo>
                  <a:lnTo>
                    <a:pt x="792" y="935"/>
                  </a:lnTo>
                  <a:lnTo>
                    <a:pt x="811" y="919"/>
                  </a:lnTo>
                  <a:lnTo>
                    <a:pt x="830" y="903"/>
                  </a:lnTo>
                  <a:lnTo>
                    <a:pt x="848" y="885"/>
                  </a:lnTo>
                  <a:lnTo>
                    <a:pt x="866" y="866"/>
                  </a:lnTo>
                  <a:lnTo>
                    <a:pt x="881" y="847"/>
                  </a:lnTo>
                  <a:lnTo>
                    <a:pt x="897" y="827"/>
                  </a:lnTo>
                  <a:lnTo>
                    <a:pt x="910" y="806"/>
                  </a:lnTo>
                  <a:lnTo>
                    <a:pt x="923" y="785"/>
                  </a:lnTo>
                  <a:lnTo>
                    <a:pt x="935" y="763"/>
                  </a:lnTo>
                  <a:lnTo>
                    <a:pt x="945" y="741"/>
                  </a:lnTo>
                  <a:lnTo>
                    <a:pt x="955" y="718"/>
                  </a:lnTo>
                  <a:lnTo>
                    <a:pt x="963" y="695"/>
                  </a:lnTo>
                  <a:lnTo>
                    <a:pt x="970" y="672"/>
                  </a:lnTo>
                  <a:lnTo>
                    <a:pt x="976" y="647"/>
                  </a:lnTo>
                  <a:lnTo>
                    <a:pt x="982" y="622"/>
                  </a:lnTo>
                  <a:lnTo>
                    <a:pt x="985" y="597"/>
                  </a:lnTo>
                  <a:lnTo>
                    <a:pt x="988" y="571"/>
                  </a:lnTo>
                  <a:lnTo>
                    <a:pt x="989" y="544"/>
                  </a:lnTo>
                  <a:lnTo>
                    <a:pt x="990" y="517"/>
                  </a:lnTo>
                  <a:lnTo>
                    <a:pt x="989" y="491"/>
                  </a:lnTo>
                  <a:lnTo>
                    <a:pt x="988" y="464"/>
                  </a:lnTo>
                  <a:lnTo>
                    <a:pt x="985" y="438"/>
                  </a:lnTo>
                  <a:lnTo>
                    <a:pt x="982" y="412"/>
                  </a:lnTo>
                  <a:lnTo>
                    <a:pt x="976" y="388"/>
                  </a:lnTo>
                  <a:lnTo>
                    <a:pt x="970" y="363"/>
                  </a:lnTo>
                  <a:lnTo>
                    <a:pt x="963" y="340"/>
                  </a:lnTo>
                  <a:lnTo>
                    <a:pt x="955" y="316"/>
                  </a:lnTo>
                  <a:lnTo>
                    <a:pt x="945" y="294"/>
                  </a:lnTo>
                  <a:lnTo>
                    <a:pt x="935" y="272"/>
                  </a:lnTo>
                  <a:lnTo>
                    <a:pt x="923" y="251"/>
                  </a:lnTo>
                  <a:lnTo>
                    <a:pt x="910" y="229"/>
                  </a:lnTo>
                  <a:lnTo>
                    <a:pt x="897" y="208"/>
                  </a:lnTo>
                  <a:lnTo>
                    <a:pt x="881" y="188"/>
                  </a:lnTo>
                  <a:lnTo>
                    <a:pt x="866" y="169"/>
                  </a:lnTo>
                  <a:lnTo>
                    <a:pt x="848" y="150"/>
                  </a:lnTo>
                  <a:lnTo>
                    <a:pt x="830" y="132"/>
                  </a:lnTo>
                  <a:lnTo>
                    <a:pt x="811" y="114"/>
                  </a:lnTo>
                  <a:lnTo>
                    <a:pt x="792" y="99"/>
                  </a:lnTo>
                  <a:lnTo>
                    <a:pt x="772" y="84"/>
                  </a:lnTo>
                  <a:lnTo>
                    <a:pt x="752" y="71"/>
                  </a:lnTo>
                  <a:lnTo>
                    <a:pt x="732" y="58"/>
                  </a:lnTo>
                  <a:lnTo>
                    <a:pt x="710" y="47"/>
                  </a:lnTo>
                  <a:lnTo>
                    <a:pt x="688" y="37"/>
                  </a:lnTo>
                  <a:lnTo>
                    <a:pt x="666" y="28"/>
                  </a:lnTo>
                  <a:lnTo>
                    <a:pt x="643" y="20"/>
                  </a:lnTo>
                  <a:lnTo>
                    <a:pt x="619" y="15"/>
                  </a:lnTo>
                  <a:lnTo>
                    <a:pt x="596" y="9"/>
                  </a:lnTo>
                  <a:lnTo>
                    <a:pt x="571" y="5"/>
                  </a:lnTo>
                  <a:lnTo>
                    <a:pt x="547" y="3"/>
                  </a:lnTo>
                  <a:lnTo>
                    <a:pt x="521" y="0"/>
                  </a:lnTo>
                  <a:lnTo>
                    <a:pt x="49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04960" y="240336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27400" y="241920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89280" y="241920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3480" y="240984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27720" y="241920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309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35520" y="2419200"/>
              <a:ext cx="142920" cy="552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78520" y="241920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59480" y="240840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5520" y="2419200"/>
              <a:ext cx="142920" cy="552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78520" y="241920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59480" y="240840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451240" y="3276720"/>
            <a:ext cx="3943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1f1a17"/>
                </a:solidFill>
                <a:latin typeface="Geometr231 Hv BT"/>
              </a:rPr>
              <a:t>1. Pre-te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9040" y="4476600"/>
            <a:ext cx="4330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1f1a17"/>
                </a:solidFill>
                <a:latin typeface="Geometr231 Hv BT"/>
              </a:rPr>
              <a:t>2. Post-te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78000" y="1295280"/>
            <a:ext cx="4756320" cy="1320840"/>
            <a:chOff x="2178000" y="1295280"/>
            <a:chExt cx="4756320" cy="1320840"/>
          </a:xfrm>
        </p:grpSpPr>
        <p:sp>
          <p:nvSpPr>
            <p:cNvPr id="172" name=""/>
            <p:cNvSpPr/>
            <p:nvPr/>
          </p:nvSpPr>
          <p:spPr>
            <a:xfrm>
              <a:off x="3122640" y="130464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27360" y="130464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7800" y="130464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5120" y="130464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02160" y="130464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792" y="1331"/>
                  </a:moveTo>
                  <a:lnTo>
                    <a:pt x="1221" y="1331"/>
                  </a:lnTo>
                  <a:lnTo>
                    <a:pt x="1006" y="627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92560" y="130464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560" y="130464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539" y="1529"/>
                  </a:moveTo>
                  <a:lnTo>
                    <a:pt x="565" y="1527"/>
                  </a:lnTo>
                  <a:lnTo>
                    <a:pt x="590" y="1522"/>
                  </a:lnTo>
                  <a:lnTo>
                    <a:pt x="615" y="1518"/>
                  </a:lnTo>
                  <a:lnTo>
                    <a:pt x="638" y="1512"/>
                  </a:lnTo>
                  <a:lnTo>
                    <a:pt x="661" y="1506"/>
                  </a:lnTo>
                  <a:lnTo>
                    <a:pt x="684" y="1498"/>
                  </a:lnTo>
                  <a:lnTo>
                    <a:pt x="706" y="1490"/>
                  </a:lnTo>
                  <a:lnTo>
                    <a:pt x="727" y="1480"/>
                  </a:lnTo>
                  <a:lnTo>
                    <a:pt x="747" y="1470"/>
                  </a:lnTo>
                  <a:lnTo>
                    <a:pt x="767" y="1459"/>
                  </a:lnTo>
                  <a:lnTo>
                    <a:pt x="786" y="1447"/>
                  </a:lnTo>
                  <a:lnTo>
                    <a:pt x="805" y="1434"/>
                  </a:lnTo>
                  <a:lnTo>
                    <a:pt x="823" y="1421"/>
                  </a:lnTo>
                  <a:lnTo>
                    <a:pt x="841" y="1406"/>
                  </a:lnTo>
                  <a:lnTo>
                    <a:pt x="858" y="1391"/>
                  </a:lnTo>
                  <a:lnTo>
                    <a:pt x="873" y="1374"/>
                  </a:lnTo>
                  <a:lnTo>
                    <a:pt x="889" y="1357"/>
                  </a:lnTo>
                  <a:lnTo>
                    <a:pt x="902" y="1339"/>
                  </a:lnTo>
                  <a:lnTo>
                    <a:pt x="916" y="1321"/>
                  </a:lnTo>
                  <a:lnTo>
                    <a:pt x="928" y="1303"/>
                  </a:lnTo>
                  <a:lnTo>
                    <a:pt x="939" y="1284"/>
                  </a:lnTo>
                  <a:lnTo>
                    <a:pt x="950" y="1264"/>
                  </a:lnTo>
                  <a:lnTo>
                    <a:pt x="959" y="1244"/>
                  </a:lnTo>
                  <a:lnTo>
                    <a:pt x="967" y="1223"/>
                  </a:lnTo>
                  <a:lnTo>
                    <a:pt x="975" y="1202"/>
                  </a:lnTo>
                  <a:lnTo>
                    <a:pt x="981" y="1181"/>
                  </a:lnTo>
                  <a:lnTo>
                    <a:pt x="987" y="1158"/>
                  </a:lnTo>
                  <a:lnTo>
                    <a:pt x="991" y="1136"/>
                  </a:lnTo>
                  <a:lnTo>
                    <a:pt x="995" y="1112"/>
                  </a:lnTo>
                  <a:lnTo>
                    <a:pt x="997" y="1088"/>
                  </a:lnTo>
                  <a:lnTo>
                    <a:pt x="998" y="1064"/>
                  </a:lnTo>
                  <a:lnTo>
                    <a:pt x="999" y="1039"/>
                  </a:lnTo>
                  <a:lnTo>
                    <a:pt x="998" y="1012"/>
                  </a:lnTo>
                  <a:lnTo>
                    <a:pt x="997" y="986"/>
                  </a:lnTo>
                  <a:lnTo>
                    <a:pt x="995" y="961"/>
                  </a:lnTo>
                  <a:lnTo>
                    <a:pt x="990" y="936"/>
                  </a:lnTo>
                  <a:lnTo>
                    <a:pt x="986" y="911"/>
                  </a:lnTo>
                  <a:lnTo>
                    <a:pt x="981" y="888"/>
                  </a:lnTo>
                  <a:lnTo>
                    <a:pt x="975" y="865"/>
                  </a:lnTo>
                  <a:lnTo>
                    <a:pt x="967" y="842"/>
                  </a:lnTo>
                  <a:lnTo>
                    <a:pt x="958" y="820"/>
                  </a:lnTo>
                  <a:lnTo>
                    <a:pt x="949" y="799"/>
                  </a:lnTo>
                  <a:lnTo>
                    <a:pt x="939" y="777"/>
                  </a:lnTo>
                  <a:lnTo>
                    <a:pt x="927" y="757"/>
                  </a:lnTo>
                  <a:lnTo>
                    <a:pt x="914" y="738"/>
                  </a:lnTo>
                  <a:lnTo>
                    <a:pt x="901" y="719"/>
                  </a:lnTo>
                  <a:lnTo>
                    <a:pt x="887" y="700"/>
                  </a:lnTo>
                  <a:lnTo>
                    <a:pt x="871" y="684"/>
                  </a:lnTo>
                  <a:lnTo>
                    <a:pt x="855" y="667"/>
                  </a:lnTo>
                  <a:lnTo>
                    <a:pt x="839" y="651"/>
                  </a:lnTo>
                  <a:lnTo>
                    <a:pt x="821" y="636"/>
                  </a:lnTo>
                  <a:lnTo>
                    <a:pt x="803" y="622"/>
                  </a:lnTo>
                  <a:lnTo>
                    <a:pt x="784" y="610"/>
                  </a:lnTo>
                  <a:lnTo>
                    <a:pt x="765" y="598"/>
                  </a:lnTo>
                  <a:lnTo>
                    <a:pt x="745" y="588"/>
                  </a:lnTo>
                  <a:lnTo>
                    <a:pt x="724" y="579"/>
                  </a:lnTo>
                  <a:lnTo>
                    <a:pt x="703" y="570"/>
                  </a:lnTo>
                  <a:lnTo>
                    <a:pt x="682" y="562"/>
                  </a:lnTo>
                  <a:lnTo>
                    <a:pt x="659" y="556"/>
                  </a:lnTo>
                  <a:lnTo>
                    <a:pt x="636" y="551"/>
                  </a:lnTo>
                  <a:lnTo>
                    <a:pt x="612" y="546"/>
                  </a:lnTo>
                  <a:lnTo>
                    <a:pt x="589" y="543"/>
                  </a:lnTo>
                  <a:lnTo>
                    <a:pt x="565" y="542"/>
                  </a:lnTo>
                  <a:lnTo>
                    <a:pt x="539" y="540"/>
                  </a:lnTo>
                  <a:lnTo>
                    <a:pt x="539" y="1529"/>
                  </a:lnTo>
                  <a:close/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96000" y="129528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78000" y="203976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4960" y="203328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6" y="580"/>
                  </a:moveTo>
                  <a:lnTo>
                    <a:pt x="1030" y="580"/>
                  </a:lnTo>
                  <a:lnTo>
                    <a:pt x="1004" y="583"/>
                  </a:lnTo>
                  <a:lnTo>
                    <a:pt x="980" y="585"/>
                  </a:lnTo>
                  <a:lnTo>
                    <a:pt x="955" y="589"/>
                  </a:lnTo>
                  <a:lnTo>
                    <a:pt x="931" y="595"/>
                  </a:lnTo>
                  <a:lnTo>
                    <a:pt x="907" y="600"/>
                  </a:lnTo>
                  <a:lnTo>
                    <a:pt x="885" y="608"/>
                  </a:lnTo>
                  <a:lnTo>
                    <a:pt x="863" y="617"/>
                  </a:lnTo>
                  <a:lnTo>
                    <a:pt x="841" y="627"/>
                  </a:lnTo>
                  <a:lnTo>
                    <a:pt x="819" y="638"/>
                  </a:lnTo>
                  <a:lnTo>
                    <a:pt x="798" y="651"/>
                  </a:lnTo>
                  <a:lnTo>
                    <a:pt x="778" y="664"/>
                  </a:lnTo>
                  <a:lnTo>
                    <a:pt x="759" y="679"/>
                  </a:lnTo>
                  <a:lnTo>
                    <a:pt x="740" y="694"/>
                  </a:lnTo>
                  <a:lnTo>
                    <a:pt x="721" y="711"/>
                  </a:lnTo>
                  <a:lnTo>
                    <a:pt x="703" y="729"/>
                  </a:lnTo>
                  <a:lnTo>
                    <a:pt x="686" y="748"/>
                  </a:lnTo>
                  <a:lnTo>
                    <a:pt x="670" y="767"/>
                  </a:lnTo>
                  <a:lnTo>
                    <a:pt x="654" y="787"/>
                  </a:lnTo>
                  <a:lnTo>
                    <a:pt x="641" y="808"/>
                  </a:lnTo>
                  <a:lnTo>
                    <a:pt x="628" y="829"/>
                  </a:lnTo>
                  <a:lnTo>
                    <a:pt x="617" y="851"/>
                  </a:lnTo>
                  <a:lnTo>
                    <a:pt x="605" y="873"/>
                  </a:lnTo>
                  <a:lnTo>
                    <a:pt x="596" y="895"/>
                  </a:lnTo>
                  <a:lnTo>
                    <a:pt x="588" y="919"/>
                  </a:lnTo>
                  <a:lnTo>
                    <a:pt x="581" y="943"/>
                  </a:lnTo>
                  <a:lnTo>
                    <a:pt x="574" y="967"/>
                  </a:lnTo>
                  <a:lnTo>
                    <a:pt x="570" y="992"/>
                  </a:lnTo>
                  <a:lnTo>
                    <a:pt x="565" y="1018"/>
                  </a:lnTo>
                  <a:lnTo>
                    <a:pt x="563" y="1044"/>
                  </a:lnTo>
                  <a:lnTo>
                    <a:pt x="561" y="1071"/>
                  </a:lnTo>
                  <a:lnTo>
                    <a:pt x="561" y="1097"/>
                  </a:lnTo>
                  <a:lnTo>
                    <a:pt x="561" y="1124"/>
                  </a:lnTo>
                  <a:lnTo>
                    <a:pt x="563" y="1151"/>
                  </a:lnTo>
                  <a:lnTo>
                    <a:pt x="565" y="1177"/>
                  </a:lnTo>
                  <a:lnTo>
                    <a:pt x="570" y="1202"/>
                  </a:lnTo>
                  <a:lnTo>
                    <a:pt x="574" y="1228"/>
                  </a:lnTo>
                  <a:lnTo>
                    <a:pt x="581" y="1252"/>
                  </a:lnTo>
                  <a:lnTo>
                    <a:pt x="588" y="1276"/>
                  </a:lnTo>
                  <a:lnTo>
                    <a:pt x="596" y="1300"/>
                  </a:lnTo>
                  <a:lnTo>
                    <a:pt x="605" y="1322"/>
                  </a:lnTo>
                  <a:lnTo>
                    <a:pt x="615" y="1344"/>
                  </a:lnTo>
                  <a:lnTo>
                    <a:pt x="628" y="1365"/>
                  </a:lnTo>
                  <a:lnTo>
                    <a:pt x="640" y="1387"/>
                  </a:lnTo>
                  <a:lnTo>
                    <a:pt x="654" y="1407"/>
                  </a:lnTo>
                  <a:lnTo>
                    <a:pt x="669" y="1427"/>
                  </a:lnTo>
                  <a:lnTo>
                    <a:pt x="686" y="1446"/>
                  </a:lnTo>
                  <a:lnTo>
                    <a:pt x="702" y="1465"/>
                  </a:lnTo>
                  <a:lnTo>
                    <a:pt x="720" y="1483"/>
                  </a:lnTo>
                  <a:lnTo>
                    <a:pt x="739" y="1499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8" y="1555"/>
                  </a:lnTo>
                  <a:lnTo>
                    <a:pt x="839" y="1566"/>
                  </a:lnTo>
                  <a:lnTo>
                    <a:pt x="862" y="1577"/>
                  </a:lnTo>
                  <a:lnTo>
                    <a:pt x="884" y="1585"/>
                  </a:lnTo>
                  <a:lnTo>
                    <a:pt x="907" y="1593"/>
                  </a:lnTo>
                  <a:lnTo>
                    <a:pt x="931" y="1599"/>
                  </a:lnTo>
                  <a:lnTo>
                    <a:pt x="954" y="1604"/>
                  </a:lnTo>
                  <a:lnTo>
                    <a:pt x="979" y="1609"/>
                  </a:lnTo>
                  <a:lnTo>
                    <a:pt x="1004" y="1611"/>
                  </a:lnTo>
                  <a:lnTo>
                    <a:pt x="1030" y="1613"/>
                  </a:lnTo>
                  <a:lnTo>
                    <a:pt x="1056" y="1613"/>
                  </a:lnTo>
                  <a:lnTo>
                    <a:pt x="1082" y="1613"/>
                  </a:lnTo>
                  <a:lnTo>
                    <a:pt x="1108" y="1611"/>
                  </a:lnTo>
                  <a:lnTo>
                    <a:pt x="1132" y="1609"/>
                  </a:lnTo>
                  <a:lnTo>
                    <a:pt x="1157" y="1604"/>
                  </a:lnTo>
                  <a:lnTo>
                    <a:pt x="1180" y="1599"/>
                  </a:lnTo>
                  <a:lnTo>
                    <a:pt x="1204" y="1593"/>
                  </a:lnTo>
                  <a:lnTo>
                    <a:pt x="1227" y="1585"/>
                  </a:lnTo>
                  <a:lnTo>
                    <a:pt x="1249" y="1577"/>
                  </a:lnTo>
                  <a:lnTo>
                    <a:pt x="1271" y="1566"/>
                  </a:lnTo>
                  <a:lnTo>
                    <a:pt x="1293" y="1555"/>
                  </a:lnTo>
                  <a:lnTo>
                    <a:pt x="1313" y="1543"/>
                  </a:lnTo>
                  <a:lnTo>
                    <a:pt x="1333" y="1530"/>
                  </a:lnTo>
                  <a:lnTo>
                    <a:pt x="1353" y="1515"/>
                  </a:lnTo>
                  <a:lnTo>
                    <a:pt x="1372" y="1499"/>
                  </a:lnTo>
                  <a:lnTo>
                    <a:pt x="1391" y="1483"/>
                  </a:lnTo>
                  <a:lnTo>
                    <a:pt x="1409" y="1465"/>
                  </a:lnTo>
                  <a:lnTo>
                    <a:pt x="1427" y="1446"/>
                  </a:lnTo>
                  <a:lnTo>
                    <a:pt x="1442" y="1427"/>
                  </a:lnTo>
                  <a:lnTo>
                    <a:pt x="1458" y="1407"/>
                  </a:lnTo>
                  <a:lnTo>
                    <a:pt x="1471" y="1386"/>
                  </a:lnTo>
                  <a:lnTo>
                    <a:pt x="1484" y="1365"/>
                  </a:lnTo>
                  <a:lnTo>
                    <a:pt x="1496" y="1343"/>
                  </a:lnTo>
                  <a:lnTo>
                    <a:pt x="1506" y="1321"/>
                  </a:lnTo>
                  <a:lnTo>
                    <a:pt x="1516" y="1298"/>
                  </a:lnTo>
                  <a:lnTo>
                    <a:pt x="1524" y="1275"/>
                  </a:lnTo>
                  <a:lnTo>
                    <a:pt x="1531" y="1252"/>
                  </a:lnTo>
                  <a:lnTo>
                    <a:pt x="1537" y="1227"/>
                  </a:lnTo>
                  <a:lnTo>
                    <a:pt x="1543" y="1202"/>
                  </a:lnTo>
                  <a:lnTo>
                    <a:pt x="1546" y="1177"/>
                  </a:lnTo>
                  <a:lnTo>
                    <a:pt x="1549" y="1151"/>
                  </a:lnTo>
                  <a:lnTo>
                    <a:pt x="1550" y="1124"/>
                  </a:lnTo>
                  <a:lnTo>
                    <a:pt x="1551" y="1097"/>
                  </a:lnTo>
                  <a:lnTo>
                    <a:pt x="1550" y="1071"/>
                  </a:lnTo>
                  <a:lnTo>
                    <a:pt x="1549" y="1044"/>
                  </a:lnTo>
                  <a:lnTo>
                    <a:pt x="1546" y="1018"/>
                  </a:lnTo>
                  <a:lnTo>
                    <a:pt x="1543" y="992"/>
                  </a:lnTo>
                  <a:lnTo>
                    <a:pt x="1537" y="968"/>
                  </a:lnTo>
                  <a:lnTo>
                    <a:pt x="1531" y="943"/>
                  </a:lnTo>
                  <a:lnTo>
                    <a:pt x="1524" y="920"/>
                  </a:lnTo>
                  <a:lnTo>
                    <a:pt x="1516" y="896"/>
                  </a:lnTo>
                  <a:lnTo>
                    <a:pt x="1506" y="874"/>
                  </a:lnTo>
                  <a:lnTo>
                    <a:pt x="1496" y="852"/>
                  </a:lnTo>
                  <a:lnTo>
                    <a:pt x="1484" y="831"/>
                  </a:lnTo>
                  <a:lnTo>
                    <a:pt x="1471" y="809"/>
                  </a:lnTo>
                  <a:lnTo>
                    <a:pt x="1458" y="788"/>
                  </a:lnTo>
                  <a:lnTo>
                    <a:pt x="1442" y="768"/>
                  </a:lnTo>
                  <a:lnTo>
                    <a:pt x="1427" y="749"/>
                  </a:lnTo>
                  <a:lnTo>
                    <a:pt x="1409" y="730"/>
                  </a:lnTo>
                  <a:lnTo>
                    <a:pt x="1391" y="712"/>
                  </a:lnTo>
                  <a:lnTo>
                    <a:pt x="1372" y="694"/>
                  </a:lnTo>
                  <a:lnTo>
                    <a:pt x="1353" y="679"/>
                  </a:lnTo>
                  <a:lnTo>
                    <a:pt x="1333" y="664"/>
                  </a:lnTo>
                  <a:lnTo>
                    <a:pt x="1313" y="651"/>
                  </a:lnTo>
                  <a:lnTo>
                    <a:pt x="1293" y="638"/>
                  </a:lnTo>
                  <a:lnTo>
                    <a:pt x="1271" y="627"/>
                  </a:lnTo>
                  <a:lnTo>
                    <a:pt x="1249" y="617"/>
                  </a:lnTo>
                  <a:lnTo>
                    <a:pt x="1227" y="608"/>
                  </a:lnTo>
                  <a:lnTo>
                    <a:pt x="1204" y="600"/>
                  </a:lnTo>
                  <a:lnTo>
                    <a:pt x="1180" y="595"/>
                  </a:lnTo>
                  <a:lnTo>
                    <a:pt x="1157" y="589"/>
                  </a:lnTo>
                  <a:lnTo>
                    <a:pt x="1132" y="585"/>
                  </a:lnTo>
                  <a:lnTo>
                    <a:pt x="1108" y="583"/>
                  </a:lnTo>
                  <a:lnTo>
                    <a:pt x="1082" y="580"/>
                  </a:lnTo>
                  <a:lnTo>
                    <a:pt x="1056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27400" y="204912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9280" y="204912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3480" y="20397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27720" y="204912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09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2640" y="130464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27360" y="130464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17800" y="130464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45120" y="130464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1680" y="1469880"/>
              <a:ext cx="114480" cy="185760"/>
            </a:xfrm>
            <a:custGeom>
              <a:avLst/>
              <a:gdLst/>
              <a:ahLst/>
              <a:rect l="l" t="t" r="r" b="b"/>
              <a:pathLst>
                <a:path w="429" h="704">
                  <a:moveTo>
                    <a:pt x="0" y="704"/>
                  </a:moveTo>
                  <a:lnTo>
                    <a:pt x="429" y="704"/>
                  </a:lnTo>
                  <a:lnTo>
                    <a:pt x="214" y="0"/>
                  </a:lnTo>
                  <a:lnTo>
                    <a:pt x="0" y="70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02160" y="130464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92560" y="130464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78480" y="1446120"/>
              <a:ext cx="120600" cy="261720"/>
            </a:xfrm>
            <a:custGeom>
              <a:avLst/>
              <a:gdLst/>
              <a:ahLst/>
              <a:rect l="l" t="t" r="r" b="b"/>
              <a:pathLst>
                <a:path w="460" h="989">
                  <a:moveTo>
                    <a:pt x="0" y="989"/>
                  </a:moveTo>
                  <a:lnTo>
                    <a:pt x="26" y="987"/>
                  </a:lnTo>
                  <a:lnTo>
                    <a:pt x="51" y="982"/>
                  </a:lnTo>
                  <a:lnTo>
                    <a:pt x="76" y="978"/>
                  </a:lnTo>
                  <a:lnTo>
                    <a:pt x="99" y="972"/>
                  </a:lnTo>
                  <a:lnTo>
                    <a:pt x="122" y="966"/>
                  </a:lnTo>
                  <a:lnTo>
                    <a:pt x="145" y="958"/>
                  </a:lnTo>
                  <a:lnTo>
                    <a:pt x="167" y="950"/>
                  </a:lnTo>
                  <a:lnTo>
                    <a:pt x="188" y="940"/>
                  </a:lnTo>
                  <a:lnTo>
                    <a:pt x="208" y="930"/>
                  </a:lnTo>
                  <a:lnTo>
                    <a:pt x="228" y="919"/>
                  </a:lnTo>
                  <a:lnTo>
                    <a:pt x="247" y="907"/>
                  </a:lnTo>
                  <a:lnTo>
                    <a:pt x="266" y="894"/>
                  </a:lnTo>
                  <a:lnTo>
                    <a:pt x="284" y="881"/>
                  </a:lnTo>
                  <a:lnTo>
                    <a:pt x="302" y="866"/>
                  </a:lnTo>
                  <a:lnTo>
                    <a:pt x="319" y="851"/>
                  </a:lnTo>
                  <a:lnTo>
                    <a:pt x="334" y="834"/>
                  </a:lnTo>
                  <a:lnTo>
                    <a:pt x="350" y="817"/>
                  </a:lnTo>
                  <a:lnTo>
                    <a:pt x="363" y="799"/>
                  </a:lnTo>
                  <a:lnTo>
                    <a:pt x="377" y="781"/>
                  </a:lnTo>
                  <a:lnTo>
                    <a:pt x="389" y="763"/>
                  </a:lnTo>
                  <a:lnTo>
                    <a:pt x="400" y="744"/>
                  </a:lnTo>
                  <a:lnTo>
                    <a:pt x="411" y="724"/>
                  </a:lnTo>
                  <a:lnTo>
                    <a:pt x="420" y="704"/>
                  </a:lnTo>
                  <a:lnTo>
                    <a:pt x="428" y="683"/>
                  </a:lnTo>
                  <a:lnTo>
                    <a:pt x="436" y="662"/>
                  </a:lnTo>
                  <a:lnTo>
                    <a:pt x="442" y="641"/>
                  </a:lnTo>
                  <a:lnTo>
                    <a:pt x="448" y="618"/>
                  </a:lnTo>
                  <a:lnTo>
                    <a:pt x="452" y="596"/>
                  </a:lnTo>
                  <a:lnTo>
                    <a:pt x="456" y="572"/>
                  </a:lnTo>
                  <a:lnTo>
                    <a:pt x="458" y="548"/>
                  </a:lnTo>
                  <a:lnTo>
                    <a:pt x="459" y="524"/>
                  </a:lnTo>
                  <a:lnTo>
                    <a:pt x="460" y="499"/>
                  </a:lnTo>
                  <a:lnTo>
                    <a:pt x="459" y="472"/>
                  </a:lnTo>
                  <a:lnTo>
                    <a:pt x="458" y="446"/>
                  </a:lnTo>
                  <a:lnTo>
                    <a:pt x="456" y="421"/>
                  </a:lnTo>
                  <a:lnTo>
                    <a:pt x="451" y="396"/>
                  </a:lnTo>
                  <a:lnTo>
                    <a:pt x="447" y="371"/>
                  </a:lnTo>
                  <a:lnTo>
                    <a:pt x="442" y="348"/>
                  </a:lnTo>
                  <a:lnTo>
                    <a:pt x="436" y="325"/>
                  </a:lnTo>
                  <a:lnTo>
                    <a:pt x="428" y="302"/>
                  </a:lnTo>
                  <a:lnTo>
                    <a:pt x="419" y="280"/>
                  </a:lnTo>
                  <a:lnTo>
                    <a:pt x="410" y="259"/>
                  </a:lnTo>
                  <a:lnTo>
                    <a:pt x="400" y="237"/>
                  </a:lnTo>
                  <a:lnTo>
                    <a:pt x="388" y="217"/>
                  </a:lnTo>
                  <a:lnTo>
                    <a:pt x="375" y="198"/>
                  </a:lnTo>
                  <a:lnTo>
                    <a:pt x="362" y="179"/>
                  </a:lnTo>
                  <a:lnTo>
                    <a:pt x="348" y="160"/>
                  </a:lnTo>
                  <a:lnTo>
                    <a:pt x="332" y="144"/>
                  </a:lnTo>
                  <a:lnTo>
                    <a:pt x="316" y="127"/>
                  </a:lnTo>
                  <a:lnTo>
                    <a:pt x="300" y="111"/>
                  </a:lnTo>
                  <a:lnTo>
                    <a:pt x="282" y="96"/>
                  </a:lnTo>
                  <a:lnTo>
                    <a:pt x="264" y="82"/>
                  </a:lnTo>
                  <a:lnTo>
                    <a:pt x="245" y="70"/>
                  </a:lnTo>
                  <a:lnTo>
                    <a:pt x="226" y="58"/>
                  </a:lnTo>
                  <a:lnTo>
                    <a:pt x="206" y="48"/>
                  </a:lnTo>
                  <a:lnTo>
                    <a:pt x="185" y="39"/>
                  </a:lnTo>
                  <a:lnTo>
                    <a:pt x="164" y="30"/>
                  </a:lnTo>
                  <a:lnTo>
                    <a:pt x="143" y="22"/>
                  </a:lnTo>
                  <a:lnTo>
                    <a:pt x="120" y="16"/>
                  </a:lnTo>
                  <a:lnTo>
                    <a:pt x="97" y="11"/>
                  </a:lnTo>
                  <a:lnTo>
                    <a:pt x="73" y="6"/>
                  </a:lnTo>
                  <a:lnTo>
                    <a:pt x="50" y="3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98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560" y="130464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6000" y="129528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78000" y="203976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52560" y="2187360"/>
              <a:ext cx="263520" cy="273240"/>
            </a:xfrm>
            <a:custGeom>
              <a:avLst/>
              <a:gdLst/>
              <a:ahLst/>
              <a:rect l="l" t="t" r="r" b="b"/>
              <a:pathLst>
                <a:path w="990" h="1033">
                  <a:moveTo>
                    <a:pt x="495" y="0"/>
                  </a:moveTo>
                  <a:lnTo>
                    <a:pt x="469" y="0"/>
                  </a:lnTo>
                  <a:lnTo>
                    <a:pt x="443" y="3"/>
                  </a:lnTo>
                  <a:lnTo>
                    <a:pt x="419" y="5"/>
                  </a:lnTo>
                  <a:lnTo>
                    <a:pt x="394" y="9"/>
                  </a:lnTo>
                  <a:lnTo>
                    <a:pt x="370" y="15"/>
                  </a:lnTo>
                  <a:lnTo>
                    <a:pt x="346" y="20"/>
                  </a:lnTo>
                  <a:lnTo>
                    <a:pt x="324" y="28"/>
                  </a:lnTo>
                  <a:lnTo>
                    <a:pt x="302" y="37"/>
                  </a:lnTo>
                  <a:lnTo>
                    <a:pt x="280" y="47"/>
                  </a:lnTo>
                  <a:lnTo>
                    <a:pt x="258" y="58"/>
                  </a:lnTo>
                  <a:lnTo>
                    <a:pt x="237" y="71"/>
                  </a:lnTo>
                  <a:lnTo>
                    <a:pt x="217" y="84"/>
                  </a:lnTo>
                  <a:lnTo>
                    <a:pt x="198" y="99"/>
                  </a:lnTo>
                  <a:lnTo>
                    <a:pt x="179" y="114"/>
                  </a:lnTo>
                  <a:lnTo>
                    <a:pt x="160" y="131"/>
                  </a:lnTo>
                  <a:lnTo>
                    <a:pt x="142" y="149"/>
                  </a:lnTo>
                  <a:lnTo>
                    <a:pt x="125" y="168"/>
                  </a:lnTo>
                  <a:lnTo>
                    <a:pt x="109" y="187"/>
                  </a:lnTo>
                  <a:lnTo>
                    <a:pt x="93" y="207"/>
                  </a:lnTo>
                  <a:lnTo>
                    <a:pt x="80" y="228"/>
                  </a:lnTo>
                  <a:lnTo>
                    <a:pt x="67" y="249"/>
                  </a:lnTo>
                  <a:lnTo>
                    <a:pt x="56" y="271"/>
                  </a:lnTo>
                  <a:lnTo>
                    <a:pt x="44" y="293"/>
                  </a:lnTo>
                  <a:lnTo>
                    <a:pt x="35" y="315"/>
                  </a:lnTo>
                  <a:lnTo>
                    <a:pt x="27" y="339"/>
                  </a:lnTo>
                  <a:lnTo>
                    <a:pt x="20" y="363"/>
                  </a:lnTo>
                  <a:lnTo>
                    <a:pt x="13" y="387"/>
                  </a:lnTo>
                  <a:lnTo>
                    <a:pt x="9" y="412"/>
                  </a:lnTo>
                  <a:lnTo>
                    <a:pt x="4" y="438"/>
                  </a:lnTo>
                  <a:lnTo>
                    <a:pt x="2" y="464"/>
                  </a:lnTo>
                  <a:lnTo>
                    <a:pt x="0" y="491"/>
                  </a:lnTo>
                  <a:lnTo>
                    <a:pt x="0" y="517"/>
                  </a:lnTo>
                  <a:lnTo>
                    <a:pt x="0" y="544"/>
                  </a:lnTo>
                  <a:lnTo>
                    <a:pt x="2" y="571"/>
                  </a:lnTo>
                  <a:lnTo>
                    <a:pt x="4" y="597"/>
                  </a:lnTo>
                  <a:lnTo>
                    <a:pt x="9" y="622"/>
                  </a:lnTo>
                  <a:lnTo>
                    <a:pt x="13" y="648"/>
                  </a:lnTo>
                  <a:lnTo>
                    <a:pt x="20" y="672"/>
                  </a:lnTo>
                  <a:lnTo>
                    <a:pt x="27" y="696"/>
                  </a:lnTo>
                  <a:lnTo>
                    <a:pt x="35" y="720"/>
                  </a:lnTo>
                  <a:lnTo>
                    <a:pt x="44" y="742"/>
                  </a:lnTo>
                  <a:lnTo>
                    <a:pt x="54" y="764"/>
                  </a:lnTo>
                  <a:lnTo>
                    <a:pt x="67" y="785"/>
                  </a:lnTo>
                  <a:lnTo>
                    <a:pt x="79" y="807"/>
                  </a:lnTo>
                  <a:lnTo>
                    <a:pt x="93" y="827"/>
                  </a:lnTo>
                  <a:lnTo>
                    <a:pt x="108" y="847"/>
                  </a:lnTo>
                  <a:lnTo>
                    <a:pt x="125" y="866"/>
                  </a:lnTo>
                  <a:lnTo>
                    <a:pt x="141" y="885"/>
                  </a:lnTo>
                  <a:lnTo>
                    <a:pt x="159" y="903"/>
                  </a:lnTo>
                  <a:lnTo>
                    <a:pt x="178" y="919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7" y="975"/>
                  </a:lnTo>
                  <a:lnTo>
                    <a:pt x="278" y="986"/>
                  </a:lnTo>
                  <a:lnTo>
                    <a:pt x="301" y="997"/>
                  </a:lnTo>
                  <a:lnTo>
                    <a:pt x="323" y="1005"/>
                  </a:lnTo>
                  <a:lnTo>
                    <a:pt x="346" y="1013"/>
                  </a:lnTo>
                  <a:lnTo>
                    <a:pt x="370" y="1019"/>
                  </a:lnTo>
                  <a:lnTo>
                    <a:pt x="393" y="1024"/>
                  </a:lnTo>
                  <a:lnTo>
                    <a:pt x="418" y="1029"/>
                  </a:lnTo>
                  <a:lnTo>
                    <a:pt x="443" y="1031"/>
                  </a:lnTo>
                  <a:lnTo>
                    <a:pt x="469" y="1033"/>
                  </a:lnTo>
                  <a:lnTo>
                    <a:pt x="495" y="1033"/>
                  </a:lnTo>
                  <a:lnTo>
                    <a:pt x="521" y="1033"/>
                  </a:lnTo>
                  <a:lnTo>
                    <a:pt x="547" y="1031"/>
                  </a:lnTo>
                  <a:lnTo>
                    <a:pt x="571" y="1029"/>
                  </a:lnTo>
                  <a:lnTo>
                    <a:pt x="596" y="1024"/>
                  </a:lnTo>
                  <a:lnTo>
                    <a:pt x="619" y="1019"/>
                  </a:lnTo>
                  <a:lnTo>
                    <a:pt x="643" y="1013"/>
                  </a:lnTo>
                  <a:lnTo>
                    <a:pt x="666" y="1005"/>
                  </a:lnTo>
                  <a:lnTo>
                    <a:pt x="688" y="997"/>
                  </a:lnTo>
                  <a:lnTo>
                    <a:pt x="710" y="986"/>
                  </a:lnTo>
                  <a:lnTo>
                    <a:pt x="732" y="975"/>
                  </a:lnTo>
                  <a:lnTo>
                    <a:pt x="752" y="963"/>
                  </a:lnTo>
                  <a:lnTo>
                    <a:pt x="772" y="950"/>
                  </a:lnTo>
                  <a:lnTo>
                    <a:pt x="792" y="935"/>
                  </a:lnTo>
                  <a:lnTo>
                    <a:pt x="811" y="919"/>
                  </a:lnTo>
                  <a:lnTo>
                    <a:pt x="830" y="903"/>
                  </a:lnTo>
                  <a:lnTo>
                    <a:pt x="848" y="885"/>
                  </a:lnTo>
                  <a:lnTo>
                    <a:pt x="866" y="866"/>
                  </a:lnTo>
                  <a:lnTo>
                    <a:pt x="881" y="847"/>
                  </a:lnTo>
                  <a:lnTo>
                    <a:pt x="897" y="827"/>
                  </a:lnTo>
                  <a:lnTo>
                    <a:pt x="910" y="806"/>
                  </a:lnTo>
                  <a:lnTo>
                    <a:pt x="923" y="785"/>
                  </a:lnTo>
                  <a:lnTo>
                    <a:pt x="935" y="763"/>
                  </a:lnTo>
                  <a:lnTo>
                    <a:pt x="945" y="741"/>
                  </a:lnTo>
                  <a:lnTo>
                    <a:pt x="955" y="718"/>
                  </a:lnTo>
                  <a:lnTo>
                    <a:pt x="963" y="695"/>
                  </a:lnTo>
                  <a:lnTo>
                    <a:pt x="970" y="672"/>
                  </a:lnTo>
                  <a:lnTo>
                    <a:pt x="976" y="647"/>
                  </a:lnTo>
                  <a:lnTo>
                    <a:pt x="982" y="622"/>
                  </a:lnTo>
                  <a:lnTo>
                    <a:pt x="985" y="597"/>
                  </a:lnTo>
                  <a:lnTo>
                    <a:pt x="988" y="571"/>
                  </a:lnTo>
                  <a:lnTo>
                    <a:pt x="989" y="544"/>
                  </a:lnTo>
                  <a:lnTo>
                    <a:pt x="990" y="517"/>
                  </a:lnTo>
                  <a:lnTo>
                    <a:pt x="989" y="491"/>
                  </a:lnTo>
                  <a:lnTo>
                    <a:pt x="988" y="464"/>
                  </a:lnTo>
                  <a:lnTo>
                    <a:pt x="985" y="438"/>
                  </a:lnTo>
                  <a:lnTo>
                    <a:pt x="982" y="412"/>
                  </a:lnTo>
                  <a:lnTo>
                    <a:pt x="976" y="388"/>
                  </a:lnTo>
                  <a:lnTo>
                    <a:pt x="970" y="363"/>
                  </a:lnTo>
                  <a:lnTo>
                    <a:pt x="963" y="340"/>
                  </a:lnTo>
                  <a:lnTo>
                    <a:pt x="955" y="316"/>
                  </a:lnTo>
                  <a:lnTo>
                    <a:pt x="945" y="294"/>
                  </a:lnTo>
                  <a:lnTo>
                    <a:pt x="935" y="272"/>
                  </a:lnTo>
                  <a:lnTo>
                    <a:pt x="923" y="251"/>
                  </a:lnTo>
                  <a:lnTo>
                    <a:pt x="910" y="229"/>
                  </a:lnTo>
                  <a:lnTo>
                    <a:pt x="897" y="208"/>
                  </a:lnTo>
                  <a:lnTo>
                    <a:pt x="881" y="188"/>
                  </a:lnTo>
                  <a:lnTo>
                    <a:pt x="866" y="169"/>
                  </a:lnTo>
                  <a:lnTo>
                    <a:pt x="848" y="150"/>
                  </a:lnTo>
                  <a:lnTo>
                    <a:pt x="830" y="132"/>
                  </a:lnTo>
                  <a:lnTo>
                    <a:pt x="811" y="114"/>
                  </a:lnTo>
                  <a:lnTo>
                    <a:pt x="792" y="99"/>
                  </a:lnTo>
                  <a:lnTo>
                    <a:pt x="772" y="84"/>
                  </a:lnTo>
                  <a:lnTo>
                    <a:pt x="752" y="71"/>
                  </a:lnTo>
                  <a:lnTo>
                    <a:pt x="732" y="58"/>
                  </a:lnTo>
                  <a:lnTo>
                    <a:pt x="710" y="47"/>
                  </a:lnTo>
                  <a:lnTo>
                    <a:pt x="688" y="37"/>
                  </a:lnTo>
                  <a:lnTo>
                    <a:pt x="666" y="28"/>
                  </a:lnTo>
                  <a:lnTo>
                    <a:pt x="643" y="20"/>
                  </a:lnTo>
                  <a:lnTo>
                    <a:pt x="619" y="15"/>
                  </a:lnTo>
                  <a:lnTo>
                    <a:pt x="596" y="9"/>
                  </a:lnTo>
                  <a:lnTo>
                    <a:pt x="571" y="5"/>
                  </a:lnTo>
                  <a:lnTo>
                    <a:pt x="547" y="3"/>
                  </a:lnTo>
                  <a:lnTo>
                    <a:pt x="521" y="0"/>
                  </a:lnTo>
                  <a:lnTo>
                    <a:pt x="49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04960" y="203328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27400" y="204912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9280" y="204912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73480" y="20397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27720" y="204912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09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341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2049120"/>
              <a:ext cx="142920" cy="552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78520" y="204912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9480" y="203832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35520" y="2049120"/>
              <a:ext cx="142920" cy="552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78520" y="204912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59480" y="203832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828800" y="2678040"/>
            <a:ext cx="1462680" cy="487800"/>
            <a:chOff x="1828800" y="2678040"/>
            <a:chExt cx="1462680" cy="487800"/>
          </a:xfrm>
        </p:grpSpPr>
        <p:sp>
          <p:nvSpPr>
            <p:cNvPr id="214" name=""/>
            <p:cNvSpPr/>
            <p:nvPr/>
          </p:nvSpPr>
          <p:spPr>
            <a:xfrm>
              <a:off x="2155320" y="2678040"/>
              <a:ext cx="1136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h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2880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28800" y="3198960"/>
            <a:ext cx="1550520" cy="487800"/>
            <a:chOff x="1828800" y="3198960"/>
            <a:chExt cx="1550520" cy="487800"/>
          </a:xfrm>
        </p:grpSpPr>
        <p:sp>
          <p:nvSpPr>
            <p:cNvPr id="217" name=""/>
            <p:cNvSpPr/>
            <p:nvPr/>
          </p:nvSpPr>
          <p:spPr>
            <a:xfrm>
              <a:off x="2161080" y="3198960"/>
              <a:ext cx="1218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n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880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28800" y="3773520"/>
            <a:ext cx="1508400" cy="487800"/>
            <a:chOff x="1828800" y="3773520"/>
            <a:chExt cx="1508400" cy="487800"/>
          </a:xfrm>
        </p:grpSpPr>
        <p:sp>
          <p:nvSpPr>
            <p:cNvPr id="220" name=""/>
            <p:cNvSpPr/>
            <p:nvPr/>
          </p:nvSpPr>
          <p:spPr>
            <a:xfrm>
              <a:off x="2176560" y="3773520"/>
              <a:ext cx="1160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Ang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880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828800" y="4348080"/>
            <a:ext cx="2372040" cy="487800"/>
            <a:chOff x="1828800" y="4348080"/>
            <a:chExt cx="2372040" cy="487800"/>
          </a:xfrm>
        </p:grpSpPr>
        <p:sp>
          <p:nvSpPr>
            <p:cNvPr id="223" name=""/>
            <p:cNvSpPr/>
            <p:nvPr/>
          </p:nvSpPr>
          <p:spPr>
            <a:xfrm>
              <a:off x="2097000" y="4348080"/>
              <a:ext cx="2103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Bargai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2880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828800" y="4923000"/>
            <a:ext cx="2298240" cy="487800"/>
            <a:chOff x="1828800" y="4923000"/>
            <a:chExt cx="2298240" cy="487800"/>
          </a:xfrm>
        </p:grpSpPr>
        <p:sp>
          <p:nvSpPr>
            <p:cNvPr id="226" name=""/>
            <p:cNvSpPr/>
            <p:nvPr/>
          </p:nvSpPr>
          <p:spPr>
            <a:xfrm>
              <a:off x="2102400" y="4923000"/>
              <a:ext cx="20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Loneli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28800" y="503712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33920" y="2666880"/>
            <a:ext cx="1194120" cy="487800"/>
            <a:chOff x="4633920" y="2666880"/>
            <a:chExt cx="1194120" cy="487800"/>
          </a:xfrm>
        </p:grpSpPr>
        <p:sp>
          <p:nvSpPr>
            <p:cNvPr id="229" name=""/>
            <p:cNvSpPr/>
            <p:nvPr/>
          </p:nvSpPr>
          <p:spPr>
            <a:xfrm>
              <a:off x="4989240" y="2666880"/>
              <a:ext cx="83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Fe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3392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33920" y="3187800"/>
            <a:ext cx="3936600" cy="487800"/>
            <a:chOff x="4633920" y="3187800"/>
            <a:chExt cx="3936600" cy="487800"/>
          </a:xfrm>
        </p:grpSpPr>
        <p:sp>
          <p:nvSpPr>
            <p:cNvPr id="232" name=""/>
            <p:cNvSpPr/>
            <p:nvPr/>
          </p:nvSpPr>
          <p:spPr>
            <a:xfrm>
              <a:off x="4985280" y="3187800"/>
              <a:ext cx="3585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lf-conscious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3392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633920" y="3762360"/>
            <a:ext cx="2431800" cy="487800"/>
            <a:chOff x="4633920" y="3762360"/>
            <a:chExt cx="2431800" cy="487800"/>
          </a:xfrm>
        </p:grpSpPr>
        <p:sp>
          <p:nvSpPr>
            <p:cNvPr id="235" name=""/>
            <p:cNvSpPr/>
            <p:nvPr/>
          </p:nvSpPr>
          <p:spPr>
            <a:xfrm>
              <a:off x="4896360" y="376236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press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3392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633920" y="4336920"/>
            <a:ext cx="1390320" cy="487800"/>
            <a:chOff x="4633920" y="4336920"/>
            <a:chExt cx="1390320" cy="487800"/>
          </a:xfrm>
        </p:grpSpPr>
        <p:sp>
          <p:nvSpPr>
            <p:cNvPr id="238" name=""/>
            <p:cNvSpPr/>
            <p:nvPr/>
          </p:nvSpPr>
          <p:spPr>
            <a:xfrm>
              <a:off x="4994640" y="4336920"/>
              <a:ext cx="1029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H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3392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934640" y="757080"/>
            <a:ext cx="51811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3300"/>
                </a:solidFill>
                <a:latin typeface="Geometr231 Hv BT"/>
              </a:rPr>
              <a:t>FEELINGS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3300"/>
                </a:solidFill>
                <a:latin typeface="Geometr231 Hv BT"/>
              </a:rPr>
              <a:t>HIV+ PER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828800" y="2678040"/>
            <a:ext cx="1462680" cy="487800"/>
            <a:chOff x="1828800" y="2678040"/>
            <a:chExt cx="1462680" cy="487800"/>
          </a:xfrm>
        </p:grpSpPr>
        <p:sp>
          <p:nvSpPr>
            <p:cNvPr id="242" name=""/>
            <p:cNvSpPr/>
            <p:nvPr/>
          </p:nvSpPr>
          <p:spPr>
            <a:xfrm>
              <a:off x="2155320" y="2678040"/>
              <a:ext cx="1136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h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28800" y="3198960"/>
            <a:ext cx="1550520" cy="487800"/>
            <a:chOff x="1828800" y="3198960"/>
            <a:chExt cx="1550520" cy="487800"/>
          </a:xfrm>
        </p:grpSpPr>
        <p:sp>
          <p:nvSpPr>
            <p:cNvPr id="245" name=""/>
            <p:cNvSpPr/>
            <p:nvPr/>
          </p:nvSpPr>
          <p:spPr>
            <a:xfrm>
              <a:off x="2161080" y="3198960"/>
              <a:ext cx="1218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n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2880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828800" y="3773520"/>
            <a:ext cx="1508400" cy="487800"/>
            <a:chOff x="1828800" y="3773520"/>
            <a:chExt cx="1508400" cy="487800"/>
          </a:xfrm>
        </p:grpSpPr>
        <p:sp>
          <p:nvSpPr>
            <p:cNvPr id="248" name=""/>
            <p:cNvSpPr/>
            <p:nvPr/>
          </p:nvSpPr>
          <p:spPr>
            <a:xfrm>
              <a:off x="2176560" y="3773520"/>
              <a:ext cx="1160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Ang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2880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828800" y="4348080"/>
            <a:ext cx="2372040" cy="487800"/>
            <a:chOff x="1828800" y="4348080"/>
            <a:chExt cx="2372040" cy="487800"/>
          </a:xfrm>
        </p:grpSpPr>
        <p:sp>
          <p:nvSpPr>
            <p:cNvPr id="251" name=""/>
            <p:cNvSpPr/>
            <p:nvPr/>
          </p:nvSpPr>
          <p:spPr>
            <a:xfrm>
              <a:off x="2097000" y="4348080"/>
              <a:ext cx="2103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Bargai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880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4923000"/>
            <a:ext cx="2298240" cy="487800"/>
            <a:chOff x="1828800" y="4923000"/>
            <a:chExt cx="2298240" cy="487800"/>
          </a:xfrm>
        </p:grpSpPr>
        <p:sp>
          <p:nvSpPr>
            <p:cNvPr id="254" name=""/>
            <p:cNvSpPr/>
            <p:nvPr/>
          </p:nvSpPr>
          <p:spPr>
            <a:xfrm>
              <a:off x="2102400" y="4923000"/>
              <a:ext cx="20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Loneli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28800" y="503712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633920" y="2666880"/>
            <a:ext cx="1194120" cy="487800"/>
            <a:chOff x="4633920" y="2666880"/>
            <a:chExt cx="1194120" cy="487800"/>
          </a:xfrm>
        </p:grpSpPr>
        <p:sp>
          <p:nvSpPr>
            <p:cNvPr id="257" name=""/>
            <p:cNvSpPr/>
            <p:nvPr/>
          </p:nvSpPr>
          <p:spPr>
            <a:xfrm>
              <a:off x="4989240" y="2666880"/>
              <a:ext cx="83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Fe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392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33920" y="3187800"/>
            <a:ext cx="3936600" cy="487800"/>
            <a:chOff x="4633920" y="3187800"/>
            <a:chExt cx="3936600" cy="487800"/>
          </a:xfrm>
        </p:grpSpPr>
        <p:sp>
          <p:nvSpPr>
            <p:cNvPr id="260" name=""/>
            <p:cNvSpPr/>
            <p:nvPr/>
          </p:nvSpPr>
          <p:spPr>
            <a:xfrm>
              <a:off x="4985280" y="3187800"/>
              <a:ext cx="3585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lf-conscious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392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633920" y="3762360"/>
            <a:ext cx="2431800" cy="487800"/>
            <a:chOff x="4633920" y="3762360"/>
            <a:chExt cx="2431800" cy="487800"/>
          </a:xfrm>
        </p:grpSpPr>
        <p:sp>
          <p:nvSpPr>
            <p:cNvPr id="263" name=""/>
            <p:cNvSpPr/>
            <p:nvPr/>
          </p:nvSpPr>
          <p:spPr>
            <a:xfrm>
              <a:off x="4896360" y="376236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press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392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633920" y="4336920"/>
            <a:ext cx="1390320" cy="487800"/>
            <a:chOff x="4633920" y="4336920"/>
            <a:chExt cx="1390320" cy="487800"/>
          </a:xfrm>
        </p:grpSpPr>
        <p:sp>
          <p:nvSpPr>
            <p:cNvPr id="266" name=""/>
            <p:cNvSpPr/>
            <p:nvPr/>
          </p:nvSpPr>
          <p:spPr>
            <a:xfrm>
              <a:off x="4994640" y="4336920"/>
              <a:ext cx="1029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H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3392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47480" y="878040"/>
            <a:ext cx="8164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FEELINGS OF THE NON-INFEC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PERSON TOWARD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HIV+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020400" y="1679400"/>
            <a:ext cx="2507760" cy="1082520"/>
            <a:chOff x="3020400" y="1679400"/>
            <a:chExt cx="2507760" cy="1082520"/>
          </a:xfrm>
        </p:grpSpPr>
        <p:sp>
          <p:nvSpPr>
            <p:cNvPr id="270" name=""/>
            <p:cNvSpPr/>
            <p:nvPr/>
          </p:nvSpPr>
          <p:spPr>
            <a:xfrm>
              <a:off x="3309840" y="1938240"/>
              <a:ext cx="221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apport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20400" y="1679400"/>
              <a:ext cx="5616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017520" y="2759040"/>
            <a:ext cx="3454560" cy="1082520"/>
            <a:chOff x="3017520" y="2759040"/>
            <a:chExt cx="3454560" cy="1082520"/>
          </a:xfrm>
        </p:grpSpPr>
        <p:sp>
          <p:nvSpPr>
            <p:cNvPr id="273" name=""/>
            <p:cNvSpPr/>
            <p:nvPr/>
          </p:nvSpPr>
          <p:spPr>
            <a:xfrm>
              <a:off x="3200760" y="3017880"/>
              <a:ext cx="3271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xplorat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7520" y="2759040"/>
              <a:ext cx="5022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E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985120" y="3838680"/>
            <a:ext cx="2584440" cy="1082520"/>
            <a:chOff x="2985120" y="3838680"/>
            <a:chExt cx="2584440" cy="1082520"/>
          </a:xfrm>
        </p:grpSpPr>
        <p:sp>
          <p:nvSpPr>
            <p:cNvPr id="276" name=""/>
            <p:cNvSpPr/>
            <p:nvPr/>
          </p:nvSpPr>
          <p:spPr>
            <a:xfrm>
              <a:off x="3290400" y="4097160"/>
              <a:ext cx="2279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ecis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85120" y="3838680"/>
              <a:ext cx="65916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D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060360" y="4917960"/>
            <a:ext cx="2025360" cy="1082520"/>
            <a:chOff x="3060360" y="4917960"/>
            <a:chExt cx="2025360" cy="1082520"/>
          </a:xfrm>
        </p:grpSpPr>
        <p:sp>
          <p:nvSpPr>
            <p:cNvPr id="279" name=""/>
            <p:cNvSpPr/>
            <p:nvPr/>
          </p:nvSpPr>
          <p:spPr>
            <a:xfrm>
              <a:off x="3404160" y="5176800"/>
              <a:ext cx="1681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ct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0360" y="4917960"/>
              <a:ext cx="57672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98620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390" y="706"/>
                </a:moveTo>
                <a:lnTo>
                  <a:pt x="426" y="706"/>
                </a:lnTo>
                <a:lnTo>
                  <a:pt x="452" y="705"/>
                </a:lnTo>
                <a:lnTo>
                  <a:pt x="476" y="703"/>
                </a:lnTo>
                <a:lnTo>
                  <a:pt x="499" y="699"/>
                </a:lnTo>
                <a:lnTo>
                  <a:pt x="519" y="694"/>
                </a:lnTo>
                <a:lnTo>
                  <a:pt x="538" y="687"/>
                </a:lnTo>
                <a:lnTo>
                  <a:pt x="556" y="679"/>
                </a:lnTo>
                <a:lnTo>
                  <a:pt x="572" y="669"/>
                </a:lnTo>
                <a:lnTo>
                  <a:pt x="587" y="659"/>
                </a:lnTo>
                <a:lnTo>
                  <a:pt x="600" y="645"/>
                </a:lnTo>
                <a:lnTo>
                  <a:pt x="610" y="631"/>
                </a:lnTo>
                <a:lnTo>
                  <a:pt x="620" y="617"/>
                </a:lnTo>
                <a:lnTo>
                  <a:pt x="628" y="599"/>
                </a:lnTo>
                <a:lnTo>
                  <a:pt x="634" y="581"/>
                </a:lnTo>
                <a:lnTo>
                  <a:pt x="638" y="562"/>
                </a:lnTo>
                <a:lnTo>
                  <a:pt x="640" y="541"/>
                </a:lnTo>
                <a:lnTo>
                  <a:pt x="641" y="520"/>
                </a:lnTo>
                <a:lnTo>
                  <a:pt x="641" y="497"/>
                </a:lnTo>
                <a:lnTo>
                  <a:pt x="638" y="476"/>
                </a:lnTo>
                <a:lnTo>
                  <a:pt x="634" y="457"/>
                </a:lnTo>
                <a:lnTo>
                  <a:pt x="628" y="438"/>
                </a:lnTo>
                <a:lnTo>
                  <a:pt x="621" y="421"/>
                </a:lnTo>
                <a:lnTo>
                  <a:pt x="612" y="406"/>
                </a:lnTo>
                <a:lnTo>
                  <a:pt x="601" y="391"/>
                </a:lnTo>
                <a:lnTo>
                  <a:pt x="589" y="378"/>
                </a:lnTo>
                <a:lnTo>
                  <a:pt x="575" y="366"/>
                </a:lnTo>
                <a:lnTo>
                  <a:pt x="559" y="357"/>
                </a:lnTo>
                <a:lnTo>
                  <a:pt x="543" y="348"/>
                </a:lnTo>
                <a:lnTo>
                  <a:pt x="525" y="341"/>
                </a:lnTo>
                <a:lnTo>
                  <a:pt x="505" y="337"/>
                </a:lnTo>
                <a:lnTo>
                  <a:pt x="483" y="332"/>
                </a:lnTo>
                <a:lnTo>
                  <a:pt x="461" y="329"/>
                </a:lnTo>
                <a:lnTo>
                  <a:pt x="437" y="329"/>
                </a:lnTo>
                <a:lnTo>
                  <a:pt x="390" y="329"/>
                </a:lnTo>
                <a:lnTo>
                  <a:pt x="390" y="706"/>
                </a:lnTo>
                <a:close/>
                <a:moveTo>
                  <a:pt x="0" y="1502"/>
                </a:moveTo>
                <a:lnTo>
                  <a:pt x="0" y="0"/>
                </a:lnTo>
                <a:lnTo>
                  <a:pt x="425" y="0"/>
                </a:lnTo>
                <a:lnTo>
                  <a:pt x="462" y="0"/>
                </a:lnTo>
                <a:lnTo>
                  <a:pt x="496" y="2"/>
                </a:lnTo>
                <a:lnTo>
                  <a:pt x="531" y="4"/>
                </a:lnTo>
                <a:lnTo>
                  <a:pt x="564" y="8"/>
                </a:lnTo>
                <a:lnTo>
                  <a:pt x="596" y="12"/>
                </a:lnTo>
                <a:lnTo>
                  <a:pt x="628" y="17"/>
                </a:lnTo>
                <a:lnTo>
                  <a:pt x="658" y="23"/>
                </a:lnTo>
                <a:lnTo>
                  <a:pt x="686" y="30"/>
                </a:lnTo>
                <a:lnTo>
                  <a:pt x="714" y="38"/>
                </a:lnTo>
                <a:lnTo>
                  <a:pt x="741" y="48"/>
                </a:lnTo>
                <a:lnTo>
                  <a:pt x="766" y="57"/>
                </a:lnTo>
                <a:lnTo>
                  <a:pt x="791" y="68"/>
                </a:lnTo>
                <a:lnTo>
                  <a:pt x="815" y="80"/>
                </a:lnTo>
                <a:lnTo>
                  <a:pt x="836" y="93"/>
                </a:lnTo>
                <a:lnTo>
                  <a:pt x="857" y="107"/>
                </a:lnTo>
                <a:lnTo>
                  <a:pt x="877" y="122"/>
                </a:lnTo>
                <a:lnTo>
                  <a:pt x="896" y="137"/>
                </a:lnTo>
                <a:lnTo>
                  <a:pt x="914" y="154"/>
                </a:lnTo>
                <a:lnTo>
                  <a:pt x="931" y="171"/>
                </a:lnTo>
                <a:lnTo>
                  <a:pt x="946" y="189"/>
                </a:lnTo>
                <a:lnTo>
                  <a:pt x="961" y="208"/>
                </a:lnTo>
                <a:lnTo>
                  <a:pt x="974" y="228"/>
                </a:lnTo>
                <a:lnTo>
                  <a:pt x="984" y="249"/>
                </a:lnTo>
                <a:lnTo>
                  <a:pt x="995" y="271"/>
                </a:lnTo>
                <a:lnTo>
                  <a:pt x="1005" y="294"/>
                </a:lnTo>
                <a:lnTo>
                  <a:pt x="1013" y="316"/>
                </a:lnTo>
                <a:lnTo>
                  <a:pt x="1019" y="341"/>
                </a:lnTo>
                <a:lnTo>
                  <a:pt x="1025" y="366"/>
                </a:lnTo>
                <a:lnTo>
                  <a:pt x="1028" y="392"/>
                </a:lnTo>
                <a:lnTo>
                  <a:pt x="1032" y="419"/>
                </a:lnTo>
                <a:lnTo>
                  <a:pt x="1034" y="447"/>
                </a:lnTo>
                <a:lnTo>
                  <a:pt x="1034" y="476"/>
                </a:lnTo>
                <a:lnTo>
                  <a:pt x="1033" y="508"/>
                </a:lnTo>
                <a:lnTo>
                  <a:pt x="1031" y="540"/>
                </a:lnTo>
                <a:lnTo>
                  <a:pt x="1026" y="571"/>
                </a:lnTo>
                <a:lnTo>
                  <a:pt x="1019" y="599"/>
                </a:lnTo>
                <a:lnTo>
                  <a:pt x="1009" y="628"/>
                </a:lnTo>
                <a:lnTo>
                  <a:pt x="999" y="655"/>
                </a:lnTo>
                <a:lnTo>
                  <a:pt x="986" y="681"/>
                </a:lnTo>
                <a:lnTo>
                  <a:pt x="970" y="706"/>
                </a:lnTo>
                <a:lnTo>
                  <a:pt x="953" y="730"/>
                </a:lnTo>
                <a:lnTo>
                  <a:pt x="936" y="752"/>
                </a:lnTo>
                <a:lnTo>
                  <a:pt x="917" y="771"/>
                </a:lnTo>
                <a:lnTo>
                  <a:pt x="895" y="789"/>
                </a:lnTo>
                <a:lnTo>
                  <a:pt x="885" y="798"/>
                </a:lnTo>
                <a:lnTo>
                  <a:pt x="873" y="806"/>
                </a:lnTo>
                <a:lnTo>
                  <a:pt x="861" y="813"/>
                </a:lnTo>
                <a:lnTo>
                  <a:pt x="849" y="820"/>
                </a:lnTo>
                <a:lnTo>
                  <a:pt x="823" y="832"/>
                </a:lnTo>
                <a:lnTo>
                  <a:pt x="797" y="843"/>
                </a:lnTo>
                <a:lnTo>
                  <a:pt x="1127" y="1502"/>
                </a:lnTo>
                <a:lnTo>
                  <a:pt x="701" y="1502"/>
                </a:lnTo>
                <a:lnTo>
                  <a:pt x="390" y="859"/>
                </a:lnTo>
                <a:lnTo>
                  <a:pt x="390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16320" y="773280"/>
            <a:ext cx="249120" cy="396720"/>
          </a:xfrm>
          <a:custGeom>
            <a:avLst/>
            <a:gdLst/>
            <a:ahLst/>
            <a:rect l="l" t="t" r="r" b="b"/>
            <a:pathLst>
              <a:path w="939" h="1502">
                <a:moveTo>
                  <a:pt x="939" y="1089"/>
                </a:moveTo>
                <a:lnTo>
                  <a:pt x="835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5" y="400"/>
                </a:lnTo>
                <a:lnTo>
                  <a:pt x="389" y="400"/>
                </a:lnTo>
                <a:lnTo>
                  <a:pt x="389" y="552"/>
                </a:lnTo>
                <a:lnTo>
                  <a:pt x="728" y="552"/>
                </a:lnTo>
                <a:lnTo>
                  <a:pt x="728" y="950"/>
                </a:lnTo>
                <a:lnTo>
                  <a:pt x="389" y="950"/>
                </a:lnTo>
                <a:lnTo>
                  <a:pt x="389" y="1089"/>
                </a:lnTo>
                <a:lnTo>
                  <a:pt x="939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0684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389" y="1102"/>
                </a:moveTo>
                <a:lnTo>
                  <a:pt x="408" y="1099"/>
                </a:lnTo>
                <a:lnTo>
                  <a:pt x="425" y="1096"/>
                </a:lnTo>
                <a:lnTo>
                  <a:pt x="443" y="1092"/>
                </a:lnTo>
                <a:lnTo>
                  <a:pt x="460" y="1089"/>
                </a:lnTo>
                <a:lnTo>
                  <a:pt x="476" y="1084"/>
                </a:lnTo>
                <a:lnTo>
                  <a:pt x="493" y="1078"/>
                </a:lnTo>
                <a:lnTo>
                  <a:pt x="508" y="1072"/>
                </a:lnTo>
                <a:lnTo>
                  <a:pt x="524" y="1066"/>
                </a:lnTo>
                <a:lnTo>
                  <a:pt x="539" y="1058"/>
                </a:lnTo>
                <a:lnTo>
                  <a:pt x="554" y="1051"/>
                </a:lnTo>
                <a:lnTo>
                  <a:pt x="568" y="1042"/>
                </a:lnTo>
                <a:lnTo>
                  <a:pt x="581" y="1033"/>
                </a:lnTo>
                <a:lnTo>
                  <a:pt x="594" y="1023"/>
                </a:lnTo>
                <a:lnTo>
                  <a:pt x="607" y="1013"/>
                </a:lnTo>
                <a:lnTo>
                  <a:pt x="619" y="1001"/>
                </a:lnTo>
                <a:lnTo>
                  <a:pt x="630" y="989"/>
                </a:lnTo>
                <a:lnTo>
                  <a:pt x="640" y="977"/>
                </a:lnTo>
                <a:lnTo>
                  <a:pt x="651" y="965"/>
                </a:lnTo>
                <a:lnTo>
                  <a:pt x="660" y="952"/>
                </a:lnTo>
                <a:lnTo>
                  <a:pt x="670" y="938"/>
                </a:lnTo>
                <a:lnTo>
                  <a:pt x="677" y="925"/>
                </a:lnTo>
                <a:lnTo>
                  <a:pt x="685" y="910"/>
                </a:lnTo>
                <a:lnTo>
                  <a:pt x="691" y="896"/>
                </a:lnTo>
                <a:lnTo>
                  <a:pt x="697" y="881"/>
                </a:lnTo>
                <a:lnTo>
                  <a:pt x="703" y="865"/>
                </a:lnTo>
                <a:lnTo>
                  <a:pt x="708" y="850"/>
                </a:lnTo>
                <a:lnTo>
                  <a:pt x="711" y="834"/>
                </a:lnTo>
                <a:lnTo>
                  <a:pt x="715" y="818"/>
                </a:lnTo>
                <a:lnTo>
                  <a:pt x="717" y="801"/>
                </a:lnTo>
                <a:lnTo>
                  <a:pt x="719" y="783"/>
                </a:lnTo>
                <a:lnTo>
                  <a:pt x="720" y="765"/>
                </a:lnTo>
                <a:lnTo>
                  <a:pt x="720" y="748"/>
                </a:lnTo>
                <a:lnTo>
                  <a:pt x="720" y="729"/>
                </a:lnTo>
                <a:lnTo>
                  <a:pt x="719" y="710"/>
                </a:lnTo>
                <a:lnTo>
                  <a:pt x="717" y="692"/>
                </a:lnTo>
                <a:lnTo>
                  <a:pt x="715" y="674"/>
                </a:lnTo>
                <a:lnTo>
                  <a:pt x="711" y="656"/>
                </a:lnTo>
                <a:lnTo>
                  <a:pt x="708" y="638"/>
                </a:lnTo>
                <a:lnTo>
                  <a:pt x="703" y="622"/>
                </a:lnTo>
                <a:lnTo>
                  <a:pt x="697" y="606"/>
                </a:lnTo>
                <a:lnTo>
                  <a:pt x="691" y="591"/>
                </a:lnTo>
                <a:lnTo>
                  <a:pt x="684" y="575"/>
                </a:lnTo>
                <a:lnTo>
                  <a:pt x="677" y="560"/>
                </a:lnTo>
                <a:lnTo>
                  <a:pt x="669" y="546"/>
                </a:lnTo>
                <a:lnTo>
                  <a:pt x="659" y="531"/>
                </a:lnTo>
                <a:lnTo>
                  <a:pt x="650" y="518"/>
                </a:lnTo>
                <a:lnTo>
                  <a:pt x="639" y="504"/>
                </a:lnTo>
                <a:lnTo>
                  <a:pt x="628" y="492"/>
                </a:lnTo>
                <a:lnTo>
                  <a:pt x="616" y="480"/>
                </a:lnTo>
                <a:lnTo>
                  <a:pt x="605" y="468"/>
                </a:lnTo>
                <a:lnTo>
                  <a:pt x="592" y="458"/>
                </a:lnTo>
                <a:lnTo>
                  <a:pt x="579" y="448"/>
                </a:lnTo>
                <a:lnTo>
                  <a:pt x="565" y="439"/>
                </a:lnTo>
                <a:lnTo>
                  <a:pt x="551" y="430"/>
                </a:lnTo>
                <a:lnTo>
                  <a:pt x="537" y="423"/>
                </a:lnTo>
                <a:lnTo>
                  <a:pt x="523" y="416"/>
                </a:lnTo>
                <a:lnTo>
                  <a:pt x="507" y="410"/>
                </a:lnTo>
                <a:lnTo>
                  <a:pt x="492" y="406"/>
                </a:lnTo>
                <a:lnTo>
                  <a:pt x="475" y="401"/>
                </a:lnTo>
                <a:lnTo>
                  <a:pt x="459" y="396"/>
                </a:lnTo>
                <a:lnTo>
                  <a:pt x="442" y="394"/>
                </a:lnTo>
                <a:lnTo>
                  <a:pt x="424" y="391"/>
                </a:lnTo>
                <a:lnTo>
                  <a:pt x="406" y="390"/>
                </a:lnTo>
                <a:lnTo>
                  <a:pt x="389" y="389"/>
                </a:lnTo>
                <a:lnTo>
                  <a:pt x="389" y="1102"/>
                </a:lnTo>
                <a:close/>
                <a:moveTo>
                  <a:pt x="227" y="0"/>
                </a:moveTo>
                <a:lnTo>
                  <a:pt x="279" y="0"/>
                </a:lnTo>
                <a:lnTo>
                  <a:pt x="328" y="2"/>
                </a:lnTo>
                <a:lnTo>
                  <a:pt x="375" y="4"/>
                </a:lnTo>
                <a:lnTo>
                  <a:pt x="419" y="6"/>
                </a:lnTo>
                <a:lnTo>
                  <a:pt x="461" y="11"/>
                </a:lnTo>
                <a:lnTo>
                  <a:pt x="499" y="16"/>
                </a:lnTo>
                <a:lnTo>
                  <a:pt x="536" y="21"/>
                </a:lnTo>
                <a:lnTo>
                  <a:pt x="569" y="28"/>
                </a:lnTo>
                <a:lnTo>
                  <a:pt x="600" y="35"/>
                </a:lnTo>
                <a:lnTo>
                  <a:pt x="631" y="43"/>
                </a:lnTo>
                <a:lnTo>
                  <a:pt x="660" y="53"/>
                </a:lnTo>
                <a:lnTo>
                  <a:pt x="690" y="63"/>
                </a:lnTo>
                <a:lnTo>
                  <a:pt x="719" y="75"/>
                </a:lnTo>
                <a:lnTo>
                  <a:pt x="746" y="88"/>
                </a:lnTo>
                <a:lnTo>
                  <a:pt x="772" y="101"/>
                </a:lnTo>
                <a:lnTo>
                  <a:pt x="798" y="117"/>
                </a:lnTo>
                <a:lnTo>
                  <a:pt x="818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1" y="186"/>
                </a:lnTo>
                <a:lnTo>
                  <a:pt x="909" y="201"/>
                </a:lnTo>
                <a:lnTo>
                  <a:pt x="924" y="217"/>
                </a:lnTo>
                <a:lnTo>
                  <a:pt x="939" y="233"/>
                </a:lnTo>
                <a:lnTo>
                  <a:pt x="955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2" y="362"/>
                </a:lnTo>
                <a:lnTo>
                  <a:pt x="1043" y="381"/>
                </a:lnTo>
                <a:lnTo>
                  <a:pt x="1052" y="402"/>
                </a:lnTo>
                <a:lnTo>
                  <a:pt x="1062" y="423"/>
                </a:lnTo>
                <a:lnTo>
                  <a:pt x="1071" y="445"/>
                </a:lnTo>
                <a:lnTo>
                  <a:pt x="1080" y="466"/>
                </a:lnTo>
                <a:lnTo>
                  <a:pt x="1087" y="489"/>
                </a:lnTo>
                <a:lnTo>
                  <a:pt x="1094" y="511"/>
                </a:lnTo>
                <a:lnTo>
                  <a:pt x="1100" y="535"/>
                </a:lnTo>
                <a:lnTo>
                  <a:pt x="1106" y="558"/>
                </a:lnTo>
                <a:lnTo>
                  <a:pt x="1110" y="583"/>
                </a:lnTo>
                <a:lnTo>
                  <a:pt x="1115" y="606"/>
                </a:lnTo>
                <a:lnTo>
                  <a:pt x="1119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5" y="707"/>
                </a:lnTo>
                <a:lnTo>
                  <a:pt x="1126" y="733"/>
                </a:lnTo>
                <a:lnTo>
                  <a:pt x="1127" y="761"/>
                </a:lnTo>
                <a:lnTo>
                  <a:pt x="1126" y="784"/>
                </a:lnTo>
                <a:lnTo>
                  <a:pt x="1125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8" y="878"/>
                </a:lnTo>
                <a:lnTo>
                  <a:pt x="1114" y="902"/>
                </a:lnTo>
                <a:lnTo>
                  <a:pt x="1109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5" y="1033"/>
                </a:lnTo>
                <a:lnTo>
                  <a:pt x="1065" y="1054"/>
                </a:lnTo>
                <a:lnTo>
                  <a:pt x="1056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3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4" y="1229"/>
                </a:lnTo>
                <a:lnTo>
                  <a:pt x="938" y="1247"/>
                </a:lnTo>
                <a:lnTo>
                  <a:pt x="923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1" y="1311"/>
                </a:lnTo>
                <a:lnTo>
                  <a:pt x="853" y="1325"/>
                </a:lnTo>
                <a:lnTo>
                  <a:pt x="834" y="1340"/>
                </a:lnTo>
                <a:lnTo>
                  <a:pt x="815" y="1354"/>
                </a:lnTo>
                <a:lnTo>
                  <a:pt x="795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20" y="1411"/>
                </a:lnTo>
                <a:lnTo>
                  <a:pt x="691" y="1424"/>
                </a:lnTo>
                <a:lnTo>
                  <a:pt x="662" y="1435"/>
                </a:lnTo>
                <a:lnTo>
                  <a:pt x="632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7" y="1474"/>
                </a:lnTo>
                <a:lnTo>
                  <a:pt x="504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4" y="1501"/>
                </a:lnTo>
                <a:lnTo>
                  <a:pt x="271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09960" y="773280"/>
            <a:ext cx="387360" cy="396720"/>
          </a:xfrm>
          <a:custGeom>
            <a:avLst/>
            <a:gdLst/>
            <a:ahLst/>
            <a:rect l="l" t="t" r="r" b="b"/>
            <a:pathLst>
              <a:path w="1461" h="1502">
                <a:moveTo>
                  <a:pt x="571" y="958"/>
                </a:moveTo>
                <a:lnTo>
                  <a:pt x="881" y="958"/>
                </a:lnTo>
                <a:lnTo>
                  <a:pt x="725" y="452"/>
                </a:lnTo>
                <a:lnTo>
                  <a:pt x="571" y="958"/>
                </a:lnTo>
                <a:close/>
                <a:moveTo>
                  <a:pt x="0" y="1502"/>
                </a:moveTo>
                <a:lnTo>
                  <a:pt x="526" y="0"/>
                </a:lnTo>
                <a:lnTo>
                  <a:pt x="964" y="0"/>
                </a:lnTo>
                <a:lnTo>
                  <a:pt x="1461" y="1502"/>
                </a:lnTo>
                <a:lnTo>
                  <a:pt x="1048" y="1502"/>
                </a:lnTo>
                <a:lnTo>
                  <a:pt x="994" y="1335"/>
                </a:lnTo>
                <a:lnTo>
                  <a:pt x="463" y="1335"/>
                </a:lnTo>
                <a:lnTo>
                  <a:pt x="405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70480" y="773280"/>
            <a:ext cx="414360" cy="398160"/>
          </a:xfrm>
          <a:custGeom>
            <a:avLst/>
            <a:gdLst/>
            <a:ahLst/>
            <a:rect l="l" t="t" r="r" b="b"/>
            <a:pathLst>
              <a:path w="1564" h="1509">
                <a:moveTo>
                  <a:pt x="0" y="1502"/>
                </a:moveTo>
                <a:lnTo>
                  <a:pt x="190" y="0"/>
                </a:lnTo>
                <a:lnTo>
                  <a:pt x="507" y="0"/>
                </a:lnTo>
                <a:lnTo>
                  <a:pt x="772" y="668"/>
                </a:lnTo>
                <a:lnTo>
                  <a:pt x="1040" y="0"/>
                </a:lnTo>
                <a:lnTo>
                  <a:pt x="1350" y="0"/>
                </a:lnTo>
                <a:lnTo>
                  <a:pt x="1564" y="1502"/>
                </a:lnTo>
                <a:lnTo>
                  <a:pt x="1162" y="1502"/>
                </a:lnTo>
                <a:lnTo>
                  <a:pt x="1078" y="813"/>
                </a:lnTo>
                <a:lnTo>
                  <a:pt x="788" y="1509"/>
                </a:lnTo>
                <a:lnTo>
                  <a:pt x="474" y="813"/>
                </a:lnTo>
                <a:lnTo>
                  <a:pt x="401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1840" y="762120"/>
            <a:ext cx="401400" cy="419040"/>
          </a:xfrm>
          <a:custGeom>
            <a:avLst/>
            <a:gdLst/>
            <a:ahLst/>
            <a:rect l="l" t="t" r="r" b="b"/>
            <a:pathLst>
              <a:path w="1522" h="1582">
                <a:moveTo>
                  <a:pt x="762" y="418"/>
                </a:moveTo>
                <a:lnTo>
                  <a:pt x="743" y="418"/>
                </a:lnTo>
                <a:lnTo>
                  <a:pt x="724" y="419"/>
                </a:lnTo>
                <a:lnTo>
                  <a:pt x="706" y="422"/>
                </a:lnTo>
                <a:lnTo>
                  <a:pt x="688" y="424"/>
                </a:lnTo>
                <a:lnTo>
                  <a:pt x="672" y="428"/>
                </a:lnTo>
                <a:lnTo>
                  <a:pt x="654" y="432"/>
                </a:lnTo>
                <a:lnTo>
                  <a:pt x="639" y="438"/>
                </a:lnTo>
                <a:lnTo>
                  <a:pt x="622" y="444"/>
                </a:lnTo>
                <a:lnTo>
                  <a:pt x="607" y="451"/>
                </a:lnTo>
                <a:lnTo>
                  <a:pt x="591" y="460"/>
                </a:lnTo>
                <a:lnTo>
                  <a:pt x="576" y="468"/>
                </a:lnTo>
                <a:lnTo>
                  <a:pt x="561" y="478"/>
                </a:lnTo>
                <a:lnTo>
                  <a:pt x="547" y="488"/>
                </a:lnTo>
                <a:lnTo>
                  <a:pt x="533" y="500"/>
                </a:lnTo>
                <a:lnTo>
                  <a:pt x="520" y="512"/>
                </a:lnTo>
                <a:lnTo>
                  <a:pt x="507" y="525"/>
                </a:lnTo>
                <a:lnTo>
                  <a:pt x="495" y="538"/>
                </a:lnTo>
                <a:lnTo>
                  <a:pt x="483" y="552"/>
                </a:lnTo>
                <a:lnTo>
                  <a:pt x="472" y="567"/>
                </a:lnTo>
                <a:lnTo>
                  <a:pt x="462" y="582"/>
                </a:lnTo>
                <a:lnTo>
                  <a:pt x="452" y="598"/>
                </a:lnTo>
                <a:lnTo>
                  <a:pt x="444" y="613"/>
                </a:lnTo>
                <a:lnTo>
                  <a:pt x="437" y="628"/>
                </a:lnTo>
                <a:lnTo>
                  <a:pt x="430" y="645"/>
                </a:lnTo>
                <a:lnTo>
                  <a:pt x="424" y="662"/>
                </a:lnTo>
                <a:lnTo>
                  <a:pt x="419" y="678"/>
                </a:lnTo>
                <a:lnTo>
                  <a:pt x="414" y="696"/>
                </a:lnTo>
                <a:lnTo>
                  <a:pt x="411" y="714"/>
                </a:lnTo>
                <a:lnTo>
                  <a:pt x="408" y="733"/>
                </a:lnTo>
                <a:lnTo>
                  <a:pt x="406" y="752"/>
                </a:lnTo>
                <a:lnTo>
                  <a:pt x="405" y="771"/>
                </a:lnTo>
                <a:lnTo>
                  <a:pt x="405" y="790"/>
                </a:lnTo>
                <a:lnTo>
                  <a:pt x="405" y="810"/>
                </a:lnTo>
                <a:lnTo>
                  <a:pt x="406" y="829"/>
                </a:lnTo>
                <a:lnTo>
                  <a:pt x="408" y="848"/>
                </a:lnTo>
                <a:lnTo>
                  <a:pt x="411" y="866"/>
                </a:lnTo>
                <a:lnTo>
                  <a:pt x="414" y="884"/>
                </a:lnTo>
                <a:lnTo>
                  <a:pt x="419" y="902"/>
                </a:lnTo>
                <a:lnTo>
                  <a:pt x="424" y="918"/>
                </a:lnTo>
                <a:lnTo>
                  <a:pt x="430" y="935"/>
                </a:lnTo>
                <a:lnTo>
                  <a:pt x="437" y="952"/>
                </a:lnTo>
                <a:lnTo>
                  <a:pt x="444" y="968"/>
                </a:lnTo>
                <a:lnTo>
                  <a:pt x="452" y="984"/>
                </a:lnTo>
                <a:lnTo>
                  <a:pt x="462" y="998"/>
                </a:lnTo>
                <a:lnTo>
                  <a:pt x="471" y="1013"/>
                </a:lnTo>
                <a:lnTo>
                  <a:pt x="483" y="1028"/>
                </a:lnTo>
                <a:lnTo>
                  <a:pt x="494" y="1042"/>
                </a:lnTo>
                <a:lnTo>
                  <a:pt x="507" y="1055"/>
                </a:lnTo>
                <a:lnTo>
                  <a:pt x="520" y="1068"/>
                </a:lnTo>
                <a:lnTo>
                  <a:pt x="533" y="1080"/>
                </a:lnTo>
                <a:lnTo>
                  <a:pt x="546" y="1092"/>
                </a:lnTo>
                <a:lnTo>
                  <a:pt x="560" y="1101"/>
                </a:lnTo>
                <a:lnTo>
                  <a:pt x="576" y="1111"/>
                </a:lnTo>
                <a:lnTo>
                  <a:pt x="590" y="1120"/>
                </a:lnTo>
                <a:lnTo>
                  <a:pt x="605" y="1127"/>
                </a:lnTo>
                <a:lnTo>
                  <a:pt x="621" y="1135"/>
                </a:lnTo>
                <a:lnTo>
                  <a:pt x="637" y="1142"/>
                </a:lnTo>
                <a:lnTo>
                  <a:pt x="654" y="1146"/>
                </a:lnTo>
                <a:lnTo>
                  <a:pt x="671" y="1151"/>
                </a:lnTo>
                <a:lnTo>
                  <a:pt x="688" y="1155"/>
                </a:lnTo>
                <a:lnTo>
                  <a:pt x="706" y="1158"/>
                </a:lnTo>
                <a:lnTo>
                  <a:pt x="724" y="1161"/>
                </a:lnTo>
                <a:lnTo>
                  <a:pt x="743" y="1162"/>
                </a:lnTo>
                <a:lnTo>
                  <a:pt x="762" y="1162"/>
                </a:lnTo>
                <a:lnTo>
                  <a:pt x="780" y="1162"/>
                </a:lnTo>
                <a:lnTo>
                  <a:pt x="799" y="1161"/>
                </a:lnTo>
                <a:lnTo>
                  <a:pt x="817" y="1158"/>
                </a:lnTo>
                <a:lnTo>
                  <a:pt x="834" y="1155"/>
                </a:lnTo>
                <a:lnTo>
                  <a:pt x="851" y="1151"/>
                </a:lnTo>
                <a:lnTo>
                  <a:pt x="869" y="1146"/>
                </a:lnTo>
                <a:lnTo>
                  <a:pt x="884" y="1142"/>
                </a:lnTo>
                <a:lnTo>
                  <a:pt x="901" y="1135"/>
                </a:lnTo>
                <a:lnTo>
                  <a:pt x="916" y="1127"/>
                </a:lnTo>
                <a:lnTo>
                  <a:pt x="932" y="1120"/>
                </a:lnTo>
                <a:lnTo>
                  <a:pt x="947" y="1111"/>
                </a:lnTo>
                <a:lnTo>
                  <a:pt x="962" y="1101"/>
                </a:lnTo>
                <a:lnTo>
                  <a:pt x="976" y="1091"/>
                </a:lnTo>
                <a:lnTo>
                  <a:pt x="990" y="1080"/>
                </a:lnTo>
                <a:lnTo>
                  <a:pt x="1003" y="1068"/>
                </a:lnTo>
                <a:lnTo>
                  <a:pt x="1016" y="1055"/>
                </a:lnTo>
                <a:lnTo>
                  <a:pt x="1028" y="1041"/>
                </a:lnTo>
                <a:lnTo>
                  <a:pt x="1040" y="1028"/>
                </a:lnTo>
                <a:lnTo>
                  <a:pt x="1051" y="1012"/>
                </a:lnTo>
                <a:lnTo>
                  <a:pt x="1061" y="998"/>
                </a:lnTo>
                <a:lnTo>
                  <a:pt x="1070" y="982"/>
                </a:lnTo>
                <a:lnTo>
                  <a:pt x="1078" y="967"/>
                </a:lnTo>
                <a:lnTo>
                  <a:pt x="1086" y="952"/>
                </a:lnTo>
                <a:lnTo>
                  <a:pt x="1093" y="935"/>
                </a:lnTo>
                <a:lnTo>
                  <a:pt x="1099" y="918"/>
                </a:lnTo>
                <a:lnTo>
                  <a:pt x="1104" y="901"/>
                </a:lnTo>
                <a:lnTo>
                  <a:pt x="1109" y="884"/>
                </a:lnTo>
                <a:lnTo>
                  <a:pt x="1112" y="866"/>
                </a:lnTo>
                <a:lnTo>
                  <a:pt x="1115" y="847"/>
                </a:lnTo>
                <a:lnTo>
                  <a:pt x="1117" y="828"/>
                </a:lnTo>
                <a:lnTo>
                  <a:pt x="1118" y="809"/>
                </a:lnTo>
                <a:lnTo>
                  <a:pt x="1118" y="790"/>
                </a:lnTo>
                <a:lnTo>
                  <a:pt x="1118" y="771"/>
                </a:lnTo>
                <a:lnTo>
                  <a:pt x="1117" y="752"/>
                </a:lnTo>
                <a:lnTo>
                  <a:pt x="1115" y="733"/>
                </a:lnTo>
                <a:lnTo>
                  <a:pt x="1112" y="715"/>
                </a:lnTo>
                <a:lnTo>
                  <a:pt x="1109" y="697"/>
                </a:lnTo>
                <a:lnTo>
                  <a:pt x="1104" y="680"/>
                </a:lnTo>
                <a:lnTo>
                  <a:pt x="1099" y="663"/>
                </a:lnTo>
                <a:lnTo>
                  <a:pt x="1093" y="645"/>
                </a:lnTo>
                <a:lnTo>
                  <a:pt x="1086" y="630"/>
                </a:lnTo>
                <a:lnTo>
                  <a:pt x="1078" y="613"/>
                </a:lnTo>
                <a:lnTo>
                  <a:pt x="1070" y="598"/>
                </a:lnTo>
                <a:lnTo>
                  <a:pt x="1061" y="582"/>
                </a:lnTo>
                <a:lnTo>
                  <a:pt x="1051" y="568"/>
                </a:lnTo>
                <a:lnTo>
                  <a:pt x="1040" y="554"/>
                </a:lnTo>
                <a:lnTo>
                  <a:pt x="1028" y="539"/>
                </a:lnTo>
                <a:lnTo>
                  <a:pt x="1016" y="525"/>
                </a:lnTo>
                <a:lnTo>
                  <a:pt x="1003" y="512"/>
                </a:lnTo>
                <a:lnTo>
                  <a:pt x="990" y="500"/>
                </a:lnTo>
                <a:lnTo>
                  <a:pt x="976" y="489"/>
                </a:lnTo>
                <a:lnTo>
                  <a:pt x="962" y="479"/>
                </a:lnTo>
                <a:lnTo>
                  <a:pt x="947" y="469"/>
                </a:lnTo>
                <a:lnTo>
                  <a:pt x="932" y="460"/>
                </a:lnTo>
                <a:lnTo>
                  <a:pt x="916" y="451"/>
                </a:lnTo>
                <a:lnTo>
                  <a:pt x="901" y="444"/>
                </a:lnTo>
                <a:lnTo>
                  <a:pt x="884" y="438"/>
                </a:lnTo>
                <a:lnTo>
                  <a:pt x="869" y="432"/>
                </a:lnTo>
                <a:lnTo>
                  <a:pt x="851" y="429"/>
                </a:lnTo>
                <a:lnTo>
                  <a:pt x="834" y="424"/>
                </a:lnTo>
                <a:lnTo>
                  <a:pt x="817" y="422"/>
                </a:lnTo>
                <a:lnTo>
                  <a:pt x="799" y="419"/>
                </a:lnTo>
                <a:lnTo>
                  <a:pt x="780" y="418"/>
                </a:lnTo>
                <a:lnTo>
                  <a:pt x="762" y="418"/>
                </a:lnTo>
                <a:close/>
                <a:moveTo>
                  <a:pt x="760" y="0"/>
                </a:moveTo>
                <a:lnTo>
                  <a:pt x="795" y="1"/>
                </a:lnTo>
                <a:lnTo>
                  <a:pt x="830" y="4"/>
                </a:lnTo>
                <a:lnTo>
                  <a:pt x="864" y="7"/>
                </a:lnTo>
                <a:lnTo>
                  <a:pt x="899" y="12"/>
                </a:lnTo>
                <a:lnTo>
                  <a:pt x="932" y="19"/>
                </a:lnTo>
                <a:lnTo>
                  <a:pt x="965" y="27"/>
                </a:lnTo>
                <a:lnTo>
                  <a:pt x="998" y="37"/>
                </a:lnTo>
                <a:lnTo>
                  <a:pt x="1030" y="49"/>
                </a:lnTo>
                <a:lnTo>
                  <a:pt x="1062" y="61"/>
                </a:lnTo>
                <a:lnTo>
                  <a:pt x="1092" y="75"/>
                </a:lnTo>
                <a:lnTo>
                  <a:pt x="1122" y="90"/>
                </a:lnTo>
                <a:lnTo>
                  <a:pt x="1150" y="107"/>
                </a:lnTo>
                <a:lnTo>
                  <a:pt x="1178" y="125"/>
                </a:lnTo>
                <a:lnTo>
                  <a:pt x="1205" y="144"/>
                </a:lnTo>
                <a:lnTo>
                  <a:pt x="1230" y="165"/>
                </a:lnTo>
                <a:lnTo>
                  <a:pt x="1255" y="187"/>
                </a:lnTo>
                <a:lnTo>
                  <a:pt x="1286" y="217"/>
                </a:lnTo>
                <a:lnTo>
                  <a:pt x="1315" y="248"/>
                </a:lnTo>
                <a:lnTo>
                  <a:pt x="1344" y="280"/>
                </a:lnTo>
                <a:lnTo>
                  <a:pt x="1369" y="315"/>
                </a:lnTo>
                <a:lnTo>
                  <a:pt x="1393" y="349"/>
                </a:lnTo>
                <a:lnTo>
                  <a:pt x="1415" y="385"/>
                </a:lnTo>
                <a:lnTo>
                  <a:pt x="1435" y="423"/>
                </a:lnTo>
                <a:lnTo>
                  <a:pt x="1453" y="461"/>
                </a:lnTo>
                <a:lnTo>
                  <a:pt x="1470" y="500"/>
                </a:lnTo>
                <a:lnTo>
                  <a:pt x="1483" y="539"/>
                </a:lnTo>
                <a:lnTo>
                  <a:pt x="1495" y="580"/>
                </a:lnTo>
                <a:lnTo>
                  <a:pt x="1504" y="621"/>
                </a:lnTo>
                <a:lnTo>
                  <a:pt x="1512" y="663"/>
                </a:lnTo>
                <a:lnTo>
                  <a:pt x="1517" y="704"/>
                </a:lnTo>
                <a:lnTo>
                  <a:pt x="1521" y="747"/>
                </a:lnTo>
                <a:lnTo>
                  <a:pt x="1522" y="790"/>
                </a:lnTo>
                <a:lnTo>
                  <a:pt x="1521" y="834"/>
                </a:lnTo>
                <a:lnTo>
                  <a:pt x="1517" y="876"/>
                </a:lnTo>
                <a:lnTo>
                  <a:pt x="1512" y="918"/>
                </a:lnTo>
                <a:lnTo>
                  <a:pt x="1504" y="960"/>
                </a:lnTo>
                <a:lnTo>
                  <a:pt x="1495" y="1000"/>
                </a:lnTo>
                <a:lnTo>
                  <a:pt x="1483" y="1041"/>
                </a:lnTo>
                <a:lnTo>
                  <a:pt x="1468" y="1081"/>
                </a:lnTo>
                <a:lnTo>
                  <a:pt x="1452" y="1120"/>
                </a:lnTo>
                <a:lnTo>
                  <a:pt x="1434" y="1159"/>
                </a:lnTo>
                <a:lnTo>
                  <a:pt x="1414" y="1196"/>
                </a:lnTo>
                <a:lnTo>
                  <a:pt x="1393" y="1233"/>
                </a:lnTo>
                <a:lnTo>
                  <a:pt x="1369" y="1268"/>
                </a:lnTo>
                <a:lnTo>
                  <a:pt x="1343" y="1302"/>
                </a:lnTo>
                <a:lnTo>
                  <a:pt x="1315" y="1334"/>
                </a:lnTo>
                <a:lnTo>
                  <a:pt x="1286" y="1366"/>
                </a:lnTo>
                <a:lnTo>
                  <a:pt x="1255" y="1396"/>
                </a:lnTo>
                <a:lnTo>
                  <a:pt x="1230" y="1417"/>
                </a:lnTo>
                <a:lnTo>
                  <a:pt x="1204" y="1439"/>
                </a:lnTo>
                <a:lnTo>
                  <a:pt x="1176" y="1458"/>
                </a:lnTo>
                <a:lnTo>
                  <a:pt x="1149" y="1475"/>
                </a:lnTo>
                <a:lnTo>
                  <a:pt x="1121" y="1492"/>
                </a:lnTo>
                <a:lnTo>
                  <a:pt x="1091" y="1508"/>
                </a:lnTo>
                <a:lnTo>
                  <a:pt x="1060" y="1522"/>
                </a:lnTo>
                <a:lnTo>
                  <a:pt x="1029" y="1534"/>
                </a:lnTo>
                <a:lnTo>
                  <a:pt x="996" y="1546"/>
                </a:lnTo>
                <a:lnTo>
                  <a:pt x="964" y="1555"/>
                </a:lnTo>
                <a:lnTo>
                  <a:pt x="931" y="1563"/>
                </a:lnTo>
                <a:lnTo>
                  <a:pt x="897" y="1571"/>
                </a:lnTo>
                <a:lnTo>
                  <a:pt x="864" y="1575"/>
                </a:lnTo>
                <a:lnTo>
                  <a:pt x="830" y="1580"/>
                </a:lnTo>
                <a:lnTo>
                  <a:pt x="794" y="1582"/>
                </a:lnTo>
                <a:lnTo>
                  <a:pt x="760" y="1582"/>
                </a:lnTo>
                <a:lnTo>
                  <a:pt x="724" y="1582"/>
                </a:lnTo>
                <a:lnTo>
                  <a:pt x="690" y="1580"/>
                </a:lnTo>
                <a:lnTo>
                  <a:pt x="655" y="1575"/>
                </a:lnTo>
                <a:lnTo>
                  <a:pt x="622" y="1571"/>
                </a:lnTo>
                <a:lnTo>
                  <a:pt x="589" y="1563"/>
                </a:lnTo>
                <a:lnTo>
                  <a:pt x="555" y="1555"/>
                </a:lnTo>
                <a:lnTo>
                  <a:pt x="523" y="1546"/>
                </a:lnTo>
                <a:lnTo>
                  <a:pt x="491" y="1534"/>
                </a:lnTo>
                <a:lnTo>
                  <a:pt x="461" y="1522"/>
                </a:lnTo>
                <a:lnTo>
                  <a:pt x="430" y="1508"/>
                </a:lnTo>
                <a:lnTo>
                  <a:pt x="400" y="1492"/>
                </a:lnTo>
                <a:lnTo>
                  <a:pt x="371" y="1475"/>
                </a:lnTo>
                <a:lnTo>
                  <a:pt x="343" y="1458"/>
                </a:lnTo>
                <a:lnTo>
                  <a:pt x="317" y="1439"/>
                </a:lnTo>
                <a:lnTo>
                  <a:pt x="291" y="1417"/>
                </a:lnTo>
                <a:lnTo>
                  <a:pt x="265" y="1396"/>
                </a:lnTo>
                <a:lnTo>
                  <a:pt x="234" y="1366"/>
                </a:lnTo>
                <a:lnTo>
                  <a:pt x="205" y="1335"/>
                </a:lnTo>
                <a:lnTo>
                  <a:pt x="178" y="1302"/>
                </a:lnTo>
                <a:lnTo>
                  <a:pt x="152" y="1269"/>
                </a:lnTo>
                <a:lnTo>
                  <a:pt x="129" y="1234"/>
                </a:lnTo>
                <a:lnTo>
                  <a:pt x="107" y="1198"/>
                </a:lnTo>
                <a:lnTo>
                  <a:pt x="87" y="1161"/>
                </a:lnTo>
                <a:lnTo>
                  <a:pt x="69" y="1121"/>
                </a:lnTo>
                <a:lnTo>
                  <a:pt x="53" y="1082"/>
                </a:lnTo>
                <a:lnTo>
                  <a:pt x="39" y="1042"/>
                </a:lnTo>
                <a:lnTo>
                  <a:pt x="27" y="1001"/>
                </a:lnTo>
                <a:lnTo>
                  <a:pt x="18" y="961"/>
                </a:lnTo>
                <a:lnTo>
                  <a:pt x="9" y="918"/>
                </a:lnTo>
                <a:lnTo>
                  <a:pt x="5" y="877"/>
                </a:lnTo>
                <a:lnTo>
                  <a:pt x="1" y="834"/>
                </a:lnTo>
                <a:lnTo>
                  <a:pt x="0" y="790"/>
                </a:lnTo>
                <a:lnTo>
                  <a:pt x="1" y="747"/>
                </a:lnTo>
                <a:lnTo>
                  <a:pt x="5" y="704"/>
                </a:lnTo>
                <a:lnTo>
                  <a:pt x="9" y="662"/>
                </a:lnTo>
                <a:lnTo>
                  <a:pt x="18" y="620"/>
                </a:lnTo>
                <a:lnTo>
                  <a:pt x="27" y="580"/>
                </a:lnTo>
                <a:lnTo>
                  <a:pt x="39" y="539"/>
                </a:lnTo>
                <a:lnTo>
                  <a:pt x="52" y="499"/>
                </a:lnTo>
                <a:lnTo>
                  <a:pt x="69" y="460"/>
                </a:lnTo>
                <a:lnTo>
                  <a:pt x="87" y="422"/>
                </a:lnTo>
                <a:lnTo>
                  <a:pt x="107" y="384"/>
                </a:lnTo>
                <a:lnTo>
                  <a:pt x="128" y="348"/>
                </a:lnTo>
                <a:lnTo>
                  <a:pt x="152" y="314"/>
                </a:lnTo>
                <a:lnTo>
                  <a:pt x="177" y="280"/>
                </a:lnTo>
                <a:lnTo>
                  <a:pt x="205" y="248"/>
                </a:lnTo>
                <a:lnTo>
                  <a:pt x="234" y="216"/>
                </a:lnTo>
                <a:lnTo>
                  <a:pt x="265" y="187"/>
                </a:lnTo>
                <a:lnTo>
                  <a:pt x="291" y="165"/>
                </a:lnTo>
                <a:lnTo>
                  <a:pt x="317" y="144"/>
                </a:lnTo>
                <a:lnTo>
                  <a:pt x="343" y="125"/>
                </a:lnTo>
                <a:lnTo>
                  <a:pt x="371" y="106"/>
                </a:lnTo>
                <a:lnTo>
                  <a:pt x="400" y="89"/>
                </a:lnTo>
                <a:lnTo>
                  <a:pt x="430" y="75"/>
                </a:lnTo>
                <a:lnTo>
                  <a:pt x="461" y="61"/>
                </a:lnTo>
                <a:lnTo>
                  <a:pt x="491" y="48"/>
                </a:lnTo>
                <a:lnTo>
                  <a:pt x="523" y="37"/>
                </a:lnTo>
                <a:lnTo>
                  <a:pt x="555" y="27"/>
                </a:lnTo>
                <a:lnTo>
                  <a:pt x="589" y="19"/>
                </a:lnTo>
                <a:lnTo>
                  <a:pt x="622" y="12"/>
                </a:lnTo>
                <a:lnTo>
                  <a:pt x="655" y="7"/>
                </a:lnTo>
                <a:lnTo>
                  <a:pt x="690" y="4"/>
                </a:lnTo>
                <a:lnTo>
                  <a:pt x="724" y="1"/>
                </a:lnTo>
                <a:lnTo>
                  <a:pt x="760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62560" y="773280"/>
            <a:ext cx="298440" cy="396720"/>
          </a:xfrm>
          <a:custGeom>
            <a:avLst/>
            <a:gdLst/>
            <a:ahLst/>
            <a:rect l="l" t="t" r="r" b="b"/>
            <a:pathLst>
              <a:path w="1125" h="1502">
                <a:moveTo>
                  <a:pt x="388" y="1102"/>
                </a:moveTo>
                <a:lnTo>
                  <a:pt x="407" y="1099"/>
                </a:lnTo>
                <a:lnTo>
                  <a:pt x="425" y="1096"/>
                </a:lnTo>
                <a:lnTo>
                  <a:pt x="443" y="1092"/>
                </a:lnTo>
                <a:lnTo>
                  <a:pt x="459" y="1089"/>
                </a:lnTo>
                <a:lnTo>
                  <a:pt x="476" y="1084"/>
                </a:lnTo>
                <a:lnTo>
                  <a:pt x="492" y="1078"/>
                </a:lnTo>
                <a:lnTo>
                  <a:pt x="508" y="1072"/>
                </a:lnTo>
                <a:lnTo>
                  <a:pt x="523" y="1066"/>
                </a:lnTo>
                <a:lnTo>
                  <a:pt x="539" y="1058"/>
                </a:lnTo>
                <a:lnTo>
                  <a:pt x="553" y="1051"/>
                </a:lnTo>
                <a:lnTo>
                  <a:pt x="567" y="1042"/>
                </a:lnTo>
                <a:lnTo>
                  <a:pt x="580" y="1033"/>
                </a:lnTo>
                <a:lnTo>
                  <a:pt x="593" y="1023"/>
                </a:lnTo>
                <a:lnTo>
                  <a:pt x="605" y="1013"/>
                </a:lnTo>
                <a:lnTo>
                  <a:pt x="618" y="1001"/>
                </a:lnTo>
                <a:lnTo>
                  <a:pt x="629" y="989"/>
                </a:lnTo>
                <a:lnTo>
                  <a:pt x="640" y="977"/>
                </a:lnTo>
                <a:lnTo>
                  <a:pt x="650" y="965"/>
                </a:lnTo>
                <a:lnTo>
                  <a:pt x="660" y="952"/>
                </a:lnTo>
                <a:lnTo>
                  <a:pt x="669" y="938"/>
                </a:lnTo>
                <a:lnTo>
                  <a:pt x="677" y="925"/>
                </a:lnTo>
                <a:lnTo>
                  <a:pt x="685" y="910"/>
                </a:lnTo>
                <a:lnTo>
                  <a:pt x="691" y="896"/>
                </a:lnTo>
                <a:lnTo>
                  <a:pt x="697" y="881"/>
                </a:lnTo>
                <a:lnTo>
                  <a:pt x="703" y="865"/>
                </a:lnTo>
                <a:lnTo>
                  <a:pt x="707" y="850"/>
                </a:lnTo>
                <a:lnTo>
                  <a:pt x="711" y="834"/>
                </a:lnTo>
                <a:lnTo>
                  <a:pt x="714" y="818"/>
                </a:lnTo>
                <a:lnTo>
                  <a:pt x="717" y="801"/>
                </a:lnTo>
                <a:lnTo>
                  <a:pt x="718" y="783"/>
                </a:lnTo>
                <a:lnTo>
                  <a:pt x="719" y="765"/>
                </a:lnTo>
                <a:lnTo>
                  <a:pt x="719" y="748"/>
                </a:lnTo>
                <a:lnTo>
                  <a:pt x="719" y="729"/>
                </a:lnTo>
                <a:lnTo>
                  <a:pt x="718" y="710"/>
                </a:lnTo>
                <a:lnTo>
                  <a:pt x="717" y="692"/>
                </a:lnTo>
                <a:lnTo>
                  <a:pt x="714" y="674"/>
                </a:lnTo>
                <a:lnTo>
                  <a:pt x="711" y="656"/>
                </a:lnTo>
                <a:lnTo>
                  <a:pt x="706" y="638"/>
                </a:lnTo>
                <a:lnTo>
                  <a:pt x="703" y="622"/>
                </a:lnTo>
                <a:lnTo>
                  <a:pt x="697" y="606"/>
                </a:lnTo>
                <a:lnTo>
                  <a:pt x="691" y="591"/>
                </a:lnTo>
                <a:lnTo>
                  <a:pt x="684" y="575"/>
                </a:lnTo>
                <a:lnTo>
                  <a:pt x="677" y="560"/>
                </a:lnTo>
                <a:lnTo>
                  <a:pt x="668" y="546"/>
                </a:lnTo>
                <a:lnTo>
                  <a:pt x="659" y="531"/>
                </a:lnTo>
                <a:lnTo>
                  <a:pt x="649" y="518"/>
                </a:lnTo>
                <a:lnTo>
                  <a:pt x="639" y="504"/>
                </a:lnTo>
                <a:lnTo>
                  <a:pt x="628" y="492"/>
                </a:lnTo>
                <a:lnTo>
                  <a:pt x="616" y="480"/>
                </a:lnTo>
                <a:lnTo>
                  <a:pt x="604" y="468"/>
                </a:lnTo>
                <a:lnTo>
                  <a:pt x="591" y="458"/>
                </a:lnTo>
                <a:lnTo>
                  <a:pt x="578" y="448"/>
                </a:lnTo>
                <a:lnTo>
                  <a:pt x="565" y="439"/>
                </a:lnTo>
                <a:lnTo>
                  <a:pt x="551" y="430"/>
                </a:lnTo>
                <a:lnTo>
                  <a:pt x="536" y="423"/>
                </a:lnTo>
                <a:lnTo>
                  <a:pt x="522" y="416"/>
                </a:lnTo>
                <a:lnTo>
                  <a:pt x="507" y="410"/>
                </a:lnTo>
                <a:lnTo>
                  <a:pt x="491" y="406"/>
                </a:lnTo>
                <a:lnTo>
                  <a:pt x="475" y="401"/>
                </a:lnTo>
                <a:lnTo>
                  <a:pt x="458" y="396"/>
                </a:lnTo>
                <a:lnTo>
                  <a:pt x="441" y="394"/>
                </a:lnTo>
                <a:lnTo>
                  <a:pt x="424" y="391"/>
                </a:lnTo>
                <a:lnTo>
                  <a:pt x="406" y="390"/>
                </a:lnTo>
                <a:lnTo>
                  <a:pt x="388" y="389"/>
                </a:lnTo>
                <a:lnTo>
                  <a:pt x="388" y="1102"/>
                </a:lnTo>
                <a:close/>
                <a:moveTo>
                  <a:pt x="227" y="0"/>
                </a:moveTo>
                <a:lnTo>
                  <a:pt x="279" y="0"/>
                </a:lnTo>
                <a:lnTo>
                  <a:pt x="327" y="2"/>
                </a:lnTo>
                <a:lnTo>
                  <a:pt x="375" y="4"/>
                </a:lnTo>
                <a:lnTo>
                  <a:pt x="419" y="6"/>
                </a:lnTo>
                <a:lnTo>
                  <a:pt x="460" y="11"/>
                </a:lnTo>
                <a:lnTo>
                  <a:pt x="498" y="16"/>
                </a:lnTo>
                <a:lnTo>
                  <a:pt x="535" y="21"/>
                </a:lnTo>
                <a:lnTo>
                  <a:pt x="568" y="28"/>
                </a:lnTo>
                <a:lnTo>
                  <a:pt x="599" y="35"/>
                </a:lnTo>
                <a:lnTo>
                  <a:pt x="630" y="43"/>
                </a:lnTo>
                <a:lnTo>
                  <a:pt x="660" y="53"/>
                </a:lnTo>
                <a:lnTo>
                  <a:pt x="690" y="63"/>
                </a:lnTo>
                <a:lnTo>
                  <a:pt x="718" y="75"/>
                </a:lnTo>
                <a:lnTo>
                  <a:pt x="745" y="88"/>
                </a:lnTo>
                <a:lnTo>
                  <a:pt x="771" y="101"/>
                </a:lnTo>
                <a:lnTo>
                  <a:pt x="798" y="117"/>
                </a:lnTo>
                <a:lnTo>
                  <a:pt x="817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0" y="186"/>
                </a:lnTo>
                <a:lnTo>
                  <a:pt x="907" y="201"/>
                </a:lnTo>
                <a:lnTo>
                  <a:pt x="923" y="217"/>
                </a:lnTo>
                <a:lnTo>
                  <a:pt x="939" y="233"/>
                </a:lnTo>
                <a:lnTo>
                  <a:pt x="954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1" y="362"/>
                </a:lnTo>
                <a:lnTo>
                  <a:pt x="1042" y="381"/>
                </a:lnTo>
                <a:lnTo>
                  <a:pt x="1052" y="402"/>
                </a:lnTo>
                <a:lnTo>
                  <a:pt x="1061" y="423"/>
                </a:lnTo>
                <a:lnTo>
                  <a:pt x="1071" y="445"/>
                </a:lnTo>
                <a:lnTo>
                  <a:pt x="1079" y="466"/>
                </a:lnTo>
                <a:lnTo>
                  <a:pt x="1086" y="489"/>
                </a:lnTo>
                <a:lnTo>
                  <a:pt x="1093" y="511"/>
                </a:lnTo>
                <a:lnTo>
                  <a:pt x="1099" y="535"/>
                </a:lnTo>
                <a:lnTo>
                  <a:pt x="1105" y="558"/>
                </a:lnTo>
                <a:lnTo>
                  <a:pt x="1110" y="583"/>
                </a:lnTo>
                <a:lnTo>
                  <a:pt x="1113" y="606"/>
                </a:lnTo>
                <a:lnTo>
                  <a:pt x="1117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4" y="707"/>
                </a:lnTo>
                <a:lnTo>
                  <a:pt x="1125" y="733"/>
                </a:lnTo>
                <a:lnTo>
                  <a:pt x="1125" y="761"/>
                </a:lnTo>
                <a:lnTo>
                  <a:pt x="1125" y="784"/>
                </a:lnTo>
                <a:lnTo>
                  <a:pt x="1124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7" y="878"/>
                </a:lnTo>
                <a:lnTo>
                  <a:pt x="1112" y="902"/>
                </a:lnTo>
                <a:lnTo>
                  <a:pt x="1107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4" y="1033"/>
                </a:lnTo>
                <a:lnTo>
                  <a:pt x="1065" y="1054"/>
                </a:lnTo>
                <a:lnTo>
                  <a:pt x="1055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2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3" y="1229"/>
                </a:lnTo>
                <a:lnTo>
                  <a:pt x="938" y="1247"/>
                </a:lnTo>
                <a:lnTo>
                  <a:pt x="922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0" y="1311"/>
                </a:lnTo>
                <a:lnTo>
                  <a:pt x="852" y="1325"/>
                </a:lnTo>
                <a:lnTo>
                  <a:pt x="833" y="1340"/>
                </a:lnTo>
                <a:lnTo>
                  <a:pt x="814" y="1354"/>
                </a:lnTo>
                <a:lnTo>
                  <a:pt x="794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19" y="1411"/>
                </a:lnTo>
                <a:lnTo>
                  <a:pt x="691" y="1424"/>
                </a:lnTo>
                <a:lnTo>
                  <a:pt x="661" y="1435"/>
                </a:lnTo>
                <a:lnTo>
                  <a:pt x="631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6" y="1474"/>
                </a:lnTo>
                <a:lnTo>
                  <a:pt x="503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3" y="1501"/>
                </a:lnTo>
                <a:lnTo>
                  <a:pt x="270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0320" y="773280"/>
            <a:ext cx="247680" cy="396720"/>
          </a:xfrm>
          <a:custGeom>
            <a:avLst/>
            <a:gdLst/>
            <a:ahLst/>
            <a:rect l="l" t="t" r="r" b="b"/>
            <a:pathLst>
              <a:path w="938" h="1502">
                <a:moveTo>
                  <a:pt x="938" y="1089"/>
                </a:moveTo>
                <a:lnTo>
                  <a:pt x="833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4" y="400"/>
                </a:lnTo>
                <a:lnTo>
                  <a:pt x="388" y="400"/>
                </a:lnTo>
                <a:lnTo>
                  <a:pt x="388" y="552"/>
                </a:lnTo>
                <a:lnTo>
                  <a:pt x="726" y="552"/>
                </a:lnTo>
                <a:lnTo>
                  <a:pt x="726" y="950"/>
                </a:lnTo>
                <a:lnTo>
                  <a:pt x="388" y="950"/>
                </a:lnTo>
                <a:lnTo>
                  <a:pt x="388" y="1089"/>
                </a:lnTo>
                <a:lnTo>
                  <a:pt x="938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00840" y="773280"/>
            <a:ext cx="250560" cy="396720"/>
          </a:xfrm>
          <a:custGeom>
            <a:avLst/>
            <a:gdLst/>
            <a:ahLst/>
            <a:rect l="l" t="t" r="r" b="b"/>
            <a:pathLst>
              <a:path w="946" h="1502">
                <a:moveTo>
                  <a:pt x="946" y="1089"/>
                </a:moveTo>
                <a:lnTo>
                  <a:pt x="824" y="1502"/>
                </a:lnTo>
                <a:lnTo>
                  <a:pt x="0" y="1502"/>
                </a:lnTo>
                <a:lnTo>
                  <a:pt x="0" y="0"/>
                </a:lnTo>
                <a:lnTo>
                  <a:pt x="388" y="0"/>
                </a:lnTo>
                <a:lnTo>
                  <a:pt x="388" y="1089"/>
                </a:lnTo>
                <a:lnTo>
                  <a:pt x="946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89160" y="860400"/>
            <a:ext cx="66960" cy="98280"/>
          </a:xfrm>
          <a:custGeom>
            <a:avLst/>
            <a:gdLst/>
            <a:ahLst/>
            <a:rect l="l" t="t" r="r" b="b"/>
            <a:pathLst>
              <a:path w="251" h="377">
                <a:moveTo>
                  <a:pt x="0" y="377"/>
                </a:moveTo>
                <a:lnTo>
                  <a:pt x="36" y="377"/>
                </a:lnTo>
                <a:lnTo>
                  <a:pt x="62" y="376"/>
                </a:lnTo>
                <a:lnTo>
                  <a:pt x="86" y="374"/>
                </a:lnTo>
                <a:lnTo>
                  <a:pt x="109" y="370"/>
                </a:lnTo>
                <a:lnTo>
                  <a:pt x="129" y="365"/>
                </a:lnTo>
                <a:lnTo>
                  <a:pt x="148" y="358"/>
                </a:lnTo>
                <a:lnTo>
                  <a:pt x="166" y="350"/>
                </a:lnTo>
                <a:lnTo>
                  <a:pt x="182" y="340"/>
                </a:lnTo>
                <a:lnTo>
                  <a:pt x="197" y="330"/>
                </a:lnTo>
                <a:lnTo>
                  <a:pt x="210" y="316"/>
                </a:lnTo>
                <a:lnTo>
                  <a:pt x="220" y="302"/>
                </a:lnTo>
                <a:lnTo>
                  <a:pt x="230" y="288"/>
                </a:lnTo>
                <a:lnTo>
                  <a:pt x="238" y="270"/>
                </a:lnTo>
                <a:lnTo>
                  <a:pt x="244" y="252"/>
                </a:lnTo>
                <a:lnTo>
                  <a:pt x="248" y="233"/>
                </a:lnTo>
                <a:lnTo>
                  <a:pt x="250" y="212"/>
                </a:lnTo>
                <a:lnTo>
                  <a:pt x="251" y="191"/>
                </a:lnTo>
                <a:lnTo>
                  <a:pt x="251" y="168"/>
                </a:lnTo>
                <a:lnTo>
                  <a:pt x="248" y="147"/>
                </a:lnTo>
                <a:lnTo>
                  <a:pt x="244" y="128"/>
                </a:lnTo>
                <a:lnTo>
                  <a:pt x="238" y="109"/>
                </a:lnTo>
                <a:lnTo>
                  <a:pt x="231" y="92"/>
                </a:lnTo>
                <a:lnTo>
                  <a:pt x="222" y="77"/>
                </a:lnTo>
                <a:lnTo>
                  <a:pt x="211" y="62"/>
                </a:lnTo>
                <a:lnTo>
                  <a:pt x="199" y="49"/>
                </a:lnTo>
                <a:lnTo>
                  <a:pt x="185" y="37"/>
                </a:lnTo>
                <a:lnTo>
                  <a:pt x="169" y="28"/>
                </a:lnTo>
                <a:lnTo>
                  <a:pt x="153" y="19"/>
                </a:lnTo>
                <a:lnTo>
                  <a:pt x="135" y="12"/>
                </a:lnTo>
                <a:lnTo>
                  <a:pt x="115" y="8"/>
                </a:lnTo>
                <a:lnTo>
                  <a:pt x="93" y="3"/>
                </a:lnTo>
                <a:lnTo>
                  <a:pt x="71" y="0"/>
                </a:lnTo>
                <a:lnTo>
                  <a:pt x="47" y="0"/>
                </a:lnTo>
                <a:lnTo>
                  <a:pt x="0" y="0"/>
                </a:lnTo>
                <a:lnTo>
                  <a:pt x="0" y="377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8620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0" y="1502"/>
                </a:moveTo>
                <a:lnTo>
                  <a:pt x="0" y="0"/>
                </a:lnTo>
                <a:lnTo>
                  <a:pt x="425" y="0"/>
                </a:lnTo>
                <a:lnTo>
                  <a:pt x="462" y="0"/>
                </a:lnTo>
                <a:lnTo>
                  <a:pt x="496" y="2"/>
                </a:lnTo>
                <a:lnTo>
                  <a:pt x="531" y="4"/>
                </a:lnTo>
                <a:lnTo>
                  <a:pt x="564" y="8"/>
                </a:lnTo>
                <a:lnTo>
                  <a:pt x="596" y="12"/>
                </a:lnTo>
                <a:lnTo>
                  <a:pt x="628" y="17"/>
                </a:lnTo>
                <a:lnTo>
                  <a:pt x="658" y="23"/>
                </a:lnTo>
                <a:lnTo>
                  <a:pt x="686" y="30"/>
                </a:lnTo>
                <a:lnTo>
                  <a:pt x="714" y="38"/>
                </a:lnTo>
                <a:lnTo>
                  <a:pt x="741" y="48"/>
                </a:lnTo>
                <a:lnTo>
                  <a:pt x="766" y="57"/>
                </a:lnTo>
                <a:lnTo>
                  <a:pt x="791" y="68"/>
                </a:lnTo>
                <a:lnTo>
                  <a:pt x="815" y="80"/>
                </a:lnTo>
                <a:lnTo>
                  <a:pt x="836" y="93"/>
                </a:lnTo>
                <a:lnTo>
                  <a:pt x="857" y="107"/>
                </a:lnTo>
                <a:lnTo>
                  <a:pt x="877" y="122"/>
                </a:lnTo>
                <a:lnTo>
                  <a:pt x="896" y="137"/>
                </a:lnTo>
                <a:lnTo>
                  <a:pt x="914" y="154"/>
                </a:lnTo>
                <a:lnTo>
                  <a:pt x="931" y="171"/>
                </a:lnTo>
                <a:lnTo>
                  <a:pt x="946" y="189"/>
                </a:lnTo>
                <a:lnTo>
                  <a:pt x="961" y="208"/>
                </a:lnTo>
                <a:lnTo>
                  <a:pt x="974" y="228"/>
                </a:lnTo>
                <a:lnTo>
                  <a:pt x="984" y="249"/>
                </a:lnTo>
                <a:lnTo>
                  <a:pt x="995" y="271"/>
                </a:lnTo>
                <a:lnTo>
                  <a:pt x="1005" y="294"/>
                </a:lnTo>
                <a:lnTo>
                  <a:pt x="1013" y="316"/>
                </a:lnTo>
                <a:lnTo>
                  <a:pt x="1019" y="341"/>
                </a:lnTo>
                <a:lnTo>
                  <a:pt x="1025" y="366"/>
                </a:lnTo>
                <a:lnTo>
                  <a:pt x="1028" y="392"/>
                </a:lnTo>
                <a:lnTo>
                  <a:pt x="1032" y="419"/>
                </a:lnTo>
                <a:lnTo>
                  <a:pt x="1034" y="447"/>
                </a:lnTo>
                <a:lnTo>
                  <a:pt x="1034" y="476"/>
                </a:lnTo>
                <a:lnTo>
                  <a:pt x="1033" y="508"/>
                </a:lnTo>
                <a:lnTo>
                  <a:pt x="1031" y="540"/>
                </a:lnTo>
                <a:lnTo>
                  <a:pt x="1026" y="571"/>
                </a:lnTo>
                <a:lnTo>
                  <a:pt x="1019" y="599"/>
                </a:lnTo>
                <a:lnTo>
                  <a:pt x="1009" y="628"/>
                </a:lnTo>
                <a:lnTo>
                  <a:pt x="999" y="655"/>
                </a:lnTo>
                <a:lnTo>
                  <a:pt x="986" y="681"/>
                </a:lnTo>
                <a:lnTo>
                  <a:pt x="970" y="706"/>
                </a:lnTo>
                <a:lnTo>
                  <a:pt x="953" y="730"/>
                </a:lnTo>
                <a:lnTo>
                  <a:pt x="936" y="752"/>
                </a:lnTo>
                <a:lnTo>
                  <a:pt x="917" y="771"/>
                </a:lnTo>
                <a:lnTo>
                  <a:pt x="895" y="789"/>
                </a:lnTo>
                <a:lnTo>
                  <a:pt x="885" y="798"/>
                </a:lnTo>
                <a:lnTo>
                  <a:pt x="873" y="806"/>
                </a:lnTo>
                <a:lnTo>
                  <a:pt x="861" y="813"/>
                </a:lnTo>
                <a:lnTo>
                  <a:pt x="849" y="820"/>
                </a:lnTo>
                <a:lnTo>
                  <a:pt x="823" y="832"/>
                </a:lnTo>
                <a:lnTo>
                  <a:pt x="797" y="843"/>
                </a:lnTo>
                <a:lnTo>
                  <a:pt x="1127" y="1502"/>
                </a:lnTo>
                <a:lnTo>
                  <a:pt x="701" y="1502"/>
                </a:lnTo>
                <a:lnTo>
                  <a:pt x="390" y="859"/>
                </a:lnTo>
                <a:lnTo>
                  <a:pt x="390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6320" y="773280"/>
            <a:ext cx="249120" cy="396720"/>
          </a:xfrm>
          <a:custGeom>
            <a:avLst/>
            <a:gdLst/>
            <a:ahLst/>
            <a:rect l="l" t="t" r="r" b="b"/>
            <a:pathLst>
              <a:path w="939" h="1502">
                <a:moveTo>
                  <a:pt x="939" y="1089"/>
                </a:moveTo>
                <a:lnTo>
                  <a:pt x="835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5" y="400"/>
                </a:lnTo>
                <a:lnTo>
                  <a:pt x="389" y="400"/>
                </a:lnTo>
                <a:lnTo>
                  <a:pt x="389" y="552"/>
                </a:lnTo>
                <a:lnTo>
                  <a:pt x="728" y="552"/>
                </a:lnTo>
                <a:lnTo>
                  <a:pt x="728" y="950"/>
                </a:lnTo>
                <a:lnTo>
                  <a:pt x="389" y="950"/>
                </a:lnTo>
                <a:lnTo>
                  <a:pt x="389" y="1089"/>
                </a:lnTo>
                <a:lnTo>
                  <a:pt x="939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874800"/>
            <a:ext cx="87120" cy="189000"/>
          </a:xfrm>
          <a:custGeom>
            <a:avLst/>
            <a:gdLst/>
            <a:ahLst/>
            <a:rect l="l" t="t" r="r" b="b"/>
            <a:pathLst>
              <a:path w="331" h="713">
                <a:moveTo>
                  <a:pt x="0" y="713"/>
                </a:moveTo>
                <a:lnTo>
                  <a:pt x="19" y="710"/>
                </a:lnTo>
                <a:lnTo>
                  <a:pt x="36" y="707"/>
                </a:lnTo>
                <a:lnTo>
                  <a:pt x="54" y="703"/>
                </a:lnTo>
                <a:lnTo>
                  <a:pt x="71" y="700"/>
                </a:lnTo>
                <a:lnTo>
                  <a:pt x="87" y="695"/>
                </a:lnTo>
                <a:lnTo>
                  <a:pt x="104" y="689"/>
                </a:lnTo>
                <a:lnTo>
                  <a:pt x="119" y="683"/>
                </a:lnTo>
                <a:lnTo>
                  <a:pt x="135" y="677"/>
                </a:lnTo>
                <a:lnTo>
                  <a:pt x="150" y="669"/>
                </a:lnTo>
                <a:lnTo>
                  <a:pt x="165" y="662"/>
                </a:lnTo>
                <a:lnTo>
                  <a:pt x="179" y="653"/>
                </a:lnTo>
                <a:lnTo>
                  <a:pt x="192" y="644"/>
                </a:lnTo>
                <a:lnTo>
                  <a:pt x="205" y="634"/>
                </a:lnTo>
                <a:lnTo>
                  <a:pt x="218" y="624"/>
                </a:lnTo>
                <a:lnTo>
                  <a:pt x="230" y="612"/>
                </a:lnTo>
                <a:lnTo>
                  <a:pt x="241" y="600"/>
                </a:lnTo>
                <a:lnTo>
                  <a:pt x="251" y="588"/>
                </a:lnTo>
                <a:lnTo>
                  <a:pt x="262" y="576"/>
                </a:lnTo>
                <a:lnTo>
                  <a:pt x="271" y="563"/>
                </a:lnTo>
                <a:lnTo>
                  <a:pt x="281" y="549"/>
                </a:lnTo>
                <a:lnTo>
                  <a:pt x="288" y="536"/>
                </a:lnTo>
                <a:lnTo>
                  <a:pt x="296" y="521"/>
                </a:lnTo>
                <a:lnTo>
                  <a:pt x="302" y="507"/>
                </a:lnTo>
                <a:lnTo>
                  <a:pt x="308" y="492"/>
                </a:lnTo>
                <a:lnTo>
                  <a:pt x="314" y="476"/>
                </a:lnTo>
                <a:lnTo>
                  <a:pt x="319" y="461"/>
                </a:lnTo>
                <a:lnTo>
                  <a:pt x="322" y="445"/>
                </a:lnTo>
                <a:lnTo>
                  <a:pt x="326" y="429"/>
                </a:lnTo>
                <a:lnTo>
                  <a:pt x="328" y="412"/>
                </a:lnTo>
                <a:lnTo>
                  <a:pt x="330" y="394"/>
                </a:lnTo>
                <a:lnTo>
                  <a:pt x="331" y="376"/>
                </a:lnTo>
                <a:lnTo>
                  <a:pt x="331" y="359"/>
                </a:lnTo>
                <a:lnTo>
                  <a:pt x="331" y="340"/>
                </a:lnTo>
                <a:lnTo>
                  <a:pt x="330" y="321"/>
                </a:lnTo>
                <a:lnTo>
                  <a:pt x="328" y="303"/>
                </a:lnTo>
                <a:lnTo>
                  <a:pt x="326" y="285"/>
                </a:lnTo>
                <a:lnTo>
                  <a:pt x="322" y="267"/>
                </a:lnTo>
                <a:lnTo>
                  <a:pt x="319" y="249"/>
                </a:lnTo>
                <a:lnTo>
                  <a:pt x="314" y="233"/>
                </a:lnTo>
                <a:lnTo>
                  <a:pt x="308" y="217"/>
                </a:lnTo>
                <a:lnTo>
                  <a:pt x="302" y="202"/>
                </a:lnTo>
                <a:lnTo>
                  <a:pt x="295" y="186"/>
                </a:lnTo>
                <a:lnTo>
                  <a:pt x="288" y="171"/>
                </a:lnTo>
                <a:lnTo>
                  <a:pt x="280" y="157"/>
                </a:lnTo>
                <a:lnTo>
                  <a:pt x="270" y="142"/>
                </a:lnTo>
                <a:lnTo>
                  <a:pt x="261" y="129"/>
                </a:lnTo>
                <a:lnTo>
                  <a:pt x="250" y="115"/>
                </a:lnTo>
                <a:lnTo>
                  <a:pt x="239" y="103"/>
                </a:lnTo>
                <a:lnTo>
                  <a:pt x="227" y="91"/>
                </a:lnTo>
                <a:lnTo>
                  <a:pt x="216" y="79"/>
                </a:lnTo>
                <a:lnTo>
                  <a:pt x="203" y="69"/>
                </a:lnTo>
                <a:lnTo>
                  <a:pt x="190" y="59"/>
                </a:lnTo>
                <a:lnTo>
                  <a:pt x="176" y="50"/>
                </a:lnTo>
                <a:lnTo>
                  <a:pt x="162" y="41"/>
                </a:lnTo>
                <a:lnTo>
                  <a:pt x="148" y="34"/>
                </a:lnTo>
                <a:lnTo>
                  <a:pt x="134" y="27"/>
                </a:lnTo>
                <a:lnTo>
                  <a:pt x="118" y="21"/>
                </a:lnTo>
                <a:lnTo>
                  <a:pt x="103" y="17"/>
                </a:lnTo>
                <a:lnTo>
                  <a:pt x="86" y="12"/>
                </a:lnTo>
                <a:lnTo>
                  <a:pt x="70" y="7"/>
                </a:lnTo>
                <a:lnTo>
                  <a:pt x="53" y="5"/>
                </a:lnTo>
                <a:lnTo>
                  <a:pt x="35" y="2"/>
                </a:lnTo>
                <a:lnTo>
                  <a:pt x="17" y="1"/>
                </a:lnTo>
                <a:lnTo>
                  <a:pt x="0" y="0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684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227" y="0"/>
                </a:moveTo>
                <a:lnTo>
                  <a:pt x="279" y="0"/>
                </a:lnTo>
                <a:lnTo>
                  <a:pt x="328" y="2"/>
                </a:lnTo>
                <a:lnTo>
                  <a:pt x="375" y="4"/>
                </a:lnTo>
                <a:lnTo>
                  <a:pt x="419" y="6"/>
                </a:lnTo>
                <a:lnTo>
                  <a:pt x="461" y="11"/>
                </a:lnTo>
                <a:lnTo>
                  <a:pt x="499" y="16"/>
                </a:lnTo>
                <a:lnTo>
                  <a:pt x="536" y="21"/>
                </a:lnTo>
                <a:lnTo>
                  <a:pt x="569" y="28"/>
                </a:lnTo>
                <a:lnTo>
                  <a:pt x="600" y="35"/>
                </a:lnTo>
                <a:lnTo>
                  <a:pt x="631" y="43"/>
                </a:lnTo>
                <a:lnTo>
                  <a:pt x="660" y="53"/>
                </a:lnTo>
                <a:lnTo>
                  <a:pt x="690" y="63"/>
                </a:lnTo>
                <a:lnTo>
                  <a:pt x="719" y="75"/>
                </a:lnTo>
                <a:lnTo>
                  <a:pt x="746" y="88"/>
                </a:lnTo>
                <a:lnTo>
                  <a:pt x="772" y="101"/>
                </a:lnTo>
                <a:lnTo>
                  <a:pt x="798" y="117"/>
                </a:lnTo>
                <a:lnTo>
                  <a:pt x="818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1" y="186"/>
                </a:lnTo>
                <a:lnTo>
                  <a:pt x="909" y="201"/>
                </a:lnTo>
                <a:lnTo>
                  <a:pt x="924" y="217"/>
                </a:lnTo>
                <a:lnTo>
                  <a:pt x="939" y="233"/>
                </a:lnTo>
                <a:lnTo>
                  <a:pt x="955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2" y="362"/>
                </a:lnTo>
                <a:lnTo>
                  <a:pt x="1043" y="381"/>
                </a:lnTo>
                <a:lnTo>
                  <a:pt x="1052" y="402"/>
                </a:lnTo>
                <a:lnTo>
                  <a:pt x="1062" y="423"/>
                </a:lnTo>
                <a:lnTo>
                  <a:pt x="1071" y="445"/>
                </a:lnTo>
                <a:lnTo>
                  <a:pt x="1080" y="466"/>
                </a:lnTo>
                <a:lnTo>
                  <a:pt x="1087" y="489"/>
                </a:lnTo>
                <a:lnTo>
                  <a:pt x="1094" y="511"/>
                </a:lnTo>
                <a:lnTo>
                  <a:pt x="1100" y="535"/>
                </a:lnTo>
                <a:lnTo>
                  <a:pt x="1106" y="558"/>
                </a:lnTo>
                <a:lnTo>
                  <a:pt x="1110" y="583"/>
                </a:lnTo>
                <a:lnTo>
                  <a:pt x="1115" y="606"/>
                </a:lnTo>
                <a:lnTo>
                  <a:pt x="1119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5" y="707"/>
                </a:lnTo>
                <a:lnTo>
                  <a:pt x="1126" y="733"/>
                </a:lnTo>
                <a:lnTo>
                  <a:pt x="1127" y="761"/>
                </a:lnTo>
                <a:lnTo>
                  <a:pt x="1126" y="784"/>
                </a:lnTo>
                <a:lnTo>
                  <a:pt x="1125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8" y="878"/>
                </a:lnTo>
                <a:lnTo>
                  <a:pt x="1114" y="902"/>
                </a:lnTo>
                <a:lnTo>
                  <a:pt x="1109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5" y="1033"/>
                </a:lnTo>
                <a:lnTo>
                  <a:pt x="1065" y="1054"/>
                </a:lnTo>
                <a:lnTo>
                  <a:pt x="1056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3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4" y="1229"/>
                </a:lnTo>
                <a:lnTo>
                  <a:pt x="938" y="1247"/>
                </a:lnTo>
                <a:lnTo>
                  <a:pt x="923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1" y="1311"/>
                </a:lnTo>
                <a:lnTo>
                  <a:pt x="853" y="1325"/>
                </a:lnTo>
                <a:lnTo>
                  <a:pt x="834" y="1340"/>
                </a:lnTo>
                <a:lnTo>
                  <a:pt x="815" y="1354"/>
                </a:lnTo>
                <a:lnTo>
                  <a:pt x="795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20" y="1411"/>
                </a:lnTo>
                <a:lnTo>
                  <a:pt x="691" y="1424"/>
                </a:lnTo>
                <a:lnTo>
                  <a:pt x="662" y="1435"/>
                </a:lnTo>
                <a:lnTo>
                  <a:pt x="632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7" y="1474"/>
                </a:lnTo>
                <a:lnTo>
                  <a:pt x="504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4" y="1501"/>
                </a:lnTo>
                <a:lnTo>
                  <a:pt x="271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60800" y="892080"/>
            <a:ext cx="82440" cy="133560"/>
          </a:xfrm>
          <a:custGeom>
            <a:avLst/>
            <a:gdLst/>
            <a:ahLst/>
            <a:rect l="l" t="t" r="r" b="b"/>
            <a:pathLst>
              <a:path w="310" h="506">
                <a:moveTo>
                  <a:pt x="0" y="506"/>
                </a:moveTo>
                <a:lnTo>
                  <a:pt x="310" y="506"/>
                </a:lnTo>
                <a:lnTo>
                  <a:pt x="154" y="0"/>
                </a:lnTo>
                <a:lnTo>
                  <a:pt x="0" y="5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9960" y="773280"/>
            <a:ext cx="387360" cy="396720"/>
          </a:xfrm>
          <a:custGeom>
            <a:avLst/>
            <a:gdLst/>
            <a:ahLst/>
            <a:rect l="l" t="t" r="r" b="b"/>
            <a:pathLst>
              <a:path w="1461" h="1502">
                <a:moveTo>
                  <a:pt x="0" y="1502"/>
                </a:moveTo>
                <a:lnTo>
                  <a:pt x="526" y="0"/>
                </a:lnTo>
                <a:lnTo>
                  <a:pt x="964" y="0"/>
                </a:lnTo>
                <a:lnTo>
                  <a:pt x="1461" y="1502"/>
                </a:lnTo>
                <a:lnTo>
                  <a:pt x="1048" y="1502"/>
                </a:lnTo>
                <a:lnTo>
                  <a:pt x="994" y="1335"/>
                </a:lnTo>
                <a:lnTo>
                  <a:pt x="463" y="1335"/>
                </a:lnTo>
                <a:lnTo>
                  <a:pt x="405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70480" y="773280"/>
            <a:ext cx="414360" cy="398160"/>
          </a:xfrm>
          <a:custGeom>
            <a:avLst/>
            <a:gdLst/>
            <a:ahLst/>
            <a:rect l="l" t="t" r="r" b="b"/>
            <a:pathLst>
              <a:path w="1564" h="1509">
                <a:moveTo>
                  <a:pt x="0" y="1502"/>
                </a:moveTo>
                <a:lnTo>
                  <a:pt x="190" y="0"/>
                </a:lnTo>
                <a:lnTo>
                  <a:pt x="507" y="0"/>
                </a:lnTo>
                <a:lnTo>
                  <a:pt x="772" y="668"/>
                </a:lnTo>
                <a:lnTo>
                  <a:pt x="1040" y="0"/>
                </a:lnTo>
                <a:lnTo>
                  <a:pt x="1350" y="0"/>
                </a:lnTo>
                <a:lnTo>
                  <a:pt x="1564" y="1502"/>
                </a:lnTo>
                <a:lnTo>
                  <a:pt x="1162" y="1502"/>
                </a:lnTo>
                <a:lnTo>
                  <a:pt x="1078" y="813"/>
                </a:lnTo>
                <a:lnTo>
                  <a:pt x="788" y="1509"/>
                </a:lnTo>
                <a:lnTo>
                  <a:pt x="474" y="813"/>
                </a:lnTo>
                <a:lnTo>
                  <a:pt x="401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18040" y="873000"/>
            <a:ext cx="189000" cy="196920"/>
          </a:xfrm>
          <a:custGeom>
            <a:avLst/>
            <a:gdLst/>
            <a:ahLst/>
            <a:rect l="l" t="t" r="r" b="b"/>
            <a:pathLst>
              <a:path w="713" h="744">
                <a:moveTo>
                  <a:pt x="357" y="0"/>
                </a:moveTo>
                <a:lnTo>
                  <a:pt x="338" y="0"/>
                </a:lnTo>
                <a:lnTo>
                  <a:pt x="319" y="1"/>
                </a:lnTo>
                <a:lnTo>
                  <a:pt x="301" y="4"/>
                </a:lnTo>
                <a:lnTo>
                  <a:pt x="283" y="6"/>
                </a:lnTo>
                <a:lnTo>
                  <a:pt x="267" y="10"/>
                </a:lnTo>
                <a:lnTo>
                  <a:pt x="249" y="14"/>
                </a:lnTo>
                <a:lnTo>
                  <a:pt x="234" y="20"/>
                </a:lnTo>
                <a:lnTo>
                  <a:pt x="217" y="26"/>
                </a:lnTo>
                <a:lnTo>
                  <a:pt x="202" y="33"/>
                </a:lnTo>
                <a:lnTo>
                  <a:pt x="186" y="42"/>
                </a:lnTo>
                <a:lnTo>
                  <a:pt x="171" y="50"/>
                </a:lnTo>
                <a:lnTo>
                  <a:pt x="156" y="60"/>
                </a:lnTo>
                <a:lnTo>
                  <a:pt x="142" y="70"/>
                </a:lnTo>
                <a:lnTo>
                  <a:pt x="128" y="82"/>
                </a:lnTo>
                <a:lnTo>
                  <a:pt x="115" y="94"/>
                </a:lnTo>
                <a:lnTo>
                  <a:pt x="102" y="107"/>
                </a:lnTo>
                <a:lnTo>
                  <a:pt x="90" y="120"/>
                </a:lnTo>
                <a:lnTo>
                  <a:pt x="78" y="134"/>
                </a:lnTo>
                <a:lnTo>
                  <a:pt x="67" y="149"/>
                </a:lnTo>
                <a:lnTo>
                  <a:pt x="57" y="164"/>
                </a:lnTo>
                <a:lnTo>
                  <a:pt x="47" y="180"/>
                </a:lnTo>
                <a:lnTo>
                  <a:pt x="39" y="195"/>
                </a:lnTo>
                <a:lnTo>
                  <a:pt x="32" y="210"/>
                </a:lnTo>
                <a:lnTo>
                  <a:pt x="25" y="227"/>
                </a:lnTo>
                <a:lnTo>
                  <a:pt x="19" y="244"/>
                </a:lnTo>
                <a:lnTo>
                  <a:pt x="14" y="260"/>
                </a:lnTo>
                <a:lnTo>
                  <a:pt x="9" y="278"/>
                </a:lnTo>
                <a:lnTo>
                  <a:pt x="6" y="296"/>
                </a:lnTo>
                <a:lnTo>
                  <a:pt x="3" y="315"/>
                </a:lnTo>
                <a:lnTo>
                  <a:pt x="1" y="334"/>
                </a:lnTo>
                <a:lnTo>
                  <a:pt x="0" y="353"/>
                </a:lnTo>
                <a:lnTo>
                  <a:pt x="0" y="372"/>
                </a:lnTo>
                <a:lnTo>
                  <a:pt x="0" y="392"/>
                </a:lnTo>
                <a:lnTo>
                  <a:pt x="1" y="411"/>
                </a:lnTo>
                <a:lnTo>
                  <a:pt x="3" y="430"/>
                </a:lnTo>
                <a:lnTo>
                  <a:pt x="6" y="448"/>
                </a:lnTo>
                <a:lnTo>
                  <a:pt x="9" y="466"/>
                </a:lnTo>
                <a:lnTo>
                  <a:pt x="14" y="484"/>
                </a:lnTo>
                <a:lnTo>
                  <a:pt x="19" y="500"/>
                </a:lnTo>
                <a:lnTo>
                  <a:pt x="25" y="517"/>
                </a:lnTo>
                <a:lnTo>
                  <a:pt x="32" y="534"/>
                </a:lnTo>
                <a:lnTo>
                  <a:pt x="39" y="550"/>
                </a:lnTo>
                <a:lnTo>
                  <a:pt x="47" y="566"/>
                </a:lnTo>
                <a:lnTo>
                  <a:pt x="57" y="580"/>
                </a:lnTo>
                <a:lnTo>
                  <a:pt x="66" y="595"/>
                </a:lnTo>
                <a:lnTo>
                  <a:pt x="78" y="610"/>
                </a:lnTo>
                <a:lnTo>
                  <a:pt x="89" y="624"/>
                </a:lnTo>
                <a:lnTo>
                  <a:pt x="102" y="637"/>
                </a:lnTo>
                <a:lnTo>
                  <a:pt x="115" y="650"/>
                </a:lnTo>
                <a:lnTo>
                  <a:pt x="128" y="662"/>
                </a:lnTo>
                <a:lnTo>
                  <a:pt x="141" y="674"/>
                </a:lnTo>
                <a:lnTo>
                  <a:pt x="155" y="683"/>
                </a:lnTo>
                <a:lnTo>
                  <a:pt x="171" y="693"/>
                </a:lnTo>
                <a:lnTo>
                  <a:pt x="185" y="702"/>
                </a:lnTo>
                <a:lnTo>
                  <a:pt x="200" y="709"/>
                </a:lnTo>
                <a:lnTo>
                  <a:pt x="216" y="717"/>
                </a:lnTo>
                <a:lnTo>
                  <a:pt x="232" y="724"/>
                </a:lnTo>
                <a:lnTo>
                  <a:pt x="249" y="728"/>
                </a:lnTo>
                <a:lnTo>
                  <a:pt x="266" y="733"/>
                </a:lnTo>
                <a:lnTo>
                  <a:pt x="283" y="737"/>
                </a:lnTo>
                <a:lnTo>
                  <a:pt x="301" y="740"/>
                </a:lnTo>
                <a:lnTo>
                  <a:pt x="319" y="743"/>
                </a:lnTo>
                <a:lnTo>
                  <a:pt x="338" y="744"/>
                </a:lnTo>
                <a:lnTo>
                  <a:pt x="357" y="744"/>
                </a:lnTo>
                <a:lnTo>
                  <a:pt x="375" y="744"/>
                </a:lnTo>
                <a:lnTo>
                  <a:pt x="394" y="743"/>
                </a:lnTo>
                <a:lnTo>
                  <a:pt x="412" y="740"/>
                </a:lnTo>
                <a:lnTo>
                  <a:pt x="429" y="737"/>
                </a:lnTo>
                <a:lnTo>
                  <a:pt x="446" y="733"/>
                </a:lnTo>
                <a:lnTo>
                  <a:pt x="464" y="728"/>
                </a:lnTo>
                <a:lnTo>
                  <a:pt x="479" y="724"/>
                </a:lnTo>
                <a:lnTo>
                  <a:pt x="496" y="717"/>
                </a:lnTo>
                <a:lnTo>
                  <a:pt x="511" y="709"/>
                </a:lnTo>
                <a:lnTo>
                  <a:pt x="527" y="702"/>
                </a:lnTo>
                <a:lnTo>
                  <a:pt x="542" y="693"/>
                </a:lnTo>
                <a:lnTo>
                  <a:pt x="557" y="683"/>
                </a:lnTo>
                <a:lnTo>
                  <a:pt x="571" y="673"/>
                </a:lnTo>
                <a:lnTo>
                  <a:pt x="585" y="662"/>
                </a:lnTo>
                <a:lnTo>
                  <a:pt x="598" y="650"/>
                </a:lnTo>
                <a:lnTo>
                  <a:pt x="611" y="637"/>
                </a:lnTo>
                <a:lnTo>
                  <a:pt x="623" y="623"/>
                </a:lnTo>
                <a:lnTo>
                  <a:pt x="635" y="610"/>
                </a:lnTo>
                <a:lnTo>
                  <a:pt x="646" y="594"/>
                </a:lnTo>
                <a:lnTo>
                  <a:pt x="656" y="580"/>
                </a:lnTo>
                <a:lnTo>
                  <a:pt x="665" y="564"/>
                </a:lnTo>
                <a:lnTo>
                  <a:pt x="673" y="549"/>
                </a:lnTo>
                <a:lnTo>
                  <a:pt x="681" y="534"/>
                </a:lnTo>
                <a:lnTo>
                  <a:pt x="688" y="517"/>
                </a:lnTo>
                <a:lnTo>
                  <a:pt x="694" y="500"/>
                </a:lnTo>
                <a:lnTo>
                  <a:pt x="699" y="483"/>
                </a:lnTo>
                <a:lnTo>
                  <a:pt x="704" y="466"/>
                </a:lnTo>
                <a:lnTo>
                  <a:pt x="707" y="448"/>
                </a:lnTo>
                <a:lnTo>
                  <a:pt x="710" y="429"/>
                </a:lnTo>
                <a:lnTo>
                  <a:pt x="712" y="410"/>
                </a:lnTo>
                <a:lnTo>
                  <a:pt x="713" y="391"/>
                </a:lnTo>
                <a:lnTo>
                  <a:pt x="713" y="372"/>
                </a:lnTo>
                <a:lnTo>
                  <a:pt x="713" y="353"/>
                </a:lnTo>
                <a:lnTo>
                  <a:pt x="712" y="334"/>
                </a:lnTo>
                <a:lnTo>
                  <a:pt x="710" y="315"/>
                </a:lnTo>
                <a:lnTo>
                  <a:pt x="707" y="297"/>
                </a:lnTo>
                <a:lnTo>
                  <a:pt x="704" y="279"/>
                </a:lnTo>
                <a:lnTo>
                  <a:pt x="699" y="262"/>
                </a:lnTo>
                <a:lnTo>
                  <a:pt x="694" y="245"/>
                </a:lnTo>
                <a:lnTo>
                  <a:pt x="688" y="227"/>
                </a:lnTo>
                <a:lnTo>
                  <a:pt x="681" y="212"/>
                </a:lnTo>
                <a:lnTo>
                  <a:pt x="673" y="195"/>
                </a:lnTo>
                <a:lnTo>
                  <a:pt x="665" y="180"/>
                </a:lnTo>
                <a:lnTo>
                  <a:pt x="656" y="164"/>
                </a:lnTo>
                <a:lnTo>
                  <a:pt x="646" y="150"/>
                </a:lnTo>
                <a:lnTo>
                  <a:pt x="635" y="136"/>
                </a:lnTo>
                <a:lnTo>
                  <a:pt x="623" y="121"/>
                </a:lnTo>
                <a:lnTo>
                  <a:pt x="611" y="107"/>
                </a:lnTo>
                <a:lnTo>
                  <a:pt x="598" y="94"/>
                </a:lnTo>
                <a:lnTo>
                  <a:pt x="585" y="82"/>
                </a:lnTo>
                <a:lnTo>
                  <a:pt x="571" y="71"/>
                </a:lnTo>
                <a:lnTo>
                  <a:pt x="557" y="61"/>
                </a:lnTo>
                <a:lnTo>
                  <a:pt x="542" y="51"/>
                </a:lnTo>
                <a:lnTo>
                  <a:pt x="527" y="42"/>
                </a:lnTo>
                <a:lnTo>
                  <a:pt x="511" y="33"/>
                </a:lnTo>
                <a:lnTo>
                  <a:pt x="496" y="26"/>
                </a:lnTo>
                <a:lnTo>
                  <a:pt x="479" y="20"/>
                </a:lnTo>
                <a:lnTo>
                  <a:pt x="464" y="14"/>
                </a:lnTo>
                <a:lnTo>
                  <a:pt x="446" y="11"/>
                </a:lnTo>
                <a:lnTo>
                  <a:pt x="429" y="6"/>
                </a:lnTo>
                <a:lnTo>
                  <a:pt x="412" y="4"/>
                </a:lnTo>
                <a:lnTo>
                  <a:pt x="394" y="1"/>
                </a:lnTo>
                <a:lnTo>
                  <a:pt x="375" y="0"/>
                </a:lnTo>
                <a:lnTo>
                  <a:pt x="35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1840" y="762120"/>
            <a:ext cx="401400" cy="419040"/>
          </a:xfrm>
          <a:custGeom>
            <a:avLst/>
            <a:gdLst/>
            <a:ahLst/>
            <a:rect l="l" t="t" r="r" b="b"/>
            <a:pathLst>
              <a:path w="1522" h="1582">
                <a:moveTo>
                  <a:pt x="760" y="0"/>
                </a:moveTo>
                <a:lnTo>
                  <a:pt x="795" y="1"/>
                </a:lnTo>
                <a:lnTo>
                  <a:pt x="830" y="4"/>
                </a:lnTo>
                <a:lnTo>
                  <a:pt x="864" y="7"/>
                </a:lnTo>
                <a:lnTo>
                  <a:pt x="899" y="12"/>
                </a:lnTo>
                <a:lnTo>
                  <a:pt x="932" y="19"/>
                </a:lnTo>
                <a:lnTo>
                  <a:pt x="965" y="27"/>
                </a:lnTo>
                <a:lnTo>
                  <a:pt x="998" y="37"/>
                </a:lnTo>
                <a:lnTo>
                  <a:pt x="1030" y="49"/>
                </a:lnTo>
                <a:lnTo>
                  <a:pt x="1062" y="61"/>
                </a:lnTo>
                <a:lnTo>
                  <a:pt x="1092" y="75"/>
                </a:lnTo>
                <a:lnTo>
                  <a:pt x="1122" y="90"/>
                </a:lnTo>
                <a:lnTo>
                  <a:pt x="1150" y="107"/>
                </a:lnTo>
                <a:lnTo>
                  <a:pt x="1178" y="125"/>
                </a:lnTo>
                <a:lnTo>
                  <a:pt x="1205" y="144"/>
                </a:lnTo>
                <a:lnTo>
                  <a:pt x="1230" y="165"/>
                </a:lnTo>
                <a:lnTo>
                  <a:pt x="1255" y="187"/>
                </a:lnTo>
                <a:lnTo>
                  <a:pt x="1286" y="217"/>
                </a:lnTo>
                <a:lnTo>
                  <a:pt x="1315" y="248"/>
                </a:lnTo>
                <a:lnTo>
                  <a:pt x="1344" y="280"/>
                </a:lnTo>
                <a:lnTo>
                  <a:pt x="1369" y="315"/>
                </a:lnTo>
                <a:lnTo>
                  <a:pt x="1393" y="349"/>
                </a:lnTo>
                <a:lnTo>
                  <a:pt x="1415" y="385"/>
                </a:lnTo>
                <a:lnTo>
                  <a:pt x="1435" y="423"/>
                </a:lnTo>
                <a:lnTo>
                  <a:pt x="1453" y="461"/>
                </a:lnTo>
                <a:lnTo>
                  <a:pt x="1470" y="500"/>
                </a:lnTo>
                <a:lnTo>
                  <a:pt x="1483" y="539"/>
                </a:lnTo>
                <a:lnTo>
                  <a:pt x="1495" y="580"/>
                </a:lnTo>
                <a:lnTo>
                  <a:pt x="1504" y="621"/>
                </a:lnTo>
                <a:lnTo>
                  <a:pt x="1512" y="663"/>
                </a:lnTo>
                <a:lnTo>
                  <a:pt x="1517" y="704"/>
                </a:lnTo>
                <a:lnTo>
                  <a:pt x="1521" y="747"/>
                </a:lnTo>
                <a:lnTo>
                  <a:pt x="1522" y="790"/>
                </a:lnTo>
                <a:lnTo>
                  <a:pt x="1521" y="834"/>
                </a:lnTo>
                <a:lnTo>
                  <a:pt x="1517" y="876"/>
                </a:lnTo>
                <a:lnTo>
                  <a:pt x="1512" y="918"/>
                </a:lnTo>
                <a:lnTo>
                  <a:pt x="1504" y="960"/>
                </a:lnTo>
                <a:lnTo>
                  <a:pt x="1495" y="1000"/>
                </a:lnTo>
                <a:lnTo>
                  <a:pt x="1483" y="1041"/>
                </a:lnTo>
                <a:lnTo>
                  <a:pt x="1468" y="1081"/>
                </a:lnTo>
                <a:lnTo>
                  <a:pt x="1452" y="1120"/>
                </a:lnTo>
                <a:lnTo>
                  <a:pt x="1434" y="1159"/>
                </a:lnTo>
                <a:lnTo>
                  <a:pt x="1414" y="1196"/>
                </a:lnTo>
                <a:lnTo>
                  <a:pt x="1393" y="1233"/>
                </a:lnTo>
                <a:lnTo>
                  <a:pt x="1369" y="1268"/>
                </a:lnTo>
                <a:lnTo>
                  <a:pt x="1343" y="1302"/>
                </a:lnTo>
                <a:lnTo>
                  <a:pt x="1315" y="1334"/>
                </a:lnTo>
                <a:lnTo>
                  <a:pt x="1286" y="1366"/>
                </a:lnTo>
                <a:lnTo>
                  <a:pt x="1255" y="1396"/>
                </a:lnTo>
                <a:lnTo>
                  <a:pt x="1230" y="1417"/>
                </a:lnTo>
                <a:lnTo>
                  <a:pt x="1204" y="1439"/>
                </a:lnTo>
                <a:lnTo>
                  <a:pt x="1176" y="1458"/>
                </a:lnTo>
                <a:lnTo>
                  <a:pt x="1149" y="1475"/>
                </a:lnTo>
                <a:lnTo>
                  <a:pt x="1121" y="1492"/>
                </a:lnTo>
                <a:lnTo>
                  <a:pt x="1091" y="1508"/>
                </a:lnTo>
                <a:lnTo>
                  <a:pt x="1060" y="1522"/>
                </a:lnTo>
                <a:lnTo>
                  <a:pt x="1029" y="1534"/>
                </a:lnTo>
                <a:lnTo>
                  <a:pt x="996" y="1546"/>
                </a:lnTo>
                <a:lnTo>
                  <a:pt x="964" y="1555"/>
                </a:lnTo>
                <a:lnTo>
                  <a:pt x="931" y="1563"/>
                </a:lnTo>
                <a:lnTo>
                  <a:pt x="897" y="1571"/>
                </a:lnTo>
                <a:lnTo>
                  <a:pt x="864" y="1575"/>
                </a:lnTo>
                <a:lnTo>
                  <a:pt x="830" y="1580"/>
                </a:lnTo>
                <a:lnTo>
                  <a:pt x="794" y="1582"/>
                </a:lnTo>
                <a:lnTo>
                  <a:pt x="760" y="1582"/>
                </a:lnTo>
                <a:lnTo>
                  <a:pt x="724" y="1582"/>
                </a:lnTo>
                <a:lnTo>
                  <a:pt x="690" y="1580"/>
                </a:lnTo>
                <a:lnTo>
                  <a:pt x="655" y="1575"/>
                </a:lnTo>
                <a:lnTo>
                  <a:pt x="622" y="1571"/>
                </a:lnTo>
                <a:lnTo>
                  <a:pt x="589" y="1563"/>
                </a:lnTo>
                <a:lnTo>
                  <a:pt x="555" y="1555"/>
                </a:lnTo>
                <a:lnTo>
                  <a:pt x="523" y="1546"/>
                </a:lnTo>
                <a:lnTo>
                  <a:pt x="491" y="1534"/>
                </a:lnTo>
                <a:lnTo>
                  <a:pt x="461" y="1522"/>
                </a:lnTo>
                <a:lnTo>
                  <a:pt x="430" y="1508"/>
                </a:lnTo>
                <a:lnTo>
                  <a:pt x="400" y="1492"/>
                </a:lnTo>
                <a:lnTo>
                  <a:pt x="371" y="1475"/>
                </a:lnTo>
                <a:lnTo>
                  <a:pt x="343" y="1458"/>
                </a:lnTo>
                <a:lnTo>
                  <a:pt x="317" y="1439"/>
                </a:lnTo>
                <a:lnTo>
                  <a:pt x="291" y="1417"/>
                </a:lnTo>
                <a:lnTo>
                  <a:pt x="265" y="1396"/>
                </a:lnTo>
                <a:lnTo>
                  <a:pt x="234" y="1366"/>
                </a:lnTo>
                <a:lnTo>
                  <a:pt x="205" y="1335"/>
                </a:lnTo>
                <a:lnTo>
                  <a:pt x="178" y="1302"/>
                </a:lnTo>
                <a:lnTo>
                  <a:pt x="152" y="1269"/>
                </a:lnTo>
                <a:lnTo>
                  <a:pt x="129" y="1234"/>
                </a:lnTo>
                <a:lnTo>
                  <a:pt x="107" y="1198"/>
                </a:lnTo>
                <a:lnTo>
                  <a:pt x="87" y="1161"/>
                </a:lnTo>
                <a:lnTo>
                  <a:pt x="69" y="1121"/>
                </a:lnTo>
                <a:lnTo>
                  <a:pt x="53" y="1082"/>
                </a:lnTo>
                <a:lnTo>
                  <a:pt x="39" y="1042"/>
                </a:lnTo>
                <a:lnTo>
                  <a:pt x="27" y="1001"/>
                </a:lnTo>
                <a:lnTo>
                  <a:pt x="18" y="961"/>
                </a:lnTo>
                <a:lnTo>
                  <a:pt x="9" y="918"/>
                </a:lnTo>
                <a:lnTo>
                  <a:pt x="5" y="877"/>
                </a:lnTo>
                <a:lnTo>
                  <a:pt x="1" y="834"/>
                </a:lnTo>
                <a:lnTo>
                  <a:pt x="0" y="790"/>
                </a:lnTo>
                <a:lnTo>
                  <a:pt x="1" y="747"/>
                </a:lnTo>
                <a:lnTo>
                  <a:pt x="5" y="704"/>
                </a:lnTo>
                <a:lnTo>
                  <a:pt x="9" y="662"/>
                </a:lnTo>
                <a:lnTo>
                  <a:pt x="18" y="620"/>
                </a:lnTo>
                <a:lnTo>
                  <a:pt x="27" y="580"/>
                </a:lnTo>
                <a:lnTo>
                  <a:pt x="39" y="539"/>
                </a:lnTo>
                <a:lnTo>
                  <a:pt x="52" y="499"/>
                </a:lnTo>
                <a:lnTo>
                  <a:pt x="69" y="460"/>
                </a:lnTo>
                <a:lnTo>
                  <a:pt x="87" y="422"/>
                </a:lnTo>
                <a:lnTo>
                  <a:pt x="107" y="384"/>
                </a:lnTo>
                <a:lnTo>
                  <a:pt x="128" y="348"/>
                </a:lnTo>
                <a:lnTo>
                  <a:pt x="152" y="314"/>
                </a:lnTo>
                <a:lnTo>
                  <a:pt x="177" y="280"/>
                </a:lnTo>
                <a:lnTo>
                  <a:pt x="205" y="248"/>
                </a:lnTo>
                <a:lnTo>
                  <a:pt x="234" y="216"/>
                </a:lnTo>
                <a:lnTo>
                  <a:pt x="265" y="187"/>
                </a:lnTo>
                <a:lnTo>
                  <a:pt x="291" y="165"/>
                </a:lnTo>
                <a:lnTo>
                  <a:pt x="317" y="144"/>
                </a:lnTo>
                <a:lnTo>
                  <a:pt x="343" y="125"/>
                </a:lnTo>
                <a:lnTo>
                  <a:pt x="371" y="106"/>
                </a:lnTo>
                <a:lnTo>
                  <a:pt x="400" y="89"/>
                </a:lnTo>
                <a:lnTo>
                  <a:pt x="430" y="75"/>
                </a:lnTo>
                <a:lnTo>
                  <a:pt x="461" y="61"/>
                </a:lnTo>
                <a:lnTo>
                  <a:pt x="491" y="48"/>
                </a:lnTo>
                <a:lnTo>
                  <a:pt x="523" y="37"/>
                </a:lnTo>
                <a:lnTo>
                  <a:pt x="555" y="27"/>
                </a:lnTo>
                <a:lnTo>
                  <a:pt x="589" y="19"/>
                </a:lnTo>
                <a:lnTo>
                  <a:pt x="622" y="12"/>
                </a:lnTo>
                <a:lnTo>
                  <a:pt x="655" y="7"/>
                </a:lnTo>
                <a:lnTo>
                  <a:pt x="690" y="4"/>
                </a:lnTo>
                <a:lnTo>
                  <a:pt x="724" y="1"/>
                </a:lnTo>
                <a:lnTo>
                  <a:pt x="760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65880" y="874800"/>
            <a:ext cx="87120" cy="189000"/>
          </a:xfrm>
          <a:custGeom>
            <a:avLst/>
            <a:gdLst/>
            <a:ahLst/>
            <a:rect l="l" t="t" r="r" b="b"/>
            <a:pathLst>
              <a:path w="331" h="713">
                <a:moveTo>
                  <a:pt x="0" y="713"/>
                </a:moveTo>
                <a:lnTo>
                  <a:pt x="19" y="710"/>
                </a:lnTo>
                <a:lnTo>
                  <a:pt x="37" y="707"/>
                </a:lnTo>
                <a:lnTo>
                  <a:pt x="55" y="703"/>
                </a:lnTo>
                <a:lnTo>
                  <a:pt x="71" y="700"/>
                </a:lnTo>
                <a:lnTo>
                  <a:pt x="88" y="695"/>
                </a:lnTo>
                <a:lnTo>
                  <a:pt x="104" y="689"/>
                </a:lnTo>
                <a:lnTo>
                  <a:pt x="120" y="683"/>
                </a:lnTo>
                <a:lnTo>
                  <a:pt x="135" y="677"/>
                </a:lnTo>
                <a:lnTo>
                  <a:pt x="151" y="669"/>
                </a:lnTo>
                <a:lnTo>
                  <a:pt x="165" y="662"/>
                </a:lnTo>
                <a:lnTo>
                  <a:pt x="179" y="653"/>
                </a:lnTo>
                <a:lnTo>
                  <a:pt x="192" y="644"/>
                </a:lnTo>
                <a:lnTo>
                  <a:pt x="205" y="634"/>
                </a:lnTo>
                <a:lnTo>
                  <a:pt x="217" y="624"/>
                </a:lnTo>
                <a:lnTo>
                  <a:pt x="230" y="612"/>
                </a:lnTo>
                <a:lnTo>
                  <a:pt x="241" y="600"/>
                </a:lnTo>
                <a:lnTo>
                  <a:pt x="252" y="588"/>
                </a:lnTo>
                <a:lnTo>
                  <a:pt x="262" y="576"/>
                </a:lnTo>
                <a:lnTo>
                  <a:pt x="272" y="563"/>
                </a:lnTo>
                <a:lnTo>
                  <a:pt x="281" y="549"/>
                </a:lnTo>
                <a:lnTo>
                  <a:pt x="289" y="536"/>
                </a:lnTo>
                <a:lnTo>
                  <a:pt x="297" y="521"/>
                </a:lnTo>
                <a:lnTo>
                  <a:pt x="303" y="507"/>
                </a:lnTo>
                <a:lnTo>
                  <a:pt x="309" y="492"/>
                </a:lnTo>
                <a:lnTo>
                  <a:pt x="315" y="476"/>
                </a:lnTo>
                <a:lnTo>
                  <a:pt x="319" y="461"/>
                </a:lnTo>
                <a:lnTo>
                  <a:pt x="323" y="445"/>
                </a:lnTo>
                <a:lnTo>
                  <a:pt x="326" y="429"/>
                </a:lnTo>
                <a:lnTo>
                  <a:pt x="329" y="412"/>
                </a:lnTo>
                <a:lnTo>
                  <a:pt x="330" y="394"/>
                </a:lnTo>
                <a:lnTo>
                  <a:pt x="331" y="376"/>
                </a:lnTo>
                <a:lnTo>
                  <a:pt x="331" y="359"/>
                </a:lnTo>
                <a:lnTo>
                  <a:pt x="331" y="340"/>
                </a:lnTo>
                <a:lnTo>
                  <a:pt x="330" y="321"/>
                </a:lnTo>
                <a:lnTo>
                  <a:pt x="329" y="303"/>
                </a:lnTo>
                <a:lnTo>
                  <a:pt x="326" y="285"/>
                </a:lnTo>
                <a:lnTo>
                  <a:pt x="323" y="267"/>
                </a:lnTo>
                <a:lnTo>
                  <a:pt x="318" y="249"/>
                </a:lnTo>
                <a:lnTo>
                  <a:pt x="315" y="233"/>
                </a:lnTo>
                <a:lnTo>
                  <a:pt x="309" y="217"/>
                </a:lnTo>
                <a:lnTo>
                  <a:pt x="303" y="202"/>
                </a:lnTo>
                <a:lnTo>
                  <a:pt x="296" y="186"/>
                </a:lnTo>
                <a:lnTo>
                  <a:pt x="289" y="171"/>
                </a:lnTo>
                <a:lnTo>
                  <a:pt x="280" y="157"/>
                </a:lnTo>
                <a:lnTo>
                  <a:pt x="271" y="142"/>
                </a:lnTo>
                <a:lnTo>
                  <a:pt x="261" y="129"/>
                </a:lnTo>
                <a:lnTo>
                  <a:pt x="251" y="115"/>
                </a:lnTo>
                <a:lnTo>
                  <a:pt x="240" y="103"/>
                </a:lnTo>
                <a:lnTo>
                  <a:pt x="228" y="91"/>
                </a:lnTo>
                <a:lnTo>
                  <a:pt x="216" y="79"/>
                </a:lnTo>
                <a:lnTo>
                  <a:pt x="203" y="69"/>
                </a:lnTo>
                <a:lnTo>
                  <a:pt x="190" y="59"/>
                </a:lnTo>
                <a:lnTo>
                  <a:pt x="177" y="50"/>
                </a:lnTo>
                <a:lnTo>
                  <a:pt x="163" y="41"/>
                </a:lnTo>
                <a:lnTo>
                  <a:pt x="148" y="34"/>
                </a:lnTo>
                <a:lnTo>
                  <a:pt x="134" y="27"/>
                </a:lnTo>
                <a:lnTo>
                  <a:pt x="119" y="21"/>
                </a:lnTo>
                <a:lnTo>
                  <a:pt x="103" y="17"/>
                </a:lnTo>
                <a:lnTo>
                  <a:pt x="87" y="12"/>
                </a:lnTo>
                <a:lnTo>
                  <a:pt x="70" y="7"/>
                </a:lnTo>
                <a:lnTo>
                  <a:pt x="53" y="5"/>
                </a:lnTo>
                <a:lnTo>
                  <a:pt x="36" y="2"/>
                </a:lnTo>
                <a:lnTo>
                  <a:pt x="18" y="1"/>
                </a:lnTo>
                <a:lnTo>
                  <a:pt x="0" y="0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62560" y="773280"/>
            <a:ext cx="298440" cy="396720"/>
          </a:xfrm>
          <a:custGeom>
            <a:avLst/>
            <a:gdLst/>
            <a:ahLst/>
            <a:rect l="l" t="t" r="r" b="b"/>
            <a:pathLst>
              <a:path w="1125" h="1502">
                <a:moveTo>
                  <a:pt x="227" y="0"/>
                </a:moveTo>
                <a:lnTo>
                  <a:pt x="279" y="0"/>
                </a:lnTo>
                <a:lnTo>
                  <a:pt x="327" y="2"/>
                </a:lnTo>
                <a:lnTo>
                  <a:pt x="375" y="4"/>
                </a:lnTo>
                <a:lnTo>
                  <a:pt x="419" y="6"/>
                </a:lnTo>
                <a:lnTo>
                  <a:pt x="460" y="11"/>
                </a:lnTo>
                <a:lnTo>
                  <a:pt x="498" y="16"/>
                </a:lnTo>
                <a:lnTo>
                  <a:pt x="535" y="21"/>
                </a:lnTo>
                <a:lnTo>
                  <a:pt x="568" y="28"/>
                </a:lnTo>
                <a:lnTo>
                  <a:pt x="599" y="35"/>
                </a:lnTo>
                <a:lnTo>
                  <a:pt x="630" y="43"/>
                </a:lnTo>
                <a:lnTo>
                  <a:pt x="660" y="53"/>
                </a:lnTo>
                <a:lnTo>
                  <a:pt x="690" y="63"/>
                </a:lnTo>
                <a:lnTo>
                  <a:pt x="718" y="75"/>
                </a:lnTo>
                <a:lnTo>
                  <a:pt x="745" y="88"/>
                </a:lnTo>
                <a:lnTo>
                  <a:pt x="771" y="101"/>
                </a:lnTo>
                <a:lnTo>
                  <a:pt x="798" y="117"/>
                </a:lnTo>
                <a:lnTo>
                  <a:pt x="817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0" y="186"/>
                </a:lnTo>
                <a:lnTo>
                  <a:pt x="907" y="201"/>
                </a:lnTo>
                <a:lnTo>
                  <a:pt x="923" y="217"/>
                </a:lnTo>
                <a:lnTo>
                  <a:pt x="939" y="233"/>
                </a:lnTo>
                <a:lnTo>
                  <a:pt x="954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1" y="362"/>
                </a:lnTo>
                <a:lnTo>
                  <a:pt x="1042" y="381"/>
                </a:lnTo>
                <a:lnTo>
                  <a:pt x="1052" y="402"/>
                </a:lnTo>
                <a:lnTo>
                  <a:pt x="1061" y="423"/>
                </a:lnTo>
                <a:lnTo>
                  <a:pt x="1071" y="445"/>
                </a:lnTo>
                <a:lnTo>
                  <a:pt x="1079" y="466"/>
                </a:lnTo>
                <a:lnTo>
                  <a:pt x="1086" y="489"/>
                </a:lnTo>
                <a:lnTo>
                  <a:pt x="1093" y="511"/>
                </a:lnTo>
                <a:lnTo>
                  <a:pt x="1099" y="535"/>
                </a:lnTo>
                <a:lnTo>
                  <a:pt x="1105" y="558"/>
                </a:lnTo>
                <a:lnTo>
                  <a:pt x="1110" y="583"/>
                </a:lnTo>
                <a:lnTo>
                  <a:pt x="1113" y="606"/>
                </a:lnTo>
                <a:lnTo>
                  <a:pt x="1117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4" y="707"/>
                </a:lnTo>
                <a:lnTo>
                  <a:pt x="1125" y="733"/>
                </a:lnTo>
                <a:lnTo>
                  <a:pt x="1125" y="761"/>
                </a:lnTo>
                <a:lnTo>
                  <a:pt x="1125" y="784"/>
                </a:lnTo>
                <a:lnTo>
                  <a:pt x="1124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7" y="878"/>
                </a:lnTo>
                <a:lnTo>
                  <a:pt x="1112" y="902"/>
                </a:lnTo>
                <a:lnTo>
                  <a:pt x="1107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4" y="1033"/>
                </a:lnTo>
                <a:lnTo>
                  <a:pt x="1065" y="1054"/>
                </a:lnTo>
                <a:lnTo>
                  <a:pt x="1055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2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3" y="1229"/>
                </a:lnTo>
                <a:lnTo>
                  <a:pt x="938" y="1247"/>
                </a:lnTo>
                <a:lnTo>
                  <a:pt x="922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0" y="1311"/>
                </a:lnTo>
                <a:lnTo>
                  <a:pt x="852" y="1325"/>
                </a:lnTo>
                <a:lnTo>
                  <a:pt x="833" y="1340"/>
                </a:lnTo>
                <a:lnTo>
                  <a:pt x="814" y="1354"/>
                </a:lnTo>
                <a:lnTo>
                  <a:pt x="794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19" y="1411"/>
                </a:lnTo>
                <a:lnTo>
                  <a:pt x="691" y="1424"/>
                </a:lnTo>
                <a:lnTo>
                  <a:pt x="661" y="1435"/>
                </a:lnTo>
                <a:lnTo>
                  <a:pt x="631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6" y="1474"/>
                </a:lnTo>
                <a:lnTo>
                  <a:pt x="503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3" y="1501"/>
                </a:lnTo>
                <a:lnTo>
                  <a:pt x="270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0320" y="773280"/>
            <a:ext cx="247680" cy="396720"/>
          </a:xfrm>
          <a:custGeom>
            <a:avLst/>
            <a:gdLst/>
            <a:ahLst/>
            <a:rect l="l" t="t" r="r" b="b"/>
            <a:pathLst>
              <a:path w="938" h="1502">
                <a:moveTo>
                  <a:pt x="938" y="1089"/>
                </a:moveTo>
                <a:lnTo>
                  <a:pt x="833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4" y="400"/>
                </a:lnTo>
                <a:lnTo>
                  <a:pt x="388" y="400"/>
                </a:lnTo>
                <a:lnTo>
                  <a:pt x="388" y="552"/>
                </a:lnTo>
                <a:lnTo>
                  <a:pt x="726" y="552"/>
                </a:lnTo>
                <a:lnTo>
                  <a:pt x="726" y="950"/>
                </a:lnTo>
                <a:lnTo>
                  <a:pt x="388" y="950"/>
                </a:lnTo>
                <a:lnTo>
                  <a:pt x="388" y="1089"/>
                </a:lnTo>
                <a:lnTo>
                  <a:pt x="938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00840" y="773280"/>
            <a:ext cx="250560" cy="396720"/>
          </a:xfrm>
          <a:custGeom>
            <a:avLst/>
            <a:gdLst/>
            <a:ahLst/>
            <a:rect l="l" t="t" r="r" b="b"/>
            <a:pathLst>
              <a:path w="946" h="1502">
                <a:moveTo>
                  <a:pt x="946" y="1089"/>
                </a:moveTo>
                <a:lnTo>
                  <a:pt x="824" y="1502"/>
                </a:lnTo>
                <a:lnTo>
                  <a:pt x="0" y="1502"/>
                </a:lnTo>
                <a:lnTo>
                  <a:pt x="0" y="0"/>
                </a:lnTo>
                <a:lnTo>
                  <a:pt x="388" y="0"/>
                </a:lnTo>
                <a:lnTo>
                  <a:pt x="388" y="1089"/>
                </a:lnTo>
                <a:lnTo>
                  <a:pt x="946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2887560" y="685800"/>
            <a:ext cx="3432240" cy="1114560"/>
            <a:chOff x="2887560" y="685800"/>
            <a:chExt cx="3432240" cy="1114560"/>
          </a:xfrm>
        </p:grpSpPr>
        <p:sp>
          <p:nvSpPr>
            <p:cNvPr id="305" name=""/>
            <p:cNvSpPr/>
            <p:nvPr/>
          </p:nvSpPr>
          <p:spPr>
            <a:xfrm>
              <a:off x="308628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0" h="1508">
                  <a:moveTo>
                    <a:pt x="28" y="1488"/>
                  </a:moveTo>
                  <a:lnTo>
                    <a:pt x="18" y="1086"/>
                  </a:lnTo>
                  <a:lnTo>
                    <a:pt x="28" y="1090"/>
                  </a:lnTo>
                  <a:lnTo>
                    <a:pt x="39" y="1094"/>
                  </a:lnTo>
                  <a:lnTo>
                    <a:pt x="50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89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9" y="1118"/>
                  </a:lnTo>
                  <a:lnTo>
                    <a:pt x="128" y="1120"/>
                  </a:lnTo>
                  <a:lnTo>
                    <a:pt x="137" y="1121"/>
                  </a:lnTo>
                  <a:lnTo>
                    <a:pt x="146" y="1122"/>
                  </a:lnTo>
                  <a:lnTo>
                    <a:pt x="155" y="1123"/>
                  </a:lnTo>
                  <a:lnTo>
                    <a:pt x="165" y="1123"/>
                  </a:lnTo>
                  <a:lnTo>
                    <a:pt x="173" y="1123"/>
                  </a:lnTo>
                  <a:lnTo>
                    <a:pt x="188" y="1123"/>
                  </a:lnTo>
                  <a:lnTo>
                    <a:pt x="203" y="1121"/>
                  </a:lnTo>
                  <a:lnTo>
                    <a:pt x="216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4" y="1105"/>
                  </a:lnTo>
                  <a:lnTo>
                    <a:pt x="265" y="1098"/>
                  </a:lnTo>
                  <a:lnTo>
                    <a:pt x="275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0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3" y="1032"/>
                  </a:lnTo>
                  <a:lnTo>
                    <a:pt x="315" y="1020"/>
                  </a:lnTo>
                  <a:lnTo>
                    <a:pt x="315" y="1008"/>
                  </a:lnTo>
                  <a:lnTo>
                    <a:pt x="315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5" y="964"/>
                  </a:lnTo>
                  <a:lnTo>
                    <a:pt x="300" y="955"/>
                  </a:lnTo>
                  <a:lnTo>
                    <a:pt x="295" y="944"/>
                  </a:lnTo>
                  <a:lnTo>
                    <a:pt x="289" y="934"/>
                  </a:lnTo>
                  <a:lnTo>
                    <a:pt x="273" y="914"/>
                  </a:lnTo>
                  <a:lnTo>
                    <a:pt x="254" y="891"/>
                  </a:lnTo>
                  <a:lnTo>
                    <a:pt x="233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5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5" y="795"/>
                  </a:lnTo>
                  <a:lnTo>
                    <a:pt x="150" y="789"/>
                  </a:lnTo>
                  <a:lnTo>
                    <a:pt x="132" y="770"/>
                  </a:lnTo>
                  <a:lnTo>
                    <a:pt x="115" y="750"/>
                  </a:lnTo>
                  <a:lnTo>
                    <a:pt x="98" y="730"/>
                  </a:lnTo>
                  <a:lnTo>
                    <a:pt x="83" y="711"/>
                  </a:lnTo>
                  <a:lnTo>
                    <a:pt x="70" y="690"/>
                  </a:lnTo>
                  <a:lnTo>
                    <a:pt x="58" y="670"/>
                  </a:lnTo>
                  <a:lnTo>
                    <a:pt x="46" y="649"/>
                  </a:lnTo>
                  <a:lnTo>
                    <a:pt x="36" y="629"/>
                  </a:lnTo>
                  <a:lnTo>
                    <a:pt x="28" y="608"/>
                  </a:lnTo>
                  <a:lnTo>
                    <a:pt x="20" y="587"/>
                  </a:lnTo>
                  <a:lnTo>
                    <a:pt x="14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1" y="474"/>
                  </a:lnTo>
                  <a:lnTo>
                    <a:pt x="0" y="450"/>
                  </a:lnTo>
                  <a:lnTo>
                    <a:pt x="1" y="426"/>
                  </a:lnTo>
                  <a:lnTo>
                    <a:pt x="2" y="402"/>
                  </a:lnTo>
                  <a:lnTo>
                    <a:pt x="5" y="379"/>
                  </a:lnTo>
                  <a:lnTo>
                    <a:pt x="9" y="357"/>
                  </a:lnTo>
                  <a:lnTo>
                    <a:pt x="13" y="334"/>
                  </a:lnTo>
                  <a:lnTo>
                    <a:pt x="19" y="313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5" y="213"/>
                  </a:lnTo>
                  <a:lnTo>
                    <a:pt x="77" y="194"/>
                  </a:lnTo>
                  <a:lnTo>
                    <a:pt x="90" y="177"/>
                  </a:lnTo>
                  <a:lnTo>
                    <a:pt x="104" y="160"/>
                  </a:lnTo>
                  <a:lnTo>
                    <a:pt x="121" y="143"/>
                  </a:lnTo>
                  <a:lnTo>
                    <a:pt x="137" y="127"/>
                  </a:lnTo>
                  <a:lnTo>
                    <a:pt x="154" y="112"/>
                  </a:lnTo>
                  <a:lnTo>
                    <a:pt x="173" y="97"/>
                  </a:lnTo>
                  <a:lnTo>
                    <a:pt x="191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1" y="49"/>
                  </a:lnTo>
                  <a:lnTo>
                    <a:pt x="272" y="40"/>
                  </a:lnTo>
                  <a:lnTo>
                    <a:pt x="295" y="32"/>
                  </a:lnTo>
                  <a:lnTo>
                    <a:pt x="317" y="25"/>
                  </a:lnTo>
                  <a:lnTo>
                    <a:pt x="341" y="18"/>
                  </a:lnTo>
                  <a:lnTo>
                    <a:pt x="364" y="13"/>
                  </a:lnTo>
                  <a:lnTo>
                    <a:pt x="388" y="8"/>
                  </a:lnTo>
                  <a:lnTo>
                    <a:pt x="414" y="4"/>
                  </a:lnTo>
                  <a:lnTo>
                    <a:pt x="439" y="2"/>
                  </a:lnTo>
                  <a:lnTo>
                    <a:pt x="466" y="0"/>
                  </a:lnTo>
                  <a:lnTo>
                    <a:pt x="492" y="0"/>
                  </a:lnTo>
                  <a:lnTo>
                    <a:pt x="509" y="0"/>
                  </a:lnTo>
                  <a:lnTo>
                    <a:pt x="527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6" y="3"/>
                  </a:lnTo>
                  <a:lnTo>
                    <a:pt x="591" y="5"/>
                  </a:lnTo>
                  <a:lnTo>
                    <a:pt x="606" y="6"/>
                  </a:lnTo>
                  <a:lnTo>
                    <a:pt x="621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6" y="17"/>
                  </a:lnTo>
                  <a:lnTo>
                    <a:pt x="680" y="21"/>
                  </a:lnTo>
                  <a:lnTo>
                    <a:pt x="695" y="24"/>
                  </a:lnTo>
                  <a:lnTo>
                    <a:pt x="709" y="28"/>
                  </a:lnTo>
                  <a:lnTo>
                    <a:pt x="723" y="32"/>
                  </a:lnTo>
                  <a:lnTo>
                    <a:pt x="737" y="37"/>
                  </a:lnTo>
                  <a:lnTo>
                    <a:pt x="737" y="399"/>
                  </a:lnTo>
                  <a:lnTo>
                    <a:pt x="726" y="393"/>
                  </a:lnTo>
                  <a:lnTo>
                    <a:pt x="714" y="388"/>
                  </a:lnTo>
                  <a:lnTo>
                    <a:pt x="703" y="383"/>
                  </a:lnTo>
                  <a:lnTo>
                    <a:pt x="692" y="379"/>
                  </a:lnTo>
                  <a:lnTo>
                    <a:pt x="680" y="374"/>
                  </a:lnTo>
                  <a:lnTo>
                    <a:pt x="670" y="370"/>
                  </a:lnTo>
                  <a:lnTo>
                    <a:pt x="659" y="367"/>
                  </a:lnTo>
                  <a:lnTo>
                    <a:pt x="649" y="364"/>
                  </a:lnTo>
                  <a:lnTo>
                    <a:pt x="639" y="361"/>
                  </a:lnTo>
                  <a:lnTo>
                    <a:pt x="630" y="359"/>
                  </a:lnTo>
                  <a:lnTo>
                    <a:pt x="619" y="357"/>
                  </a:lnTo>
                  <a:lnTo>
                    <a:pt x="610" y="354"/>
                  </a:lnTo>
                  <a:lnTo>
                    <a:pt x="601" y="353"/>
                  </a:lnTo>
                  <a:lnTo>
                    <a:pt x="593" y="352"/>
                  </a:lnTo>
                  <a:lnTo>
                    <a:pt x="585" y="351"/>
                  </a:lnTo>
                  <a:lnTo>
                    <a:pt x="577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6"/>
                  </a:lnTo>
                  <a:lnTo>
                    <a:pt x="513" y="359"/>
                  </a:lnTo>
                  <a:lnTo>
                    <a:pt x="499" y="364"/>
                  </a:lnTo>
                  <a:lnTo>
                    <a:pt x="487" y="369"/>
                  </a:lnTo>
                  <a:lnTo>
                    <a:pt x="476" y="375"/>
                  </a:lnTo>
                  <a:lnTo>
                    <a:pt x="467" y="381"/>
                  </a:lnTo>
                  <a:lnTo>
                    <a:pt x="458" y="389"/>
                  </a:lnTo>
                  <a:lnTo>
                    <a:pt x="449" y="398"/>
                  </a:lnTo>
                  <a:lnTo>
                    <a:pt x="443" y="408"/>
                  </a:lnTo>
                  <a:lnTo>
                    <a:pt x="437" y="418"/>
                  </a:lnTo>
                  <a:lnTo>
                    <a:pt x="433" y="429"/>
                  </a:lnTo>
                  <a:lnTo>
                    <a:pt x="430" y="440"/>
                  </a:lnTo>
                  <a:lnTo>
                    <a:pt x="428" y="452"/>
                  </a:lnTo>
                  <a:lnTo>
                    <a:pt x="428" y="467"/>
                  </a:lnTo>
                  <a:lnTo>
                    <a:pt x="428" y="474"/>
                  </a:lnTo>
                  <a:lnTo>
                    <a:pt x="429" y="482"/>
                  </a:lnTo>
                  <a:lnTo>
                    <a:pt x="431" y="490"/>
                  </a:lnTo>
                  <a:lnTo>
                    <a:pt x="434" y="498"/>
                  </a:lnTo>
                  <a:lnTo>
                    <a:pt x="438" y="507"/>
                  </a:lnTo>
                  <a:lnTo>
                    <a:pt x="442" y="516"/>
                  </a:lnTo>
                  <a:lnTo>
                    <a:pt x="448" y="524"/>
                  </a:lnTo>
                  <a:lnTo>
                    <a:pt x="455" y="533"/>
                  </a:lnTo>
                  <a:lnTo>
                    <a:pt x="461" y="542"/>
                  </a:lnTo>
                  <a:lnTo>
                    <a:pt x="469" y="551"/>
                  </a:lnTo>
                  <a:lnTo>
                    <a:pt x="477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8" y="648"/>
                  </a:lnTo>
                  <a:lnTo>
                    <a:pt x="585" y="655"/>
                  </a:lnTo>
                  <a:lnTo>
                    <a:pt x="591" y="660"/>
                  </a:lnTo>
                  <a:lnTo>
                    <a:pt x="597" y="665"/>
                  </a:lnTo>
                  <a:lnTo>
                    <a:pt x="617" y="684"/>
                  </a:lnTo>
                  <a:lnTo>
                    <a:pt x="637" y="704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8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6" y="835"/>
                  </a:lnTo>
                  <a:lnTo>
                    <a:pt x="736" y="859"/>
                  </a:lnTo>
                  <a:lnTo>
                    <a:pt x="746" y="883"/>
                  </a:lnTo>
                  <a:lnTo>
                    <a:pt x="754" y="909"/>
                  </a:lnTo>
                  <a:lnTo>
                    <a:pt x="760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0" y="1039"/>
                  </a:lnTo>
                  <a:lnTo>
                    <a:pt x="770" y="1066"/>
                  </a:lnTo>
                  <a:lnTo>
                    <a:pt x="768" y="1092"/>
                  </a:lnTo>
                  <a:lnTo>
                    <a:pt x="765" y="1118"/>
                  </a:lnTo>
                  <a:lnTo>
                    <a:pt x="762" y="1142"/>
                  </a:lnTo>
                  <a:lnTo>
                    <a:pt x="757" y="1167"/>
                  </a:lnTo>
                  <a:lnTo>
                    <a:pt x="750" y="1190"/>
                  </a:lnTo>
                  <a:lnTo>
                    <a:pt x="742" y="1213"/>
                  </a:lnTo>
                  <a:lnTo>
                    <a:pt x="734" y="1234"/>
                  </a:lnTo>
                  <a:lnTo>
                    <a:pt x="724" y="1256"/>
                  </a:lnTo>
                  <a:lnTo>
                    <a:pt x="714" y="1276"/>
                  </a:lnTo>
                  <a:lnTo>
                    <a:pt x="702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3" y="1367"/>
                  </a:lnTo>
                  <a:lnTo>
                    <a:pt x="625" y="1382"/>
                  </a:lnTo>
                  <a:lnTo>
                    <a:pt x="607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7" y="1468"/>
                  </a:lnTo>
                  <a:lnTo>
                    <a:pt x="452" y="1476"/>
                  </a:lnTo>
                  <a:lnTo>
                    <a:pt x="427" y="1483"/>
                  </a:lnTo>
                  <a:lnTo>
                    <a:pt x="401" y="1490"/>
                  </a:lnTo>
                  <a:lnTo>
                    <a:pt x="373" y="1496"/>
                  </a:lnTo>
                  <a:lnTo>
                    <a:pt x="346" y="1500"/>
                  </a:lnTo>
                  <a:lnTo>
                    <a:pt x="316" y="1503"/>
                  </a:lnTo>
                  <a:lnTo>
                    <a:pt x="287" y="1506"/>
                  </a:lnTo>
                  <a:lnTo>
                    <a:pt x="255" y="1507"/>
                  </a:lnTo>
                  <a:lnTo>
                    <a:pt x="224" y="1508"/>
                  </a:lnTo>
                  <a:lnTo>
                    <a:pt x="210" y="1507"/>
                  </a:lnTo>
                  <a:lnTo>
                    <a:pt x="198" y="1507"/>
                  </a:lnTo>
                  <a:lnTo>
                    <a:pt x="185" y="1507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4" y="1503"/>
                  </a:lnTo>
                  <a:lnTo>
                    <a:pt x="122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6" y="1498"/>
                  </a:lnTo>
                  <a:lnTo>
                    <a:pt x="74" y="1497"/>
                  </a:lnTo>
                  <a:lnTo>
                    <a:pt x="63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6560" y="698400"/>
              <a:ext cx="309600" cy="463680"/>
            </a:xfrm>
            <a:custGeom>
              <a:avLst/>
              <a:gdLst/>
              <a:ahLst/>
              <a:rect l="l" t="t" r="r" b="b"/>
              <a:pathLst>
                <a:path w="971" h="1461">
                  <a:moveTo>
                    <a:pt x="674" y="369"/>
                  </a:moveTo>
                  <a:lnTo>
                    <a:pt x="674" y="1461"/>
                  </a:lnTo>
                  <a:lnTo>
                    <a:pt x="296" y="1461"/>
                  </a:lnTo>
                  <a:lnTo>
                    <a:pt x="296" y="369"/>
                  </a:lnTo>
                  <a:lnTo>
                    <a:pt x="0" y="369"/>
                  </a:lnTo>
                  <a:lnTo>
                    <a:pt x="39" y="0"/>
                  </a:lnTo>
                  <a:lnTo>
                    <a:pt x="930" y="0"/>
                  </a:lnTo>
                  <a:lnTo>
                    <a:pt x="971" y="369"/>
                  </a:lnTo>
                  <a:lnTo>
                    <a:pt x="674" y="3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33840" y="698400"/>
              <a:ext cx="450720" cy="463680"/>
            </a:xfrm>
            <a:custGeom>
              <a:avLst/>
              <a:gdLst/>
              <a:ahLst/>
              <a:rect l="l" t="t" r="r" b="b"/>
              <a:pathLst>
                <a:path w="1418" h="1461">
                  <a:moveTo>
                    <a:pt x="555" y="933"/>
                  </a:moveTo>
                  <a:lnTo>
                    <a:pt x="854" y="933"/>
                  </a:lnTo>
                  <a:lnTo>
                    <a:pt x="704" y="440"/>
                  </a:lnTo>
                  <a:lnTo>
                    <a:pt x="555" y="933"/>
                  </a:lnTo>
                  <a:close/>
                  <a:moveTo>
                    <a:pt x="0" y="1461"/>
                  </a:moveTo>
                  <a:lnTo>
                    <a:pt x="509" y="0"/>
                  </a:lnTo>
                  <a:lnTo>
                    <a:pt x="936" y="0"/>
                  </a:lnTo>
                  <a:lnTo>
                    <a:pt x="1418" y="1461"/>
                  </a:lnTo>
                  <a:lnTo>
                    <a:pt x="1017" y="1461"/>
                  </a:lnTo>
                  <a:lnTo>
                    <a:pt x="965" y="1298"/>
                  </a:lnTo>
                  <a:lnTo>
                    <a:pt x="449" y="1298"/>
                  </a:lnTo>
                  <a:lnTo>
                    <a:pt x="393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94280" y="689040"/>
              <a:ext cx="398520" cy="482400"/>
            </a:xfrm>
            <a:custGeom>
              <a:avLst/>
              <a:gdLst/>
              <a:ahLst/>
              <a:rect l="l" t="t" r="r" b="b"/>
              <a:pathLst>
                <a:path w="1253" h="1518">
                  <a:moveTo>
                    <a:pt x="1253" y="1432"/>
                  </a:moveTo>
                  <a:lnTo>
                    <a:pt x="1229" y="1441"/>
                  </a:lnTo>
                  <a:lnTo>
                    <a:pt x="1204" y="1452"/>
                  </a:lnTo>
                  <a:lnTo>
                    <a:pt x="1178" y="1460"/>
                  </a:lnTo>
                  <a:lnTo>
                    <a:pt x="1151" y="1468"/>
                  </a:lnTo>
                  <a:lnTo>
                    <a:pt x="1124" y="1476"/>
                  </a:lnTo>
                  <a:lnTo>
                    <a:pt x="1095" y="1483"/>
                  </a:lnTo>
                  <a:lnTo>
                    <a:pt x="1066" y="1489"/>
                  </a:lnTo>
                  <a:lnTo>
                    <a:pt x="1035" y="1495"/>
                  </a:lnTo>
                  <a:lnTo>
                    <a:pt x="1005" y="1501"/>
                  </a:lnTo>
                  <a:lnTo>
                    <a:pt x="973" y="1505"/>
                  </a:lnTo>
                  <a:lnTo>
                    <a:pt x="942" y="1509"/>
                  </a:lnTo>
                  <a:lnTo>
                    <a:pt x="910" y="1512"/>
                  </a:lnTo>
                  <a:lnTo>
                    <a:pt x="878" y="1515"/>
                  </a:lnTo>
                  <a:lnTo>
                    <a:pt x="845" y="1516"/>
                  </a:lnTo>
                  <a:lnTo>
                    <a:pt x="812" y="1517"/>
                  </a:lnTo>
                  <a:lnTo>
                    <a:pt x="779" y="1518"/>
                  </a:lnTo>
                  <a:lnTo>
                    <a:pt x="734" y="1517"/>
                  </a:lnTo>
                  <a:lnTo>
                    <a:pt x="690" y="1515"/>
                  </a:lnTo>
                  <a:lnTo>
                    <a:pt x="648" y="1511"/>
                  </a:lnTo>
                  <a:lnTo>
                    <a:pt x="607" y="1506"/>
                  </a:lnTo>
                  <a:lnTo>
                    <a:pt x="567" y="1499"/>
                  </a:lnTo>
                  <a:lnTo>
                    <a:pt x="529" y="1489"/>
                  </a:lnTo>
                  <a:lnTo>
                    <a:pt x="491" y="1479"/>
                  </a:lnTo>
                  <a:lnTo>
                    <a:pt x="454" y="1468"/>
                  </a:lnTo>
                  <a:lnTo>
                    <a:pt x="420" y="1455"/>
                  </a:lnTo>
                  <a:lnTo>
                    <a:pt x="386" y="1439"/>
                  </a:lnTo>
                  <a:lnTo>
                    <a:pt x="369" y="1432"/>
                  </a:lnTo>
                  <a:lnTo>
                    <a:pt x="353" y="1423"/>
                  </a:lnTo>
                  <a:lnTo>
                    <a:pt x="337" y="1415"/>
                  </a:lnTo>
                  <a:lnTo>
                    <a:pt x="322" y="1406"/>
                  </a:lnTo>
                  <a:lnTo>
                    <a:pt x="292" y="1386"/>
                  </a:lnTo>
                  <a:lnTo>
                    <a:pt x="262" y="1365"/>
                  </a:lnTo>
                  <a:lnTo>
                    <a:pt x="248" y="1354"/>
                  </a:lnTo>
                  <a:lnTo>
                    <a:pt x="235" y="1342"/>
                  </a:lnTo>
                  <a:lnTo>
                    <a:pt x="221" y="1330"/>
                  </a:lnTo>
                  <a:lnTo>
                    <a:pt x="208" y="1318"/>
                  </a:lnTo>
                  <a:lnTo>
                    <a:pt x="183" y="1292"/>
                  </a:lnTo>
                  <a:lnTo>
                    <a:pt x="159" y="1266"/>
                  </a:lnTo>
                  <a:lnTo>
                    <a:pt x="137" y="1238"/>
                  </a:lnTo>
                  <a:lnTo>
                    <a:pt x="117" y="1209"/>
                  </a:lnTo>
                  <a:lnTo>
                    <a:pt x="107" y="1194"/>
                  </a:lnTo>
                  <a:lnTo>
                    <a:pt x="98" y="1179"/>
                  </a:lnTo>
                  <a:lnTo>
                    <a:pt x="89" y="1164"/>
                  </a:lnTo>
                  <a:lnTo>
                    <a:pt x="81" y="1148"/>
                  </a:lnTo>
                  <a:lnTo>
                    <a:pt x="73" y="1132"/>
                  </a:lnTo>
                  <a:lnTo>
                    <a:pt x="66" y="1116"/>
                  </a:lnTo>
                  <a:lnTo>
                    <a:pt x="59" y="1099"/>
                  </a:lnTo>
                  <a:lnTo>
                    <a:pt x="51" y="1082"/>
                  </a:lnTo>
                  <a:lnTo>
                    <a:pt x="39" y="1047"/>
                  </a:lnTo>
                  <a:lnTo>
                    <a:pt x="29" y="1012"/>
                  </a:lnTo>
                  <a:lnTo>
                    <a:pt x="20" y="975"/>
                  </a:lnTo>
                  <a:lnTo>
                    <a:pt x="13" y="937"/>
                  </a:lnTo>
                  <a:lnTo>
                    <a:pt x="7" y="898"/>
                  </a:lnTo>
                  <a:lnTo>
                    <a:pt x="3" y="859"/>
                  </a:lnTo>
                  <a:lnTo>
                    <a:pt x="0" y="817"/>
                  </a:lnTo>
                  <a:lnTo>
                    <a:pt x="0" y="775"/>
                  </a:lnTo>
                  <a:lnTo>
                    <a:pt x="1" y="733"/>
                  </a:lnTo>
                  <a:lnTo>
                    <a:pt x="3" y="692"/>
                  </a:lnTo>
                  <a:lnTo>
                    <a:pt x="7" y="652"/>
                  </a:lnTo>
                  <a:lnTo>
                    <a:pt x="13" y="614"/>
                  </a:lnTo>
                  <a:lnTo>
                    <a:pt x="21" y="576"/>
                  </a:lnTo>
                  <a:lnTo>
                    <a:pt x="30" y="539"/>
                  </a:lnTo>
                  <a:lnTo>
                    <a:pt x="41" y="502"/>
                  </a:lnTo>
                  <a:lnTo>
                    <a:pt x="53" y="468"/>
                  </a:lnTo>
                  <a:lnTo>
                    <a:pt x="69" y="433"/>
                  </a:lnTo>
                  <a:lnTo>
                    <a:pt x="84" y="400"/>
                  </a:lnTo>
                  <a:lnTo>
                    <a:pt x="102" y="368"/>
                  </a:lnTo>
                  <a:lnTo>
                    <a:pt x="122" y="336"/>
                  </a:lnTo>
                  <a:lnTo>
                    <a:pt x="143" y="305"/>
                  </a:lnTo>
                  <a:lnTo>
                    <a:pt x="166" y="276"/>
                  </a:lnTo>
                  <a:lnTo>
                    <a:pt x="191" y="247"/>
                  </a:lnTo>
                  <a:lnTo>
                    <a:pt x="217" y="219"/>
                  </a:lnTo>
                  <a:lnTo>
                    <a:pt x="245" y="192"/>
                  </a:lnTo>
                  <a:lnTo>
                    <a:pt x="273" y="168"/>
                  </a:lnTo>
                  <a:lnTo>
                    <a:pt x="303" y="144"/>
                  </a:lnTo>
                  <a:lnTo>
                    <a:pt x="333" y="123"/>
                  </a:lnTo>
                  <a:lnTo>
                    <a:pt x="365" y="103"/>
                  </a:lnTo>
                  <a:lnTo>
                    <a:pt x="396" y="86"/>
                  </a:lnTo>
                  <a:lnTo>
                    <a:pt x="430" y="70"/>
                  </a:lnTo>
                  <a:lnTo>
                    <a:pt x="464" y="54"/>
                  </a:lnTo>
                  <a:lnTo>
                    <a:pt x="498" y="42"/>
                  </a:lnTo>
                  <a:lnTo>
                    <a:pt x="534" y="31"/>
                  </a:lnTo>
                  <a:lnTo>
                    <a:pt x="570" y="22"/>
                  </a:lnTo>
                  <a:lnTo>
                    <a:pt x="608" y="14"/>
                  </a:lnTo>
                  <a:lnTo>
                    <a:pt x="647" y="7"/>
                  </a:lnTo>
                  <a:lnTo>
                    <a:pt x="685" y="3"/>
                  </a:lnTo>
                  <a:lnTo>
                    <a:pt x="726" y="1"/>
                  </a:lnTo>
                  <a:lnTo>
                    <a:pt x="767" y="0"/>
                  </a:lnTo>
                  <a:lnTo>
                    <a:pt x="798" y="0"/>
                  </a:lnTo>
                  <a:lnTo>
                    <a:pt x="830" y="2"/>
                  </a:lnTo>
                  <a:lnTo>
                    <a:pt x="860" y="5"/>
                  </a:lnTo>
                  <a:lnTo>
                    <a:pt x="891" y="9"/>
                  </a:lnTo>
                  <a:lnTo>
                    <a:pt x="921" y="15"/>
                  </a:lnTo>
                  <a:lnTo>
                    <a:pt x="952" y="21"/>
                  </a:lnTo>
                  <a:lnTo>
                    <a:pt x="983" y="28"/>
                  </a:lnTo>
                  <a:lnTo>
                    <a:pt x="1012" y="36"/>
                  </a:lnTo>
                  <a:lnTo>
                    <a:pt x="1042" y="45"/>
                  </a:lnTo>
                  <a:lnTo>
                    <a:pt x="1070" y="56"/>
                  </a:lnTo>
                  <a:lnTo>
                    <a:pt x="1099" y="68"/>
                  </a:lnTo>
                  <a:lnTo>
                    <a:pt x="1126" y="80"/>
                  </a:lnTo>
                  <a:lnTo>
                    <a:pt x="1153" y="93"/>
                  </a:lnTo>
                  <a:lnTo>
                    <a:pt x="1180" y="107"/>
                  </a:lnTo>
                  <a:lnTo>
                    <a:pt x="1205" y="123"/>
                  </a:lnTo>
                  <a:lnTo>
                    <a:pt x="1231" y="139"/>
                  </a:lnTo>
                  <a:lnTo>
                    <a:pt x="1076" y="489"/>
                  </a:lnTo>
                  <a:lnTo>
                    <a:pt x="1054" y="477"/>
                  </a:lnTo>
                  <a:lnTo>
                    <a:pt x="1032" y="466"/>
                  </a:lnTo>
                  <a:lnTo>
                    <a:pt x="1010" y="454"/>
                  </a:lnTo>
                  <a:lnTo>
                    <a:pt x="990" y="444"/>
                  </a:lnTo>
                  <a:lnTo>
                    <a:pt x="968" y="436"/>
                  </a:lnTo>
                  <a:lnTo>
                    <a:pt x="948" y="428"/>
                  </a:lnTo>
                  <a:lnTo>
                    <a:pt x="929" y="421"/>
                  </a:lnTo>
                  <a:lnTo>
                    <a:pt x="909" y="414"/>
                  </a:lnTo>
                  <a:lnTo>
                    <a:pt x="890" y="408"/>
                  </a:lnTo>
                  <a:lnTo>
                    <a:pt x="871" y="403"/>
                  </a:lnTo>
                  <a:lnTo>
                    <a:pt x="852" y="399"/>
                  </a:lnTo>
                  <a:lnTo>
                    <a:pt x="833" y="396"/>
                  </a:lnTo>
                  <a:lnTo>
                    <a:pt x="814" y="394"/>
                  </a:lnTo>
                  <a:lnTo>
                    <a:pt x="795" y="392"/>
                  </a:lnTo>
                  <a:lnTo>
                    <a:pt x="776" y="391"/>
                  </a:lnTo>
                  <a:lnTo>
                    <a:pt x="758" y="390"/>
                  </a:lnTo>
                  <a:lnTo>
                    <a:pt x="737" y="391"/>
                  </a:lnTo>
                  <a:lnTo>
                    <a:pt x="717" y="392"/>
                  </a:lnTo>
                  <a:lnTo>
                    <a:pt x="698" y="394"/>
                  </a:lnTo>
                  <a:lnTo>
                    <a:pt x="679" y="397"/>
                  </a:lnTo>
                  <a:lnTo>
                    <a:pt x="660" y="401"/>
                  </a:lnTo>
                  <a:lnTo>
                    <a:pt x="642" y="405"/>
                  </a:lnTo>
                  <a:lnTo>
                    <a:pt x="624" y="412"/>
                  </a:lnTo>
                  <a:lnTo>
                    <a:pt x="607" y="418"/>
                  </a:lnTo>
                  <a:lnTo>
                    <a:pt x="591" y="425"/>
                  </a:lnTo>
                  <a:lnTo>
                    <a:pt x="574" y="433"/>
                  </a:lnTo>
                  <a:lnTo>
                    <a:pt x="558" y="441"/>
                  </a:lnTo>
                  <a:lnTo>
                    <a:pt x="543" y="451"/>
                  </a:lnTo>
                  <a:lnTo>
                    <a:pt x="529" y="462"/>
                  </a:lnTo>
                  <a:lnTo>
                    <a:pt x="514" y="473"/>
                  </a:lnTo>
                  <a:lnTo>
                    <a:pt x="500" y="485"/>
                  </a:lnTo>
                  <a:lnTo>
                    <a:pt x="487" y="498"/>
                  </a:lnTo>
                  <a:lnTo>
                    <a:pt x="474" y="512"/>
                  </a:lnTo>
                  <a:lnTo>
                    <a:pt x="462" y="526"/>
                  </a:lnTo>
                  <a:lnTo>
                    <a:pt x="450" y="541"/>
                  </a:lnTo>
                  <a:lnTo>
                    <a:pt x="440" y="555"/>
                  </a:lnTo>
                  <a:lnTo>
                    <a:pt x="431" y="572"/>
                  </a:lnTo>
                  <a:lnTo>
                    <a:pt x="422" y="587"/>
                  </a:lnTo>
                  <a:lnTo>
                    <a:pt x="414" y="604"/>
                  </a:lnTo>
                  <a:lnTo>
                    <a:pt x="407" y="621"/>
                  </a:lnTo>
                  <a:lnTo>
                    <a:pt x="400" y="638"/>
                  </a:lnTo>
                  <a:lnTo>
                    <a:pt x="395" y="657"/>
                  </a:lnTo>
                  <a:lnTo>
                    <a:pt x="391" y="675"/>
                  </a:lnTo>
                  <a:lnTo>
                    <a:pt x="387" y="693"/>
                  </a:lnTo>
                  <a:lnTo>
                    <a:pt x="384" y="713"/>
                  </a:lnTo>
                  <a:lnTo>
                    <a:pt x="382" y="732"/>
                  </a:lnTo>
                  <a:lnTo>
                    <a:pt x="381" y="752"/>
                  </a:lnTo>
                  <a:lnTo>
                    <a:pt x="380" y="773"/>
                  </a:lnTo>
                  <a:lnTo>
                    <a:pt x="381" y="792"/>
                  </a:lnTo>
                  <a:lnTo>
                    <a:pt x="382" y="811"/>
                  </a:lnTo>
                  <a:lnTo>
                    <a:pt x="384" y="829"/>
                  </a:lnTo>
                  <a:lnTo>
                    <a:pt x="386" y="846"/>
                  </a:lnTo>
                  <a:lnTo>
                    <a:pt x="390" y="864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3"/>
                  </a:lnTo>
                  <a:lnTo>
                    <a:pt x="412" y="929"/>
                  </a:lnTo>
                  <a:lnTo>
                    <a:pt x="419" y="944"/>
                  </a:lnTo>
                  <a:lnTo>
                    <a:pt x="427" y="959"/>
                  </a:lnTo>
                  <a:lnTo>
                    <a:pt x="436" y="973"/>
                  </a:lnTo>
                  <a:lnTo>
                    <a:pt x="445" y="986"/>
                  </a:lnTo>
                  <a:lnTo>
                    <a:pt x="455" y="999"/>
                  </a:lnTo>
                  <a:lnTo>
                    <a:pt x="467" y="1013"/>
                  </a:lnTo>
                  <a:lnTo>
                    <a:pt x="479" y="1025"/>
                  </a:lnTo>
                  <a:lnTo>
                    <a:pt x="491" y="1036"/>
                  </a:lnTo>
                  <a:lnTo>
                    <a:pt x="504" y="1047"/>
                  </a:lnTo>
                  <a:lnTo>
                    <a:pt x="517" y="1058"/>
                  </a:lnTo>
                  <a:lnTo>
                    <a:pt x="532" y="1068"/>
                  </a:lnTo>
                  <a:lnTo>
                    <a:pt x="546" y="1076"/>
                  </a:lnTo>
                  <a:lnTo>
                    <a:pt x="560" y="1084"/>
                  </a:lnTo>
                  <a:lnTo>
                    <a:pt x="575" y="1091"/>
                  </a:lnTo>
                  <a:lnTo>
                    <a:pt x="591" y="1098"/>
                  </a:lnTo>
                  <a:lnTo>
                    <a:pt x="607" y="1104"/>
                  </a:lnTo>
                  <a:lnTo>
                    <a:pt x="623" y="1109"/>
                  </a:lnTo>
                  <a:lnTo>
                    <a:pt x="641" y="1113"/>
                  </a:lnTo>
                  <a:lnTo>
                    <a:pt x="658" y="1116"/>
                  </a:lnTo>
                  <a:lnTo>
                    <a:pt x="675" y="1119"/>
                  </a:lnTo>
                  <a:lnTo>
                    <a:pt x="694" y="1121"/>
                  </a:lnTo>
                  <a:lnTo>
                    <a:pt x="713" y="1122"/>
                  </a:lnTo>
                  <a:lnTo>
                    <a:pt x="732" y="1122"/>
                  </a:lnTo>
                  <a:lnTo>
                    <a:pt x="741" y="1122"/>
                  </a:lnTo>
                  <a:lnTo>
                    <a:pt x="752" y="1122"/>
                  </a:lnTo>
                  <a:lnTo>
                    <a:pt x="761" y="1122"/>
                  </a:lnTo>
                  <a:lnTo>
                    <a:pt x="770" y="1121"/>
                  </a:lnTo>
                  <a:lnTo>
                    <a:pt x="779" y="1120"/>
                  </a:lnTo>
                  <a:lnTo>
                    <a:pt x="788" y="1119"/>
                  </a:lnTo>
                  <a:lnTo>
                    <a:pt x="797" y="1118"/>
                  </a:lnTo>
                  <a:lnTo>
                    <a:pt x="806" y="1116"/>
                  </a:lnTo>
                  <a:lnTo>
                    <a:pt x="816" y="1114"/>
                  </a:lnTo>
                  <a:lnTo>
                    <a:pt x="825" y="1112"/>
                  </a:lnTo>
                  <a:lnTo>
                    <a:pt x="833" y="1110"/>
                  </a:lnTo>
                  <a:lnTo>
                    <a:pt x="842" y="1108"/>
                  </a:lnTo>
                  <a:lnTo>
                    <a:pt x="850" y="1106"/>
                  </a:lnTo>
                  <a:lnTo>
                    <a:pt x="859" y="1103"/>
                  </a:lnTo>
                  <a:lnTo>
                    <a:pt x="868" y="1099"/>
                  </a:lnTo>
                  <a:lnTo>
                    <a:pt x="877" y="1096"/>
                  </a:lnTo>
                  <a:lnTo>
                    <a:pt x="877" y="734"/>
                  </a:lnTo>
                  <a:lnTo>
                    <a:pt x="1253" y="734"/>
                  </a:lnTo>
                  <a:lnTo>
                    <a:pt x="1253" y="14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62640" y="698400"/>
              <a:ext cx="288720" cy="463680"/>
            </a:xfrm>
            <a:custGeom>
              <a:avLst/>
              <a:gdLst/>
              <a:ahLst/>
              <a:rect l="l" t="t" r="r" b="b"/>
              <a:pathLst>
                <a:path w="911" h="1461">
                  <a:moveTo>
                    <a:pt x="911" y="1059"/>
                  </a:moveTo>
                  <a:lnTo>
                    <a:pt x="809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5" y="0"/>
                  </a:lnTo>
                  <a:lnTo>
                    <a:pt x="868" y="389"/>
                  </a:lnTo>
                  <a:lnTo>
                    <a:pt x="376" y="389"/>
                  </a:lnTo>
                  <a:lnTo>
                    <a:pt x="376" y="537"/>
                  </a:lnTo>
                  <a:lnTo>
                    <a:pt x="705" y="537"/>
                  </a:lnTo>
                  <a:lnTo>
                    <a:pt x="705" y="923"/>
                  </a:lnTo>
                  <a:lnTo>
                    <a:pt x="376" y="923"/>
                  </a:lnTo>
                  <a:lnTo>
                    <a:pt x="376" y="1059"/>
                  </a:lnTo>
                  <a:lnTo>
                    <a:pt x="911" y="10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8304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100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9" y="1120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6" y="1123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3"/>
                  </a:lnTo>
                  <a:lnTo>
                    <a:pt x="203" y="1121"/>
                  </a:lnTo>
                  <a:lnTo>
                    <a:pt x="217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5" y="1105"/>
                  </a:lnTo>
                  <a:lnTo>
                    <a:pt x="266" y="1098"/>
                  </a:lnTo>
                  <a:lnTo>
                    <a:pt x="276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1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4" y="1032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6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6" y="964"/>
                  </a:lnTo>
                  <a:lnTo>
                    <a:pt x="301" y="955"/>
                  </a:lnTo>
                  <a:lnTo>
                    <a:pt x="296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8" y="843"/>
                  </a:lnTo>
                  <a:lnTo>
                    <a:pt x="199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4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6" y="795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9" y="730"/>
                  </a:lnTo>
                  <a:lnTo>
                    <a:pt x="84" y="711"/>
                  </a:lnTo>
                  <a:lnTo>
                    <a:pt x="71" y="690"/>
                  </a:lnTo>
                  <a:lnTo>
                    <a:pt x="57" y="670"/>
                  </a:lnTo>
                  <a:lnTo>
                    <a:pt x="47" y="649"/>
                  </a:lnTo>
                  <a:lnTo>
                    <a:pt x="37" y="629"/>
                  </a:lnTo>
                  <a:lnTo>
                    <a:pt x="28" y="608"/>
                  </a:lnTo>
                  <a:lnTo>
                    <a:pt x="21" y="587"/>
                  </a:lnTo>
                  <a:lnTo>
                    <a:pt x="15" y="565"/>
                  </a:lnTo>
                  <a:lnTo>
                    <a:pt x="10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9" y="357"/>
                  </a:lnTo>
                  <a:lnTo>
                    <a:pt x="14" y="334"/>
                  </a:lnTo>
                  <a:lnTo>
                    <a:pt x="20" y="313"/>
                  </a:lnTo>
                  <a:lnTo>
                    <a:pt x="27" y="291"/>
                  </a:lnTo>
                  <a:lnTo>
                    <a:pt x="35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6" y="213"/>
                  </a:lnTo>
                  <a:lnTo>
                    <a:pt x="78" y="194"/>
                  </a:lnTo>
                  <a:lnTo>
                    <a:pt x="91" y="177"/>
                  </a:lnTo>
                  <a:lnTo>
                    <a:pt x="105" y="160"/>
                  </a:lnTo>
                  <a:lnTo>
                    <a:pt x="120" y="143"/>
                  </a:lnTo>
                  <a:lnTo>
                    <a:pt x="138" y="127"/>
                  </a:lnTo>
                  <a:lnTo>
                    <a:pt x="155" y="112"/>
                  </a:lnTo>
                  <a:lnTo>
                    <a:pt x="173" y="97"/>
                  </a:lnTo>
                  <a:lnTo>
                    <a:pt x="192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6" y="32"/>
                  </a:lnTo>
                  <a:lnTo>
                    <a:pt x="318" y="25"/>
                  </a:lnTo>
                  <a:lnTo>
                    <a:pt x="340" y="18"/>
                  </a:lnTo>
                  <a:lnTo>
                    <a:pt x="365" y="13"/>
                  </a:lnTo>
                  <a:lnTo>
                    <a:pt x="389" y="8"/>
                  </a:lnTo>
                  <a:lnTo>
                    <a:pt x="414" y="4"/>
                  </a:lnTo>
                  <a:lnTo>
                    <a:pt x="440" y="2"/>
                  </a:lnTo>
                  <a:lnTo>
                    <a:pt x="466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60" y="2"/>
                  </a:lnTo>
                  <a:lnTo>
                    <a:pt x="575" y="3"/>
                  </a:lnTo>
                  <a:lnTo>
                    <a:pt x="592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7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4" y="383"/>
                  </a:lnTo>
                  <a:lnTo>
                    <a:pt x="692" y="379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50" y="364"/>
                  </a:lnTo>
                  <a:lnTo>
                    <a:pt x="639" y="361"/>
                  </a:lnTo>
                  <a:lnTo>
                    <a:pt x="629" y="359"/>
                  </a:lnTo>
                  <a:lnTo>
                    <a:pt x="620" y="357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4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8" y="356"/>
                  </a:lnTo>
                  <a:lnTo>
                    <a:pt x="513" y="359"/>
                  </a:lnTo>
                  <a:lnTo>
                    <a:pt x="500" y="364"/>
                  </a:lnTo>
                  <a:lnTo>
                    <a:pt x="488" y="369"/>
                  </a:lnTo>
                  <a:lnTo>
                    <a:pt x="477" y="375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8"/>
                  </a:lnTo>
                  <a:lnTo>
                    <a:pt x="443" y="408"/>
                  </a:lnTo>
                  <a:lnTo>
                    <a:pt x="438" y="418"/>
                  </a:lnTo>
                  <a:lnTo>
                    <a:pt x="434" y="429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9" y="467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9" y="507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70" y="551"/>
                  </a:lnTo>
                  <a:lnTo>
                    <a:pt x="478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3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5"/>
                  </a:lnTo>
                  <a:lnTo>
                    <a:pt x="592" y="660"/>
                  </a:lnTo>
                  <a:lnTo>
                    <a:pt x="598" y="665"/>
                  </a:lnTo>
                  <a:lnTo>
                    <a:pt x="618" y="684"/>
                  </a:lnTo>
                  <a:lnTo>
                    <a:pt x="637" y="704"/>
                  </a:lnTo>
                  <a:lnTo>
                    <a:pt x="656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7" y="835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9"/>
                  </a:lnTo>
                  <a:lnTo>
                    <a:pt x="760" y="933"/>
                  </a:lnTo>
                  <a:lnTo>
                    <a:pt x="765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1" y="1066"/>
                  </a:lnTo>
                  <a:lnTo>
                    <a:pt x="769" y="1092"/>
                  </a:lnTo>
                  <a:lnTo>
                    <a:pt x="766" y="1118"/>
                  </a:lnTo>
                  <a:lnTo>
                    <a:pt x="762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5" y="1234"/>
                  </a:lnTo>
                  <a:lnTo>
                    <a:pt x="725" y="1256"/>
                  </a:lnTo>
                  <a:lnTo>
                    <a:pt x="715" y="1276"/>
                  </a:lnTo>
                  <a:lnTo>
                    <a:pt x="703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4" y="1367"/>
                  </a:lnTo>
                  <a:lnTo>
                    <a:pt x="626" y="1382"/>
                  </a:lnTo>
                  <a:lnTo>
                    <a:pt x="608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7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8" y="1483"/>
                  </a:lnTo>
                  <a:lnTo>
                    <a:pt x="401" y="1490"/>
                  </a:lnTo>
                  <a:lnTo>
                    <a:pt x="374" y="1496"/>
                  </a:lnTo>
                  <a:lnTo>
                    <a:pt x="345" y="1500"/>
                  </a:lnTo>
                  <a:lnTo>
                    <a:pt x="317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6" y="1507"/>
                  </a:lnTo>
                  <a:lnTo>
                    <a:pt x="172" y="1506"/>
                  </a:lnTo>
                  <a:lnTo>
                    <a:pt x="160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3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7" y="1498"/>
                  </a:lnTo>
                  <a:lnTo>
                    <a:pt x="75" y="1497"/>
                  </a:lnTo>
                  <a:lnTo>
                    <a:pt x="62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3480" y="685800"/>
              <a:ext cx="468360" cy="48888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9" y="406"/>
                  </a:moveTo>
                  <a:lnTo>
                    <a:pt x="721" y="406"/>
                  </a:lnTo>
                  <a:lnTo>
                    <a:pt x="703" y="408"/>
                  </a:lnTo>
                  <a:lnTo>
                    <a:pt x="685" y="410"/>
                  </a:lnTo>
                  <a:lnTo>
                    <a:pt x="668" y="413"/>
                  </a:lnTo>
                  <a:lnTo>
                    <a:pt x="652" y="416"/>
                  </a:lnTo>
                  <a:lnTo>
                    <a:pt x="635" y="420"/>
                  </a:lnTo>
                  <a:lnTo>
                    <a:pt x="619" y="427"/>
                  </a:lnTo>
                  <a:lnTo>
                    <a:pt x="604" y="433"/>
                  </a:lnTo>
                  <a:lnTo>
                    <a:pt x="589" y="439"/>
                  </a:lnTo>
                  <a:lnTo>
                    <a:pt x="573" y="447"/>
                  </a:lnTo>
                  <a:lnTo>
                    <a:pt x="559" y="455"/>
                  </a:lnTo>
                  <a:lnTo>
                    <a:pt x="545" y="465"/>
                  </a:lnTo>
                  <a:lnTo>
                    <a:pt x="531" y="476"/>
                  </a:lnTo>
                  <a:lnTo>
                    <a:pt x="517" y="486"/>
                  </a:lnTo>
                  <a:lnTo>
                    <a:pt x="504" y="498"/>
                  </a:lnTo>
                  <a:lnTo>
                    <a:pt x="492" y="510"/>
                  </a:lnTo>
                  <a:lnTo>
                    <a:pt x="480" y="524"/>
                  </a:lnTo>
                  <a:lnTo>
                    <a:pt x="469" y="538"/>
                  </a:lnTo>
                  <a:lnTo>
                    <a:pt x="458" y="551"/>
                  </a:lnTo>
                  <a:lnTo>
                    <a:pt x="448" y="565"/>
                  </a:lnTo>
                  <a:lnTo>
                    <a:pt x="439" y="581"/>
                  </a:lnTo>
                  <a:lnTo>
                    <a:pt x="431" y="596"/>
                  </a:lnTo>
                  <a:lnTo>
                    <a:pt x="424" y="611"/>
                  </a:lnTo>
                  <a:lnTo>
                    <a:pt x="418" y="628"/>
                  </a:lnTo>
                  <a:lnTo>
                    <a:pt x="412" y="644"/>
                  </a:lnTo>
                  <a:lnTo>
                    <a:pt x="406" y="660"/>
                  </a:lnTo>
                  <a:lnTo>
                    <a:pt x="402" y="678"/>
                  </a:lnTo>
                  <a:lnTo>
                    <a:pt x="398" y="695"/>
                  </a:lnTo>
                  <a:lnTo>
                    <a:pt x="395" y="712"/>
                  </a:lnTo>
                  <a:lnTo>
                    <a:pt x="394" y="731"/>
                  </a:lnTo>
                  <a:lnTo>
                    <a:pt x="392" y="750"/>
                  </a:lnTo>
                  <a:lnTo>
                    <a:pt x="392" y="769"/>
                  </a:lnTo>
                  <a:lnTo>
                    <a:pt x="392" y="788"/>
                  </a:lnTo>
                  <a:lnTo>
                    <a:pt x="394" y="806"/>
                  </a:lnTo>
                  <a:lnTo>
                    <a:pt x="395" y="825"/>
                  </a:lnTo>
                  <a:lnTo>
                    <a:pt x="398" y="842"/>
                  </a:lnTo>
                  <a:lnTo>
                    <a:pt x="401" y="860"/>
                  </a:lnTo>
                  <a:lnTo>
                    <a:pt x="406" y="877"/>
                  </a:lnTo>
                  <a:lnTo>
                    <a:pt x="412" y="894"/>
                  </a:lnTo>
                  <a:lnTo>
                    <a:pt x="417" y="910"/>
                  </a:lnTo>
                  <a:lnTo>
                    <a:pt x="424" y="926"/>
                  </a:lnTo>
                  <a:lnTo>
                    <a:pt x="431" y="941"/>
                  </a:lnTo>
                  <a:lnTo>
                    <a:pt x="439" y="956"/>
                  </a:lnTo>
                  <a:lnTo>
                    <a:pt x="448" y="972"/>
                  </a:lnTo>
                  <a:lnTo>
                    <a:pt x="457" y="986"/>
                  </a:lnTo>
                  <a:lnTo>
                    <a:pt x="469" y="999"/>
                  </a:lnTo>
                  <a:lnTo>
                    <a:pt x="480" y="1013"/>
                  </a:lnTo>
                  <a:lnTo>
                    <a:pt x="492" y="1026"/>
                  </a:lnTo>
                  <a:lnTo>
                    <a:pt x="504" y="1039"/>
                  </a:lnTo>
                  <a:lnTo>
                    <a:pt x="517" y="1050"/>
                  </a:lnTo>
                  <a:lnTo>
                    <a:pt x="531" y="1061"/>
                  </a:lnTo>
                  <a:lnTo>
                    <a:pt x="544" y="1072"/>
                  </a:lnTo>
                  <a:lnTo>
                    <a:pt x="558" y="1081"/>
                  </a:lnTo>
                  <a:lnTo>
                    <a:pt x="572" y="1090"/>
                  </a:lnTo>
                  <a:lnTo>
                    <a:pt x="588" y="1097"/>
                  </a:lnTo>
                  <a:lnTo>
                    <a:pt x="603" y="1104"/>
                  </a:lnTo>
                  <a:lnTo>
                    <a:pt x="618" y="1110"/>
                  </a:lnTo>
                  <a:lnTo>
                    <a:pt x="634" y="1116"/>
                  </a:lnTo>
                  <a:lnTo>
                    <a:pt x="651" y="1120"/>
                  </a:lnTo>
                  <a:lnTo>
                    <a:pt x="668" y="1124"/>
                  </a:lnTo>
                  <a:lnTo>
                    <a:pt x="685" y="1127"/>
                  </a:lnTo>
                  <a:lnTo>
                    <a:pt x="703" y="1129"/>
                  </a:lnTo>
                  <a:lnTo>
                    <a:pt x="721" y="1130"/>
                  </a:lnTo>
                  <a:lnTo>
                    <a:pt x="739" y="1130"/>
                  </a:lnTo>
                  <a:lnTo>
                    <a:pt x="758" y="1130"/>
                  </a:lnTo>
                  <a:lnTo>
                    <a:pt x="775" y="1129"/>
                  </a:lnTo>
                  <a:lnTo>
                    <a:pt x="792" y="1127"/>
                  </a:lnTo>
                  <a:lnTo>
                    <a:pt x="809" y="1124"/>
                  </a:lnTo>
                  <a:lnTo>
                    <a:pt x="826" y="1120"/>
                  </a:lnTo>
                  <a:lnTo>
                    <a:pt x="843" y="1116"/>
                  </a:lnTo>
                  <a:lnTo>
                    <a:pt x="858" y="1110"/>
                  </a:lnTo>
                  <a:lnTo>
                    <a:pt x="875" y="1104"/>
                  </a:lnTo>
                  <a:lnTo>
                    <a:pt x="890" y="1097"/>
                  </a:lnTo>
                  <a:lnTo>
                    <a:pt x="904" y="1090"/>
                  </a:lnTo>
                  <a:lnTo>
                    <a:pt x="918" y="1081"/>
                  </a:lnTo>
                  <a:lnTo>
                    <a:pt x="933" y="1072"/>
                  </a:lnTo>
                  <a:lnTo>
                    <a:pt x="947" y="1061"/>
                  </a:lnTo>
                  <a:lnTo>
                    <a:pt x="960" y="1050"/>
                  </a:lnTo>
                  <a:lnTo>
                    <a:pt x="973" y="1039"/>
                  </a:lnTo>
                  <a:lnTo>
                    <a:pt x="985" y="1026"/>
                  </a:lnTo>
                  <a:lnTo>
                    <a:pt x="998" y="1012"/>
                  </a:lnTo>
                  <a:lnTo>
                    <a:pt x="1009" y="999"/>
                  </a:lnTo>
                  <a:lnTo>
                    <a:pt x="1020" y="985"/>
                  </a:lnTo>
                  <a:lnTo>
                    <a:pt x="1029" y="971"/>
                  </a:lnTo>
                  <a:lnTo>
                    <a:pt x="1038" y="956"/>
                  </a:lnTo>
                  <a:lnTo>
                    <a:pt x="1047" y="941"/>
                  </a:lnTo>
                  <a:lnTo>
                    <a:pt x="1054" y="926"/>
                  </a:lnTo>
                  <a:lnTo>
                    <a:pt x="1061" y="909"/>
                  </a:lnTo>
                  <a:lnTo>
                    <a:pt x="1066" y="893"/>
                  </a:lnTo>
                  <a:lnTo>
                    <a:pt x="1071" y="877"/>
                  </a:lnTo>
                  <a:lnTo>
                    <a:pt x="1076" y="859"/>
                  </a:lnTo>
                  <a:lnTo>
                    <a:pt x="1079" y="842"/>
                  </a:lnTo>
                  <a:lnTo>
                    <a:pt x="1082" y="825"/>
                  </a:lnTo>
                  <a:lnTo>
                    <a:pt x="1084" y="806"/>
                  </a:lnTo>
                  <a:lnTo>
                    <a:pt x="1085" y="788"/>
                  </a:lnTo>
                  <a:lnTo>
                    <a:pt x="1085" y="769"/>
                  </a:lnTo>
                  <a:lnTo>
                    <a:pt x="1085" y="750"/>
                  </a:lnTo>
                  <a:lnTo>
                    <a:pt x="1084" y="732"/>
                  </a:lnTo>
                  <a:lnTo>
                    <a:pt x="1082" y="713"/>
                  </a:lnTo>
                  <a:lnTo>
                    <a:pt x="1079" y="695"/>
                  </a:lnTo>
                  <a:lnTo>
                    <a:pt x="1076" y="678"/>
                  </a:lnTo>
                  <a:lnTo>
                    <a:pt x="1071" y="661"/>
                  </a:lnTo>
                  <a:lnTo>
                    <a:pt x="1066" y="644"/>
                  </a:lnTo>
                  <a:lnTo>
                    <a:pt x="1061" y="628"/>
                  </a:lnTo>
                  <a:lnTo>
                    <a:pt x="1054" y="612"/>
                  </a:lnTo>
                  <a:lnTo>
                    <a:pt x="1047" y="597"/>
                  </a:lnTo>
                  <a:lnTo>
                    <a:pt x="1038" y="582"/>
                  </a:lnTo>
                  <a:lnTo>
                    <a:pt x="1029" y="566"/>
                  </a:lnTo>
                  <a:lnTo>
                    <a:pt x="1020" y="552"/>
                  </a:lnTo>
                  <a:lnTo>
                    <a:pt x="1009" y="538"/>
                  </a:lnTo>
                  <a:lnTo>
                    <a:pt x="998" y="525"/>
                  </a:lnTo>
                  <a:lnTo>
                    <a:pt x="985" y="511"/>
                  </a:lnTo>
                  <a:lnTo>
                    <a:pt x="973" y="499"/>
                  </a:lnTo>
                  <a:lnTo>
                    <a:pt x="960" y="487"/>
                  </a:lnTo>
                  <a:lnTo>
                    <a:pt x="947" y="476"/>
                  </a:lnTo>
                  <a:lnTo>
                    <a:pt x="933" y="465"/>
                  </a:lnTo>
                  <a:lnTo>
                    <a:pt x="918" y="456"/>
                  </a:lnTo>
                  <a:lnTo>
                    <a:pt x="904" y="447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58" y="427"/>
                  </a:lnTo>
                  <a:lnTo>
                    <a:pt x="843" y="422"/>
                  </a:lnTo>
                  <a:lnTo>
                    <a:pt x="826" y="416"/>
                  </a:lnTo>
                  <a:lnTo>
                    <a:pt x="809" y="413"/>
                  </a:lnTo>
                  <a:lnTo>
                    <a:pt x="792" y="410"/>
                  </a:lnTo>
                  <a:lnTo>
                    <a:pt x="775" y="408"/>
                  </a:lnTo>
                  <a:lnTo>
                    <a:pt x="758" y="406"/>
                  </a:lnTo>
                  <a:lnTo>
                    <a:pt x="739" y="406"/>
                  </a:lnTo>
                  <a:close/>
                  <a:moveTo>
                    <a:pt x="737" y="0"/>
                  </a:moveTo>
                  <a:lnTo>
                    <a:pt x="771" y="1"/>
                  </a:lnTo>
                  <a:lnTo>
                    <a:pt x="805" y="3"/>
                  </a:lnTo>
                  <a:lnTo>
                    <a:pt x="839" y="7"/>
                  </a:lnTo>
                  <a:lnTo>
                    <a:pt x="872" y="12"/>
                  </a:lnTo>
                  <a:lnTo>
                    <a:pt x="904" y="18"/>
                  </a:lnTo>
                  <a:lnTo>
                    <a:pt x="937" y="27"/>
                  </a:lnTo>
                  <a:lnTo>
                    <a:pt x="968" y="36"/>
                  </a:lnTo>
                  <a:lnTo>
                    <a:pt x="1000" y="47"/>
                  </a:lnTo>
                  <a:lnTo>
                    <a:pt x="1030" y="59"/>
                  </a:lnTo>
                  <a:lnTo>
                    <a:pt x="1060" y="73"/>
                  </a:lnTo>
                  <a:lnTo>
                    <a:pt x="1088" y="88"/>
                  </a:lnTo>
                  <a:lnTo>
                    <a:pt x="1117" y="104"/>
                  </a:lnTo>
                  <a:lnTo>
                    <a:pt x="1143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7" y="182"/>
                  </a:lnTo>
                  <a:lnTo>
                    <a:pt x="1233" y="196"/>
                  </a:lnTo>
                  <a:lnTo>
                    <a:pt x="1248" y="211"/>
                  </a:lnTo>
                  <a:lnTo>
                    <a:pt x="1262" y="227"/>
                  </a:lnTo>
                  <a:lnTo>
                    <a:pt x="1277" y="242"/>
                  </a:lnTo>
                  <a:lnTo>
                    <a:pt x="1291" y="257"/>
                  </a:lnTo>
                  <a:lnTo>
                    <a:pt x="1303" y="274"/>
                  </a:lnTo>
                  <a:lnTo>
                    <a:pt x="1316" y="289"/>
                  </a:lnTo>
                  <a:lnTo>
                    <a:pt x="1328" y="306"/>
                  </a:lnTo>
                  <a:lnTo>
                    <a:pt x="1341" y="323"/>
                  </a:lnTo>
                  <a:lnTo>
                    <a:pt x="1352" y="340"/>
                  </a:lnTo>
                  <a:lnTo>
                    <a:pt x="1362" y="357"/>
                  </a:lnTo>
                  <a:lnTo>
                    <a:pt x="1373" y="375"/>
                  </a:lnTo>
                  <a:lnTo>
                    <a:pt x="1382" y="393"/>
                  </a:lnTo>
                  <a:lnTo>
                    <a:pt x="1393" y="411"/>
                  </a:lnTo>
                  <a:lnTo>
                    <a:pt x="1402" y="430"/>
                  </a:lnTo>
                  <a:lnTo>
                    <a:pt x="1410" y="448"/>
                  </a:lnTo>
                  <a:lnTo>
                    <a:pt x="1418" y="467"/>
                  </a:lnTo>
                  <a:lnTo>
                    <a:pt x="1425" y="487"/>
                  </a:lnTo>
                  <a:lnTo>
                    <a:pt x="1432" y="506"/>
                  </a:lnTo>
                  <a:lnTo>
                    <a:pt x="1439" y="526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5"/>
                  </a:lnTo>
                  <a:lnTo>
                    <a:pt x="1460" y="604"/>
                  </a:lnTo>
                  <a:lnTo>
                    <a:pt x="1464" y="625"/>
                  </a:lnTo>
                  <a:lnTo>
                    <a:pt x="1467" y="645"/>
                  </a:lnTo>
                  <a:lnTo>
                    <a:pt x="1470" y="665"/>
                  </a:lnTo>
                  <a:lnTo>
                    <a:pt x="1472" y="686"/>
                  </a:lnTo>
                  <a:lnTo>
                    <a:pt x="1474" y="706"/>
                  </a:lnTo>
                  <a:lnTo>
                    <a:pt x="1476" y="727"/>
                  </a:lnTo>
                  <a:lnTo>
                    <a:pt x="1476" y="748"/>
                  </a:lnTo>
                  <a:lnTo>
                    <a:pt x="1477" y="769"/>
                  </a:lnTo>
                  <a:lnTo>
                    <a:pt x="1476" y="790"/>
                  </a:lnTo>
                  <a:lnTo>
                    <a:pt x="1476" y="811"/>
                  </a:lnTo>
                  <a:lnTo>
                    <a:pt x="1474" y="832"/>
                  </a:lnTo>
                  <a:lnTo>
                    <a:pt x="1472" y="852"/>
                  </a:lnTo>
                  <a:lnTo>
                    <a:pt x="1470" y="873"/>
                  </a:lnTo>
                  <a:lnTo>
                    <a:pt x="1467" y="893"/>
                  </a:lnTo>
                  <a:lnTo>
                    <a:pt x="1464" y="913"/>
                  </a:lnTo>
                  <a:lnTo>
                    <a:pt x="1460" y="934"/>
                  </a:lnTo>
                  <a:lnTo>
                    <a:pt x="1456" y="953"/>
                  </a:lnTo>
                  <a:lnTo>
                    <a:pt x="1451" y="974"/>
                  </a:lnTo>
                  <a:lnTo>
                    <a:pt x="1444" y="993"/>
                  </a:lnTo>
                  <a:lnTo>
                    <a:pt x="1438" y="1012"/>
                  </a:lnTo>
                  <a:lnTo>
                    <a:pt x="1432" y="1033"/>
                  </a:lnTo>
                  <a:lnTo>
                    <a:pt x="1425" y="1052"/>
                  </a:lnTo>
                  <a:lnTo>
                    <a:pt x="1417" y="1072"/>
                  </a:lnTo>
                  <a:lnTo>
                    <a:pt x="1409" y="1090"/>
                  </a:lnTo>
                  <a:lnTo>
                    <a:pt x="1401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2" y="1165"/>
                  </a:lnTo>
                  <a:lnTo>
                    <a:pt x="1362" y="1182"/>
                  </a:lnTo>
                  <a:lnTo>
                    <a:pt x="1351" y="1199"/>
                  </a:lnTo>
                  <a:lnTo>
                    <a:pt x="1340" y="1217"/>
                  </a:lnTo>
                  <a:lnTo>
                    <a:pt x="1327" y="1234"/>
                  </a:lnTo>
                  <a:lnTo>
                    <a:pt x="1315" y="1250"/>
                  </a:lnTo>
                  <a:lnTo>
                    <a:pt x="1303" y="1267"/>
                  </a:lnTo>
                  <a:lnTo>
                    <a:pt x="1290" y="1283"/>
                  </a:lnTo>
                  <a:lnTo>
                    <a:pt x="1277" y="1298"/>
                  </a:lnTo>
                  <a:lnTo>
                    <a:pt x="1262" y="1314"/>
                  </a:lnTo>
                  <a:lnTo>
                    <a:pt x="1248" y="1329"/>
                  </a:lnTo>
                  <a:lnTo>
                    <a:pt x="1233" y="1343"/>
                  </a:lnTo>
                  <a:lnTo>
                    <a:pt x="1217" y="1357"/>
                  </a:lnTo>
                  <a:lnTo>
                    <a:pt x="1193" y="1379"/>
                  </a:lnTo>
                  <a:lnTo>
                    <a:pt x="1168" y="1399"/>
                  </a:lnTo>
                  <a:lnTo>
                    <a:pt x="1142" y="1418"/>
                  </a:lnTo>
                  <a:lnTo>
                    <a:pt x="1115" y="1436"/>
                  </a:lnTo>
                  <a:lnTo>
                    <a:pt x="1087" y="1451"/>
                  </a:lnTo>
                  <a:lnTo>
                    <a:pt x="1059" y="1467"/>
                  </a:lnTo>
                  <a:lnTo>
                    <a:pt x="1028" y="1480"/>
                  </a:lnTo>
                  <a:lnTo>
                    <a:pt x="998" y="1492"/>
                  </a:lnTo>
                  <a:lnTo>
                    <a:pt x="967" y="1503"/>
                  </a:lnTo>
                  <a:lnTo>
                    <a:pt x="936" y="1514"/>
                  </a:lnTo>
                  <a:lnTo>
                    <a:pt x="903" y="1521"/>
                  </a:lnTo>
                  <a:lnTo>
                    <a:pt x="871" y="1528"/>
                  </a:lnTo>
                  <a:lnTo>
                    <a:pt x="838" y="1533"/>
                  </a:lnTo>
                  <a:lnTo>
                    <a:pt x="804" y="1537"/>
                  </a:lnTo>
                  <a:lnTo>
                    <a:pt x="771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69" y="1537"/>
                  </a:lnTo>
                  <a:lnTo>
                    <a:pt x="635" y="1533"/>
                  </a:lnTo>
                  <a:lnTo>
                    <a:pt x="603" y="1528"/>
                  </a:lnTo>
                  <a:lnTo>
                    <a:pt x="570" y="1521"/>
                  </a:lnTo>
                  <a:lnTo>
                    <a:pt x="539" y="1514"/>
                  </a:lnTo>
                  <a:lnTo>
                    <a:pt x="507" y="1503"/>
                  </a:lnTo>
                  <a:lnTo>
                    <a:pt x="477" y="1492"/>
                  </a:lnTo>
                  <a:lnTo>
                    <a:pt x="446" y="1480"/>
                  </a:lnTo>
                  <a:lnTo>
                    <a:pt x="417" y="1467"/>
                  </a:lnTo>
                  <a:lnTo>
                    <a:pt x="388" y="1451"/>
                  </a:lnTo>
                  <a:lnTo>
                    <a:pt x="360" y="1436"/>
                  </a:lnTo>
                  <a:lnTo>
                    <a:pt x="333" y="1418"/>
                  </a:lnTo>
                  <a:lnTo>
                    <a:pt x="307" y="1399"/>
                  </a:lnTo>
                  <a:lnTo>
                    <a:pt x="281" y="1379"/>
                  </a:lnTo>
                  <a:lnTo>
                    <a:pt x="257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4"/>
                  </a:lnTo>
                  <a:lnTo>
                    <a:pt x="199" y="1298"/>
                  </a:lnTo>
                  <a:lnTo>
                    <a:pt x="186" y="1283"/>
                  </a:lnTo>
                  <a:lnTo>
                    <a:pt x="172" y="1267"/>
                  </a:lnTo>
                  <a:lnTo>
                    <a:pt x="160" y="1251"/>
                  </a:lnTo>
                  <a:lnTo>
                    <a:pt x="148" y="1234"/>
                  </a:lnTo>
                  <a:lnTo>
                    <a:pt x="136" y="1218"/>
                  </a:lnTo>
                  <a:lnTo>
                    <a:pt x="125" y="1200"/>
                  </a:lnTo>
                  <a:lnTo>
                    <a:pt x="113" y="1183"/>
                  </a:lnTo>
                  <a:lnTo>
                    <a:pt x="103" y="1166"/>
                  </a:lnTo>
                  <a:lnTo>
                    <a:pt x="94" y="1147"/>
                  </a:lnTo>
                  <a:lnTo>
                    <a:pt x="84" y="1129"/>
                  </a:lnTo>
                  <a:lnTo>
                    <a:pt x="75" y="1110"/>
                  </a:lnTo>
                  <a:lnTo>
                    <a:pt x="67" y="1091"/>
                  </a:lnTo>
                  <a:lnTo>
                    <a:pt x="58" y="1073"/>
                  </a:lnTo>
                  <a:lnTo>
                    <a:pt x="51" y="1053"/>
                  </a:lnTo>
                  <a:lnTo>
                    <a:pt x="44" y="1034"/>
                  </a:lnTo>
                  <a:lnTo>
                    <a:pt x="37" y="1013"/>
                  </a:lnTo>
                  <a:lnTo>
                    <a:pt x="31" y="994"/>
                  </a:lnTo>
                  <a:lnTo>
                    <a:pt x="26" y="975"/>
                  </a:lnTo>
                  <a:lnTo>
                    <a:pt x="21" y="954"/>
                  </a:lnTo>
                  <a:lnTo>
                    <a:pt x="17" y="935"/>
                  </a:lnTo>
                  <a:lnTo>
                    <a:pt x="13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5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0" y="790"/>
                  </a:lnTo>
                  <a:lnTo>
                    <a:pt x="0" y="769"/>
                  </a:lnTo>
                  <a:lnTo>
                    <a:pt x="0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5" y="685"/>
                  </a:lnTo>
                  <a:lnTo>
                    <a:pt x="7" y="664"/>
                  </a:lnTo>
                  <a:lnTo>
                    <a:pt x="10" y="644"/>
                  </a:lnTo>
                  <a:lnTo>
                    <a:pt x="13" y="624"/>
                  </a:lnTo>
                  <a:lnTo>
                    <a:pt x="17" y="603"/>
                  </a:lnTo>
                  <a:lnTo>
                    <a:pt x="21" y="584"/>
                  </a:lnTo>
                  <a:lnTo>
                    <a:pt x="26" y="563"/>
                  </a:lnTo>
                  <a:lnTo>
                    <a:pt x="31" y="544"/>
                  </a:lnTo>
                  <a:lnTo>
                    <a:pt x="37" y="525"/>
                  </a:lnTo>
                  <a:lnTo>
                    <a:pt x="44" y="505"/>
                  </a:lnTo>
                  <a:lnTo>
                    <a:pt x="50" y="486"/>
                  </a:lnTo>
                  <a:lnTo>
                    <a:pt x="58" y="466"/>
                  </a:lnTo>
                  <a:lnTo>
                    <a:pt x="67" y="447"/>
                  </a:lnTo>
                  <a:lnTo>
                    <a:pt x="75" y="429"/>
                  </a:lnTo>
                  <a:lnTo>
                    <a:pt x="84" y="410"/>
                  </a:lnTo>
                  <a:lnTo>
                    <a:pt x="93" y="392"/>
                  </a:lnTo>
                  <a:lnTo>
                    <a:pt x="103" y="374"/>
                  </a:lnTo>
                  <a:lnTo>
                    <a:pt x="113" y="356"/>
                  </a:lnTo>
                  <a:lnTo>
                    <a:pt x="125" y="339"/>
                  </a:lnTo>
                  <a:lnTo>
                    <a:pt x="136" y="321"/>
                  </a:lnTo>
                  <a:lnTo>
                    <a:pt x="147" y="305"/>
                  </a:lnTo>
                  <a:lnTo>
                    <a:pt x="159" y="289"/>
                  </a:lnTo>
                  <a:lnTo>
                    <a:pt x="171" y="273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2" y="226"/>
                  </a:lnTo>
                  <a:lnTo>
                    <a:pt x="226" y="211"/>
                  </a:lnTo>
                  <a:lnTo>
                    <a:pt x="242" y="196"/>
                  </a:lnTo>
                  <a:lnTo>
                    <a:pt x="257" y="182"/>
                  </a:lnTo>
                  <a:lnTo>
                    <a:pt x="281" y="160"/>
                  </a:lnTo>
                  <a:lnTo>
                    <a:pt x="307" y="140"/>
                  </a:lnTo>
                  <a:lnTo>
                    <a:pt x="333" y="121"/>
                  </a:lnTo>
                  <a:lnTo>
                    <a:pt x="360" y="103"/>
                  </a:lnTo>
                  <a:lnTo>
                    <a:pt x="388" y="87"/>
                  </a:lnTo>
                  <a:lnTo>
                    <a:pt x="417" y="72"/>
                  </a:lnTo>
                  <a:lnTo>
                    <a:pt x="446" y="59"/>
                  </a:lnTo>
                  <a:lnTo>
                    <a:pt x="477" y="46"/>
                  </a:lnTo>
                  <a:lnTo>
                    <a:pt x="507" y="36"/>
                  </a:lnTo>
                  <a:lnTo>
                    <a:pt x="539" y="27"/>
                  </a:lnTo>
                  <a:lnTo>
                    <a:pt x="570" y="18"/>
                  </a:lnTo>
                  <a:lnTo>
                    <a:pt x="603" y="11"/>
                  </a:lnTo>
                  <a:lnTo>
                    <a:pt x="635" y="6"/>
                  </a:lnTo>
                  <a:lnTo>
                    <a:pt x="669" y="3"/>
                  </a:lnTo>
                  <a:lnTo>
                    <a:pt x="703" y="1"/>
                  </a:lnTo>
                  <a:lnTo>
                    <a:pt x="73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9080" y="69840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1">
                  <a:moveTo>
                    <a:pt x="0" y="1461"/>
                  </a:moveTo>
                  <a:lnTo>
                    <a:pt x="0" y="0"/>
                  </a:lnTo>
                  <a:lnTo>
                    <a:pt x="799" y="0"/>
                  </a:lnTo>
                  <a:lnTo>
                    <a:pt x="858" y="389"/>
                  </a:lnTo>
                  <a:lnTo>
                    <a:pt x="378" y="389"/>
                  </a:lnTo>
                  <a:lnTo>
                    <a:pt x="378" y="537"/>
                  </a:lnTo>
                  <a:lnTo>
                    <a:pt x="679" y="537"/>
                  </a:lnTo>
                  <a:lnTo>
                    <a:pt x="679" y="923"/>
                  </a:lnTo>
                  <a:lnTo>
                    <a:pt x="378" y="923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87560" y="1324080"/>
              <a:ext cx="339840" cy="463320"/>
            </a:xfrm>
            <a:custGeom>
              <a:avLst/>
              <a:gdLst/>
              <a:ahLst/>
              <a:rect l="l" t="t" r="r" b="b"/>
              <a:pathLst>
                <a:path w="1071" h="1461">
                  <a:moveTo>
                    <a:pt x="0" y="1461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6" y="511"/>
                  </a:lnTo>
                  <a:lnTo>
                    <a:pt x="694" y="511"/>
                  </a:lnTo>
                  <a:lnTo>
                    <a:pt x="694" y="0"/>
                  </a:lnTo>
                  <a:lnTo>
                    <a:pt x="1071" y="0"/>
                  </a:lnTo>
                  <a:lnTo>
                    <a:pt x="1071" y="1461"/>
                  </a:lnTo>
                  <a:lnTo>
                    <a:pt x="694" y="1461"/>
                  </a:lnTo>
                  <a:lnTo>
                    <a:pt x="694" y="894"/>
                  </a:lnTo>
                  <a:lnTo>
                    <a:pt x="376" y="894"/>
                  </a:lnTo>
                  <a:lnTo>
                    <a:pt x="376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11640" y="1324080"/>
              <a:ext cx="118800" cy="463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70400" y="1324080"/>
              <a:ext cx="392040" cy="463320"/>
            </a:xfrm>
            <a:custGeom>
              <a:avLst/>
              <a:gdLst/>
              <a:ahLst/>
              <a:rect l="l" t="t" r="r" b="b"/>
              <a:pathLst>
                <a:path w="1233" h="1461">
                  <a:moveTo>
                    <a:pt x="403" y="1461"/>
                  </a:moveTo>
                  <a:lnTo>
                    <a:pt x="0" y="0"/>
                  </a:lnTo>
                  <a:lnTo>
                    <a:pt x="400" y="0"/>
                  </a:lnTo>
                  <a:lnTo>
                    <a:pt x="642" y="1003"/>
                  </a:lnTo>
                  <a:lnTo>
                    <a:pt x="856" y="0"/>
                  </a:lnTo>
                  <a:lnTo>
                    <a:pt x="1233" y="0"/>
                  </a:lnTo>
                  <a:lnTo>
                    <a:pt x="863" y="1461"/>
                  </a:lnTo>
                  <a:lnTo>
                    <a:pt x="403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7800" y="1324080"/>
              <a:ext cx="316080" cy="463320"/>
            </a:xfrm>
            <a:custGeom>
              <a:avLst/>
              <a:gdLst/>
              <a:ahLst/>
              <a:rect l="l" t="t" r="r" b="b"/>
              <a:pathLst>
                <a:path w="995" h="1461">
                  <a:moveTo>
                    <a:pt x="378" y="703"/>
                  </a:moveTo>
                  <a:lnTo>
                    <a:pt x="422" y="703"/>
                  </a:lnTo>
                  <a:lnTo>
                    <a:pt x="445" y="702"/>
                  </a:lnTo>
                  <a:lnTo>
                    <a:pt x="466" y="700"/>
                  </a:lnTo>
                  <a:lnTo>
                    <a:pt x="487" y="697"/>
                  </a:lnTo>
                  <a:lnTo>
                    <a:pt x="505" y="692"/>
                  </a:lnTo>
                  <a:lnTo>
                    <a:pt x="522" y="684"/>
                  </a:lnTo>
                  <a:lnTo>
                    <a:pt x="538" y="677"/>
                  </a:lnTo>
                  <a:lnTo>
                    <a:pt x="553" y="667"/>
                  </a:lnTo>
                  <a:lnTo>
                    <a:pt x="567" y="657"/>
                  </a:lnTo>
                  <a:lnTo>
                    <a:pt x="578" y="645"/>
                  </a:lnTo>
                  <a:lnTo>
                    <a:pt x="589" y="631"/>
                  </a:lnTo>
                  <a:lnTo>
                    <a:pt x="597" y="617"/>
                  </a:lnTo>
                  <a:lnTo>
                    <a:pt x="605" y="602"/>
                  </a:lnTo>
                  <a:lnTo>
                    <a:pt x="611" y="585"/>
                  </a:lnTo>
                  <a:lnTo>
                    <a:pt x="615" y="567"/>
                  </a:lnTo>
                  <a:lnTo>
                    <a:pt x="617" y="549"/>
                  </a:lnTo>
                  <a:lnTo>
                    <a:pt x="618" y="529"/>
                  </a:lnTo>
                  <a:lnTo>
                    <a:pt x="617" y="508"/>
                  </a:lnTo>
                  <a:lnTo>
                    <a:pt x="615" y="487"/>
                  </a:lnTo>
                  <a:lnTo>
                    <a:pt x="611" y="469"/>
                  </a:lnTo>
                  <a:lnTo>
                    <a:pt x="605" y="452"/>
                  </a:lnTo>
                  <a:lnTo>
                    <a:pt x="597" y="435"/>
                  </a:lnTo>
                  <a:lnTo>
                    <a:pt x="589" y="421"/>
                  </a:lnTo>
                  <a:lnTo>
                    <a:pt x="579" y="408"/>
                  </a:lnTo>
                  <a:lnTo>
                    <a:pt x="567" y="396"/>
                  </a:lnTo>
                  <a:lnTo>
                    <a:pt x="554" y="384"/>
                  </a:lnTo>
                  <a:lnTo>
                    <a:pt x="538" y="375"/>
                  </a:lnTo>
                  <a:lnTo>
                    <a:pt x="522" y="367"/>
                  </a:lnTo>
                  <a:lnTo>
                    <a:pt x="505" y="361"/>
                  </a:lnTo>
                  <a:lnTo>
                    <a:pt x="486" y="356"/>
                  </a:lnTo>
                  <a:lnTo>
                    <a:pt x="465" y="352"/>
                  </a:lnTo>
                  <a:lnTo>
                    <a:pt x="444" y="350"/>
                  </a:lnTo>
                  <a:lnTo>
                    <a:pt x="420" y="349"/>
                  </a:lnTo>
                  <a:lnTo>
                    <a:pt x="378" y="349"/>
                  </a:lnTo>
                  <a:lnTo>
                    <a:pt x="378" y="703"/>
                  </a:lnTo>
                  <a:close/>
                  <a:moveTo>
                    <a:pt x="0" y="1461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417" y="0"/>
                  </a:lnTo>
                  <a:lnTo>
                    <a:pt x="455" y="2"/>
                  </a:lnTo>
                  <a:lnTo>
                    <a:pt x="491" y="4"/>
                  </a:lnTo>
                  <a:lnTo>
                    <a:pt x="525" y="8"/>
                  </a:lnTo>
                  <a:lnTo>
                    <a:pt x="559" y="12"/>
                  </a:lnTo>
                  <a:lnTo>
                    <a:pt x="590" y="18"/>
                  </a:lnTo>
                  <a:lnTo>
                    <a:pt x="622" y="24"/>
                  </a:lnTo>
                  <a:lnTo>
                    <a:pt x="651" y="32"/>
                  </a:lnTo>
                  <a:lnTo>
                    <a:pt x="680" y="40"/>
                  </a:lnTo>
                  <a:lnTo>
                    <a:pt x="706" y="50"/>
                  </a:lnTo>
                  <a:lnTo>
                    <a:pt x="733" y="61"/>
                  </a:lnTo>
                  <a:lnTo>
                    <a:pt x="757" y="72"/>
                  </a:lnTo>
                  <a:lnTo>
                    <a:pt x="781" y="85"/>
                  </a:lnTo>
                  <a:lnTo>
                    <a:pt x="802" y="99"/>
                  </a:lnTo>
                  <a:lnTo>
                    <a:pt x="823" y="113"/>
                  </a:lnTo>
                  <a:lnTo>
                    <a:pt x="843" y="128"/>
                  </a:lnTo>
                  <a:lnTo>
                    <a:pt x="861" y="146"/>
                  </a:lnTo>
                  <a:lnTo>
                    <a:pt x="878" y="163"/>
                  </a:lnTo>
                  <a:lnTo>
                    <a:pt x="895" y="182"/>
                  </a:lnTo>
                  <a:lnTo>
                    <a:pt x="910" y="202"/>
                  </a:lnTo>
                  <a:lnTo>
                    <a:pt x="923" y="223"/>
                  </a:lnTo>
                  <a:lnTo>
                    <a:pt x="935" y="246"/>
                  </a:lnTo>
                  <a:lnTo>
                    <a:pt x="947" y="268"/>
                  </a:lnTo>
                  <a:lnTo>
                    <a:pt x="957" y="293"/>
                  </a:lnTo>
                  <a:lnTo>
                    <a:pt x="966" y="318"/>
                  </a:lnTo>
                  <a:lnTo>
                    <a:pt x="974" y="345"/>
                  </a:lnTo>
                  <a:lnTo>
                    <a:pt x="980" y="372"/>
                  </a:lnTo>
                  <a:lnTo>
                    <a:pt x="985" y="400"/>
                  </a:lnTo>
                  <a:lnTo>
                    <a:pt x="989" y="429"/>
                  </a:lnTo>
                  <a:lnTo>
                    <a:pt x="992" y="460"/>
                  </a:lnTo>
                  <a:lnTo>
                    <a:pt x="994" y="492"/>
                  </a:lnTo>
                  <a:lnTo>
                    <a:pt x="995" y="525"/>
                  </a:lnTo>
                  <a:lnTo>
                    <a:pt x="994" y="557"/>
                  </a:lnTo>
                  <a:lnTo>
                    <a:pt x="992" y="588"/>
                  </a:lnTo>
                  <a:lnTo>
                    <a:pt x="989" y="617"/>
                  </a:lnTo>
                  <a:lnTo>
                    <a:pt x="986" y="647"/>
                  </a:lnTo>
                  <a:lnTo>
                    <a:pt x="980" y="674"/>
                  </a:lnTo>
                  <a:lnTo>
                    <a:pt x="974" y="702"/>
                  </a:lnTo>
                  <a:lnTo>
                    <a:pt x="967" y="728"/>
                  </a:lnTo>
                  <a:lnTo>
                    <a:pt x="958" y="754"/>
                  </a:lnTo>
                  <a:lnTo>
                    <a:pt x="949" y="778"/>
                  </a:lnTo>
                  <a:lnTo>
                    <a:pt x="937" y="802"/>
                  </a:lnTo>
                  <a:lnTo>
                    <a:pt x="925" y="825"/>
                  </a:lnTo>
                  <a:lnTo>
                    <a:pt x="912" y="847"/>
                  </a:lnTo>
                  <a:lnTo>
                    <a:pt x="898" y="868"/>
                  </a:lnTo>
                  <a:lnTo>
                    <a:pt x="882" y="889"/>
                  </a:lnTo>
                  <a:lnTo>
                    <a:pt x="865" y="908"/>
                  </a:lnTo>
                  <a:lnTo>
                    <a:pt x="848" y="926"/>
                  </a:lnTo>
                  <a:lnTo>
                    <a:pt x="828" y="944"/>
                  </a:lnTo>
                  <a:lnTo>
                    <a:pt x="809" y="960"/>
                  </a:lnTo>
                  <a:lnTo>
                    <a:pt x="788" y="974"/>
                  </a:lnTo>
                  <a:lnTo>
                    <a:pt x="766" y="989"/>
                  </a:lnTo>
                  <a:lnTo>
                    <a:pt x="744" y="1002"/>
                  </a:lnTo>
                  <a:lnTo>
                    <a:pt x="721" y="1013"/>
                  </a:lnTo>
                  <a:lnTo>
                    <a:pt x="696" y="1024"/>
                  </a:lnTo>
                  <a:lnTo>
                    <a:pt x="671" y="1034"/>
                  </a:lnTo>
                  <a:lnTo>
                    <a:pt x="644" y="1042"/>
                  </a:lnTo>
                  <a:lnTo>
                    <a:pt x="617" y="1049"/>
                  </a:lnTo>
                  <a:lnTo>
                    <a:pt x="589" y="1055"/>
                  </a:lnTo>
                  <a:lnTo>
                    <a:pt x="560" y="1060"/>
                  </a:lnTo>
                  <a:lnTo>
                    <a:pt x="529" y="1064"/>
                  </a:lnTo>
                  <a:lnTo>
                    <a:pt x="499" y="1067"/>
                  </a:lnTo>
                  <a:lnTo>
                    <a:pt x="467" y="1068"/>
                  </a:lnTo>
                  <a:lnTo>
                    <a:pt x="435" y="1069"/>
                  </a:lnTo>
                  <a:lnTo>
                    <a:pt x="378" y="1069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68680" y="1324080"/>
              <a:ext cx="289080" cy="463320"/>
            </a:xfrm>
            <a:custGeom>
              <a:avLst/>
              <a:gdLst/>
              <a:ahLst/>
              <a:rect l="l" t="t" r="r" b="b"/>
              <a:pathLst>
                <a:path w="912" h="1461">
                  <a:moveTo>
                    <a:pt x="912" y="1059"/>
                  </a:moveTo>
                  <a:lnTo>
                    <a:pt x="810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6" y="0"/>
                  </a:lnTo>
                  <a:lnTo>
                    <a:pt x="868" y="388"/>
                  </a:lnTo>
                  <a:lnTo>
                    <a:pt x="377" y="388"/>
                  </a:lnTo>
                  <a:lnTo>
                    <a:pt x="377" y="536"/>
                  </a:lnTo>
                  <a:lnTo>
                    <a:pt x="706" y="536"/>
                  </a:lnTo>
                  <a:lnTo>
                    <a:pt x="706" y="923"/>
                  </a:lnTo>
                  <a:lnTo>
                    <a:pt x="377" y="923"/>
                  </a:lnTo>
                  <a:lnTo>
                    <a:pt x="377" y="1059"/>
                  </a:lnTo>
                  <a:lnTo>
                    <a:pt x="912" y="10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7080" y="1324080"/>
              <a:ext cx="347400" cy="463320"/>
            </a:xfrm>
            <a:custGeom>
              <a:avLst/>
              <a:gdLst/>
              <a:ahLst/>
              <a:rect l="l" t="t" r="r" b="b"/>
              <a:pathLst>
                <a:path w="1093" h="1461">
                  <a:moveTo>
                    <a:pt x="378" y="687"/>
                  </a:moveTo>
                  <a:lnTo>
                    <a:pt x="414" y="687"/>
                  </a:lnTo>
                  <a:lnTo>
                    <a:pt x="439" y="685"/>
                  </a:lnTo>
                  <a:lnTo>
                    <a:pt x="462" y="683"/>
                  </a:lnTo>
                  <a:lnTo>
                    <a:pt x="484" y="679"/>
                  </a:lnTo>
                  <a:lnTo>
                    <a:pt x="504" y="675"/>
                  </a:lnTo>
                  <a:lnTo>
                    <a:pt x="522" y="668"/>
                  </a:lnTo>
                  <a:lnTo>
                    <a:pt x="540" y="660"/>
                  </a:lnTo>
                  <a:lnTo>
                    <a:pt x="548" y="656"/>
                  </a:lnTo>
                  <a:lnTo>
                    <a:pt x="555" y="651"/>
                  </a:lnTo>
                  <a:lnTo>
                    <a:pt x="562" y="646"/>
                  </a:lnTo>
                  <a:lnTo>
                    <a:pt x="569" y="640"/>
                  </a:lnTo>
                  <a:lnTo>
                    <a:pt x="575" y="634"/>
                  </a:lnTo>
                  <a:lnTo>
                    <a:pt x="581" y="627"/>
                  </a:lnTo>
                  <a:lnTo>
                    <a:pt x="587" y="621"/>
                  </a:lnTo>
                  <a:lnTo>
                    <a:pt x="593" y="614"/>
                  </a:lnTo>
                  <a:lnTo>
                    <a:pt x="598" y="607"/>
                  </a:lnTo>
                  <a:lnTo>
                    <a:pt x="602" y="599"/>
                  </a:lnTo>
                  <a:lnTo>
                    <a:pt x="606" y="592"/>
                  </a:lnTo>
                  <a:lnTo>
                    <a:pt x="610" y="583"/>
                  </a:lnTo>
                  <a:lnTo>
                    <a:pt x="615" y="565"/>
                  </a:lnTo>
                  <a:lnTo>
                    <a:pt x="619" y="547"/>
                  </a:lnTo>
                  <a:lnTo>
                    <a:pt x="622" y="526"/>
                  </a:lnTo>
                  <a:lnTo>
                    <a:pt x="623" y="505"/>
                  </a:lnTo>
                  <a:lnTo>
                    <a:pt x="622" y="482"/>
                  </a:lnTo>
                  <a:lnTo>
                    <a:pt x="619" y="462"/>
                  </a:lnTo>
                  <a:lnTo>
                    <a:pt x="615" y="444"/>
                  </a:lnTo>
                  <a:lnTo>
                    <a:pt x="610" y="425"/>
                  </a:lnTo>
                  <a:lnTo>
                    <a:pt x="603" y="409"/>
                  </a:lnTo>
                  <a:lnTo>
                    <a:pt x="594" y="394"/>
                  </a:lnTo>
                  <a:lnTo>
                    <a:pt x="583" y="380"/>
                  </a:lnTo>
                  <a:lnTo>
                    <a:pt x="571" y="367"/>
                  </a:lnTo>
                  <a:lnTo>
                    <a:pt x="558" y="356"/>
                  </a:lnTo>
                  <a:lnTo>
                    <a:pt x="543" y="347"/>
                  </a:lnTo>
                  <a:lnTo>
                    <a:pt x="526" y="338"/>
                  </a:lnTo>
                  <a:lnTo>
                    <a:pt x="509" y="331"/>
                  </a:lnTo>
                  <a:lnTo>
                    <a:pt x="490" y="326"/>
                  </a:lnTo>
                  <a:lnTo>
                    <a:pt x="469" y="323"/>
                  </a:lnTo>
                  <a:lnTo>
                    <a:pt x="448" y="321"/>
                  </a:lnTo>
                  <a:lnTo>
                    <a:pt x="425" y="320"/>
                  </a:lnTo>
                  <a:lnTo>
                    <a:pt x="378" y="320"/>
                  </a:lnTo>
                  <a:lnTo>
                    <a:pt x="378" y="687"/>
                  </a:lnTo>
                  <a:close/>
                  <a:moveTo>
                    <a:pt x="0" y="1461"/>
                  </a:moveTo>
                  <a:lnTo>
                    <a:pt x="0" y="0"/>
                  </a:lnTo>
                  <a:lnTo>
                    <a:pt x="412" y="0"/>
                  </a:lnTo>
                  <a:lnTo>
                    <a:pt x="448" y="0"/>
                  </a:lnTo>
                  <a:lnTo>
                    <a:pt x="483" y="2"/>
                  </a:lnTo>
                  <a:lnTo>
                    <a:pt x="515" y="4"/>
                  </a:lnTo>
                  <a:lnTo>
                    <a:pt x="548" y="7"/>
                  </a:lnTo>
                  <a:lnTo>
                    <a:pt x="579" y="11"/>
                  </a:lnTo>
                  <a:lnTo>
                    <a:pt x="609" y="16"/>
                  </a:lnTo>
                  <a:lnTo>
                    <a:pt x="638" y="22"/>
                  </a:lnTo>
                  <a:lnTo>
                    <a:pt x="666" y="29"/>
                  </a:lnTo>
                  <a:lnTo>
                    <a:pt x="693" y="37"/>
                  </a:lnTo>
                  <a:lnTo>
                    <a:pt x="719" y="46"/>
                  </a:lnTo>
                  <a:lnTo>
                    <a:pt x="744" y="56"/>
                  </a:lnTo>
                  <a:lnTo>
                    <a:pt x="768" y="66"/>
                  </a:lnTo>
                  <a:lnTo>
                    <a:pt x="790" y="78"/>
                  </a:lnTo>
                  <a:lnTo>
                    <a:pt x="812" y="90"/>
                  </a:lnTo>
                  <a:lnTo>
                    <a:pt x="833" y="104"/>
                  </a:lnTo>
                  <a:lnTo>
                    <a:pt x="852" y="118"/>
                  </a:lnTo>
                  <a:lnTo>
                    <a:pt x="870" y="133"/>
                  </a:lnTo>
                  <a:lnTo>
                    <a:pt x="888" y="150"/>
                  </a:lnTo>
                  <a:lnTo>
                    <a:pt x="904" y="166"/>
                  </a:lnTo>
                  <a:lnTo>
                    <a:pt x="918" y="183"/>
                  </a:lnTo>
                  <a:lnTo>
                    <a:pt x="932" y="203"/>
                  </a:lnTo>
                  <a:lnTo>
                    <a:pt x="945" y="222"/>
                  </a:lnTo>
                  <a:lnTo>
                    <a:pt x="956" y="243"/>
                  </a:lnTo>
                  <a:lnTo>
                    <a:pt x="966" y="263"/>
                  </a:lnTo>
                  <a:lnTo>
                    <a:pt x="975" y="285"/>
                  </a:lnTo>
                  <a:lnTo>
                    <a:pt x="982" y="308"/>
                  </a:lnTo>
                  <a:lnTo>
                    <a:pt x="989" y="331"/>
                  </a:lnTo>
                  <a:lnTo>
                    <a:pt x="994" y="356"/>
                  </a:lnTo>
                  <a:lnTo>
                    <a:pt x="999" y="381"/>
                  </a:lnTo>
                  <a:lnTo>
                    <a:pt x="1002" y="407"/>
                  </a:lnTo>
                  <a:lnTo>
                    <a:pt x="1004" y="434"/>
                  </a:lnTo>
                  <a:lnTo>
                    <a:pt x="1004" y="462"/>
                  </a:lnTo>
                  <a:lnTo>
                    <a:pt x="1003" y="494"/>
                  </a:lnTo>
                  <a:lnTo>
                    <a:pt x="1000" y="524"/>
                  </a:lnTo>
                  <a:lnTo>
                    <a:pt x="995" y="554"/>
                  </a:lnTo>
                  <a:lnTo>
                    <a:pt x="988" y="583"/>
                  </a:lnTo>
                  <a:lnTo>
                    <a:pt x="984" y="597"/>
                  </a:lnTo>
                  <a:lnTo>
                    <a:pt x="979" y="611"/>
                  </a:lnTo>
                  <a:lnTo>
                    <a:pt x="974" y="624"/>
                  </a:lnTo>
                  <a:lnTo>
                    <a:pt x="969" y="638"/>
                  </a:lnTo>
                  <a:lnTo>
                    <a:pt x="963" y="650"/>
                  </a:lnTo>
                  <a:lnTo>
                    <a:pt x="957" y="663"/>
                  </a:lnTo>
                  <a:lnTo>
                    <a:pt x="950" y="675"/>
                  </a:lnTo>
                  <a:lnTo>
                    <a:pt x="942" y="687"/>
                  </a:lnTo>
                  <a:lnTo>
                    <a:pt x="934" y="699"/>
                  </a:lnTo>
                  <a:lnTo>
                    <a:pt x="926" y="710"/>
                  </a:lnTo>
                  <a:lnTo>
                    <a:pt x="917" y="721"/>
                  </a:lnTo>
                  <a:lnTo>
                    <a:pt x="908" y="731"/>
                  </a:lnTo>
                  <a:lnTo>
                    <a:pt x="899" y="741"/>
                  </a:lnTo>
                  <a:lnTo>
                    <a:pt x="890" y="751"/>
                  </a:lnTo>
                  <a:lnTo>
                    <a:pt x="879" y="759"/>
                  </a:lnTo>
                  <a:lnTo>
                    <a:pt x="869" y="768"/>
                  </a:lnTo>
                  <a:lnTo>
                    <a:pt x="858" y="776"/>
                  </a:lnTo>
                  <a:lnTo>
                    <a:pt x="847" y="783"/>
                  </a:lnTo>
                  <a:lnTo>
                    <a:pt x="836" y="791"/>
                  </a:lnTo>
                  <a:lnTo>
                    <a:pt x="824" y="797"/>
                  </a:lnTo>
                  <a:lnTo>
                    <a:pt x="811" y="804"/>
                  </a:lnTo>
                  <a:lnTo>
                    <a:pt x="799" y="809"/>
                  </a:lnTo>
                  <a:lnTo>
                    <a:pt x="786" y="814"/>
                  </a:lnTo>
                  <a:lnTo>
                    <a:pt x="773" y="819"/>
                  </a:lnTo>
                  <a:lnTo>
                    <a:pt x="1093" y="1461"/>
                  </a:lnTo>
                  <a:lnTo>
                    <a:pt x="679" y="1461"/>
                  </a:lnTo>
                  <a:lnTo>
                    <a:pt x="378" y="836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73560" y="1317600"/>
              <a:ext cx="246240" cy="4777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8"/>
                  </a:lnTo>
                  <a:lnTo>
                    <a:pt x="59" y="1101"/>
                  </a:lnTo>
                  <a:lnTo>
                    <a:pt x="69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7" y="1119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5" y="1122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2"/>
                  </a:lnTo>
                  <a:lnTo>
                    <a:pt x="203" y="1121"/>
                  </a:lnTo>
                  <a:lnTo>
                    <a:pt x="217" y="1118"/>
                  </a:lnTo>
                  <a:lnTo>
                    <a:pt x="230" y="1115"/>
                  </a:lnTo>
                  <a:lnTo>
                    <a:pt x="242" y="1110"/>
                  </a:lnTo>
                  <a:lnTo>
                    <a:pt x="255" y="1104"/>
                  </a:lnTo>
                  <a:lnTo>
                    <a:pt x="266" y="1097"/>
                  </a:lnTo>
                  <a:lnTo>
                    <a:pt x="276" y="1089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299" y="1063"/>
                  </a:lnTo>
                  <a:lnTo>
                    <a:pt x="306" y="1052"/>
                  </a:lnTo>
                  <a:lnTo>
                    <a:pt x="310" y="1042"/>
                  </a:lnTo>
                  <a:lnTo>
                    <a:pt x="313" y="1031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5" y="999"/>
                  </a:lnTo>
                  <a:lnTo>
                    <a:pt x="314" y="991"/>
                  </a:lnTo>
                  <a:lnTo>
                    <a:pt x="312" y="982"/>
                  </a:lnTo>
                  <a:lnTo>
                    <a:pt x="309" y="973"/>
                  </a:lnTo>
                  <a:lnTo>
                    <a:pt x="305" y="964"/>
                  </a:lnTo>
                  <a:lnTo>
                    <a:pt x="300" y="954"/>
                  </a:lnTo>
                  <a:lnTo>
                    <a:pt x="294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7"/>
                  </a:lnTo>
                  <a:lnTo>
                    <a:pt x="181" y="820"/>
                  </a:lnTo>
                  <a:lnTo>
                    <a:pt x="174" y="813"/>
                  </a:lnTo>
                  <a:lnTo>
                    <a:pt x="167" y="806"/>
                  </a:lnTo>
                  <a:lnTo>
                    <a:pt x="161" y="800"/>
                  </a:lnTo>
                  <a:lnTo>
                    <a:pt x="156" y="794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8" y="730"/>
                  </a:lnTo>
                  <a:lnTo>
                    <a:pt x="84" y="711"/>
                  </a:lnTo>
                  <a:lnTo>
                    <a:pt x="69" y="690"/>
                  </a:lnTo>
                  <a:lnTo>
                    <a:pt x="57" y="670"/>
                  </a:lnTo>
                  <a:lnTo>
                    <a:pt x="46" y="649"/>
                  </a:lnTo>
                  <a:lnTo>
                    <a:pt x="37" y="629"/>
                  </a:lnTo>
                  <a:lnTo>
                    <a:pt x="28" y="607"/>
                  </a:lnTo>
                  <a:lnTo>
                    <a:pt x="21" y="586"/>
                  </a:lnTo>
                  <a:lnTo>
                    <a:pt x="15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8" y="356"/>
                  </a:lnTo>
                  <a:lnTo>
                    <a:pt x="14" y="334"/>
                  </a:lnTo>
                  <a:lnTo>
                    <a:pt x="20" y="312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3" y="232"/>
                  </a:lnTo>
                  <a:lnTo>
                    <a:pt x="64" y="212"/>
                  </a:lnTo>
                  <a:lnTo>
                    <a:pt x="77" y="194"/>
                  </a:lnTo>
                  <a:lnTo>
                    <a:pt x="91" y="177"/>
                  </a:lnTo>
                  <a:lnTo>
                    <a:pt x="105" y="159"/>
                  </a:lnTo>
                  <a:lnTo>
                    <a:pt x="120" y="143"/>
                  </a:lnTo>
                  <a:lnTo>
                    <a:pt x="137" y="127"/>
                  </a:lnTo>
                  <a:lnTo>
                    <a:pt x="155" y="111"/>
                  </a:lnTo>
                  <a:lnTo>
                    <a:pt x="172" y="97"/>
                  </a:lnTo>
                  <a:lnTo>
                    <a:pt x="192" y="84"/>
                  </a:lnTo>
                  <a:lnTo>
                    <a:pt x="211" y="71"/>
                  </a:lnTo>
                  <a:lnTo>
                    <a:pt x="231" y="59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4" y="32"/>
                  </a:lnTo>
                  <a:lnTo>
                    <a:pt x="317" y="24"/>
                  </a:lnTo>
                  <a:lnTo>
                    <a:pt x="340" y="18"/>
                  </a:lnTo>
                  <a:lnTo>
                    <a:pt x="365" y="12"/>
                  </a:lnTo>
                  <a:lnTo>
                    <a:pt x="389" y="7"/>
                  </a:lnTo>
                  <a:lnTo>
                    <a:pt x="413" y="4"/>
                  </a:lnTo>
                  <a:lnTo>
                    <a:pt x="439" y="2"/>
                  </a:lnTo>
                  <a:lnTo>
                    <a:pt x="465" y="0"/>
                  </a:lnTo>
                  <a:lnTo>
                    <a:pt x="493" y="0"/>
                  </a:lnTo>
                  <a:lnTo>
                    <a:pt x="509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5" y="3"/>
                  </a:lnTo>
                  <a:lnTo>
                    <a:pt x="591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6" y="11"/>
                  </a:lnTo>
                  <a:lnTo>
                    <a:pt x="652" y="13"/>
                  </a:lnTo>
                  <a:lnTo>
                    <a:pt x="666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2" y="383"/>
                  </a:lnTo>
                  <a:lnTo>
                    <a:pt x="691" y="378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49" y="364"/>
                  </a:lnTo>
                  <a:lnTo>
                    <a:pt x="639" y="360"/>
                  </a:lnTo>
                  <a:lnTo>
                    <a:pt x="629" y="358"/>
                  </a:lnTo>
                  <a:lnTo>
                    <a:pt x="620" y="356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3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5"/>
                  </a:lnTo>
                  <a:lnTo>
                    <a:pt x="513" y="358"/>
                  </a:lnTo>
                  <a:lnTo>
                    <a:pt x="500" y="362"/>
                  </a:lnTo>
                  <a:lnTo>
                    <a:pt x="488" y="368"/>
                  </a:lnTo>
                  <a:lnTo>
                    <a:pt x="477" y="374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7"/>
                  </a:lnTo>
                  <a:lnTo>
                    <a:pt x="443" y="407"/>
                  </a:lnTo>
                  <a:lnTo>
                    <a:pt x="438" y="418"/>
                  </a:lnTo>
                  <a:lnTo>
                    <a:pt x="434" y="428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8" y="466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8" y="506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68" y="551"/>
                  </a:lnTo>
                  <a:lnTo>
                    <a:pt x="478" y="561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2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3"/>
                  </a:lnTo>
                  <a:lnTo>
                    <a:pt x="591" y="660"/>
                  </a:lnTo>
                  <a:lnTo>
                    <a:pt x="598" y="665"/>
                  </a:lnTo>
                  <a:lnTo>
                    <a:pt x="618" y="683"/>
                  </a:lnTo>
                  <a:lnTo>
                    <a:pt x="637" y="703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1" y="788"/>
                  </a:lnTo>
                  <a:lnTo>
                    <a:pt x="715" y="811"/>
                  </a:lnTo>
                  <a:lnTo>
                    <a:pt x="727" y="834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8"/>
                  </a:lnTo>
                  <a:lnTo>
                    <a:pt x="759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0" y="1066"/>
                  </a:lnTo>
                  <a:lnTo>
                    <a:pt x="769" y="1092"/>
                  </a:lnTo>
                  <a:lnTo>
                    <a:pt x="765" y="1118"/>
                  </a:lnTo>
                  <a:lnTo>
                    <a:pt x="761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4" y="1234"/>
                  </a:lnTo>
                  <a:lnTo>
                    <a:pt x="725" y="1256"/>
                  </a:lnTo>
                  <a:lnTo>
                    <a:pt x="714" y="1276"/>
                  </a:lnTo>
                  <a:lnTo>
                    <a:pt x="702" y="1295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49"/>
                  </a:lnTo>
                  <a:lnTo>
                    <a:pt x="643" y="1367"/>
                  </a:lnTo>
                  <a:lnTo>
                    <a:pt x="626" y="1382"/>
                  </a:lnTo>
                  <a:lnTo>
                    <a:pt x="607" y="1397"/>
                  </a:lnTo>
                  <a:lnTo>
                    <a:pt x="587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8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7" y="1483"/>
                  </a:lnTo>
                  <a:lnTo>
                    <a:pt x="400" y="1489"/>
                  </a:lnTo>
                  <a:lnTo>
                    <a:pt x="374" y="1495"/>
                  </a:lnTo>
                  <a:lnTo>
                    <a:pt x="345" y="1499"/>
                  </a:lnTo>
                  <a:lnTo>
                    <a:pt x="316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4" y="1506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2" y="1502"/>
                  </a:lnTo>
                  <a:lnTo>
                    <a:pt x="110" y="1500"/>
                  </a:lnTo>
                  <a:lnTo>
                    <a:pt x="98" y="1499"/>
                  </a:lnTo>
                  <a:lnTo>
                    <a:pt x="86" y="1497"/>
                  </a:lnTo>
                  <a:lnTo>
                    <a:pt x="75" y="1496"/>
                  </a:lnTo>
                  <a:lnTo>
                    <a:pt x="62" y="1494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1311120"/>
              <a:ext cx="469800" cy="48924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9" y="406"/>
                  </a:moveTo>
                  <a:lnTo>
                    <a:pt x="721" y="406"/>
                  </a:lnTo>
                  <a:lnTo>
                    <a:pt x="703" y="408"/>
                  </a:lnTo>
                  <a:lnTo>
                    <a:pt x="686" y="410"/>
                  </a:lnTo>
                  <a:lnTo>
                    <a:pt x="669" y="412"/>
                  </a:lnTo>
                  <a:lnTo>
                    <a:pt x="652" y="416"/>
                  </a:lnTo>
                  <a:lnTo>
                    <a:pt x="635" y="420"/>
                  </a:lnTo>
                  <a:lnTo>
                    <a:pt x="620" y="426"/>
                  </a:lnTo>
                  <a:lnTo>
                    <a:pt x="604" y="432"/>
                  </a:lnTo>
                  <a:lnTo>
                    <a:pt x="588" y="439"/>
                  </a:lnTo>
                  <a:lnTo>
                    <a:pt x="574" y="447"/>
                  </a:lnTo>
                  <a:lnTo>
                    <a:pt x="559" y="455"/>
                  </a:lnTo>
                  <a:lnTo>
                    <a:pt x="546" y="464"/>
                  </a:lnTo>
                  <a:lnTo>
                    <a:pt x="531" y="474"/>
                  </a:lnTo>
                  <a:lnTo>
                    <a:pt x="518" y="486"/>
                  </a:lnTo>
                  <a:lnTo>
                    <a:pt x="505" y="498"/>
                  </a:lnTo>
                  <a:lnTo>
                    <a:pt x="493" y="510"/>
                  </a:lnTo>
                  <a:lnTo>
                    <a:pt x="481" y="523"/>
                  </a:lnTo>
                  <a:lnTo>
                    <a:pt x="469" y="537"/>
                  </a:lnTo>
                  <a:lnTo>
                    <a:pt x="458" y="551"/>
                  </a:lnTo>
                  <a:lnTo>
                    <a:pt x="449" y="565"/>
                  </a:lnTo>
                  <a:lnTo>
                    <a:pt x="440" y="581"/>
                  </a:lnTo>
                  <a:lnTo>
                    <a:pt x="432" y="596"/>
                  </a:lnTo>
                  <a:lnTo>
                    <a:pt x="425" y="611"/>
                  </a:lnTo>
                  <a:lnTo>
                    <a:pt x="418" y="628"/>
                  </a:lnTo>
                  <a:lnTo>
                    <a:pt x="411" y="644"/>
                  </a:lnTo>
                  <a:lnTo>
                    <a:pt x="407" y="660"/>
                  </a:lnTo>
                  <a:lnTo>
                    <a:pt x="402" y="678"/>
                  </a:lnTo>
                  <a:lnTo>
                    <a:pt x="399" y="695"/>
                  </a:lnTo>
                  <a:lnTo>
                    <a:pt x="396" y="712"/>
                  </a:lnTo>
                  <a:lnTo>
                    <a:pt x="394" y="731"/>
                  </a:lnTo>
                  <a:lnTo>
                    <a:pt x="393" y="749"/>
                  </a:lnTo>
                  <a:lnTo>
                    <a:pt x="393" y="768"/>
                  </a:lnTo>
                  <a:lnTo>
                    <a:pt x="393" y="788"/>
                  </a:lnTo>
                  <a:lnTo>
                    <a:pt x="394" y="806"/>
                  </a:lnTo>
                  <a:lnTo>
                    <a:pt x="396" y="825"/>
                  </a:lnTo>
                  <a:lnTo>
                    <a:pt x="399" y="842"/>
                  </a:lnTo>
                  <a:lnTo>
                    <a:pt x="402" y="859"/>
                  </a:lnTo>
                  <a:lnTo>
                    <a:pt x="406" y="877"/>
                  </a:lnTo>
                  <a:lnTo>
                    <a:pt x="411" y="894"/>
                  </a:lnTo>
                  <a:lnTo>
                    <a:pt x="418" y="909"/>
                  </a:lnTo>
                  <a:lnTo>
                    <a:pt x="425" y="926"/>
                  </a:lnTo>
                  <a:lnTo>
                    <a:pt x="432" y="941"/>
                  </a:lnTo>
                  <a:lnTo>
                    <a:pt x="440" y="956"/>
                  </a:lnTo>
                  <a:lnTo>
                    <a:pt x="449" y="970"/>
                  </a:lnTo>
                  <a:lnTo>
                    <a:pt x="458" y="986"/>
                  </a:lnTo>
                  <a:lnTo>
                    <a:pt x="468" y="999"/>
                  </a:lnTo>
                  <a:lnTo>
                    <a:pt x="480" y="1012"/>
                  </a:lnTo>
                  <a:lnTo>
                    <a:pt x="492" y="1026"/>
                  </a:lnTo>
                  <a:lnTo>
                    <a:pt x="505" y="1039"/>
                  </a:lnTo>
                  <a:lnTo>
                    <a:pt x="517" y="1050"/>
                  </a:lnTo>
                  <a:lnTo>
                    <a:pt x="530" y="1061"/>
                  </a:lnTo>
                  <a:lnTo>
                    <a:pt x="545" y="1072"/>
                  </a:lnTo>
                  <a:lnTo>
                    <a:pt x="559" y="1081"/>
                  </a:lnTo>
                  <a:lnTo>
                    <a:pt x="573" y="1089"/>
                  </a:lnTo>
                  <a:lnTo>
                    <a:pt x="588" y="1097"/>
                  </a:lnTo>
                  <a:lnTo>
                    <a:pt x="604" y="1104"/>
                  </a:lnTo>
                  <a:lnTo>
                    <a:pt x="619" y="1110"/>
                  </a:lnTo>
                  <a:lnTo>
                    <a:pt x="635" y="1115"/>
                  </a:lnTo>
                  <a:lnTo>
                    <a:pt x="652" y="1119"/>
                  </a:lnTo>
                  <a:lnTo>
                    <a:pt x="668" y="1124"/>
                  </a:lnTo>
                  <a:lnTo>
                    <a:pt x="685" y="1127"/>
                  </a:lnTo>
                  <a:lnTo>
                    <a:pt x="703" y="1129"/>
                  </a:lnTo>
                  <a:lnTo>
                    <a:pt x="721" y="1130"/>
                  </a:lnTo>
                  <a:lnTo>
                    <a:pt x="739" y="1130"/>
                  </a:lnTo>
                  <a:lnTo>
                    <a:pt x="757" y="1130"/>
                  </a:lnTo>
                  <a:lnTo>
                    <a:pt x="776" y="1129"/>
                  </a:lnTo>
                  <a:lnTo>
                    <a:pt x="793" y="1127"/>
                  </a:lnTo>
                  <a:lnTo>
                    <a:pt x="810" y="1124"/>
                  </a:lnTo>
                  <a:lnTo>
                    <a:pt x="827" y="1119"/>
                  </a:lnTo>
                  <a:lnTo>
                    <a:pt x="843" y="1115"/>
                  </a:lnTo>
                  <a:lnTo>
                    <a:pt x="859" y="1110"/>
                  </a:lnTo>
                  <a:lnTo>
                    <a:pt x="874" y="1104"/>
                  </a:lnTo>
                  <a:lnTo>
                    <a:pt x="890" y="1097"/>
                  </a:lnTo>
                  <a:lnTo>
                    <a:pt x="905" y="1089"/>
                  </a:lnTo>
                  <a:lnTo>
                    <a:pt x="919" y="1081"/>
                  </a:lnTo>
                  <a:lnTo>
                    <a:pt x="933" y="1072"/>
                  </a:lnTo>
                  <a:lnTo>
                    <a:pt x="948" y="1061"/>
                  </a:lnTo>
                  <a:lnTo>
                    <a:pt x="961" y="1050"/>
                  </a:lnTo>
                  <a:lnTo>
                    <a:pt x="974" y="1038"/>
                  </a:lnTo>
                  <a:lnTo>
                    <a:pt x="986" y="1026"/>
                  </a:lnTo>
                  <a:lnTo>
                    <a:pt x="999" y="1012"/>
                  </a:lnTo>
                  <a:lnTo>
                    <a:pt x="1010" y="999"/>
                  </a:lnTo>
                  <a:lnTo>
                    <a:pt x="1020" y="985"/>
                  </a:lnTo>
                  <a:lnTo>
                    <a:pt x="1030" y="970"/>
                  </a:lnTo>
                  <a:lnTo>
                    <a:pt x="1039" y="956"/>
                  </a:lnTo>
                  <a:lnTo>
                    <a:pt x="1047" y="941"/>
                  </a:lnTo>
                  <a:lnTo>
                    <a:pt x="1055" y="926"/>
                  </a:lnTo>
                  <a:lnTo>
                    <a:pt x="1061" y="909"/>
                  </a:lnTo>
                  <a:lnTo>
                    <a:pt x="1067" y="893"/>
                  </a:lnTo>
                  <a:lnTo>
                    <a:pt x="1072" y="877"/>
                  </a:lnTo>
                  <a:lnTo>
                    <a:pt x="1076" y="859"/>
                  </a:lnTo>
                  <a:lnTo>
                    <a:pt x="1080" y="842"/>
                  </a:lnTo>
                  <a:lnTo>
                    <a:pt x="1082" y="823"/>
                  </a:lnTo>
                  <a:lnTo>
                    <a:pt x="1084" y="806"/>
                  </a:lnTo>
                  <a:lnTo>
                    <a:pt x="1086" y="787"/>
                  </a:lnTo>
                  <a:lnTo>
                    <a:pt x="1086" y="768"/>
                  </a:lnTo>
                  <a:lnTo>
                    <a:pt x="1086" y="749"/>
                  </a:lnTo>
                  <a:lnTo>
                    <a:pt x="1084" y="731"/>
                  </a:lnTo>
                  <a:lnTo>
                    <a:pt x="1082" y="713"/>
                  </a:lnTo>
                  <a:lnTo>
                    <a:pt x="1080" y="695"/>
                  </a:lnTo>
                  <a:lnTo>
                    <a:pt x="1076" y="678"/>
                  </a:lnTo>
                  <a:lnTo>
                    <a:pt x="1072" y="661"/>
                  </a:lnTo>
                  <a:lnTo>
                    <a:pt x="1067" y="644"/>
                  </a:lnTo>
                  <a:lnTo>
                    <a:pt x="1061" y="628"/>
                  </a:lnTo>
                  <a:lnTo>
                    <a:pt x="1055" y="612"/>
                  </a:lnTo>
                  <a:lnTo>
                    <a:pt x="1047" y="596"/>
                  </a:lnTo>
                  <a:lnTo>
                    <a:pt x="1039" y="582"/>
                  </a:lnTo>
                  <a:lnTo>
                    <a:pt x="1030" y="566"/>
                  </a:lnTo>
                  <a:lnTo>
                    <a:pt x="1020" y="552"/>
                  </a:lnTo>
                  <a:lnTo>
                    <a:pt x="1010" y="538"/>
                  </a:lnTo>
                  <a:lnTo>
                    <a:pt x="999" y="524"/>
                  </a:lnTo>
                  <a:lnTo>
                    <a:pt x="986" y="511"/>
                  </a:lnTo>
                  <a:lnTo>
                    <a:pt x="974" y="498"/>
                  </a:lnTo>
                  <a:lnTo>
                    <a:pt x="961" y="487"/>
                  </a:lnTo>
                  <a:lnTo>
                    <a:pt x="948" y="475"/>
                  </a:lnTo>
                  <a:lnTo>
                    <a:pt x="933" y="465"/>
                  </a:lnTo>
                  <a:lnTo>
                    <a:pt x="919" y="456"/>
                  </a:lnTo>
                  <a:lnTo>
                    <a:pt x="905" y="447"/>
                  </a:lnTo>
                  <a:lnTo>
                    <a:pt x="890" y="440"/>
                  </a:lnTo>
                  <a:lnTo>
                    <a:pt x="874" y="433"/>
                  </a:lnTo>
                  <a:lnTo>
                    <a:pt x="859" y="426"/>
                  </a:lnTo>
                  <a:lnTo>
                    <a:pt x="843" y="420"/>
                  </a:lnTo>
                  <a:lnTo>
                    <a:pt x="827" y="416"/>
                  </a:lnTo>
                  <a:lnTo>
                    <a:pt x="810" y="412"/>
                  </a:lnTo>
                  <a:lnTo>
                    <a:pt x="793" y="410"/>
                  </a:lnTo>
                  <a:lnTo>
                    <a:pt x="776" y="408"/>
                  </a:lnTo>
                  <a:lnTo>
                    <a:pt x="757" y="406"/>
                  </a:lnTo>
                  <a:lnTo>
                    <a:pt x="739" y="406"/>
                  </a:lnTo>
                  <a:close/>
                  <a:moveTo>
                    <a:pt x="737" y="0"/>
                  </a:moveTo>
                  <a:lnTo>
                    <a:pt x="772" y="1"/>
                  </a:lnTo>
                  <a:lnTo>
                    <a:pt x="806" y="3"/>
                  </a:lnTo>
                  <a:lnTo>
                    <a:pt x="839" y="6"/>
                  </a:lnTo>
                  <a:lnTo>
                    <a:pt x="872" y="11"/>
                  </a:lnTo>
                  <a:lnTo>
                    <a:pt x="905" y="18"/>
                  </a:lnTo>
                  <a:lnTo>
                    <a:pt x="937" y="26"/>
                  </a:lnTo>
                  <a:lnTo>
                    <a:pt x="969" y="36"/>
                  </a:lnTo>
                  <a:lnTo>
                    <a:pt x="1001" y="47"/>
                  </a:lnTo>
                  <a:lnTo>
                    <a:pt x="1031" y="59"/>
                  </a:lnTo>
                  <a:lnTo>
                    <a:pt x="1061" y="72"/>
                  </a:lnTo>
                  <a:lnTo>
                    <a:pt x="1089" y="88"/>
                  </a:lnTo>
                  <a:lnTo>
                    <a:pt x="1117" y="104"/>
                  </a:lnTo>
                  <a:lnTo>
                    <a:pt x="1144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8" y="182"/>
                  </a:lnTo>
                  <a:lnTo>
                    <a:pt x="1234" y="196"/>
                  </a:lnTo>
                  <a:lnTo>
                    <a:pt x="1249" y="211"/>
                  </a:lnTo>
                  <a:lnTo>
                    <a:pt x="1263" y="225"/>
                  </a:lnTo>
                  <a:lnTo>
                    <a:pt x="1277" y="241"/>
                  </a:lnTo>
                  <a:lnTo>
                    <a:pt x="1291" y="257"/>
                  </a:lnTo>
                  <a:lnTo>
                    <a:pt x="1304" y="272"/>
                  </a:lnTo>
                  <a:lnTo>
                    <a:pt x="1317" y="289"/>
                  </a:lnTo>
                  <a:lnTo>
                    <a:pt x="1329" y="305"/>
                  </a:lnTo>
                  <a:lnTo>
                    <a:pt x="1340" y="322"/>
                  </a:lnTo>
                  <a:lnTo>
                    <a:pt x="1352" y="340"/>
                  </a:lnTo>
                  <a:lnTo>
                    <a:pt x="1363" y="357"/>
                  </a:lnTo>
                  <a:lnTo>
                    <a:pt x="1373" y="374"/>
                  </a:lnTo>
                  <a:lnTo>
                    <a:pt x="1383" y="393"/>
                  </a:lnTo>
                  <a:lnTo>
                    <a:pt x="1393" y="410"/>
                  </a:lnTo>
                  <a:lnTo>
                    <a:pt x="1402" y="430"/>
                  </a:lnTo>
                  <a:lnTo>
                    <a:pt x="1411" y="448"/>
                  </a:lnTo>
                  <a:lnTo>
                    <a:pt x="1419" y="467"/>
                  </a:lnTo>
                  <a:lnTo>
                    <a:pt x="1426" y="487"/>
                  </a:lnTo>
                  <a:lnTo>
                    <a:pt x="1433" y="505"/>
                  </a:lnTo>
                  <a:lnTo>
                    <a:pt x="1440" y="525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4"/>
                  </a:lnTo>
                  <a:lnTo>
                    <a:pt x="1461" y="604"/>
                  </a:lnTo>
                  <a:lnTo>
                    <a:pt x="1465" y="624"/>
                  </a:lnTo>
                  <a:lnTo>
                    <a:pt x="1468" y="645"/>
                  </a:lnTo>
                  <a:lnTo>
                    <a:pt x="1471" y="665"/>
                  </a:lnTo>
                  <a:lnTo>
                    <a:pt x="1473" y="686"/>
                  </a:lnTo>
                  <a:lnTo>
                    <a:pt x="1475" y="706"/>
                  </a:lnTo>
                  <a:lnTo>
                    <a:pt x="1476" y="727"/>
                  </a:lnTo>
                  <a:lnTo>
                    <a:pt x="1477" y="748"/>
                  </a:lnTo>
                  <a:lnTo>
                    <a:pt x="1477" y="768"/>
                  </a:lnTo>
                  <a:lnTo>
                    <a:pt x="1477" y="790"/>
                  </a:lnTo>
                  <a:lnTo>
                    <a:pt x="1476" y="810"/>
                  </a:lnTo>
                  <a:lnTo>
                    <a:pt x="1475" y="832"/>
                  </a:lnTo>
                  <a:lnTo>
                    <a:pt x="1473" y="852"/>
                  </a:lnTo>
                  <a:lnTo>
                    <a:pt x="1471" y="872"/>
                  </a:lnTo>
                  <a:lnTo>
                    <a:pt x="1468" y="893"/>
                  </a:lnTo>
                  <a:lnTo>
                    <a:pt x="1465" y="913"/>
                  </a:lnTo>
                  <a:lnTo>
                    <a:pt x="1461" y="934"/>
                  </a:lnTo>
                  <a:lnTo>
                    <a:pt x="1455" y="953"/>
                  </a:lnTo>
                  <a:lnTo>
                    <a:pt x="1450" y="974"/>
                  </a:lnTo>
                  <a:lnTo>
                    <a:pt x="1445" y="993"/>
                  </a:lnTo>
                  <a:lnTo>
                    <a:pt x="1439" y="1012"/>
                  </a:lnTo>
                  <a:lnTo>
                    <a:pt x="1433" y="1032"/>
                  </a:lnTo>
                  <a:lnTo>
                    <a:pt x="1426" y="1052"/>
                  </a:lnTo>
                  <a:lnTo>
                    <a:pt x="1418" y="1070"/>
                  </a:lnTo>
                  <a:lnTo>
                    <a:pt x="1410" y="1090"/>
                  </a:lnTo>
                  <a:lnTo>
                    <a:pt x="1402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3" y="1164"/>
                  </a:lnTo>
                  <a:lnTo>
                    <a:pt x="1362" y="1182"/>
                  </a:lnTo>
                  <a:lnTo>
                    <a:pt x="1352" y="1199"/>
                  </a:lnTo>
                  <a:lnTo>
                    <a:pt x="1340" y="1216"/>
                  </a:lnTo>
                  <a:lnTo>
                    <a:pt x="1328" y="1233"/>
                  </a:lnTo>
                  <a:lnTo>
                    <a:pt x="1316" y="1250"/>
                  </a:lnTo>
                  <a:lnTo>
                    <a:pt x="1304" y="1266"/>
                  </a:lnTo>
                  <a:lnTo>
                    <a:pt x="1291" y="1282"/>
                  </a:lnTo>
                  <a:lnTo>
                    <a:pt x="1276" y="1298"/>
                  </a:lnTo>
                  <a:lnTo>
                    <a:pt x="1263" y="1313"/>
                  </a:lnTo>
                  <a:lnTo>
                    <a:pt x="1249" y="1329"/>
                  </a:lnTo>
                  <a:lnTo>
                    <a:pt x="1234" y="1343"/>
                  </a:lnTo>
                  <a:lnTo>
                    <a:pt x="1218" y="1357"/>
                  </a:lnTo>
                  <a:lnTo>
                    <a:pt x="1194" y="1379"/>
                  </a:lnTo>
                  <a:lnTo>
                    <a:pt x="1168" y="1399"/>
                  </a:lnTo>
                  <a:lnTo>
                    <a:pt x="1143" y="1417"/>
                  </a:lnTo>
                  <a:lnTo>
                    <a:pt x="1116" y="1435"/>
                  </a:lnTo>
                  <a:lnTo>
                    <a:pt x="1088" y="1451"/>
                  </a:lnTo>
                  <a:lnTo>
                    <a:pt x="1059" y="1466"/>
                  </a:lnTo>
                  <a:lnTo>
                    <a:pt x="1029" y="1480"/>
                  </a:lnTo>
                  <a:lnTo>
                    <a:pt x="999" y="1492"/>
                  </a:lnTo>
                  <a:lnTo>
                    <a:pt x="967" y="1503"/>
                  </a:lnTo>
                  <a:lnTo>
                    <a:pt x="935" y="1512"/>
                  </a:lnTo>
                  <a:lnTo>
                    <a:pt x="904" y="1521"/>
                  </a:lnTo>
                  <a:lnTo>
                    <a:pt x="871" y="1528"/>
                  </a:lnTo>
                  <a:lnTo>
                    <a:pt x="839" y="1533"/>
                  </a:lnTo>
                  <a:lnTo>
                    <a:pt x="805" y="1536"/>
                  </a:lnTo>
                  <a:lnTo>
                    <a:pt x="772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70" y="1536"/>
                  </a:lnTo>
                  <a:lnTo>
                    <a:pt x="636" y="1533"/>
                  </a:lnTo>
                  <a:lnTo>
                    <a:pt x="604" y="1528"/>
                  </a:lnTo>
                  <a:lnTo>
                    <a:pt x="571" y="1521"/>
                  </a:lnTo>
                  <a:lnTo>
                    <a:pt x="540" y="1512"/>
                  </a:lnTo>
                  <a:lnTo>
                    <a:pt x="508" y="1503"/>
                  </a:lnTo>
                  <a:lnTo>
                    <a:pt x="478" y="1492"/>
                  </a:lnTo>
                  <a:lnTo>
                    <a:pt x="447" y="1480"/>
                  </a:lnTo>
                  <a:lnTo>
                    <a:pt x="418" y="1466"/>
                  </a:lnTo>
                  <a:lnTo>
                    <a:pt x="389" y="1451"/>
                  </a:lnTo>
                  <a:lnTo>
                    <a:pt x="361" y="1435"/>
                  </a:lnTo>
                  <a:lnTo>
                    <a:pt x="334" y="1417"/>
                  </a:lnTo>
                  <a:lnTo>
                    <a:pt x="308" y="1399"/>
                  </a:lnTo>
                  <a:lnTo>
                    <a:pt x="282" y="1379"/>
                  </a:lnTo>
                  <a:lnTo>
                    <a:pt x="258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3"/>
                  </a:lnTo>
                  <a:lnTo>
                    <a:pt x="200" y="1298"/>
                  </a:lnTo>
                  <a:lnTo>
                    <a:pt x="185" y="1283"/>
                  </a:lnTo>
                  <a:lnTo>
                    <a:pt x="173" y="1266"/>
                  </a:lnTo>
                  <a:lnTo>
                    <a:pt x="160" y="1250"/>
                  </a:lnTo>
                  <a:lnTo>
                    <a:pt x="148" y="1234"/>
                  </a:lnTo>
                  <a:lnTo>
                    <a:pt x="137" y="1217"/>
                  </a:lnTo>
                  <a:lnTo>
                    <a:pt x="125" y="1200"/>
                  </a:lnTo>
                  <a:lnTo>
                    <a:pt x="114" y="1183"/>
                  </a:lnTo>
                  <a:lnTo>
                    <a:pt x="104" y="1165"/>
                  </a:lnTo>
                  <a:lnTo>
                    <a:pt x="94" y="1147"/>
                  </a:lnTo>
                  <a:lnTo>
                    <a:pt x="85" y="1129"/>
                  </a:lnTo>
                  <a:lnTo>
                    <a:pt x="76" y="1110"/>
                  </a:lnTo>
                  <a:lnTo>
                    <a:pt x="67" y="1091"/>
                  </a:lnTo>
                  <a:lnTo>
                    <a:pt x="59" y="1072"/>
                  </a:lnTo>
                  <a:lnTo>
                    <a:pt x="51" y="1052"/>
                  </a:lnTo>
                  <a:lnTo>
                    <a:pt x="44" y="1033"/>
                  </a:lnTo>
                  <a:lnTo>
                    <a:pt x="38" y="1013"/>
                  </a:lnTo>
                  <a:lnTo>
                    <a:pt x="32" y="994"/>
                  </a:lnTo>
                  <a:lnTo>
                    <a:pt x="27" y="975"/>
                  </a:lnTo>
                  <a:lnTo>
                    <a:pt x="22" y="954"/>
                  </a:lnTo>
                  <a:lnTo>
                    <a:pt x="18" y="934"/>
                  </a:lnTo>
                  <a:lnTo>
                    <a:pt x="14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4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1" y="790"/>
                  </a:lnTo>
                  <a:lnTo>
                    <a:pt x="0" y="768"/>
                  </a:lnTo>
                  <a:lnTo>
                    <a:pt x="1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4" y="685"/>
                  </a:lnTo>
                  <a:lnTo>
                    <a:pt x="7" y="664"/>
                  </a:lnTo>
                  <a:lnTo>
                    <a:pt x="9" y="644"/>
                  </a:lnTo>
                  <a:lnTo>
                    <a:pt x="14" y="623"/>
                  </a:lnTo>
                  <a:lnTo>
                    <a:pt x="18" y="603"/>
                  </a:lnTo>
                  <a:lnTo>
                    <a:pt x="22" y="584"/>
                  </a:lnTo>
                  <a:lnTo>
                    <a:pt x="27" y="563"/>
                  </a:lnTo>
                  <a:lnTo>
                    <a:pt x="32" y="544"/>
                  </a:lnTo>
                  <a:lnTo>
                    <a:pt x="38" y="524"/>
                  </a:lnTo>
                  <a:lnTo>
                    <a:pt x="44" y="505"/>
                  </a:lnTo>
                  <a:lnTo>
                    <a:pt x="51" y="486"/>
                  </a:lnTo>
                  <a:lnTo>
                    <a:pt x="59" y="466"/>
                  </a:lnTo>
                  <a:lnTo>
                    <a:pt x="67" y="447"/>
                  </a:lnTo>
                  <a:lnTo>
                    <a:pt x="76" y="429"/>
                  </a:lnTo>
                  <a:lnTo>
                    <a:pt x="85" y="409"/>
                  </a:lnTo>
                  <a:lnTo>
                    <a:pt x="94" y="392"/>
                  </a:lnTo>
                  <a:lnTo>
                    <a:pt x="104" y="373"/>
                  </a:lnTo>
                  <a:lnTo>
                    <a:pt x="114" y="356"/>
                  </a:lnTo>
                  <a:lnTo>
                    <a:pt x="124" y="339"/>
                  </a:lnTo>
                  <a:lnTo>
                    <a:pt x="136" y="321"/>
                  </a:lnTo>
                  <a:lnTo>
                    <a:pt x="148" y="305"/>
                  </a:lnTo>
                  <a:lnTo>
                    <a:pt x="160" y="289"/>
                  </a:lnTo>
                  <a:lnTo>
                    <a:pt x="172" y="272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3" y="225"/>
                  </a:lnTo>
                  <a:lnTo>
                    <a:pt x="227" y="210"/>
                  </a:lnTo>
                  <a:lnTo>
                    <a:pt x="242" y="196"/>
                  </a:lnTo>
                  <a:lnTo>
                    <a:pt x="258" y="182"/>
                  </a:lnTo>
                  <a:lnTo>
                    <a:pt x="282" y="160"/>
                  </a:lnTo>
                  <a:lnTo>
                    <a:pt x="308" y="140"/>
                  </a:lnTo>
                  <a:lnTo>
                    <a:pt x="334" y="120"/>
                  </a:lnTo>
                  <a:lnTo>
                    <a:pt x="361" y="103"/>
                  </a:lnTo>
                  <a:lnTo>
                    <a:pt x="389" y="87"/>
                  </a:lnTo>
                  <a:lnTo>
                    <a:pt x="418" y="72"/>
                  </a:lnTo>
                  <a:lnTo>
                    <a:pt x="447" y="58"/>
                  </a:lnTo>
                  <a:lnTo>
                    <a:pt x="478" y="46"/>
                  </a:lnTo>
                  <a:lnTo>
                    <a:pt x="508" y="36"/>
                  </a:lnTo>
                  <a:lnTo>
                    <a:pt x="540" y="25"/>
                  </a:lnTo>
                  <a:lnTo>
                    <a:pt x="571" y="18"/>
                  </a:lnTo>
                  <a:lnTo>
                    <a:pt x="604" y="11"/>
                  </a:lnTo>
                  <a:lnTo>
                    <a:pt x="636" y="6"/>
                  </a:lnTo>
                  <a:lnTo>
                    <a:pt x="670" y="3"/>
                  </a:lnTo>
                  <a:lnTo>
                    <a:pt x="703" y="1"/>
                  </a:lnTo>
                  <a:lnTo>
                    <a:pt x="73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77080" y="1324080"/>
              <a:ext cx="342720" cy="463320"/>
            </a:xfrm>
            <a:custGeom>
              <a:avLst/>
              <a:gdLst/>
              <a:ahLst/>
              <a:rect l="l" t="t" r="r" b="b"/>
              <a:pathLst>
                <a:path w="1084" h="1461">
                  <a:moveTo>
                    <a:pt x="0" y="1461"/>
                  </a:moveTo>
                  <a:lnTo>
                    <a:pt x="0" y="0"/>
                  </a:lnTo>
                  <a:lnTo>
                    <a:pt x="165" y="0"/>
                  </a:lnTo>
                  <a:lnTo>
                    <a:pt x="707" y="640"/>
                  </a:lnTo>
                  <a:lnTo>
                    <a:pt x="707" y="0"/>
                  </a:lnTo>
                  <a:lnTo>
                    <a:pt x="1084" y="0"/>
                  </a:lnTo>
                  <a:lnTo>
                    <a:pt x="1084" y="1461"/>
                  </a:lnTo>
                  <a:lnTo>
                    <a:pt x="913" y="1461"/>
                  </a:lnTo>
                  <a:lnTo>
                    <a:pt x="376" y="827"/>
                  </a:lnTo>
                  <a:lnTo>
                    <a:pt x="376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8628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0" h="1508">
                  <a:moveTo>
                    <a:pt x="28" y="1488"/>
                  </a:moveTo>
                  <a:lnTo>
                    <a:pt x="18" y="1086"/>
                  </a:lnTo>
                  <a:lnTo>
                    <a:pt x="28" y="1090"/>
                  </a:lnTo>
                  <a:lnTo>
                    <a:pt x="39" y="1094"/>
                  </a:lnTo>
                  <a:lnTo>
                    <a:pt x="50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89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9" y="1118"/>
                  </a:lnTo>
                  <a:lnTo>
                    <a:pt x="128" y="1120"/>
                  </a:lnTo>
                  <a:lnTo>
                    <a:pt x="137" y="1121"/>
                  </a:lnTo>
                  <a:lnTo>
                    <a:pt x="146" y="1122"/>
                  </a:lnTo>
                  <a:lnTo>
                    <a:pt x="155" y="1123"/>
                  </a:lnTo>
                  <a:lnTo>
                    <a:pt x="165" y="1123"/>
                  </a:lnTo>
                  <a:lnTo>
                    <a:pt x="173" y="1123"/>
                  </a:lnTo>
                  <a:lnTo>
                    <a:pt x="188" y="1123"/>
                  </a:lnTo>
                  <a:lnTo>
                    <a:pt x="203" y="1121"/>
                  </a:lnTo>
                  <a:lnTo>
                    <a:pt x="216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4" y="1105"/>
                  </a:lnTo>
                  <a:lnTo>
                    <a:pt x="265" y="1098"/>
                  </a:lnTo>
                  <a:lnTo>
                    <a:pt x="275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0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3" y="1032"/>
                  </a:lnTo>
                  <a:lnTo>
                    <a:pt x="315" y="1020"/>
                  </a:lnTo>
                  <a:lnTo>
                    <a:pt x="315" y="1008"/>
                  </a:lnTo>
                  <a:lnTo>
                    <a:pt x="315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5" y="964"/>
                  </a:lnTo>
                  <a:lnTo>
                    <a:pt x="300" y="955"/>
                  </a:lnTo>
                  <a:lnTo>
                    <a:pt x="295" y="944"/>
                  </a:lnTo>
                  <a:lnTo>
                    <a:pt x="289" y="934"/>
                  </a:lnTo>
                  <a:lnTo>
                    <a:pt x="273" y="914"/>
                  </a:lnTo>
                  <a:lnTo>
                    <a:pt x="254" y="891"/>
                  </a:lnTo>
                  <a:lnTo>
                    <a:pt x="233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5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5" y="795"/>
                  </a:lnTo>
                  <a:lnTo>
                    <a:pt x="150" y="789"/>
                  </a:lnTo>
                  <a:lnTo>
                    <a:pt x="132" y="770"/>
                  </a:lnTo>
                  <a:lnTo>
                    <a:pt x="115" y="750"/>
                  </a:lnTo>
                  <a:lnTo>
                    <a:pt x="98" y="730"/>
                  </a:lnTo>
                  <a:lnTo>
                    <a:pt x="83" y="711"/>
                  </a:lnTo>
                  <a:lnTo>
                    <a:pt x="70" y="690"/>
                  </a:lnTo>
                  <a:lnTo>
                    <a:pt x="58" y="670"/>
                  </a:lnTo>
                  <a:lnTo>
                    <a:pt x="46" y="649"/>
                  </a:lnTo>
                  <a:lnTo>
                    <a:pt x="36" y="629"/>
                  </a:lnTo>
                  <a:lnTo>
                    <a:pt x="28" y="608"/>
                  </a:lnTo>
                  <a:lnTo>
                    <a:pt x="20" y="587"/>
                  </a:lnTo>
                  <a:lnTo>
                    <a:pt x="14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1" y="474"/>
                  </a:lnTo>
                  <a:lnTo>
                    <a:pt x="0" y="450"/>
                  </a:lnTo>
                  <a:lnTo>
                    <a:pt x="1" y="426"/>
                  </a:lnTo>
                  <a:lnTo>
                    <a:pt x="2" y="402"/>
                  </a:lnTo>
                  <a:lnTo>
                    <a:pt x="5" y="379"/>
                  </a:lnTo>
                  <a:lnTo>
                    <a:pt x="9" y="357"/>
                  </a:lnTo>
                  <a:lnTo>
                    <a:pt x="13" y="334"/>
                  </a:lnTo>
                  <a:lnTo>
                    <a:pt x="19" y="313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5" y="213"/>
                  </a:lnTo>
                  <a:lnTo>
                    <a:pt x="77" y="194"/>
                  </a:lnTo>
                  <a:lnTo>
                    <a:pt x="90" y="177"/>
                  </a:lnTo>
                  <a:lnTo>
                    <a:pt x="104" y="160"/>
                  </a:lnTo>
                  <a:lnTo>
                    <a:pt x="121" y="143"/>
                  </a:lnTo>
                  <a:lnTo>
                    <a:pt x="137" y="127"/>
                  </a:lnTo>
                  <a:lnTo>
                    <a:pt x="154" y="112"/>
                  </a:lnTo>
                  <a:lnTo>
                    <a:pt x="173" y="97"/>
                  </a:lnTo>
                  <a:lnTo>
                    <a:pt x="191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1" y="49"/>
                  </a:lnTo>
                  <a:lnTo>
                    <a:pt x="272" y="40"/>
                  </a:lnTo>
                  <a:lnTo>
                    <a:pt x="295" y="32"/>
                  </a:lnTo>
                  <a:lnTo>
                    <a:pt x="317" y="25"/>
                  </a:lnTo>
                  <a:lnTo>
                    <a:pt x="341" y="18"/>
                  </a:lnTo>
                  <a:lnTo>
                    <a:pt x="364" y="13"/>
                  </a:lnTo>
                  <a:lnTo>
                    <a:pt x="388" y="8"/>
                  </a:lnTo>
                  <a:lnTo>
                    <a:pt x="414" y="4"/>
                  </a:lnTo>
                  <a:lnTo>
                    <a:pt x="439" y="2"/>
                  </a:lnTo>
                  <a:lnTo>
                    <a:pt x="466" y="0"/>
                  </a:lnTo>
                  <a:lnTo>
                    <a:pt x="492" y="0"/>
                  </a:lnTo>
                  <a:lnTo>
                    <a:pt x="509" y="0"/>
                  </a:lnTo>
                  <a:lnTo>
                    <a:pt x="527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6" y="3"/>
                  </a:lnTo>
                  <a:lnTo>
                    <a:pt x="591" y="5"/>
                  </a:lnTo>
                  <a:lnTo>
                    <a:pt x="606" y="6"/>
                  </a:lnTo>
                  <a:lnTo>
                    <a:pt x="621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6" y="17"/>
                  </a:lnTo>
                  <a:lnTo>
                    <a:pt x="680" y="21"/>
                  </a:lnTo>
                  <a:lnTo>
                    <a:pt x="695" y="24"/>
                  </a:lnTo>
                  <a:lnTo>
                    <a:pt x="709" y="28"/>
                  </a:lnTo>
                  <a:lnTo>
                    <a:pt x="723" y="32"/>
                  </a:lnTo>
                  <a:lnTo>
                    <a:pt x="737" y="37"/>
                  </a:lnTo>
                  <a:lnTo>
                    <a:pt x="737" y="399"/>
                  </a:lnTo>
                  <a:lnTo>
                    <a:pt x="726" y="393"/>
                  </a:lnTo>
                  <a:lnTo>
                    <a:pt x="714" y="388"/>
                  </a:lnTo>
                  <a:lnTo>
                    <a:pt x="703" y="383"/>
                  </a:lnTo>
                  <a:lnTo>
                    <a:pt x="692" y="379"/>
                  </a:lnTo>
                  <a:lnTo>
                    <a:pt x="680" y="374"/>
                  </a:lnTo>
                  <a:lnTo>
                    <a:pt x="670" y="370"/>
                  </a:lnTo>
                  <a:lnTo>
                    <a:pt x="659" y="367"/>
                  </a:lnTo>
                  <a:lnTo>
                    <a:pt x="649" y="364"/>
                  </a:lnTo>
                  <a:lnTo>
                    <a:pt x="639" y="361"/>
                  </a:lnTo>
                  <a:lnTo>
                    <a:pt x="630" y="359"/>
                  </a:lnTo>
                  <a:lnTo>
                    <a:pt x="619" y="357"/>
                  </a:lnTo>
                  <a:lnTo>
                    <a:pt x="610" y="354"/>
                  </a:lnTo>
                  <a:lnTo>
                    <a:pt x="601" y="353"/>
                  </a:lnTo>
                  <a:lnTo>
                    <a:pt x="593" y="352"/>
                  </a:lnTo>
                  <a:lnTo>
                    <a:pt x="585" y="351"/>
                  </a:lnTo>
                  <a:lnTo>
                    <a:pt x="577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6"/>
                  </a:lnTo>
                  <a:lnTo>
                    <a:pt x="513" y="359"/>
                  </a:lnTo>
                  <a:lnTo>
                    <a:pt x="499" y="364"/>
                  </a:lnTo>
                  <a:lnTo>
                    <a:pt x="487" y="369"/>
                  </a:lnTo>
                  <a:lnTo>
                    <a:pt x="476" y="375"/>
                  </a:lnTo>
                  <a:lnTo>
                    <a:pt x="467" y="381"/>
                  </a:lnTo>
                  <a:lnTo>
                    <a:pt x="458" y="389"/>
                  </a:lnTo>
                  <a:lnTo>
                    <a:pt x="449" y="398"/>
                  </a:lnTo>
                  <a:lnTo>
                    <a:pt x="443" y="408"/>
                  </a:lnTo>
                  <a:lnTo>
                    <a:pt x="437" y="418"/>
                  </a:lnTo>
                  <a:lnTo>
                    <a:pt x="433" y="429"/>
                  </a:lnTo>
                  <a:lnTo>
                    <a:pt x="430" y="440"/>
                  </a:lnTo>
                  <a:lnTo>
                    <a:pt x="428" y="452"/>
                  </a:lnTo>
                  <a:lnTo>
                    <a:pt x="428" y="467"/>
                  </a:lnTo>
                  <a:lnTo>
                    <a:pt x="428" y="474"/>
                  </a:lnTo>
                  <a:lnTo>
                    <a:pt x="429" y="482"/>
                  </a:lnTo>
                  <a:lnTo>
                    <a:pt x="431" y="490"/>
                  </a:lnTo>
                  <a:lnTo>
                    <a:pt x="434" y="498"/>
                  </a:lnTo>
                  <a:lnTo>
                    <a:pt x="438" y="507"/>
                  </a:lnTo>
                  <a:lnTo>
                    <a:pt x="442" y="516"/>
                  </a:lnTo>
                  <a:lnTo>
                    <a:pt x="448" y="524"/>
                  </a:lnTo>
                  <a:lnTo>
                    <a:pt x="455" y="533"/>
                  </a:lnTo>
                  <a:lnTo>
                    <a:pt x="461" y="542"/>
                  </a:lnTo>
                  <a:lnTo>
                    <a:pt x="469" y="551"/>
                  </a:lnTo>
                  <a:lnTo>
                    <a:pt x="477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8" y="648"/>
                  </a:lnTo>
                  <a:lnTo>
                    <a:pt x="585" y="655"/>
                  </a:lnTo>
                  <a:lnTo>
                    <a:pt x="591" y="660"/>
                  </a:lnTo>
                  <a:lnTo>
                    <a:pt x="597" y="665"/>
                  </a:lnTo>
                  <a:lnTo>
                    <a:pt x="617" y="684"/>
                  </a:lnTo>
                  <a:lnTo>
                    <a:pt x="637" y="704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8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6" y="835"/>
                  </a:lnTo>
                  <a:lnTo>
                    <a:pt x="736" y="859"/>
                  </a:lnTo>
                  <a:lnTo>
                    <a:pt x="746" y="883"/>
                  </a:lnTo>
                  <a:lnTo>
                    <a:pt x="754" y="909"/>
                  </a:lnTo>
                  <a:lnTo>
                    <a:pt x="760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0" y="1039"/>
                  </a:lnTo>
                  <a:lnTo>
                    <a:pt x="770" y="1066"/>
                  </a:lnTo>
                  <a:lnTo>
                    <a:pt x="768" y="1092"/>
                  </a:lnTo>
                  <a:lnTo>
                    <a:pt x="765" y="1118"/>
                  </a:lnTo>
                  <a:lnTo>
                    <a:pt x="762" y="1142"/>
                  </a:lnTo>
                  <a:lnTo>
                    <a:pt x="757" y="1167"/>
                  </a:lnTo>
                  <a:lnTo>
                    <a:pt x="750" y="1190"/>
                  </a:lnTo>
                  <a:lnTo>
                    <a:pt x="742" y="1213"/>
                  </a:lnTo>
                  <a:lnTo>
                    <a:pt x="734" y="1234"/>
                  </a:lnTo>
                  <a:lnTo>
                    <a:pt x="724" y="1256"/>
                  </a:lnTo>
                  <a:lnTo>
                    <a:pt x="714" y="1276"/>
                  </a:lnTo>
                  <a:lnTo>
                    <a:pt x="702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3" y="1367"/>
                  </a:lnTo>
                  <a:lnTo>
                    <a:pt x="625" y="1382"/>
                  </a:lnTo>
                  <a:lnTo>
                    <a:pt x="607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7" y="1468"/>
                  </a:lnTo>
                  <a:lnTo>
                    <a:pt x="452" y="1476"/>
                  </a:lnTo>
                  <a:lnTo>
                    <a:pt x="427" y="1483"/>
                  </a:lnTo>
                  <a:lnTo>
                    <a:pt x="401" y="1490"/>
                  </a:lnTo>
                  <a:lnTo>
                    <a:pt x="373" y="1496"/>
                  </a:lnTo>
                  <a:lnTo>
                    <a:pt x="346" y="1500"/>
                  </a:lnTo>
                  <a:lnTo>
                    <a:pt x="316" y="1503"/>
                  </a:lnTo>
                  <a:lnTo>
                    <a:pt x="287" y="1506"/>
                  </a:lnTo>
                  <a:lnTo>
                    <a:pt x="255" y="1507"/>
                  </a:lnTo>
                  <a:lnTo>
                    <a:pt x="224" y="1508"/>
                  </a:lnTo>
                  <a:lnTo>
                    <a:pt x="210" y="1507"/>
                  </a:lnTo>
                  <a:lnTo>
                    <a:pt x="198" y="1507"/>
                  </a:lnTo>
                  <a:lnTo>
                    <a:pt x="185" y="1507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4" y="1503"/>
                  </a:lnTo>
                  <a:lnTo>
                    <a:pt x="122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6" y="1498"/>
                  </a:lnTo>
                  <a:lnTo>
                    <a:pt x="74" y="1497"/>
                  </a:lnTo>
                  <a:lnTo>
                    <a:pt x="63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46560" y="698400"/>
              <a:ext cx="309600" cy="463680"/>
            </a:xfrm>
            <a:custGeom>
              <a:avLst/>
              <a:gdLst/>
              <a:ahLst/>
              <a:rect l="l" t="t" r="r" b="b"/>
              <a:pathLst>
                <a:path w="971" h="1461">
                  <a:moveTo>
                    <a:pt x="674" y="369"/>
                  </a:moveTo>
                  <a:lnTo>
                    <a:pt x="674" y="1461"/>
                  </a:lnTo>
                  <a:lnTo>
                    <a:pt x="296" y="1461"/>
                  </a:lnTo>
                  <a:lnTo>
                    <a:pt x="296" y="369"/>
                  </a:lnTo>
                  <a:lnTo>
                    <a:pt x="0" y="369"/>
                  </a:lnTo>
                  <a:lnTo>
                    <a:pt x="39" y="0"/>
                  </a:lnTo>
                  <a:lnTo>
                    <a:pt x="930" y="0"/>
                  </a:lnTo>
                  <a:lnTo>
                    <a:pt x="971" y="369"/>
                  </a:lnTo>
                  <a:lnTo>
                    <a:pt x="674" y="36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09880" y="838080"/>
              <a:ext cx="95400" cy="155520"/>
            </a:xfrm>
            <a:custGeom>
              <a:avLst/>
              <a:gdLst/>
              <a:ahLst/>
              <a:rect l="l" t="t" r="r" b="b"/>
              <a:pathLst>
                <a:path w="299" h="493">
                  <a:moveTo>
                    <a:pt x="0" y="493"/>
                  </a:moveTo>
                  <a:lnTo>
                    <a:pt x="299" y="493"/>
                  </a:lnTo>
                  <a:lnTo>
                    <a:pt x="149" y="0"/>
                  </a:lnTo>
                  <a:lnTo>
                    <a:pt x="0" y="4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33840" y="698400"/>
              <a:ext cx="450720" cy="463680"/>
            </a:xfrm>
            <a:custGeom>
              <a:avLst/>
              <a:gdLst/>
              <a:ahLst/>
              <a:rect l="l" t="t" r="r" b="b"/>
              <a:pathLst>
                <a:path w="1418" h="1461">
                  <a:moveTo>
                    <a:pt x="0" y="1461"/>
                  </a:moveTo>
                  <a:lnTo>
                    <a:pt x="509" y="0"/>
                  </a:lnTo>
                  <a:lnTo>
                    <a:pt x="936" y="0"/>
                  </a:lnTo>
                  <a:lnTo>
                    <a:pt x="1418" y="1461"/>
                  </a:lnTo>
                  <a:lnTo>
                    <a:pt x="1017" y="1461"/>
                  </a:lnTo>
                  <a:lnTo>
                    <a:pt x="965" y="1298"/>
                  </a:lnTo>
                  <a:lnTo>
                    <a:pt x="449" y="1298"/>
                  </a:lnTo>
                  <a:lnTo>
                    <a:pt x="393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94280" y="689040"/>
              <a:ext cx="398520" cy="482400"/>
            </a:xfrm>
            <a:custGeom>
              <a:avLst/>
              <a:gdLst/>
              <a:ahLst/>
              <a:rect l="l" t="t" r="r" b="b"/>
              <a:pathLst>
                <a:path w="1253" h="1518">
                  <a:moveTo>
                    <a:pt x="1253" y="1432"/>
                  </a:moveTo>
                  <a:lnTo>
                    <a:pt x="1229" y="1441"/>
                  </a:lnTo>
                  <a:lnTo>
                    <a:pt x="1204" y="1452"/>
                  </a:lnTo>
                  <a:lnTo>
                    <a:pt x="1178" y="1460"/>
                  </a:lnTo>
                  <a:lnTo>
                    <a:pt x="1151" y="1468"/>
                  </a:lnTo>
                  <a:lnTo>
                    <a:pt x="1124" y="1476"/>
                  </a:lnTo>
                  <a:lnTo>
                    <a:pt x="1095" y="1483"/>
                  </a:lnTo>
                  <a:lnTo>
                    <a:pt x="1066" y="1489"/>
                  </a:lnTo>
                  <a:lnTo>
                    <a:pt x="1035" y="1495"/>
                  </a:lnTo>
                  <a:lnTo>
                    <a:pt x="1005" y="1501"/>
                  </a:lnTo>
                  <a:lnTo>
                    <a:pt x="973" y="1505"/>
                  </a:lnTo>
                  <a:lnTo>
                    <a:pt x="942" y="1509"/>
                  </a:lnTo>
                  <a:lnTo>
                    <a:pt x="910" y="1512"/>
                  </a:lnTo>
                  <a:lnTo>
                    <a:pt x="878" y="1515"/>
                  </a:lnTo>
                  <a:lnTo>
                    <a:pt x="845" y="1516"/>
                  </a:lnTo>
                  <a:lnTo>
                    <a:pt x="812" y="1517"/>
                  </a:lnTo>
                  <a:lnTo>
                    <a:pt x="779" y="1518"/>
                  </a:lnTo>
                  <a:lnTo>
                    <a:pt x="734" y="1517"/>
                  </a:lnTo>
                  <a:lnTo>
                    <a:pt x="690" y="1515"/>
                  </a:lnTo>
                  <a:lnTo>
                    <a:pt x="648" y="1511"/>
                  </a:lnTo>
                  <a:lnTo>
                    <a:pt x="607" y="1506"/>
                  </a:lnTo>
                  <a:lnTo>
                    <a:pt x="567" y="1499"/>
                  </a:lnTo>
                  <a:lnTo>
                    <a:pt x="529" y="1489"/>
                  </a:lnTo>
                  <a:lnTo>
                    <a:pt x="491" y="1479"/>
                  </a:lnTo>
                  <a:lnTo>
                    <a:pt x="454" y="1468"/>
                  </a:lnTo>
                  <a:lnTo>
                    <a:pt x="420" y="1455"/>
                  </a:lnTo>
                  <a:lnTo>
                    <a:pt x="386" y="1439"/>
                  </a:lnTo>
                  <a:lnTo>
                    <a:pt x="369" y="1432"/>
                  </a:lnTo>
                  <a:lnTo>
                    <a:pt x="353" y="1423"/>
                  </a:lnTo>
                  <a:lnTo>
                    <a:pt x="337" y="1415"/>
                  </a:lnTo>
                  <a:lnTo>
                    <a:pt x="322" y="1406"/>
                  </a:lnTo>
                  <a:lnTo>
                    <a:pt x="292" y="1386"/>
                  </a:lnTo>
                  <a:lnTo>
                    <a:pt x="262" y="1365"/>
                  </a:lnTo>
                  <a:lnTo>
                    <a:pt x="248" y="1354"/>
                  </a:lnTo>
                  <a:lnTo>
                    <a:pt x="235" y="1342"/>
                  </a:lnTo>
                  <a:lnTo>
                    <a:pt x="221" y="1330"/>
                  </a:lnTo>
                  <a:lnTo>
                    <a:pt x="208" y="1318"/>
                  </a:lnTo>
                  <a:lnTo>
                    <a:pt x="183" y="1292"/>
                  </a:lnTo>
                  <a:lnTo>
                    <a:pt x="159" y="1266"/>
                  </a:lnTo>
                  <a:lnTo>
                    <a:pt x="137" y="1238"/>
                  </a:lnTo>
                  <a:lnTo>
                    <a:pt x="117" y="1209"/>
                  </a:lnTo>
                  <a:lnTo>
                    <a:pt x="107" y="1194"/>
                  </a:lnTo>
                  <a:lnTo>
                    <a:pt x="98" y="1179"/>
                  </a:lnTo>
                  <a:lnTo>
                    <a:pt x="89" y="1164"/>
                  </a:lnTo>
                  <a:lnTo>
                    <a:pt x="81" y="1148"/>
                  </a:lnTo>
                  <a:lnTo>
                    <a:pt x="73" y="1132"/>
                  </a:lnTo>
                  <a:lnTo>
                    <a:pt x="66" y="1116"/>
                  </a:lnTo>
                  <a:lnTo>
                    <a:pt x="59" y="1099"/>
                  </a:lnTo>
                  <a:lnTo>
                    <a:pt x="51" y="1082"/>
                  </a:lnTo>
                  <a:lnTo>
                    <a:pt x="39" y="1047"/>
                  </a:lnTo>
                  <a:lnTo>
                    <a:pt x="29" y="1012"/>
                  </a:lnTo>
                  <a:lnTo>
                    <a:pt x="20" y="975"/>
                  </a:lnTo>
                  <a:lnTo>
                    <a:pt x="13" y="937"/>
                  </a:lnTo>
                  <a:lnTo>
                    <a:pt x="7" y="898"/>
                  </a:lnTo>
                  <a:lnTo>
                    <a:pt x="3" y="859"/>
                  </a:lnTo>
                  <a:lnTo>
                    <a:pt x="0" y="817"/>
                  </a:lnTo>
                  <a:lnTo>
                    <a:pt x="0" y="775"/>
                  </a:lnTo>
                  <a:lnTo>
                    <a:pt x="1" y="733"/>
                  </a:lnTo>
                  <a:lnTo>
                    <a:pt x="3" y="692"/>
                  </a:lnTo>
                  <a:lnTo>
                    <a:pt x="7" y="652"/>
                  </a:lnTo>
                  <a:lnTo>
                    <a:pt x="13" y="614"/>
                  </a:lnTo>
                  <a:lnTo>
                    <a:pt x="21" y="576"/>
                  </a:lnTo>
                  <a:lnTo>
                    <a:pt x="30" y="539"/>
                  </a:lnTo>
                  <a:lnTo>
                    <a:pt x="41" y="502"/>
                  </a:lnTo>
                  <a:lnTo>
                    <a:pt x="53" y="468"/>
                  </a:lnTo>
                  <a:lnTo>
                    <a:pt x="69" y="433"/>
                  </a:lnTo>
                  <a:lnTo>
                    <a:pt x="84" y="400"/>
                  </a:lnTo>
                  <a:lnTo>
                    <a:pt x="102" y="368"/>
                  </a:lnTo>
                  <a:lnTo>
                    <a:pt x="122" y="336"/>
                  </a:lnTo>
                  <a:lnTo>
                    <a:pt x="143" y="305"/>
                  </a:lnTo>
                  <a:lnTo>
                    <a:pt x="166" y="276"/>
                  </a:lnTo>
                  <a:lnTo>
                    <a:pt x="191" y="247"/>
                  </a:lnTo>
                  <a:lnTo>
                    <a:pt x="217" y="219"/>
                  </a:lnTo>
                  <a:lnTo>
                    <a:pt x="245" y="192"/>
                  </a:lnTo>
                  <a:lnTo>
                    <a:pt x="273" y="168"/>
                  </a:lnTo>
                  <a:lnTo>
                    <a:pt x="303" y="144"/>
                  </a:lnTo>
                  <a:lnTo>
                    <a:pt x="333" y="123"/>
                  </a:lnTo>
                  <a:lnTo>
                    <a:pt x="365" y="103"/>
                  </a:lnTo>
                  <a:lnTo>
                    <a:pt x="396" y="86"/>
                  </a:lnTo>
                  <a:lnTo>
                    <a:pt x="430" y="70"/>
                  </a:lnTo>
                  <a:lnTo>
                    <a:pt x="464" y="54"/>
                  </a:lnTo>
                  <a:lnTo>
                    <a:pt x="498" y="42"/>
                  </a:lnTo>
                  <a:lnTo>
                    <a:pt x="534" y="31"/>
                  </a:lnTo>
                  <a:lnTo>
                    <a:pt x="570" y="22"/>
                  </a:lnTo>
                  <a:lnTo>
                    <a:pt x="608" y="14"/>
                  </a:lnTo>
                  <a:lnTo>
                    <a:pt x="647" y="7"/>
                  </a:lnTo>
                  <a:lnTo>
                    <a:pt x="685" y="3"/>
                  </a:lnTo>
                  <a:lnTo>
                    <a:pt x="726" y="1"/>
                  </a:lnTo>
                  <a:lnTo>
                    <a:pt x="767" y="0"/>
                  </a:lnTo>
                  <a:lnTo>
                    <a:pt x="798" y="0"/>
                  </a:lnTo>
                  <a:lnTo>
                    <a:pt x="830" y="2"/>
                  </a:lnTo>
                  <a:lnTo>
                    <a:pt x="860" y="5"/>
                  </a:lnTo>
                  <a:lnTo>
                    <a:pt x="891" y="9"/>
                  </a:lnTo>
                  <a:lnTo>
                    <a:pt x="921" y="15"/>
                  </a:lnTo>
                  <a:lnTo>
                    <a:pt x="952" y="21"/>
                  </a:lnTo>
                  <a:lnTo>
                    <a:pt x="983" y="28"/>
                  </a:lnTo>
                  <a:lnTo>
                    <a:pt x="1012" y="36"/>
                  </a:lnTo>
                  <a:lnTo>
                    <a:pt x="1042" y="45"/>
                  </a:lnTo>
                  <a:lnTo>
                    <a:pt x="1070" y="56"/>
                  </a:lnTo>
                  <a:lnTo>
                    <a:pt x="1099" y="68"/>
                  </a:lnTo>
                  <a:lnTo>
                    <a:pt x="1126" y="80"/>
                  </a:lnTo>
                  <a:lnTo>
                    <a:pt x="1153" y="93"/>
                  </a:lnTo>
                  <a:lnTo>
                    <a:pt x="1180" y="107"/>
                  </a:lnTo>
                  <a:lnTo>
                    <a:pt x="1205" y="123"/>
                  </a:lnTo>
                  <a:lnTo>
                    <a:pt x="1231" y="139"/>
                  </a:lnTo>
                  <a:lnTo>
                    <a:pt x="1076" y="489"/>
                  </a:lnTo>
                  <a:lnTo>
                    <a:pt x="1054" y="477"/>
                  </a:lnTo>
                  <a:lnTo>
                    <a:pt x="1032" y="466"/>
                  </a:lnTo>
                  <a:lnTo>
                    <a:pt x="1010" y="454"/>
                  </a:lnTo>
                  <a:lnTo>
                    <a:pt x="990" y="444"/>
                  </a:lnTo>
                  <a:lnTo>
                    <a:pt x="968" y="436"/>
                  </a:lnTo>
                  <a:lnTo>
                    <a:pt x="948" y="428"/>
                  </a:lnTo>
                  <a:lnTo>
                    <a:pt x="929" y="421"/>
                  </a:lnTo>
                  <a:lnTo>
                    <a:pt x="909" y="414"/>
                  </a:lnTo>
                  <a:lnTo>
                    <a:pt x="890" y="408"/>
                  </a:lnTo>
                  <a:lnTo>
                    <a:pt x="871" y="403"/>
                  </a:lnTo>
                  <a:lnTo>
                    <a:pt x="852" y="399"/>
                  </a:lnTo>
                  <a:lnTo>
                    <a:pt x="833" y="396"/>
                  </a:lnTo>
                  <a:lnTo>
                    <a:pt x="814" y="394"/>
                  </a:lnTo>
                  <a:lnTo>
                    <a:pt x="795" y="392"/>
                  </a:lnTo>
                  <a:lnTo>
                    <a:pt x="776" y="391"/>
                  </a:lnTo>
                  <a:lnTo>
                    <a:pt x="758" y="390"/>
                  </a:lnTo>
                  <a:lnTo>
                    <a:pt x="737" y="391"/>
                  </a:lnTo>
                  <a:lnTo>
                    <a:pt x="717" y="392"/>
                  </a:lnTo>
                  <a:lnTo>
                    <a:pt x="698" y="394"/>
                  </a:lnTo>
                  <a:lnTo>
                    <a:pt x="679" y="397"/>
                  </a:lnTo>
                  <a:lnTo>
                    <a:pt x="660" y="401"/>
                  </a:lnTo>
                  <a:lnTo>
                    <a:pt x="642" y="405"/>
                  </a:lnTo>
                  <a:lnTo>
                    <a:pt x="624" y="412"/>
                  </a:lnTo>
                  <a:lnTo>
                    <a:pt x="607" y="418"/>
                  </a:lnTo>
                  <a:lnTo>
                    <a:pt x="591" y="425"/>
                  </a:lnTo>
                  <a:lnTo>
                    <a:pt x="574" y="433"/>
                  </a:lnTo>
                  <a:lnTo>
                    <a:pt x="558" y="441"/>
                  </a:lnTo>
                  <a:lnTo>
                    <a:pt x="543" y="451"/>
                  </a:lnTo>
                  <a:lnTo>
                    <a:pt x="529" y="462"/>
                  </a:lnTo>
                  <a:lnTo>
                    <a:pt x="514" y="473"/>
                  </a:lnTo>
                  <a:lnTo>
                    <a:pt x="500" y="485"/>
                  </a:lnTo>
                  <a:lnTo>
                    <a:pt x="487" y="498"/>
                  </a:lnTo>
                  <a:lnTo>
                    <a:pt x="474" y="512"/>
                  </a:lnTo>
                  <a:lnTo>
                    <a:pt x="462" y="526"/>
                  </a:lnTo>
                  <a:lnTo>
                    <a:pt x="450" y="541"/>
                  </a:lnTo>
                  <a:lnTo>
                    <a:pt x="440" y="555"/>
                  </a:lnTo>
                  <a:lnTo>
                    <a:pt x="431" y="572"/>
                  </a:lnTo>
                  <a:lnTo>
                    <a:pt x="422" y="587"/>
                  </a:lnTo>
                  <a:lnTo>
                    <a:pt x="414" y="604"/>
                  </a:lnTo>
                  <a:lnTo>
                    <a:pt x="407" y="621"/>
                  </a:lnTo>
                  <a:lnTo>
                    <a:pt x="400" y="638"/>
                  </a:lnTo>
                  <a:lnTo>
                    <a:pt x="395" y="657"/>
                  </a:lnTo>
                  <a:lnTo>
                    <a:pt x="391" y="675"/>
                  </a:lnTo>
                  <a:lnTo>
                    <a:pt x="387" y="693"/>
                  </a:lnTo>
                  <a:lnTo>
                    <a:pt x="384" y="713"/>
                  </a:lnTo>
                  <a:lnTo>
                    <a:pt x="382" y="732"/>
                  </a:lnTo>
                  <a:lnTo>
                    <a:pt x="381" y="752"/>
                  </a:lnTo>
                  <a:lnTo>
                    <a:pt x="380" y="773"/>
                  </a:lnTo>
                  <a:lnTo>
                    <a:pt x="381" y="792"/>
                  </a:lnTo>
                  <a:lnTo>
                    <a:pt x="382" y="811"/>
                  </a:lnTo>
                  <a:lnTo>
                    <a:pt x="384" y="829"/>
                  </a:lnTo>
                  <a:lnTo>
                    <a:pt x="386" y="846"/>
                  </a:lnTo>
                  <a:lnTo>
                    <a:pt x="390" y="864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3"/>
                  </a:lnTo>
                  <a:lnTo>
                    <a:pt x="412" y="929"/>
                  </a:lnTo>
                  <a:lnTo>
                    <a:pt x="419" y="944"/>
                  </a:lnTo>
                  <a:lnTo>
                    <a:pt x="427" y="959"/>
                  </a:lnTo>
                  <a:lnTo>
                    <a:pt x="436" y="973"/>
                  </a:lnTo>
                  <a:lnTo>
                    <a:pt x="445" y="986"/>
                  </a:lnTo>
                  <a:lnTo>
                    <a:pt x="455" y="999"/>
                  </a:lnTo>
                  <a:lnTo>
                    <a:pt x="467" y="1013"/>
                  </a:lnTo>
                  <a:lnTo>
                    <a:pt x="479" y="1025"/>
                  </a:lnTo>
                  <a:lnTo>
                    <a:pt x="491" y="1036"/>
                  </a:lnTo>
                  <a:lnTo>
                    <a:pt x="504" y="1047"/>
                  </a:lnTo>
                  <a:lnTo>
                    <a:pt x="517" y="1058"/>
                  </a:lnTo>
                  <a:lnTo>
                    <a:pt x="532" y="1068"/>
                  </a:lnTo>
                  <a:lnTo>
                    <a:pt x="546" y="1076"/>
                  </a:lnTo>
                  <a:lnTo>
                    <a:pt x="560" y="1084"/>
                  </a:lnTo>
                  <a:lnTo>
                    <a:pt x="575" y="1091"/>
                  </a:lnTo>
                  <a:lnTo>
                    <a:pt x="591" y="1098"/>
                  </a:lnTo>
                  <a:lnTo>
                    <a:pt x="607" y="1104"/>
                  </a:lnTo>
                  <a:lnTo>
                    <a:pt x="623" y="1109"/>
                  </a:lnTo>
                  <a:lnTo>
                    <a:pt x="641" y="1113"/>
                  </a:lnTo>
                  <a:lnTo>
                    <a:pt x="658" y="1116"/>
                  </a:lnTo>
                  <a:lnTo>
                    <a:pt x="675" y="1119"/>
                  </a:lnTo>
                  <a:lnTo>
                    <a:pt x="694" y="1121"/>
                  </a:lnTo>
                  <a:lnTo>
                    <a:pt x="713" y="1122"/>
                  </a:lnTo>
                  <a:lnTo>
                    <a:pt x="732" y="1122"/>
                  </a:lnTo>
                  <a:lnTo>
                    <a:pt x="741" y="1122"/>
                  </a:lnTo>
                  <a:lnTo>
                    <a:pt x="752" y="1122"/>
                  </a:lnTo>
                  <a:lnTo>
                    <a:pt x="761" y="1122"/>
                  </a:lnTo>
                  <a:lnTo>
                    <a:pt x="770" y="1121"/>
                  </a:lnTo>
                  <a:lnTo>
                    <a:pt x="779" y="1120"/>
                  </a:lnTo>
                  <a:lnTo>
                    <a:pt x="788" y="1119"/>
                  </a:lnTo>
                  <a:lnTo>
                    <a:pt x="797" y="1118"/>
                  </a:lnTo>
                  <a:lnTo>
                    <a:pt x="806" y="1116"/>
                  </a:lnTo>
                  <a:lnTo>
                    <a:pt x="816" y="1114"/>
                  </a:lnTo>
                  <a:lnTo>
                    <a:pt x="825" y="1112"/>
                  </a:lnTo>
                  <a:lnTo>
                    <a:pt x="833" y="1110"/>
                  </a:lnTo>
                  <a:lnTo>
                    <a:pt x="842" y="1108"/>
                  </a:lnTo>
                  <a:lnTo>
                    <a:pt x="850" y="1106"/>
                  </a:lnTo>
                  <a:lnTo>
                    <a:pt x="859" y="1103"/>
                  </a:lnTo>
                  <a:lnTo>
                    <a:pt x="868" y="1099"/>
                  </a:lnTo>
                  <a:lnTo>
                    <a:pt x="877" y="1096"/>
                  </a:lnTo>
                  <a:lnTo>
                    <a:pt x="877" y="734"/>
                  </a:lnTo>
                  <a:lnTo>
                    <a:pt x="1253" y="734"/>
                  </a:lnTo>
                  <a:lnTo>
                    <a:pt x="1253" y="14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62640" y="698400"/>
              <a:ext cx="288720" cy="463680"/>
            </a:xfrm>
            <a:custGeom>
              <a:avLst/>
              <a:gdLst/>
              <a:ahLst/>
              <a:rect l="l" t="t" r="r" b="b"/>
              <a:pathLst>
                <a:path w="911" h="1461">
                  <a:moveTo>
                    <a:pt x="911" y="1059"/>
                  </a:moveTo>
                  <a:lnTo>
                    <a:pt x="809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5" y="0"/>
                  </a:lnTo>
                  <a:lnTo>
                    <a:pt x="868" y="389"/>
                  </a:lnTo>
                  <a:lnTo>
                    <a:pt x="376" y="389"/>
                  </a:lnTo>
                  <a:lnTo>
                    <a:pt x="376" y="537"/>
                  </a:lnTo>
                  <a:lnTo>
                    <a:pt x="705" y="537"/>
                  </a:lnTo>
                  <a:lnTo>
                    <a:pt x="705" y="923"/>
                  </a:lnTo>
                  <a:lnTo>
                    <a:pt x="376" y="923"/>
                  </a:lnTo>
                  <a:lnTo>
                    <a:pt x="376" y="1059"/>
                  </a:lnTo>
                  <a:lnTo>
                    <a:pt x="911" y="10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8304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100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9" y="1120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6" y="1123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3"/>
                  </a:lnTo>
                  <a:lnTo>
                    <a:pt x="203" y="1121"/>
                  </a:lnTo>
                  <a:lnTo>
                    <a:pt x="217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5" y="1105"/>
                  </a:lnTo>
                  <a:lnTo>
                    <a:pt x="266" y="1098"/>
                  </a:lnTo>
                  <a:lnTo>
                    <a:pt x="276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1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4" y="1032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6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6" y="964"/>
                  </a:lnTo>
                  <a:lnTo>
                    <a:pt x="301" y="955"/>
                  </a:lnTo>
                  <a:lnTo>
                    <a:pt x="296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8" y="843"/>
                  </a:lnTo>
                  <a:lnTo>
                    <a:pt x="199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4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6" y="795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9" y="730"/>
                  </a:lnTo>
                  <a:lnTo>
                    <a:pt x="84" y="711"/>
                  </a:lnTo>
                  <a:lnTo>
                    <a:pt x="71" y="690"/>
                  </a:lnTo>
                  <a:lnTo>
                    <a:pt x="57" y="670"/>
                  </a:lnTo>
                  <a:lnTo>
                    <a:pt x="47" y="649"/>
                  </a:lnTo>
                  <a:lnTo>
                    <a:pt x="37" y="629"/>
                  </a:lnTo>
                  <a:lnTo>
                    <a:pt x="28" y="608"/>
                  </a:lnTo>
                  <a:lnTo>
                    <a:pt x="21" y="587"/>
                  </a:lnTo>
                  <a:lnTo>
                    <a:pt x="15" y="565"/>
                  </a:lnTo>
                  <a:lnTo>
                    <a:pt x="10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9" y="357"/>
                  </a:lnTo>
                  <a:lnTo>
                    <a:pt x="14" y="334"/>
                  </a:lnTo>
                  <a:lnTo>
                    <a:pt x="20" y="313"/>
                  </a:lnTo>
                  <a:lnTo>
                    <a:pt x="27" y="291"/>
                  </a:lnTo>
                  <a:lnTo>
                    <a:pt x="35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6" y="213"/>
                  </a:lnTo>
                  <a:lnTo>
                    <a:pt x="78" y="194"/>
                  </a:lnTo>
                  <a:lnTo>
                    <a:pt x="91" y="177"/>
                  </a:lnTo>
                  <a:lnTo>
                    <a:pt x="105" y="160"/>
                  </a:lnTo>
                  <a:lnTo>
                    <a:pt x="120" y="143"/>
                  </a:lnTo>
                  <a:lnTo>
                    <a:pt x="138" y="127"/>
                  </a:lnTo>
                  <a:lnTo>
                    <a:pt x="155" y="112"/>
                  </a:lnTo>
                  <a:lnTo>
                    <a:pt x="173" y="97"/>
                  </a:lnTo>
                  <a:lnTo>
                    <a:pt x="192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6" y="32"/>
                  </a:lnTo>
                  <a:lnTo>
                    <a:pt x="318" y="25"/>
                  </a:lnTo>
                  <a:lnTo>
                    <a:pt x="340" y="18"/>
                  </a:lnTo>
                  <a:lnTo>
                    <a:pt x="365" y="13"/>
                  </a:lnTo>
                  <a:lnTo>
                    <a:pt x="389" y="8"/>
                  </a:lnTo>
                  <a:lnTo>
                    <a:pt x="414" y="4"/>
                  </a:lnTo>
                  <a:lnTo>
                    <a:pt x="440" y="2"/>
                  </a:lnTo>
                  <a:lnTo>
                    <a:pt x="466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60" y="2"/>
                  </a:lnTo>
                  <a:lnTo>
                    <a:pt x="575" y="3"/>
                  </a:lnTo>
                  <a:lnTo>
                    <a:pt x="592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7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4" y="383"/>
                  </a:lnTo>
                  <a:lnTo>
                    <a:pt x="692" y="379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50" y="364"/>
                  </a:lnTo>
                  <a:lnTo>
                    <a:pt x="639" y="361"/>
                  </a:lnTo>
                  <a:lnTo>
                    <a:pt x="629" y="359"/>
                  </a:lnTo>
                  <a:lnTo>
                    <a:pt x="620" y="357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4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8" y="356"/>
                  </a:lnTo>
                  <a:lnTo>
                    <a:pt x="513" y="359"/>
                  </a:lnTo>
                  <a:lnTo>
                    <a:pt x="500" y="364"/>
                  </a:lnTo>
                  <a:lnTo>
                    <a:pt x="488" y="369"/>
                  </a:lnTo>
                  <a:lnTo>
                    <a:pt x="477" y="375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8"/>
                  </a:lnTo>
                  <a:lnTo>
                    <a:pt x="443" y="408"/>
                  </a:lnTo>
                  <a:lnTo>
                    <a:pt x="438" y="418"/>
                  </a:lnTo>
                  <a:lnTo>
                    <a:pt x="434" y="429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9" y="467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9" y="507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70" y="551"/>
                  </a:lnTo>
                  <a:lnTo>
                    <a:pt x="478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3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5"/>
                  </a:lnTo>
                  <a:lnTo>
                    <a:pt x="592" y="660"/>
                  </a:lnTo>
                  <a:lnTo>
                    <a:pt x="598" y="665"/>
                  </a:lnTo>
                  <a:lnTo>
                    <a:pt x="618" y="684"/>
                  </a:lnTo>
                  <a:lnTo>
                    <a:pt x="637" y="704"/>
                  </a:lnTo>
                  <a:lnTo>
                    <a:pt x="656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7" y="835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9"/>
                  </a:lnTo>
                  <a:lnTo>
                    <a:pt x="760" y="933"/>
                  </a:lnTo>
                  <a:lnTo>
                    <a:pt x="765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1" y="1066"/>
                  </a:lnTo>
                  <a:lnTo>
                    <a:pt x="769" y="1092"/>
                  </a:lnTo>
                  <a:lnTo>
                    <a:pt x="766" y="1118"/>
                  </a:lnTo>
                  <a:lnTo>
                    <a:pt x="762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5" y="1234"/>
                  </a:lnTo>
                  <a:lnTo>
                    <a:pt x="725" y="1256"/>
                  </a:lnTo>
                  <a:lnTo>
                    <a:pt x="715" y="1276"/>
                  </a:lnTo>
                  <a:lnTo>
                    <a:pt x="703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4" y="1367"/>
                  </a:lnTo>
                  <a:lnTo>
                    <a:pt x="626" y="1382"/>
                  </a:lnTo>
                  <a:lnTo>
                    <a:pt x="608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7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8" y="1483"/>
                  </a:lnTo>
                  <a:lnTo>
                    <a:pt x="401" y="1490"/>
                  </a:lnTo>
                  <a:lnTo>
                    <a:pt x="374" y="1496"/>
                  </a:lnTo>
                  <a:lnTo>
                    <a:pt x="345" y="1500"/>
                  </a:lnTo>
                  <a:lnTo>
                    <a:pt x="317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6" y="1507"/>
                  </a:lnTo>
                  <a:lnTo>
                    <a:pt x="172" y="1506"/>
                  </a:lnTo>
                  <a:lnTo>
                    <a:pt x="160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3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7" y="1498"/>
                  </a:lnTo>
                  <a:lnTo>
                    <a:pt x="75" y="1497"/>
                  </a:lnTo>
                  <a:lnTo>
                    <a:pt x="62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67320" y="814320"/>
              <a:ext cx="220680" cy="230400"/>
            </a:xfrm>
            <a:custGeom>
              <a:avLst/>
              <a:gdLst/>
              <a:ahLst/>
              <a:rect l="l" t="t" r="r" b="b"/>
              <a:pathLst>
                <a:path w="693" h="724">
                  <a:moveTo>
                    <a:pt x="347" y="0"/>
                  </a:moveTo>
                  <a:lnTo>
                    <a:pt x="329" y="0"/>
                  </a:lnTo>
                  <a:lnTo>
                    <a:pt x="311" y="2"/>
                  </a:lnTo>
                  <a:lnTo>
                    <a:pt x="293" y="4"/>
                  </a:lnTo>
                  <a:lnTo>
                    <a:pt x="276" y="7"/>
                  </a:lnTo>
                  <a:lnTo>
                    <a:pt x="260" y="10"/>
                  </a:lnTo>
                  <a:lnTo>
                    <a:pt x="243" y="14"/>
                  </a:lnTo>
                  <a:lnTo>
                    <a:pt x="227" y="21"/>
                  </a:lnTo>
                  <a:lnTo>
                    <a:pt x="212" y="27"/>
                  </a:lnTo>
                  <a:lnTo>
                    <a:pt x="197" y="33"/>
                  </a:lnTo>
                  <a:lnTo>
                    <a:pt x="181" y="41"/>
                  </a:lnTo>
                  <a:lnTo>
                    <a:pt x="167" y="49"/>
                  </a:lnTo>
                  <a:lnTo>
                    <a:pt x="153" y="59"/>
                  </a:lnTo>
                  <a:lnTo>
                    <a:pt x="139" y="70"/>
                  </a:lnTo>
                  <a:lnTo>
                    <a:pt x="125" y="80"/>
                  </a:lnTo>
                  <a:lnTo>
                    <a:pt x="112" y="92"/>
                  </a:lnTo>
                  <a:lnTo>
                    <a:pt x="100" y="104"/>
                  </a:lnTo>
                  <a:lnTo>
                    <a:pt x="88" y="118"/>
                  </a:lnTo>
                  <a:lnTo>
                    <a:pt x="77" y="132"/>
                  </a:lnTo>
                  <a:lnTo>
                    <a:pt x="66" y="145"/>
                  </a:lnTo>
                  <a:lnTo>
                    <a:pt x="56" y="159"/>
                  </a:lnTo>
                  <a:lnTo>
                    <a:pt x="47" y="175"/>
                  </a:lnTo>
                  <a:lnTo>
                    <a:pt x="39" y="190"/>
                  </a:lnTo>
                  <a:lnTo>
                    <a:pt x="32" y="205"/>
                  </a:lnTo>
                  <a:lnTo>
                    <a:pt x="26" y="222"/>
                  </a:lnTo>
                  <a:lnTo>
                    <a:pt x="20" y="238"/>
                  </a:lnTo>
                  <a:lnTo>
                    <a:pt x="14" y="254"/>
                  </a:lnTo>
                  <a:lnTo>
                    <a:pt x="10" y="272"/>
                  </a:lnTo>
                  <a:lnTo>
                    <a:pt x="6" y="289"/>
                  </a:lnTo>
                  <a:lnTo>
                    <a:pt x="3" y="306"/>
                  </a:lnTo>
                  <a:lnTo>
                    <a:pt x="2" y="325"/>
                  </a:lnTo>
                  <a:lnTo>
                    <a:pt x="0" y="344"/>
                  </a:lnTo>
                  <a:lnTo>
                    <a:pt x="0" y="363"/>
                  </a:lnTo>
                  <a:lnTo>
                    <a:pt x="0" y="382"/>
                  </a:lnTo>
                  <a:lnTo>
                    <a:pt x="2" y="400"/>
                  </a:lnTo>
                  <a:lnTo>
                    <a:pt x="3" y="419"/>
                  </a:lnTo>
                  <a:lnTo>
                    <a:pt x="6" y="436"/>
                  </a:lnTo>
                  <a:lnTo>
                    <a:pt x="9" y="454"/>
                  </a:lnTo>
                  <a:lnTo>
                    <a:pt x="14" y="471"/>
                  </a:lnTo>
                  <a:lnTo>
                    <a:pt x="20" y="488"/>
                  </a:lnTo>
                  <a:lnTo>
                    <a:pt x="25" y="504"/>
                  </a:lnTo>
                  <a:lnTo>
                    <a:pt x="32" y="520"/>
                  </a:lnTo>
                  <a:lnTo>
                    <a:pt x="39" y="535"/>
                  </a:lnTo>
                  <a:lnTo>
                    <a:pt x="47" y="550"/>
                  </a:lnTo>
                  <a:lnTo>
                    <a:pt x="56" y="566"/>
                  </a:lnTo>
                  <a:lnTo>
                    <a:pt x="65" y="580"/>
                  </a:lnTo>
                  <a:lnTo>
                    <a:pt x="77" y="593"/>
                  </a:lnTo>
                  <a:lnTo>
                    <a:pt x="88" y="607"/>
                  </a:lnTo>
                  <a:lnTo>
                    <a:pt x="100" y="620"/>
                  </a:lnTo>
                  <a:lnTo>
                    <a:pt x="112" y="633"/>
                  </a:lnTo>
                  <a:lnTo>
                    <a:pt x="125" y="644"/>
                  </a:lnTo>
                  <a:lnTo>
                    <a:pt x="139" y="655"/>
                  </a:lnTo>
                  <a:lnTo>
                    <a:pt x="152" y="666"/>
                  </a:lnTo>
                  <a:lnTo>
                    <a:pt x="166" y="675"/>
                  </a:lnTo>
                  <a:lnTo>
                    <a:pt x="180" y="684"/>
                  </a:lnTo>
                  <a:lnTo>
                    <a:pt x="196" y="691"/>
                  </a:lnTo>
                  <a:lnTo>
                    <a:pt x="211" y="698"/>
                  </a:lnTo>
                  <a:lnTo>
                    <a:pt x="226" y="704"/>
                  </a:lnTo>
                  <a:lnTo>
                    <a:pt x="242" y="710"/>
                  </a:lnTo>
                  <a:lnTo>
                    <a:pt x="259" y="714"/>
                  </a:lnTo>
                  <a:lnTo>
                    <a:pt x="276" y="718"/>
                  </a:lnTo>
                  <a:lnTo>
                    <a:pt x="293" y="721"/>
                  </a:lnTo>
                  <a:lnTo>
                    <a:pt x="311" y="723"/>
                  </a:lnTo>
                  <a:lnTo>
                    <a:pt x="329" y="724"/>
                  </a:lnTo>
                  <a:lnTo>
                    <a:pt x="347" y="724"/>
                  </a:lnTo>
                  <a:lnTo>
                    <a:pt x="366" y="724"/>
                  </a:lnTo>
                  <a:lnTo>
                    <a:pt x="383" y="723"/>
                  </a:lnTo>
                  <a:lnTo>
                    <a:pt x="400" y="721"/>
                  </a:lnTo>
                  <a:lnTo>
                    <a:pt x="417" y="718"/>
                  </a:lnTo>
                  <a:lnTo>
                    <a:pt x="434" y="714"/>
                  </a:lnTo>
                  <a:lnTo>
                    <a:pt x="451" y="710"/>
                  </a:lnTo>
                  <a:lnTo>
                    <a:pt x="466" y="704"/>
                  </a:lnTo>
                  <a:lnTo>
                    <a:pt x="483" y="698"/>
                  </a:lnTo>
                  <a:lnTo>
                    <a:pt x="498" y="691"/>
                  </a:lnTo>
                  <a:lnTo>
                    <a:pt x="512" y="684"/>
                  </a:lnTo>
                  <a:lnTo>
                    <a:pt x="526" y="675"/>
                  </a:lnTo>
                  <a:lnTo>
                    <a:pt x="541" y="666"/>
                  </a:lnTo>
                  <a:lnTo>
                    <a:pt x="555" y="655"/>
                  </a:lnTo>
                  <a:lnTo>
                    <a:pt x="568" y="644"/>
                  </a:lnTo>
                  <a:lnTo>
                    <a:pt x="581" y="633"/>
                  </a:lnTo>
                  <a:lnTo>
                    <a:pt x="593" y="620"/>
                  </a:lnTo>
                  <a:lnTo>
                    <a:pt x="606" y="606"/>
                  </a:lnTo>
                  <a:lnTo>
                    <a:pt x="617" y="593"/>
                  </a:lnTo>
                  <a:lnTo>
                    <a:pt x="628" y="579"/>
                  </a:lnTo>
                  <a:lnTo>
                    <a:pt x="637" y="565"/>
                  </a:lnTo>
                  <a:lnTo>
                    <a:pt x="646" y="550"/>
                  </a:lnTo>
                  <a:lnTo>
                    <a:pt x="655" y="535"/>
                  </a:lnTo>
                  <a:lnTo>
                    <a:pt x="662" y="520"/>
                  </a:lnTo>
                  <a:lnTo>
                    <a:pt x="669" y="503"/>
                  </a:lnTo>
                  <a:lnTo>
                    <a:pt x="674" y="487"/>
                  </a:lnTo>
                  <a:lnTo>
                    <a:pt x="679" y="471"/>
                  </a:lnTo>
                  <a:lnTo>
                    <a:pt x="684" y="453"/>
                  </a:lnTo>
                  <a:lnTo>
                    <a:pt x="687" y="436"/>
                  </a:lnTo>
                  <a:lnTo>
                    <a:pt x="690" y="419"/>
                  </a:lnTo>
                  <a:lnTo>
                    <a:pt x="692" y="400"/>
                  </a:lnTo>
                  <a:lnTo>
                    <a:pt x="693" y="382"/>
                  </a:lnTo>
                  <a:lnTo>
                    <a:pt x="693" y="363"/>
                  </a:lnTo>
                  <a:lnTo>
                    <a:pt x="693" y="344"/>
                  </a:lnTo>
                  <a:lnTo>
                    <a:pt x="692" y="326"/>
                  </a:lnTo>
                  <a:lnTo>
                    <a:pt x="690" y="307"/>
                  </a:lnTo>
                  <a:lnTo>
                    <a:pt x="687" y="289"/>
                  </a:lnTo>
                  <a:lnTo>
                    <a:pt x="684" y="272"/>
                  </a:lnTo>
                  <a:lnTo>
                    <a:pt x="679" y="255"/>
                  </a:lnTo>
                  <a:lnTo>
                    <a:pt x="674" y="238"/>
                  </a:lnTo>
                  <a:lnTo>
                    <a:pt x="669" y="222"/>
                  </a:lnTo>
                  <a:lnTo>
                    <a:pt x="662" y="206"/>
                  </a:lnTo>
                  <a:lnTo>
                    <a:pt x="655" y="191"/>
                  </a:lnTo>
                  <a:lnTo>
                    <a:pt x="646" y="176"/>
                  </a:lnTo>
                  <a:lnTo>
                    <a:pt x="637" y="160"/>
                  </a:lnTo>
                  <a:lnTo>
                    <a:pt x="628" y="146"/>
                  </a:lnTo>
                  <a:lnTo>
                    <a:pt x="617" y="132"/>
                  </a:lnTo>
                  <a:lnTo>
                    <a:pt x="606" y="119"/>
                  </a:lnTo>
                  <a:lnTo>
                    <a:pt x="593" y="105"/>
                  </a:lnTo>
                  <a:lnTo>
                    <a:pt x="581" y="93"/>
                  </a:lnTo>
                  <a:lnTo>
                    <a:pt x="568" y="81"/>
                  </a:lnTo>
                  <a:lnTo>
                    <a:pt x="555" y="70"/>
                  </a:lnTo>
                  <a:lnTo>
                    <a:pt x="541" y="59"/>
                  </a:lnTo>
                  <a:lnTo>
                    <a:pt x="526" y="50"/>
                  </a:lnTo>
                  <a:lnTo>
                    <a:pt x="512" y="41"/>
                  </a:lnTo>
                  <a:lnTo>
                    <a:pt x="498" y="34"/>
                  </a:lnTo>
                  <a:lnTo>
                    <a:pt x="483" y="27"/>
                  </a:lnTo>
                  <a:lnTo>
                    <a:pt x="466" y="21"/>
                  </a:lnTo>
                  <a:lnTo>
                    <a:pt x="451" y="16"/>
                  </a:lnTo>
                  <a:lnTo>
                    <a:pt x="434" y="10"/>
                  </a:lnTo>
                  <a:lnTo>
                    <a:pt x="417" y="7"/>
                  </a:lnTo>
                  <a:lnTo>
                    <a:pt x="400" y="4"/>
                  </a:lnTo>
                  <a:lnTo>
                    <a:pt x="383" y="2"/>
                  </a:lnTo>
                  <a:lnTo>
                    <a:pt x="366" y="0"/>
                  </a:lnTo>
                  <a:lnTo>
                    <a:pt x="34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43480" y="685800"/>
              <a:ext cx="468360" cy="48888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7" y="0"/>
                  </a:moveTo>
                  <a:lnTo>
                    <a:pt x="771" y="1"/>
                  </a:lnTo>
                  <a:lnTo>
                    <a:pt x="805" y="3"/>
                  </a:lnTo>
                  <a:lnTo>
                    <a:pt x="839" y="7"/>
                  </a:lnTo>
                  <a:lnTo>
                    <a:pt x="872" y="12"/>
                  </a:lnTo>
                  <a:lnTo>
                    <a:pt x="904" y="18"/>
                  </a:lnTo>
                  <a:lnTo>
                    <a:pt x="937" y="27"/>
                  </a:lnTo>
                  <a:lnTo>
                    <a:pt x="968" y="36"/>
                  </a:lnTo>
                  <a:lnTo>
                    <a:pt x="1000" y="47"/>
                  </a:lnTo>
                  <a:lnTo>
                    <a:pt x="1030" y="59"/>
                  </a:lnTo>
                  <a:lnTo>
                    <a:pt x="1060" y="73"/>
                  </a:lnTo>
                  <a:lnTo>
                    <a:pt x="1088" y="88"/>
                  </a:lnTo>
                  <a:lnTo>
                    <a:pt x="1117" y="104"/>
                  </a:lnTo>
                  <a:lnTo>
                    <a:pt x="1143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7" y="182"/>
                  </a:lnTo>
                  <a:lnTo>
                    <a:pt x="1233" y="196"/>
                  </a:lnTo>
                  <a:lnTo>
                    <a:pt x="1248" y="211"/>
                  </a:lnTo>
                  <a:lnTo>
                    <a:pt x="1262" y="227"/>
                  </a:lnTo>
                  <a:lnTo>
                    <a:pt x="1277" y="242"/>
                  </a:lnTo>
                  <a:lnTo>
                    <a:pt x="1291" y="257"/>
                  </a:lnTo>
                  <a:lnTo>
                    <a:pt x="1303" y="274"/>
                  </a:lnTo>
                  <a:lnTo>
                    <a:pt x="1316" y="289"/>
                  </a:lnTo>
                  <a:lnTo>
                    <a:pt x="1328" y="306"/>
                  </a:lnTo>
                  <a:lnTo>
                    <a:pt x="1341" y="323"/>
                  </a:lnTo>
                  <a:lnTo>
                    <a:pt x="1352" y="340"/>
                  </a:lnTo>
                  <a:lnTo>
                    <a:pt x="1362" y="357"/>
                  </a:lnTo>
                  <a:lnTo>
                    <a:pt x="1373" y="375"/>
                  </a:lnTo>
                  <a:lnTo>
                    <a:pt x="1382" y="393"/>
                  </a:lnTo>
                  <a:lnTo>
                    <a:pt x="1393" y="411"/>
                  </a:lnTo>
                  <a:lnTo>
                    <a:pt x="1402" y="430"/>
                  </a:lnTo>
                  <a:lnTo>
                    <a:pt x="1410" y="448"/>
                  </a:lnTo>
                  <a:lnTo>
                    <a:pt x="1418" y="467"/>
                  </a:lnTo>
                  <a:lnTo>
                    <a:pt x="1425" y="487"/>
                  </a:lnTo>
                  <a:lnTo>
                    <a:pt x="1432" y="506"/>
                  </a:lnTo>
                  <a:lnTo>
                    <a:pt x="1439" y="526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5"/>
                  </a:lnTo>
                  <a:lnTo>
                    <a:pt x="1460" y="604"/>
                  </a:lnTo>
                  <a:lnTo>
                    <a:pt x="1464" y="625"/>
                  </a:lnTo>
                  <a:lnTo>
                    <a:pt x="1467" y="645"/>
                  </a:lnTo>
                  <a:lnTo>
                    <a:pt x="1470" y="665"/>
                  </a:lnTo>
                  <a:lnTo>
                    <a:pt x="1472" y="686"/>
                  </a:lnTo>
                  <a:lnTo>
                    <a:pt x="1474" y="706"/>
                  </a:lnTo>
                  <a:lnTo>
                    <a:pt x="1476" y="727"/>
                  </a:lnTo>
                  <a:lnTo>
                    <a:pt x="1476" y="748"/>
                  </a:lnTo>
                  <a:lnTo>
                    <a:pt x="1477" y="769"/>
                  </a:lnTo>
                  <a:lnTo>
                    <a:pt x="1476" y="790"/>
                  </a:lnTo>
                  <a:lnTo>
                    <a:pt x="1476" y="811"/>
                  </a:lnTo>
                  <a:lnTo>
                    <a:pt x="1474" y="832"/>
                  </a:lnTo>
                  <a:lnTo>
                    <a:pt x="1472" y="852"/>
                  </a:lnTo>
                  <a:lnTo>
                    <a:pt x="1470" y="873"/>
                  </a:lnTo>
                  <a:lnTo>
                    <a:pt x="1467" y="893"/>
                  </a:lnTo>
                  <a:lnTo>
                    <a:pt x="1464" y="913"/>
                  </a:lnTo>
                  <a:lnTo>
                    <a:pt x="1460" y="934"/>
                  </a:lnTo>
                  <a:lnTo>
                    <a:pt x="1456" y="953"/>
                  </a:lnTo>
                  <a:lnTo>
                    <a:pt x="1451" y="974"/>
                  </a:lnTo>
                  <a:lnTo>
                    <a:pt x="1444" y="993"/>
                  </a:lnTo>
                  <a:lnTo>
                    <a:pt x="1438" y="1012"/>
                  </a:lnTo>
                  <a:lnTo>
                    <a:pt x="1432" y="1033"/>
                  </a:lnTo>
                  <a:lnTo>
                    <a:pt x="1425" y="1052"/>
                  </a:lnTo>
                  <a:lnTo>
                    <a:pt x="1417" y="1072"/>
                  </a:lnTo>
                  <a:lnTo>
                    <a:pt x="1409" y="1090"/>
                  </a:lnTo>
                  <a:lnTo>
                    <a:pt x="1401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2" y="1165"/>
                  </a:lnTo>
                  <a:lnTo>
                    <a:pt x="1362" y="1182"/>
                  </a:lnTo>
                  <a:lnTo>
                    <a:pt x="1351" y="1199"/>
                  </a:lnTo>
                  <a:lnTo>
                    <a:pt x="1340" y="1217"/>
                  </a:lnTo>
                  <a:lnTo>
                    <a:pt x="1327" y="1234"/>
                  </a:lnTo>
                  <a:lnTo>
                    <a:pt x="1315" y="1250"/>
                  </a:lnTo>
                  <a:lnTo>
                    <a:pt x="1303" y="1267"/>
                  </a:lnTo>
                  <a:lnTo>
                    <a:pt x="1290" y="1283"/>
                  </a:lnTo>
                  <a:lnTo>
                    <a:pt x="1277" y="1298"/>
                  </a:lnTo>
                  <a:lnTo>
                    <a:pt x="1262" y="1314"/>
                  </a:lnTo>
                  <a:lnTo>
                    <a:pt x="1248" y="1329"/>
                  </a:lnTo>
                  <a:lnTo>
                    <a:pt x="1233" y="1343"/>
                  </a:lnTo>
                  <a:lnTo>
                    <a:pt x="1217" y="1357"/>
                  </a:lnTo>
                  <a:lnTo>
                    <a:pt x="1193" y="1379"/>
                  </a:lnTo>
                  <a:lnTo>
                    <a:pt x="1168" y="1399"/>
                  </a:lnTo>
                  <a:lnTo>
                    <a:pt x="1142" y="1418"/>
                  </a:lnTo>
                  <a:lnTo>
                    <a:pt x="1115" y="1436"/>
                  </a:lnTo>
                  <a:lnTo>
                    <a:pt x="1087" y="1451"/>
                  </a:lnTo>
                  <a:lnTo>
                    <a:pt x="1059" y="1467"/>
                  </a:lnTo>
                  <a:lnTo>
                    <a:pt x="1028" y="1480"/>
                  </a:lnTo>
                  <a:lnTo>
                    <a:pt x="998" y="1492"/>
                  </a:lnTo>
                  <a:lnTo>
                    <a:pt x="967" y="1503"/>
                  </a:lnTo>
                  <a:lnTo>
                    <a:pt x="936" y="1514"/>
                  </a:lnTo>
                  <a:lnTo>
                    <a:pt x="903" y="1521"/>
                  </a:lnTo>
                  <a:lnTo>
                    <a:pt x="871" y="1528"/>
                  </a:lnTo>
                  <a:lnTo>
                    <a:pt x="838" y="1533"/>
                  </a:lnTo>
                  <a:lnTo>
                    <a:pt x="804" y="1537"/>
                  </a:lnTo>
                  <a:lnTo>
                    <a:pt x="771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69" y="1537"/>
                  </a:lnTo>
                  <a:lnTo>
                    <a:pt x="635" y="1533"/>
                  </a:lnTo>
                  <a:lnTo>
                    <a:pt x="603" y="1528"/>
                  </a:lnTo>
                  <a:lnTo>
                    <a:pt x="570" y="1521"/>
                  </a:lnTo>
                  <a:lnTo>
                    <a:pt x="539" y="1514"/>
                  </a:lnTo>
                  <a:lnTo>
                    <a:pt x="507" y="1503"/>
                  </a:lnTo>
                  <a:lnTo>
                    <a:pt x="477" y="1492"/>
                  </a:lnTo>
                  <a:lnTo>
                    <a:pt x="446" y="1480"/>
                  </a:lnTo>
                  <a:lnTo>
                    <a:pt x="417" y="1467"/>
                  </a:lnTo>
                  <a:lnTo>
                    <a:pt x="388" y="1451"/>
                  </a:lnTo>
                  <a:lnTo>
                    <a:pt x="360" y="1436"/>
                  </a:lnTo>
                  <a:lnTo>
                    <a:pt x="333" y="1418"/>
                  </a:lnTo>
                  <a:lnTo>
                    <a:pt x="307" y="1399"/>
                  </a:lnTo>
                  <a:lnTo>
                    <a:pt x="281" y="1379"/>
                  </a:lnTo>
                  <a:lnTo>
                    <a:pt x="257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4"/>
                  </a:lnTo>
                  <a:lnTo>
                    <a:pt x="199" y="1298"/>
                  </a:lnTo>
                  <a:lnTo>
                    <a:pt x="186" y="1283"/>
                  </a:lnTo>
                  <a:lnTo>
                    <a:pt x="172" y="1267"/>
                  </a:lnTo>
                  <a:lnTo>
                    <a:pt x="160" y="1251"/>
                  </a:lnTo>
                  <a:lnTo>
                    <a:pt x="148" y="1234"/>
                  </a:lnTo>
                  <a:lnTo>
                    <a:pt x="136" y="1218"/>
                  </a:lnTo>
                  <a:lnTo>
                    <a:pt x="125" y="1200"/>
                  </a:lnTo>
                  <a:lnTo>
                    <a:pt x="113" y="1183"/>
                  </a:lnTo>
                  <a:lnTo>
                    <a:pt x="103" y="1166"/>
                  </a:lnTo>
                  <a:lnTo>
                    <a:pt x="94" y="1147"/>
                  </a:lnTo>
                  <a:lnTo>
                    <a:pt x="84" y="1129"/>
                  </a:lnTo>
                  <a:lnTo>
                    <a:pt x="75" y="1110"/>
                  </a:lnTo>
                  <a:lnTo>
                    <a:pt x="67" y="1091"/>
                  </a:lnTo>
                  <a:lnTo>
                    <a:pt x="58" y="1073"/>
                  </a:lnTo>
                  <a:lnTo>
                    <a:pt x="51" y="1053"/>
                  </a:lnTo>
                  <a:lnTo>
                    <a:pt x="44" y="1034"/>
                  </a:lnTo>
                  <a:lnTo>
                    <a:pt x="37" y="1013"/>
                  </a:lnTo>
                  <a:lnTo>
                    <a:pt x="31" y="994"/>
                  </a:lnTo>
                  <a:lnTo>
                    <a:pt x="26" y="975"/>
                  </a:lnTo>
                  <a:lnTo>
                    <a:pt x="21" y="954"/>
                  </a:lnTo>
                  <a:lnTo>
                    <a:pt x="17" y="935"/>
                  </a:lnTo>
                  <a:lnTo>
                    <a:pt x="13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5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0" y="790"/>
                  </a:lnTo>
                  <a:lnTo>
                    <a:pt x="0" y="769"/>
                  </a:lnTo>
                  <a:lnTo>
                    <a:pt x="0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5" y="685"/>
                  </a:lnTo>
                  <a:lnTo>
                    <a:pt x="7" y="664"/>
                  </a:lnTo>
                  <a:lnTo>
                    <a:pt x="10" y="644"/>
                  </a:lnTo>
                  <a:lnTo>
                    <a:pt x="13" y="624"/>
                  </a:lnTo>
                  <a:lnTo>
                    <a:pt x="17" y="603"/>
                  </a:lnTo>
                  <a:lnTo>
                    <a:pt x="21" y="584"/>
                  </a:lnTo>
                  <a:lnTo>
                    <a:pt x="26" y="563"/>
                  </a:lnTo>
                  <a:lnTo>
                    <a:pt x="31" y="544"/>
                  </a:lnTo>
                  <a:lnTo>
                    <a:pt x="37" y="525"/>
                  </a:lnTo>
                  <a:lnTo>
                    <a:pt x="44" y="505"/>
                  </a:lnTo>
                  <a:lnTo>
                    <a:pt x="50" y="486"/>
                  </a:lnTo>
                  <a:lnTo>
                    <a:pt x="58" y="466"/>
                  </a:lnTo>
                  <a:lnTo>
                    <a:pt x="67" y="447"/>
                  </a:lnTo>
                  <a:lnTo>
                    <a:pt x="75" y="429"/>
                  </a:lnTo>
                  <a:lnTo>
                    <a:pt x="84" y="410"/>
                  </a:lnTo>
                  <a:lnTo>
                    <a:pt x="93" y="392"/>
                  </a:lnTo>
                  <a:lnTo>
                    <a:pt x="103" y="374"/>
                  </a:lnTo>
                  <a:lnTo>
                    <a:pt x="113" y="356"/>
                  </a:lnTo>
                  <a:lnTo>
                    <a:pt x="125" y="339"/>
                  </a:lnTo>
                  <a:lnTo>
                    <a:pt x="136" y="321"/>
                  </a:lnTo>
                  <a:lnTo>
                    <a:pt x="147" y="305"/>
                  </a:lnTo>
                  <a:lnTo>
                    <a:pt x="159" y="289"/>
                  </a:lnTo>
                  <a:lnTo>
                    <a:pt x="171" y="273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2" y="226"/>
                  </a:lnTo>
                  <a:lnTo>
                    <a:pt x="226" y="211"/>
                  </a:lnTo>
                  <a:lnTo>
                    <a:pt x="242" y="196"/>
                  </a:lnTo>
                  <a:lnTo>
                    <a:pt x="257" y="182"/>
                  </a:lnTo>
                  <a:lnTo>
                    <a:pt x="281" y="160"/>
                  </a:lnTo>
                  <a:lnTo>
                    <a:pt x="307" y="140"/>
                  </a:lnTo>
                  <a:lnTo>
                    <a:pt x="333" y="121"/>
                  </a:lnTo>
                  <a:lnTo>
                    <a:pt x="360" y="103"/>
                  </a:lnTo>
                  <a:lnTo>
                    <a:pt x="388" y="87"/>
                  </a:lnTo>
                  <a:lnTo>
                    <a:pt x="417" y="72"/>
                  </a:lnTo>
                  <a:lnTo>
                    <a:pt x="446" y="59"/>
                  </a:lnTo>
                  <a:lnTo>
                    <a:pt x="477" y="46"/>
                  </a:lnTo>
                  <a:lnTo>
                    <a:pt x="507" y="36"/>
                  </a:lnTo>
                  <a:lnTo>
                    <a:pt x="539" y="27"/>
                  </a:lnTo>
                  <a:lnTo>
                    <a:pt x="570" y="18"/>
                  </a:lnTo>
                  <a:lnTo>
                    <a:pt x="603" y="11"/>
                  </a:lnTo>
                  <a:lnTo>
                    <a:pt x="635" y="6"/>
                  </a:lnTo>
                  <a:lnTo>
                    <a:pt x="669" y="3"/>
                  </a:lnTo>
                  <a:lnTo>
                    <a:pt x="703" y="1"/>
                  </a:lnTo>
                  <a:lnTo>
                    <a:pt x="73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9080" y="69840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1">
                  <a:moveTo>
                    <a:pt x="0" y="1461"/>
                  </a:moveTo>
                  <a:lnTo>
                    <a:pt x="0" y="0"/>
                  </a:lnTo>
                  <a:lnTo>
                    <a:pt x="799" y="0"/>
                  </a:lnTo>
                  <a:lnTo>
                    <a:pt x="858" y="389"/>
                  </a:lnTo>
                  <a:lnTo>
                    <a:pt x="378" y="389"/>
                  </a:lnTo>
                  <a:lnTo>
                    <a:pt x="378" y="537"/>
                  </a:lnTo>
                  <a:lnTo>
                    <a:pt x="679" y="537"/>
                  </a:lnTo>
                  <a:lnTo>
                    <a:pt x="679" y="923"/>
                  </a:lnTo>
                  <a:lnTo>
                    <a:pt x="378" y="923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7560" y="1324080"/>
              <a:ext cx="339840" cy="463320"/>
            </a:xfrm>
            <a:custGeom>
              <a:avLst/>
              <a:gdLst/>
              <a:ahLst/>
              <a:rect l="l" t="t" r="r" b="b"/>
              <a:pathLst>
                <a:path w="1071" h="1461">
                  <a:moveTo>
                    <a:pt x="0" y="1461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6" y="511"/>
                  </a:lnTo>
                  <a:lnTo>
                    <a:pt x="694" y="511"/>
                  </a:lnTo>
                  <a:lnTo>
                    <a:pt x="694" y="0"/>
                  </a:lnTo>
                  <a:lnTo>
                    <a:pt x="1071" y="0"/>
                  </a:lnTo>
                  <a:lnTo>
                    <a:pt x="1071" y="1461"/>
                  </a:lnTo>
                  <a:lnTo>
                    <a:pt x="694" y="1461"/>
                  </a:lnTo>
                  <a:lnTo>
                    <a:pt x="694" y="894"/>
                  </a:lnTo>
                  <a:lnTo>
                    <a:pt x="376" y="894"/>
                  </a:lnTo>
                  <a:lnTo>
                    <a:pt x="376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11640" y="1324080"/>
              <a:ext cx="118800" cy="463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70400" y="1324080"/>
              <a:ext cx="392040" cy="463320"/>
            </a:xfrm>
            <a:custGeom>
              <a:avLst/>
              <a:gdLst/>
              <a:ahLst/>
              <a:rect l="l" t="t" r="r" b="b"/>
              <a:pathLst>
                <a:path w="1233" h="1461">
                  <a:moveTo>
                    <a:pt x="403" y="1461"/>
                  </a:moveTo>
                  <a:lnTo>
                    <a:pt x="0" y="0"/>
                  </a:lnTo>
                  <a:lnTo>
                    <a:pt x="400" y="0"/>
                  </a:lnTo>
                  <a:lnTo>
                    <a:pt x="642" y="1003"/>
                  </a:lnTo>
                  <a:lnTo>
                    <a:pt x="856" y="0"/>
                  </a:lnTo>
                  <a:lnTo>
                    <a:pt x="1233" y="0"/>
                  </a:lnTo>
                  <a:lnTo>
                    <a:pt x="863" y="1461"/>
                  </a:lnTo>
                  <a:lnTo>
                    <a:pt x="403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8400" y="1434960"/>
              <a:ext cx="76320" cy="112680"/>
            </a:xfrm>
            <a:custGeom>
              <a:avLst/>
              <a:gdLst/>
              <a:ahLst/>
              <a:rect l="l" t="t" r="r" b="b"/>
              <a:pathLst>
                <a:path w="240" h="354">
                  <a:moveTo>
                    <a:pt x="0" y="354"/>
                  </a:moveTo>
                  <a:lnTo>
                    <a:pt x="44" y="354"/>
                  </a:lnTo>
                  <a:lnTo>
                    <a:pt x="67" y="353"/>
                  </a:lnTo>
                  <a:lnTo>
                    <a:pt x="88" y="351"/>
                  </a:lnTo>
                  <a:lnTo>
                    <a:pt x="109" y="348"/>
                  </a:lnTo>
                  <a:lnTo>
                    <a:pt x="127" y="343"/>
                  </a:lnTo>
                  <a:lnTo>
                    <a:pt x="144" y="335"/>
                  </a:lnTo>
                  <a:lnTo>
                    <a:pt x="160" y="328"/>
                  </a:lnTo>
                  <a:lnTo>
                    <a:pt x="175" y="318"/>
                  </a:lnTo>
                  <a:lnTo>
                    <a:pt x="189" y="308"/>
                  </a:lnTo>
                  <a:lnTo>
                    <a:pt x="200" y="296"/>
                  </a:lnTo>
                  <a:lnTo>
                    <a:pt x="211" y="282"/>
                  </a:lnTo>
                  <a:lnTo>
                    <a:pt x="219" y="268"/>
                  </a:lnTo>
                  <a:lnTo>
                    <a:pt x="227" y="253"/>
                  </a:lnTo>
                  <a:lnTo>
                    <a:pt x="233" y="236"/>
                  </a:lnTo>
                  <a:lnTo>
                    <a:pt x="237" y="218"/>
                  </a:lnTo>
                  <a:lnTo>
                    <a:pt x="239" y="200"/>
                  </a:lnTo>
                  <a:lnTo>
                    <a:pt x="240" y="180"/>
                  </a:lnTo>
                  <a:lnTo>
                    <a:pt x="239" y="159"/>
                  </a:lnTo>
                  <a:lnTo>
                    <a:pt x="237" y="138"/>
                  </a:lnTo>
                  <a:lnTo>
                    <a:pt x="233" y="120"/>
                  </a:lnTo>
                  <a:lnTo>
                    <a:pt x="227" y="103"/>
                  </a:lnTo>
                  <a:lnTo>
                    <a:pt x="219" y="86"/>
                  </a:lnTo>
                  <a:lnTo>
                    <a:pt x="211" y="72"/>
                  </a:lnTo>
                  <a:lnTo>
                    <a:pt x="201" y="59"/>
                  </a:lnTo>
                  <a:lnTo>
                    <a:pt x="189" y="47"/>
                  </a:lnTo>
                  <a:lnTo>
                    <a:pt x="176" y="35"/>
                  </a:lnTo>
                  <a:lnTo>
                    <a:pt x="160" y="26"/>
                  </a:lnTo>
                  <a:lnTo>
                    <a:pt x="144" y="18"/>
                  </a:lnTo>
                  <a:lnTo>
                    <a:pt x="127" y="12"/>
                  </a:lnTo>
                  <a:lnTo>
                    <a:pt x="108" y="7"/>
                  </a:lnTo>
                  <a:lnTo>
                    <a:pt x="87" y="3"/>
                  </a:lnTo>
                  <a:lnTo>
                    <a:pt x="66" y="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87800" y="1324080"/>
              <a:ext cx="316080" cy="463320"/>
            </a:xfrm>
            <a:custGeom>
              <a:avLst/>
              <a:gdLst/>
              <a:ahLst/>
              <a:rect l="l" t="t" r="r" b="b"/>
              <a:pathLst>
                <a:path w="995" h="1461">
                  <a:moveTo>
                    <a:pt x="0" y="1461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417" y="0"/>
                  </a:lnTo>
                  <a:lnTo>
                    <a:pt x="455" y="2"/>
                  </a:lnTo>
                  <a:lnTo>
                    <a:pt x="491" y="4"/>
                  </a:lnTo>
                  <a:lnTo>
                    <a:pt x="525" y="8"/>
                  </a:lnTo>
                  <a:lnTo>
                    <a:pt x="559" y="12"/>
                  </a:lnTo>
                  <a:lnTo>
                    <a:pt x="590" y="18"/>
                  </a:lnTo>
                  <a:lnTo>
                    <a:pt x="622" y="24"/>
                  </a:lnTo>
                  <a:lnTo>
                    <a:pt x="651" y="32"/>
                  </a:lnTo>
                  <a:lnTo>
                    <a:pt x="680" y="40"/>
                  </a:lnTo>
                  <a:lnTo>
                    <a:pt x="706" y="50"/>
                  </a:lnTo>
                  <a:lnTo>
                    <a:pt x="733" y="61"/>
                  </a:lnTo>
                  <a:lnTo>
                    <a:pt x="757" y="72"/>
                  </a:lnTo>
                  <a:lnTo>
                    <a:pt x="781" y="85"/>
                  </a:lnTo>
                  <a:lnTo>
                    <a:pt x="802" y="99"/>
                  </a:lnTo>
                  <a:lnTo>
                    <a:pt x="823" y="113"/>
                  </a:lnTo>
                  <a:lnTo>
                    <a:pt x="843" y="128"/>
                  </a:lnTo>
                  <a:lnTo>
                    <a:pt x="861" y="146"/>
                  </a:lnTo>
                  <a:lnTo>
                    <a:pt x="878" y="163"/>
                  </a:lnTo>
                  <a:lnTo>
                    <a:pt x="895" y="182"/>
                  </a:lnTo>
                  <a:lnTo>
                    <a:pt x="910" y="202"/>
                  </a:lnTo>
                  <a:lnTo>
                    <a:pt x="923" y="223"/>
                  </a:lnTo>
                  <a:lnTo>
                    <a:pt x="935" y="246"/>
                  </a:lnTo>
                  <a:lnTo>
                    <a:pt x="947" y="268"/>
                  </a:lnTo>
                  <a:lnTo>
                    <a:pt x="957" y="293"/>
                  </a:lnTo>
                  <a:lnTo>
                    <a:pt x="966" y="318"/>
                  </a:lnTo>
                  <a:lnTo>
                    <a:pt x="974" y="345"/>
                  </a:lnTo>
                  <a:lnTo>
                    <a:pt x="980" y="372"/>
                  </a:lnTo>
                  <a:lnTo>
                    <a:pt x="985" y="400"/>
                  </a:lnTo>
                  <a:lnTo>
                    <a:pt x="989" y="429"/>
                  </a:lnTo>
                  <a:lnTo>
                    <a:pt x="992" y="460"/>
                  </a:lnTo>
                  <a:lnTo>
                    <a:pt x="994" y="492"/>
                  </a:lnTo>
                  <a:lnTo>
                    <a:pt x="995" y="525"/>
                  </a:lnTo>
                  <a:lnTo>
                    <a:pt x="994" y="557"/>
                  </a:lnTo>
                  <a:lnTo>
                    <a:pt x="992" y="588"/>
                  </a:lnTo>
                  <a:lnTo>
                    <a:pt x="989" y="617"/>
                  </a:lnTo>
                  <a:lnTo>
                    <a:pt x="986" y="647"/>
                  </a:lnTo>
                  <a:lnTo>
                    <a:pt x="980" y="674"/>
                  </a:lnTo>
                  <a:lnTo>
                    <a:pt x="974" y="702"/>
                  </a:lnTo>
                  <a:lnTo>
                    <a:pt x="967" y="728"/>
                  </a:lnTo>
                  <a:lnTo>
                    <a:pt x="958" y="754"/>
                  </a:lnTo>
                  <a:lnTo>
                    <a:pt x="949" y="778"/>
                  </a:lnTo>
                  <a:lnTo>
                    <a:pt x="937" y="802"/>
                  </a:lnTo>
                  <a:lnTo>
                    <a:pt x="925" y="825"/>
                  </a:lnTo>
                  <a:lnTo>
                    <a:pt x="912" y="847"/>
                  </a:lnTo>
                  <a:lnTo>
                    <a:pt x="898" y="868"/>
                  </a:lnTo>
                  <a:lnTo>
                    <a:pt x="882" y="889"/>
                  </a:lnTo>
                  <a:lnTo>
                    <a:pt x="865" y="908"/>
                  </a:lnTo>
                  <a:lnTo>
                    <a:pt x="848" y="926"/>
                  </a:lnTo>
                  <a:lnTo>
                    <a:pt x="828" y="944"/>
                  </a:lnTo>
                  <a:lnTo>
                    <a:pt x="809" y="960"/>
                  </a:lnTo>
                  <a:lnTo>
                    <a:pt x="788" y="974"/>
                  </a:lnTo>
                  <a:lnTo>
                    <a:pt x="766" y="989"/>
                  </a:lnTo>
                  <a:lnTo>
                    <a:pt x="744" y="1002"/>
                  </a:lnTo>
                  <a:lnTo>
                    <a:pt x="721" y="1013"/>
                  </a:lnTo>
                  <a:lnTo>
                    <a:pt x="696" y="1024"/>
                  </a:lnTo>
                  <a:lnTo>
                    <a:pt x="671" y="1034"/>
                  </a:lnTo>
                  <a:lnTo>
                    <a:pt x="644" y="1042"/>
                  </a:lnTo>
                  <a:lnTo>
                    <a:pt x="617" y="1049"/>
                  </a:lnTo>
                  <a:lnTo>
                    <a:pt x="589" y="1055"/>
                  </a:lnTo>
                  <a:lnTo>
                    <a:pt x="560" y="1060"/>
                  </a:lnTo>
                  <a:lnTo>
                    <a:pt x="529" y="1064"/>
                  </a:lnTo>
                  <a:lnTo>
                    <a:pt x="499" y="1067"/>
                  </a:lnTo>
                  <a:lnTo>
                    <a:pt x="467" y="1068"/>
                  </a:lnTo>
                  <a:lnTo>
                    <a:pt x="435" y="1069"/>
                  </a:lnTo>
                  <a:lnTo>
                    <a:pt x="378" y="1069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8680" y="1324080"/>
              <a:ext cx="289080" cy="463320"/>
            </a:xfrm>
            <a:custGeom>
              <a:avLst/>
              <a:gdLst/>
              <a:ahLst/>
              <a:rect l="l" t="t" r="r" b="b"/>
              <a:pathLst>
                <a:path w="912" h="1461">
                  <a:moveTo>
                    <a:pt x="912" y="1059"/>
                  </a:moveTo>
                  <a:lnTo>
                    <a:pt x="810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6" y="0"/>
                  </a:lnTo>
                  <a:lnTo>
                    <a:pt x="868" y="388"/>
                  </a:lnTo>
                  <a:lnTo>
                    <a:pt x="377" y="388"/>
                  </a:lnTo>
                  <a:lnTo>
                    <a:pt x="377" y="536"/>
                  </a:lnTo>
                  <a:lnTo>
                    <a:pt x="706" y="536"/>
                  </a:lnTo>
                  <a:lnTo>
                    <a:pt x="706" y="923"/>
                  </a:lnTo>
                  <a:lnTo>
                    <a:pt x="377" y="923"/>
                  </a:lnTo>
                  <a:lnTo>
                    <a:pt x="377" y="1059"/>
                  </a:lnTo>
                  <a:lnTo>
                    <a:pt x="912" y="10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27680" y="1425600"/>
              <a:ext cx="77760" cy="117360"/>
            </a:xfrm>
            <a:custGeom>
              <a:avLst/>
              <a:gdLst/>
              <a:ahLst/>
              <a:rect l="l" t="t" r="r" b="b"/>
              <a:pathLst>
                <a:path w="245" h="367">
                  <a:moveTo>
                    <a:pt x="0" y="367"/>
                  </a:moveTo>
                  <a:lnTo>
                    <a:pt x="36" y="367"/>
                  </a:lnTo>
                  <a:lnTo>
                    <a:pt x="61" y="365"/>
                  </a:lnTo>
                  <a:lnTo>
                    <a:pt x="84" y="363"/>
                  </a:lnTo>
                  <a:lnTo>
                    <a:pt x="106" y="359"/>
                  </a:lnTo>
                  <a:lnTo>
                    <a:pt x="126" y="355"/>
                  </a:lnTo>
                  <a:lnTo>
                    <a:pt x="144" y="348"/>
                  </a:lnTo>
                  <a:lnTo>
                    <a:pt x="162" y="340"/>
                  </a:lnTo>
                  <a:lnTo>
                    <a:pt x="170" y="336"/>
                  </a:lnTo>
                  <a:lnTo>
                    <a:pt x="177" y="331"/>
                  </a:lnTo>
                  <a:lnTo>
                    <a:pt x="184" y="326"/>
                  </a:lnTo>
                  <a:lnTo>
                    <a:pt x="191" y="320"/>
                  </a:lnTo>
                  <a:lnTo>
                    <a:pt x="197" y="314"/>
                  </a:lnTo>
                  <a:lnTo>
                    <a:pt x="203" y="307"/>
                  </a:lnTo>
                  <a:lnTo>
                    <a:pt x="209" y="301"/>
                  </a:lnTo>
                  <a:lnTo>
                    <a:pt x="215" y="294"/>
                  </a:lnTo>
                  <a:lnTo>
                    <a:pt x="220" y="287"/>
                  </a:lnTo>
                  <a:lnTo>
                    <a:pt x="224" y="279"/>
                  </a:lnTo>
                  <a:lnTo>
                    <a:pt x="228" y="272"/>
                  </a:lnTo>
                  <a:lnTo>
                    <a:pt x="232" y="263"/>
                  </a:lnTo>
                  <a:lnTo>
                    <a:pt x="237" y="245"/>
                  </a:lnTo>
                  <a:lnTo>
                    <a:pt x="241" y="227"/>
                  </a:lnTo>
                  <a:lnTo>
                    <a:pt x="244" y="206"/>
                  </a:lnTo>
                  <a:lnTo>
                    <a:pt x="245" y="185"/>
                  </a:lnTo>
                  <a:lnTo>
                    <a:pt x="244" y="162"/>
                  </a:lnTo>
                  <a:lnTo>
                    <a:pt x="241" y="142"/>
                  </a:lnTo>
                  <a:lnTo>
                    <a:pt x="237" y="124"/>
                  </a:lnTo>
                  <a:lnTo>
                    <a:pt x="232" y="105"/>
                  </a:lnTo>
                  <a:lnTo>
                    <a:pt x="225" y="89"/>
                  </a:lnTo>
                  <a:lnTo>
                    <a:pt x="216" y="74"/>
                  </a:lnTo>
                  <a:lnTo>
                    <a:pt x="205" y="60"/>
                  </a:lnTo>
                  <a:lnTo>
                    <a:pt x="193" y="47"/>
                  </a:lnTo>
                  <a:lnTo>
                    <a:pt x="180" y="36"/>
                  </a:lnTo>
                  <a:lnTo>
                    <a:pt x="165" y="27"/>
                  </a:lnTo>
                  <a:lnTo>
                    <a:pt x="148" y="18"/>
                  </a:lnTo>
                  <a:lnTo>
                    <a:pt x="131" y="11"/>
                  </a:lnTo>
                  <a:lnTo>
                    <a:pt x="112" y="6"/>
                  </a:lnTo>
                  <a:lnTo>
                    <a:pt x="91" y="3"/>
                  </a:lnTo>
                  <a:lnTo>
                    <a:pt x="70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3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7080" y="1324080"/>
              <a:ext cx="347400" cy="463320"/>
            </a:xfrm>
            <a:custGeom>
              <a:avLst/>
              <a:gdLst/>
              <a:ahLst/>
              <a:rect l="l" t="t" r="r" b="b"/>
              <a:pathLst>
                <a:path w="1093" h="1461">
                  <a:moveTo>
                    <a:pt x="0" y="1461"/>
                  </a:moveTo>
                  <a:lnTo>
                    <a:pt x="0" y="0"/>
                  </a:lnTo>
                  <a:lnTo>
                    <a:pt x="412" y="0"/>
                  </a:lnTo>
                  <a:lnTo>
                    <a:pt x="448" y="0"/>
                  </a:lnTo>
                  <a:lnTo>
                    <a:pt x="483" y="2"/>
                  </a:lnTo>
                  <a:lnTo>
                    <a:pt x="515" y="4"/>
                  </a:lnTo>
                  <a:lnTo>
                    <a:pt x="548" y="7"/>
                  </a:lnTo>
                  <a:lnTo>
                    <a:pt x="579" y="11"/>
                  </a:lnTo>
                  <a:lnTo>
                    <a:pt x="609" y="16"/>
                  </a:lnTo>
                  <a:lnTo>
                    <a:pt x="638" y="22"/>
                  </a:lnTo>
                  <a:lnTo>
                    <a:pt x="666" y="29"/>
                  </a:lnTo>
                  <a:lnTo>
                    <a:pt x="693" y="37"/>
                  </a:lnTo>
                  <a:lnTo>
                    <a:pt x="719" y="46"/>
                  </a:lnTo>
                  <a:lnTo>
                    <a:pt x="744" y="56"/>
                  </a:lnTo>
                  <a:lnTo>
                    <a:pt x="768" y="66"/>
                  </a:lnTo>
                  <a:lnTo>
                    <a:pt x="790" y="78"/>
                  </a:lnTo>
                  <a:lnTo>
                    <a:pt x="812" y="90"/>
                  </a:lnTo>
                  <a:lnTo>
                    <a:pt x="833" y="104"/>
                  </a:lnTo>
                  <a:lnTo>
                    <a:pt x="852" y="118"/>
                  </a:lnTo>
                  <a:lnTo>
                    <a:pt x="870" y="133"/>
                  </a:lnTo>
                  <a:lnTo>
                    <a:pt x="888" y="150"/>
                  </a:lnTo>
                  <a:lnTo>
                    <a:pt x="904" y="166"/>
                  </a:lnTo>
                  <a:lnTo>
                    <a:pt x="918" y="183"/>
                  </a:lnTo>
                  <a:lnTo>
                    <a:pt x="932" y="203"/>
                  </a:lnTo>
                  <a:lnTo>
                    <a:pt x="945" y="222"/>
                  </a:lnTo>
                  <a:lnTo>
                    <a:pt x="956" y="243"/>
                  </a:lnTo>
                  <a:lnTo>
                    <a:pt x="966" y="263"/>
                  </a:lnTo>
                  <a:lnTo>
                    <a:pt x="975" y="285"/>
                  </a:lnTo>
                  <a:lnTo>
                    <a:pt x="982" y="308"/>
                  </a:lnTo>
                  <a:lnTo>
                    <a:pt x="989" y="331"/>
                  </a:lnTo>
                  <a:lnTo>
                    <a:pt x="994" y="356"/>
                  </a:lnTo>
                  <a:lnTo>
                    <a:pt x="999" y="381"/>
                  </a:lnTo>
                  <a:lnTo>
                    <a:pt x="1002" y="407"/>
                  </a:lnTo>
                  <a:lnTo>
                    <a:pt x="1004" y="434"/>
                  </a:lnTo>
                  <a:lnTo>
                    <a:pt x="1004" y="462"/>
                  </a:lnTo>
                  <a:lnTo>
                    <a:pt x="1003" y="494"/>
                  </a:lnTo>
                  <a:lnTo>
                    <a:pt x="1000" y="524"/>
                  </a:lnTo>
                  <a:lnTo>
                    <a:pt x="995" y="554"/>
                  </a:lnTo>
                  <a:lnTo>
                    <a:pt x="988" y="583"/>
                  </a:lnTo>
                  <a:lnTo>
                    <a:pt x="984" y="597"/>
                  </a:lnTo>
                  <a:lnTo>
                    <a:pt x="979" y="611"/>
                  </a:lnTo>
                  <a:lnTo>
                    <a:pt x="974" y="624"/>
                  </a:lnTo>
                  <a:lnTo>
                    <a:pt x="969" y="638"/>
                  </a:lnTo>
                  <a:lnTo>
                    <a:pt x="963" y="650"/>
                  </a:lnTo>
                  <a:lnTo>
                    <a:pt x="957" y="663"/>
                  </a:lnTo>
                  <a:lnTo>
                    <a:pt x="950" y="675"/>
                  </a:lnTo>
                  <a:lnTo>
                    <a:pt x="942" y="687"/>
                  </a:lnTo>
                  <a:lnTo>
                    <a:pt x="934" y="699"/>
                  </a:lnTo>
                  <a:lnTo>
                    <a:pt x="926" y="710"/>
                  </a:lnTo>
                  <a:lnTo>
                    <a:pt x="917" y="721"/>
                  </a:lnTo>
                  <a:lnTo>
                    <a:pt x="908" y="731"/>
                  </a:lnTo>
                  <a:lnTo>
                    <a:pt x="899" y="741"/>
                  </a:lnTo>
                  <a:lnTo>
                    <a:pt x="890" y="751"/>
                  </a:lnTo>
                  <a:lnTo>
                    <a:pt x="879" y="759"/>
                  </a:lnTo>
                  <a:lnTo>
                    <a:pt x="869" y="768"/>
                  </a:lnTo>
                  <a:lnTo>
                    <a:pt x="858" y="776"/>
                  </a:lnTo>
                  <a:lnTo>
                    <a:pt x="847" y="783"/>
                  </a:lnTo>
                  <a:lnTo>
                    <a:pt x="836" y="791"/>
                  </a:lnTo>
                  <a:lnTo>
                    <a:pt x="824" y="797"/>
                  </a:lnTo>
                  <a:lnTo>
                    <a:pt x="811" y="804"/>
                  </a:lnTo>
                  <a:lnTo>
                    <a:pt x="799" y="809"/>
                  </a:lnTo>
                  <a:lnTo>
                    <a:pt x="786" y="814"/>
                  </a:lnTo>
                  <a:lnTo>
                    <a:pt x="773" y="819"/>
                  </a:lnTo>
                  <a:lnTo>
                    <a:pt x="1093" y="1461"/>
                  </a:lnTo>
                  <a:lnTo>
                    <a:pt x="679" y="1461"/>
                  </a:lnTo>
                  <a:lnTo>
                    <a:pt x="378" y="836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73560" y="1317600"/>
              <a:ext cx="246240" cy="4777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8"/>
                  </a:lnTo>
                  <a:lnTo>
                    <a:pt x="59" y="1101"/>
                  </a:lnTo>
                  <a:lnTo>
                    <a:pt x="69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7" y="1119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5" y="1122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2"/>
                  </a:lnTo>
                  <a:lnTo>
                    <a:pt x="203" y="1121"/>
                  </a:lnTo>
                  <a:lnTo>
                    <a:pt x="217" y="1118"/>
                  </a:lnTo>
                  <a:lnTo>
                    <a:pt x="230" y="1115"/>
                  </a:lnTo>
                  <a:lnTo>
                    <a:pt x="242" y="1110"/>
                  </a:lnTo>
                  <a:lnTo>
                    <a:pt x="255" y="1104"/>
                  </a:lnTo>
                  <a:lnTo>
                    <a:pt x="266" y="1097"/>
                  </a:lnTo>
                  <a:lnTo>
                    <a:pt x="276" y="1089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299" y="1063"/>
                  </a:lnTo>
                  <a:lnTo>
                    <a:pt x="306" y="1052"/>
                  </a:lnTo>
                  <a:lnTo>
                    <a:pt x="310" y="1042"/>
                  </a:lnTo>
                  <a:lnTo>
                    <a:pt x="313" y="1031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5" y="999"/>
                  </a:lnTo>
                  <a:lnTo>
                    <a:pt x="314" y="991"/>
                  </a:lnTo>
                  <a:lnTo>
                    <a:pt x="312" y="982"/>
                  </a:lnTo>
                  <a:lnTo>
                    <a:pt x="309" y="973"/>
                  </a:lnTo>
                  <a:lnTo>
                    <a:pt x="305" y="964"/>
                  </a:lnTo>
                  <a:lnTo>
                    <a:pt x="300" y="954"/>
                  </a:lnTo>
                  <a:lnTo>
                    <a:pt x="294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7"/>
                  </a:lnTo>
                  <a:lnTo>
                    <a:pt x="181" y="820"/>
                  </a:lnTo>
                  <a:lnTo>
                    <a:pt x="174" y="813"/>
                  </a:lnTo>
                  <a:lnTo>
                    <a:pt x="167" y="806"/>
                  </a:lnTo>
                  <a:lnTo>
                    <a:pt x="161" y="800"/>
                  </a:lnTo>
                  <a:lnTo>
                    <a:pt x="156" y="794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8" y="730"/>
                  </a:lnTo>
                  <a:lnTo>
                    <a:pt x="84" y="711"/>
                  </a:lnTo>
                  <a:lnTo>
                    <a:pt x="69" y="690"/>
                  </a:lnTo>
                  <a:lnTo>
                    <a:pt x="57" y="670"/>
                  </a:lnTo>
                  <a:lnTo>
                    <a:pt x="46" y="649"/>
                  </a:lnTo>
                  <a:lnTo>
                    <a:pt x="37" y="629"/>
                  </a:lnTo>
                  <a:lnTo>
                    <a:pt x="28" y="607"/>
                  </a:lnTo>
                  <a:lnTo>
                    <a:pt x="21" y="586"/>
                  </a:lnTo>
                  <a:lnTo>
                    <a:pt x="15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8" y="356"/>
                  </a:lnTo>
                  <a:lnTo>
                    <a:pt x="14" y="334"/>
                  </a:lnTo>
                  <a:lnTo>
                    <a:pt x="20" y="312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3" y="232"/>
                  </a:lnTo>
                  <a:lnTo>
                    <a:pt x="64" y="212"/>
                  </a:lnTo>
                  <a:lnTo>
                    <a:pt x="77" y="194"/>
                  </a:lnTo>
                  <a:lnTo>
                    <a:pt x="91" y="177"/>
                  </a:lnTo>
                  <a:lnTo>
                    <a:pt x="105" y="159"/>
                  </a:lnTo>
                  <a:lnTo>
                    <a:pt x="120" y="143"/>
                  </a:lnTo>
                  <a:lnTo>
                    <a:pt x="137" y="127"/>
                  </a:lnTo>
                  <a:lnTo>
                    <a:pt x="155" y="111"/>
                  </a:lnTo>
                  <a:lnTo>
                    <a:pt x="172" y="97"/>
                  </a:lnTo>
                  <a:lnTo>
                    <a:pt x="192" y="84"/>
                  </a:lnTo>
                  <a:lnTo>
                    <a:pt x="211" y="71"/>
                  </a:lnTo>
                  <a:lnTo>
                    <a:pt x="231" y="59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4" y="32"/>
                  </a:lnTo>
                  <a:lnTo>
                    <a:pt x="317" y="24"/>
                  </a:lnTo>
                  <a:lnTo>
                    <a:pt x="340" y="18"/>
                  </a:lnTo>
                  <a:lnTo>
                    <a:pt x="365" y="12"/>
                  </a:lnTo>
                  <a:lnTo>
                    <a:pt x="389" y="7"/>
                  </a:lnTo>
                  <a:lnTo>
                    <a:pt x="413" y="4"/>
                  </a:lnTo>
                  <a:lnTo>
                    <a:pt x="439" y="2"/>
                  </a:lnTo>
                  <a:lnTo>
                    <a:pt x="465" y="0"/>
                  </a:lnTo>
                  <a:lnTo>
                    <a:pt x="493" y="0"/>
                  </a:lnTo>
                  <a:lnTo>
                    <a:pt x="509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5" y="3"/>
                  </a:lnTo>
                  <a:lnTo>
                    <a:pt x="591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6" y="11"/>
                  </a:lnTo>
                  <a:lnTo>
                    <a:pt x="652" y="13"/>
                  </a:lnTo>
                  <a:lnTo>
                    <a:pt x="666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2" y="383"/>
                  </a:lnTo>
                  <a:lnTo>
                    <a:pt x="691" y="378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49" y="364"/>
                  </a:lnTo>
                  <a:lnTo>
                    <a:pt x="639" y="360"/>
                  </a:lnTo>
                  <a:lnTo>
                    <a:pt x="629" y="358"/>
                  </a:lnTo>
                  <a:lnTo>
                    <a:pt x="620" y="356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3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5"/>
                  </a:lnTo>
                  <a:lnTo>
                    <a:pt x="513" y="358"/>
                  </a:lnTo>
                  <a:lnTo>
                    <a:pt x="500" y="362"/>
                  </a:lnTo>
                  <a:lnTo>
                    <a:pt x="488" y="368"/>
                  </a:lnTo>
                  <a:lnTo>
                    <a:pt x="477" y="374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7"/>
                  </a:lnTo>
                  <a:lnTo>
                    <a:pt x="443" y="407"/>
                  </a:lnTo>
                  <a:lnTo>
                    <a:pt x="438" y="418"/>
                  </a:lnTo>
                  <a:lnTo>
                    <a:pt x="434" y="428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8" y="466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8" y="506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68" y="551"/>
                  </a:lnTo>
                  <a:lnTo>
                    <a:pt x="478" y="561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2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3"/>
                  </a:lnTo>
                  <a:lnTo>
                    <a:pt x="591" y="660"/>
                  </a:lnTo>
                  <a:lnTo>
                    <a:pt x="598" y="665"/>
                  </a:lnTo>
                  <a:lnTo>
                    <a:pt x="618" y="683"/>
                  </a:lnTo>
                  <a:lnTo>
                    <a:pt x="637" y="703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1" y="788"/>
                  </a:lnTo>
                  <a:lnTo>
                    <a:pt x="715" y="811"/>
                  </a:lnTo>
                  <a:lnTo>
                    <a:pt x="727" y="834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8"/>
                  </a:lnTo>
                  <a:lnTo>
                    <a:pt x="759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0" y="1066"/>
                  </a:lnTo>
                  <a:lnTo>
                    <a:pt x="769" y="1092"/>
                  </a:lnTo>
                  <a:lnTo>
                    <a:pt x="765" y="1118"/>
                  </a:lnTo>
                  <a:lnTo>
                    <a:pt x="761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4" y="1234"/>
                  </a:lnTo>
                  <a:lnTo>
                    <a:pt x="725" y="1256"/>
                  </a:lnTo>
                  <a:lnTo>
                    <a:pt x="714" y="1276"/>
                  </a:lnTo>
                  <a:lnTo>
                    <a:pt x="702" y="1295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49"/>
                  </a:lnTo>
                  <a:lnTo>
                    <a:pt x="643" y="1367"/>
                  </a:lnTo>
                  <a:lnTo>
                    <a:pt x="626" y="1382"/>
                  </a:lnTo>
                  <a:lnTo>
                    <a:pt x="607" y="1397"/>
                  </a:lnTo>
                  <a:lnTo>
                    <a:pt x="587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8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7" y="1483"/>
                  </a:lnTo>
                  <a:lnTo>
                    <a:pt x="400" y="1489"/>
                  </a:lnTo>
                  <a:lnTo>
                    <a:pt x="374" y="1495"/>
                  </a:lnTo>
                  <a:lnTo>
                    <a:pt x="345" y="1499"/>
                  </a:lnTo>
                  <a:lnTo>
                    <a:pt x="316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4" y="1506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2" y="1502"/>
                  </a:lnTo>
                  <a:lnTo>
                    <a:pt x="110" y="1500"/>
                  </a:lnTo>
                  <a:lnTo>
                    <a:pt x="98" y="1499"/>
                  </a:lnTo>
                  <a:lnTo>
                    <a:pt x="86" y="1497"/>
                  </a:lnTo>
                  <a:lnTo>
                    <a:pt x="75" y="1496"/>
                  </a:lnTo>
                  <a:lnTo>
                    <a:pt x="62" y="1494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75320" y="1441440"/>
              <a:ext cx="218880" cy="228600"/>
            </a:xfrm>
            <a:custGeom>
              <a:avLst/>
              <a:gdLst/>
              <a:ahLst/>
              <a:rect l="l" t="t" r="r" b="b"/>
              <a:pathLst>
                <a:path w="693" h="724">
                  <a:moveTo>
                    <a:pt x="346" y="0"/>
                  </a:moveTo>
                  <a:lnTo>
                    <a:pt x="328" y="0"/>
                  </a:lnTo>
                  <a:lnTo>
                    <a:pt x="310" y="2"/>
                  </a:lnTo>
                  <a:lnTo>
                    <a:pt x="293" y="4"/>
                  </a:lnTo>
                  <a:lnTo>
                    <a:pt x="276" y="6"/>
                  </a:lnTo>
                  <a:lnTo>
                    <a:pt x="259" y="10"/>
                  </a:lnTo>
                  <a:lnTo>
                    <a:pt x="242" y="14"/>
                  </a:lnTo>
                  <a:lnTo>
                    <a:pt x="227" y="20"/>
                  </a:lnTo>
                  <a:lnTo>
                    <a:pt x="211" y="26"/>
                  </a:lnTo>
                  <a:lnTo>
                    <a:pt x="195" y="33"/>
                  </a:lnTo>
                  <a:lnTo>
                    <a:pt x="181" y="41"/>
                  </a:lnTo>
                  <a:lnTo>
                    <a:pt x="166" y="49"/>
                  </a:lnTo>
                  <a:lnTo>
                    <a:pt x="153" y="58"/>
                  </a:lnTo>
                  <a:lnTo>
                    <a:pt x="138" y="68"/>
                  </a:lnTo>
                  <a:lnTo>
                    <a:pt x="125" y="80"/>
                  </a:lnTo>
                  <a:lnTo>
                    <a:pt x="112" y="92"/>
                  </a:lnTo>
                  <a:lnTo>
                    <a:pt x="100" y="104"/>
                  </a:lnTo>
                  <a:lnTo>
                    <a:pt x="88" y="117"/>
                  </a:lnTo>
                  <a:lnTo>
                    <a:pt x="76" y="131"/>
                  </a:lnTo>
                  <a:lnTo>
                    <a:pt x="65" y="145"/>
                  </a:lnTo>
                  <a:lnTo>
                    <a:pt x="56" y="159"/>
                  </a:lnTo>
                  <a:lnTo>
                    <a:pt x="47" y="175"/>
                  </a:lnTo>
                  <a:lnTo>
                    <a:pt x="39" y="190"/>
                  </a:lnTo>
                  <a:lnTo>
                    <a:pt x="32" y="205"/>
                  </a:lnTo>
                  <a:lnTo>
                    <a:pt x="25" y="222"/>
                  </a:lnTo>
                  <a:lnTo>
                    <a:pt x="18" y="238"/>
                  </a:lnTo>
                  <a:lnTo>
                    <a:pt x="14" y="254"/>
                  </a:lnTo>
                  <a:lnTo>
                    <a:pt x="9" y="272"/>
                  </a:lnTo>
                  <a:lnTo>
                    <a:pt x="6" y="289"/>
                  </a:lnTo>
                  <a:lnTo>
                    <a:pt x="3" y="306"/>
                  </a:lnTo>
                  <a:lnTo>
                    <a:pt x="1" y="325"/>
                  </a:lnTo>
                  <a:lnTo>
                    <a:pt x="0" y="343"/>
                  </a:lnTo>
                  <a:lnTo>
                    <a:pt x="0" y="362"/>
                  </a:lnTo>
                  <a:lnTo>
                    <a:pt x="0" y="382"/>
                  </a:lnTo>
                  <a:lnTo>
                    <a:pt x="1" y="400"/>
                  </a:lnTo>
                  <a:lnTo>
                    <a:pt x="3" y="419"/>
                  </a:lnTo>
                  <a:lnTo>
                    <a:pt x="6" y="436"/>
                  </a:lnTo>
                  <a:lnTo>
                    <a:pt x="9" y="453"/>
                  </a:lnTo>
                  <a:lnTo>
                    <a:pt x="13" y="471"/>
                  </a:lnTo>
                  <a:lnTo>
                    <a:pt x="18" y="488"/>
                  </a:lnTo>
                  <a:lnTo>
                    <a:pt x="25" y="503"/>
                  </a:lnTo>
                  <a:lnTo>
                    <a:pt x="32" y="520"/>
                  </a:lnTo>
                  <a:lnTo>
                    <a:pt x="39" y="535"/>
                  </a:lnTo>
                  <a:lnTo>
                    <a:pt x="47" y="550"/>
                  </a:lnTo>
                  <a:lnTo>
                    <a:pt x="56" y="564"/>
                  </a:lnTo>
                  <a:lnTo>
                    <a:pt x="65" y="580"/>
                  </a:lnTo>
                  <a:lnTo>
                    <a:pt x="75" y="593"/>
                  </a:lnTo>
                  <a:lnTo>
                    <a:pt x="87" y="606"/>
                  </a:lnTo>
                  <a:lnTo>
                    <a:pt x="99" y="620"/>
                  </a:lnTo>
                  <a:lnTo>
                    <a:pt x="112" y="633"/>
                  </a:lnTo>
                  <a:lnTo>
                    <a:pt x="124" y="644"/>
                  </a:lnTo>
                  <a:lnTo>
                    <a:pt x="137" y="655"/>
                  </a:lnTo>
                  <a:lnTo>
                    <a:pt x="152" y="666"/>
                  </a:lnTo>
                  <a:lnTo>
                    <a:pt x="166" y="675"/>
                  </a:lnTo>
                  <a:lnTo>
                    <a:pt x="180" y="683"/>
                  </a:lnTo>
                  <a:lnTo>
                    <a:pt x="195" y="691"/>
                  </a:lnTo>
                  <a:lnTo>
                    <a:pt x="211" y="698"/>
                  </a:lnTo>
                  <a:lnTo>
                    <a:pt x="226" y="704"/>
                  </a:lnTo>
                  <a:lnTo>
                    <a:pt x="242" y="709"/>
                  </a:lnTo>
                  <a:lnTo>
                    <a:pt x="259" y="713"/>
                  </a:lnTo>
                  <a:lnTo>
                    <a:pt x="275" y="718"/>
                  </a:lnTo>
                  <a:lnTo>
                    <a:pt x="292" y="721"/>
                  </a:lnTo>
                  <a:lnTo>
                    <a:pt x="310" y="723"/>
                  </a:lnTo>
                  <a:lnTo>
                    <a:pt x="328" y="724"/>
                  </a:lnTo>
                  <a:lnTo>
                    <a:pt x="346" y="724"/>
                  </a:lnTo>
                  <a:lnTo>
                    <a:pt x="364" y="724"/>
                  </a:lnTo>
                  <a:lnTo>
                    <a:pt x="383" y="723"/>
                  </a:lnTo>
                  <a:lnTo>
                    <a:pt x="400" y="721"/>
                  </a:lnTo>
                  <a:lnTo>
                    <a:pt x="417" y="718"/>
                  </a:lnTo>
                  <a:lnTo>
                    <a:pt x="434" y="713"/>
                  </a:lnTo>
                  <a:lnTo>
                    <a:pt x="450" y="709"/>
                  </a:lnTo>
                  <a:lnTo>
                    <a:pt x="466" y="704"/>
                  </a:lnTo>
                  <a:lnTo>
                    <a:pt x="481" y="698"/>
                  </a:lnTo>
                  <a:lnTo>
                    <a:pt x="497" y="691"/>
                  </a:lnTo>
                  <a:lnTo>
                    <a:pt x="512" y="683"/>
                  </a:lnTo>
                  <a:lnTo>
                    <a:pt x="526" y="675"/>
                  </a:lnTo>
                  <a:lnTo>
                    <a:pt x="540" y="666"/>
                  </a:lnTo>
                  <a:lnTo>
                    <a:pt x="555" y="655"/>
                  </a:lnTo>
                  <a:lnTo>
                    <a:pt x="568" y="644"/>
                  </a:lnTo>
                  <a:lnTo>
                    <a:pt x="581" y="632"/>
                  </a:lnTo>
                  <a:lnTo>
                    <a:pt x="593" y="620"/>
                  </a:lnTo>
                  <a:lnTo>
                    <a:pt x="606" y="606"/>
                  </a:lnTo>
                  <a:lnTo>
                    <a:pt x="617" y="593"/>
                  </a:lnTo>
                  <a:lnTo>
                    <a:pt x="627" y="579"/>
                  </a:lnTo>
                  <a:lnTo>
                    <a:pt x="637" y="564"/>
                  </a:lnTo>
                  <a:lnTo>
                    <a:pt x="646" y="550"/>
                  </a:lnTo>
                  <a:lnTo>
                    <a:pt x="654" y="535"/>
                  </a:lnTo>
                  <a:lnTo>
                    <a:pt x="662" y="520"/>
                  </a:lnTo>
                  <a:lnTo>
                    <a:pt x="668" y="503"/>
                  </a:lnTo>
                  <a:lnTo>
                    <a:pt x="674" y="487"/>
                  </a:lnTo>
                  <a:lnTo>
                    <a:pt x="679" y="471"/>
                  </a:lnTo>
                  <a:lnTo>
                    <a:pt x="683" y="453"/>
                  </a:lnTo>
                  <a:lnTo>
                    <a:pt x="687" y="436"/>
                  </a:lnTo>
                  <a:lnTo>
                    <a:pt x="689" y="417"/>
                  </a:lnTo>
                  <a:lnTo>
                    <a:pt x="691" y="400"/>
                  </a:lnTo>
                  <a:lnTo>
                    <a:pt x="693" y="381"/>
                  </a:lnTo>
                  <a:lnTo>
                    <a:pt x="693" y="362"/>
                  </a:lnTo>
                  <a:lnTo>
                    <a:pt x="693" y="343"/>
                  </a:lnTo>
                  <a:lnTo>
                    <a:pt x="691" y="325"/>
                  </a:lnTo>
                  <a:lnTo>
                    <a:pt x="689" y="307"/>
                  </a:lnTo>
                  <a:lnTo>
                    <a:pt x="687" y="289"/>
                  </a:lnTo>
                  <a:lnTo>
                    <a:pt x="683" y="272"/>
                  </a:lnTo>
                  <a:lnTo>
                    <a:pt x="679" y="255"/>
                  </a:lnTo>
                  <a:lnTo>
                    <a:pt x="674" y="238"/>
                  </a:lnTo>
                  <a:lnTo>
                    <a:pt x="668" y="222"/>
                  </a:lnTo>
                  <a:lnTo>
                    <a:pt x="662" y="206"/>
                  </a:lnTo>
                  <a:lnTo>
                    <a:pt x="654" y="190"/>
                  </a:lnTo>
                  <a:lnTo>
                    <a:pt x="646" y="176"/>
                  </a:lnTo>
                  <a:lnTo>
                    <a:pt x="637" y="160"/>
                  </a:lnTo>
                  <a:lnTo>
                    <a:pt x="627" y="146"/>
                  </a:lnTo>
                  <a:lnTo>
                    <a:pt x="617" y="132"/>
                  </a:lnTo>
                  <a:lnTo>
                    <a:pt x="606" y="118"/>
                  </a:lnTo>
                  <a:lnTo>
                    <a:pt x="593" y="105"/>
                  </a:lnTo>
                  <a:lnTo>
                    <a:pt x="581" y="92"/>
                  </a:lnTo>
                  <a:lnTo>
                    <a:pt x="568" y="81"/>
                  </a:lnTo>
                  <a:lnTo>
                    <a:pt x="555" y="69"/>
                  </a:lnTo>
                  <a:lnTo>
                    <a:pt x="540" y="59"/>
                  </a:lnTo>
                  <a:lnTo>
                    <a:pt x="526" y="50"/>
                  </a:lnTo>
                  <a:lnTo>
                    <a:pt x="512" y="41"/>
                  </a:lnTo>
                  <a:lnTo>
                    <a:pt x="497" y="34"/>
                  </a:lnTo>
                  <a:lnTo>
                    <a:pt x="481" y="27"/>
                  </a:lnTo>
                  <a:lnTo>
                    <a:pt x="466" y="20"/>
                  </a:lnTo>
                  <a:lnTo>
                    <a:pt x="450" y="14"/>
                  </a:lnTo>
                  <a:lnTo>
                    <a:pt x="434" y="10"/>
                  </a:lnTo>
                  <a:lnTo>
                    <a:pt x="417" y="6"/>
                  </a:lnTo>
                  <a:lnTo>
                    <a:pt x="400" y="4"/>
                  </a:lnTo>
                  <a:lnTo>
                    <a:pt x="383" y="2"/>
                  </a:lnTo>
                  <a:lnTo>
                    <a:pt x="364" y="0"/>
                  </a:lnTo>
                  <a:lnTo>
                    <a:pt x="34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50040" y="1311120"/>
              <a:ext cx="469800" cy="48924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7" y="0"/>
                  </a:moveTo>
                  <a:lnTo>
                    <a:pt x="772" y="1"/>
                  </a:lnTo>
                  <a:lnTo>
                    <a:pt x="806" y="3"/>
                  </a:lnTo>
                  <a:lnTo>
                    <a:pt x="839" y="6"/>
                  </a:lnTo>
                  <a:lnTo>
                    <a:pt x="872" y="11"/>
                  </a:lnTo>
                  <a:lnTo>
                    <a:pt x="905" y="18"/>
                  </a:lnTo>
                  <a:lnTo>
                    <a:pt x="937" y="26"/>
                  </a:lnTo>
                  <a:lnTo>
                    <a:pt x="969" y="36"/>
                  </a:lnTo>
                  <a:lnTo>
                    <a:pt x="1001" y="47"/>
                  </a:lnTo>
                  <a:lnTo>
                    <a:pt x="1031" y="59"/>
                  </a:lnTo>
                  <a:lnTo>
                    <a:pt x="1061" y="72"/>
                  </a:lnTo>
                  <a:lnTo>
                    <a:pt x="1089" y="88"/>
                  </a:lnTo>
                  <a:lnTo>
                    <a:pt x="1117" y="104"/>
                  </a:lnTo>
                  <a:lnTo>
                    <a:pt x="1144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8" y="182"/>
                  </a:lnTo>
                  <a:lnTo>
                    <a:pt x="1234" y="196"/>
                  </a:lnTo>
                  <a:lnTo>
                    <a:pt x="1249" y="211"/>
                  </a:lnTo>
                  <a:lnTo>
                    <a:pt x="1263" y="225"/>
                  </a:lnTo>
                  <a:lnTo>
                    <a:pt x="1277" y="241"/>
                  </a:lnTo>
                  <a:lnTo>
                    <a:pt x="1291" y="257"/>
                  </a:lnTo>
                  <a:lnTo>
                    <a:pt x="1304" y="272"/>
                  </a:lnTo>
                  <a:lnTo>
                    <a:pt x="1317" y="289"/>
                  </a:lnTo>
                  <a:lnTo>
                    <a:pt x="1329" y="305"/>
                  </a:lnTo>
                  <a:lnTo>
                    <a:pt x="1340" y="322"/>
                  </a:lnTo>
                  <a:lnTo>
                    <a:pt x="1352" y="340"/>
                  </a:lnTo>
                  <a:lnTo>
                    <a:pt x="1363" y="357"/>
                  </a:lnTo>
                  <a:lnTo>
                    <a:pt x="1373" y="374"/>
                  </a:lnTo>
                  <a:lnTo>
                    <a:pt x="1383" y="393"/>
                  </a:lnTo>
                  <a:lnTo>
                    <a:pt x="1393" y="410"/>
                  </a:lnTo>
                  <a:lnTo>
                    <a:pt x="1402" y="430"/>
                  </a:lnTo>
                  <a:lnTo>
                    <a:pt x="1411" y="448"/>
                  </a:lnTo>
                  <a:lnTo>
                    <a:pt x="1419" y="467"/>
                  </a:lnTo>
                  <a:lnTo>
                    <a:pt x="1426" y="487"/>
                  </a:lnTo>
                  <a:lnTo>
                    <a:pt x="1433" y="505"/>
                  </a:lnTo>
                  <a:lnTo>
                    <a:pt x="1440" y="525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4"/>
                  </a:lnTo>
                  <a:lnTo>
                    <a:pt x="1461" y="604"/>
                  </a:lnTo>
                  <a:lnTo>
                    <a:pt x="1465" y="624"/>
                  </a:lnTo>
                  <a:lnTo>
                    <a:pt x="1468" y="645"/>
                  </a:lnTo>
                  <a:lnTo>
                    <a:pt x="1471" y="665"/>
                  </a:lnTo>
                  <a:lnTo>
                    <a:pt x="1473" y="686"/>
                  </a:lnTo>
                  <a:lnTo>
                    <a:pt x="1475" y="706"/>
                  </a:lnTo>
                  <a:lnTo>
                    <a:pt x="1476" y="727"/>
                  </a:lnTo>
                  <a:lnTo>
                    <a:pt x="1477" y="748"/>
                  </a:lnTo>
                  <a:lnTo>
                    <a:pt x="1477" y="768"/>
                  </a:lnTo>
                  <a:lnTo>
                    <a:pt x="1477" y="790"/>
                  </a:lnTo>
                  <a:lnTo>
                    <a:pt x="1476" y="810"/>
                  </a:lnTo>
                  <a:lnTo>
                    <a:pt x="1475" y="832"/>
                  </a:lnTo>
                  <a:lnTo>
                    <a:pt x="1473" y="852"/>
                  </a:lnTo>
                  <a:lnTo>
                    <a:pt x="1471" y="872"/>
                  </a:lnTo>
                  <a:lnTo>
                    <a:pt x="1468" y="893"/>
                  </a:lnTo>
                  <a:lnTo>
                    <a:pt x="1465" y="913"/>
                  </a:lnTo>
                  <a:lnTo>
                    <a:pt x="1461" y="934"/>
                  </a:lnTo>
                  <a:lnTo>
                    <a:pt x="1455" y="953"/>
                  </a:lnTo>
                  <a:lnTo>
                    <a:pt x="1450" y="974"/>
                  </a:lnTo>
                  <a:lnTo>
                    <a:pt x="1445" y="993"/>
                  </a:lnTo>
                  <a:lnTo>
                    <a:pt x="1439" y="1012"/>
                  </a:lnTo>
                  <a:lnTo>
                    <a:pt x="1433" y="1032"/>
                  </a:lnTo>
                  <a:lnTo>
                    <a:pt x="1426" y="1052"/>
                  </a:lnTo>
                  <a:lnTo>
                    <a:pt x="1418" y="1070"/>
                  </a:lnTo>
                  <a:lnTo>
                    <a:pt x="1410" y="1090"/>
                  </a:lnTo>
                  <a:lnTo>
                    <a:pt x="1402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3" y="1164"/>
                  </a:lnTo>
                  <a:lnTo>
                    <a:pt x="1362" y="1182"/>
                  </a:lnTo>
                  <a:lnTo>
                    <a:pt x="1352" y="1199"/>
                  </a:lnTo>
                  <a:lnTo>
                    <a:pt x="1340" y="1216"/>
                  </a:lnTo>
                  <a:lnTo>
                    <a:pt x="1328" y="1233"/>
                  </a:lnTo>
                  <a:lnTo>
                    <a:pt x="1316" y="1250"/>
                  </a:lnTo>
                  <a:lnTo>
                    <a:pt x="1304" y="1266"/>
                  </a:lnTo>
                  <a:lnTo>
                    <a:pt x="1291" y="1282"/>
                  </a:lnTo>
                  <a:lnTo>
                    <a:pt x="1276" y="1298"/>
                  </a:lnTo>
                  <a:lnTo>
                    <a:pt x="1263" y="1313"/>
                  </a:lnTo>
                  <a:lnTo>
                    <a:pt x="1249" y="1329"/>
                  </a:lnTo>
                  <a:lnTo>
                    <a:pt x="1234" y="1343"/>
                  </a:lnTo>
                  <a:lnTo>
                    <a:pt x="1218" y="1357"/>
                  </a:lnTo>
                  <a:lnTo>
                    <a:pt x="1194" y="1379"/>
                  </a:lnTo>
                  <a:lnTo>
                    <a:pt x="1168" y="1399"/>
                  </a:lnTo>
                  <a:lnTo>
                    <a:pt x="1143" y="1417"/>
                  </a:lnTo>
                  <a:lnTo>
                    <a:pt x="1116" y="1435"/>
                  </a:lnTo>
                  <a:lnTo>
                    <a:pt x="1088" y="1451"/>
                  </a:lnTo>
                  <a:lnTo>
                    <a:pt x="1059" y="1466"/>
                  </a:lnTo>
                  <a:lnTo>
                    <a:pt x="1029" y="1480"/>
                  </a:lnTo>
                  <a:lnTo>
                    <a:pt x="999" y="1492"/>
                  </a:lnTo>
                  <a:lnTo>
                    <a:pt x="967" y="1503"/>
                  </a:lnTo>
                  <a:lnTo>
                    <a:pt x="935" y="1512"/>
                  </a:lnTo>
                  <a:lnTo>
                    <a:pt x="904" y="1521"/>
                  </a:lnTo>
                  <a:lnTo>
                    <a:pt x="871" y="1528"/>
                  </a:lnTo>
                  <a:lnTo>
                    <a:pt x="839" y="1533"/>
                  </a:lnTo>
                  <a:lnTo>
                    <a:pt x="805" y="1536"/>
                  </a:lnTo>
                  <a:lnTo>
                    <a:pt x="772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70" y="1536"/>
                  </a:lnTo>
                  <a:lnTo>
                    <a:pt x="636" y="1533"/>
                  </a:lnTo>
                  <a:lnTo>
                    <a:pt x="604" y="1528"/>
                  </a:lnTo>
                  <a:lnTo>
                    <a:pt x="571" y="1521"/>
                  </a:lnTo>
                  <a:lnTo>
                    <a:pt x="540" y="1512"/>
                  </a:lnTo>
                  <a:lnTo>
                    <a:pt x="508" y="1503"/>
                  </a:lnTo>
                  <a:lnTo>
                    <a:pt x="478" y="1492"/>
                  </a:lnTo>
                  <a:lnTo>
                    <a:pt x="447" y="1480"/>
                  </a:lnTo>
                  <a:lnTo>
                    <a:pt x="418" y="1466"/>
                  </a:lnTo>
                  <a:lnTo>
                    <a:pt x="389" y="1451"/>
                  </a:lnTo>
                  <a:lnTo>
                    <a:pt x="361" y="1435"/>
                  </a:lnTo>
                  <a:lnTo>
                    <a:pt x="334" y="1417"/>
                  </a:lnTo>
                  <a:lnTo>
                    <a:pt x="308" y="1399"/>
                  </a:lnTo>
                  <a:lnTo>
                    <a:pt x="282" y="1379"/>
                  </a:lnTo>
                  <a:lnTo>
                    <a:pt x="258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3"/>
                  </a:lnTo>
                  <a:lnTo>
                    <a:pt x="200" y="1298"/>
                  </a:lnTo>
                  <a:lnTo>
                    <a:pt x="185" y="1283"/>
                  </a:lnTo>
                  <a:lnTo>
                    <a:pt x="173" y="1266"/>
                  </a:lnTo>
                  <a:lnTo>
                    <a:pt x="160" y="1250"/>
                  </a:lnTo>
                  <a:lnTo>
                    <a:pt x="148" y="1234"/>
                  </a:lnTo>
                  <a:lnTo>
                    <a:pt x="137" y="1217"/>
                  </a:lnTo>
                  <a:lnTo>
                    <a:pt x="125" y="1200"/>
                  </a:lnTo>
                  <a:lnTo>
                    <a:pt x="114" y="1183"/>
                  </a:lnTo>
                  <a:lnTo>
                    <a:pt x="104" y="1165"/>
                  </a:lnTo>
                  <a:lnTo>
                    <a:pt x="94" y="1147"/>
                  </a:lnTo>
                  <a:lnTo>
                    <a:pt x="85" y="1129"/>
                  </a:lnTo>
                  <a:lnTo>
                    <a:pt x="76" y="1110"/>
                  </a:lnTo>
                  <a:lnTo>
                    <a:pt x="67" y="1091"/>
                  </a:lnTo>
                  <a:lnTo>
                    <a:pt x="59" y="1072"/>
                  </a:lnTo>
                  <a:lnTo>
                    <a:pt x="51" y="1052"/>
                  </a:lnTo>
                  <a:lnTo>
                    <a:pt x="44" y="1033"/>
                  </a:lnTo>
                  <a:lnTo>
                    <a:pt x="38" y="1013"/>
                  </a:lnTo>
                  <a:lnTo>
                    <a:pt x="32" y="994"/>
                  </a:lnTo>
                  <a:lnTo>
                    <a:pt x="27" y="975"/>
                  </a:lnTo>
                  <a:lnTo>
                    <a:pt x="22" y="954"/>
                  </a:lnTo>
                  <a:lnTo>
                    <a:pt x="18" y="934"/>
                  </a:lnTo>
                  <a:lnTo>
                    <a:pt x="14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4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1" y="790"/>
                  </a:lnTo>
                  <a:lnTo>
                    <a:pt x="0" y="768"/>
                  </a:lnTo>
                  <a:lnTo>
                    <a:pt x="1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4" y="685"/>
                  </a:lnTo>
                  <a:lnTo>
                    <a:pt x="7" y="664"/>
                  </a:lnTo>
                  <a:lnTo>
                    <a:pt x="9" y="644"/>
                  </a:lnTo>
                  <a:lnTo>
                    <a:pt x="14" y="623"/>
                  </a:lnTo>
                  <a:lnTo>
                    <a:pt x="18" y="603"/>
                  </a:lnTo>
                  <a:lnTo>
                    <a:pt x="22" y="584"/>
                  </a:lnTo>
                  <a:lnTo>
                    <a:pt x="27" y="563"/>
                  </a:lnTo>
                  <a:lnTo>
                    <a:pt x="32" y="544"/>
                  </a:lnTo>
                  <a:lnTo>
                    <a:pt x="38" y="524"/>
                  </a:lnTo>
                  <a:lnTo>
                    <a:pt x="44" y="505"/>
                  </a:lnTo>
                  <a:lnTo>
                    <a:pt x="51" y="486"/>
                  </a:lnTo>
                  <a:lnTo>
                    <a:pt x="59" y="466"/>
                  </a:lnTo>
                  <a:lnTo>
                    <a:pt x="67" y="447"/>
                  </a:lnTo>
                  <a:lnTo>
                    <a:pt x="76" y="429"/>
                  </a:lnTo>
                  <a:lnTo>
                    <a:pt x="85" y="409"/>
                  </a:lnTo>
                  <a:lnTo>
                    <a:pt x="94" y="392"/>
                  </a:lnTo>
                  <a:lnTo>
                    <a:pt x="104" y="373"/>
                  </a:lnTo>
                  <a:lnTo>
                    <a:pt x="114" y="356"/>
                  </a:lnTo>
                  <a:lnTo>
                    <a:pt x="124" y="339"/>
                  </a:lnTo>
                  <a:lnTo>
                    <a:pt x="136" y="321"/>
                  </a:lnTo>
                  <a:lnTo>
                    <a:pt x="148" y="305"/>
                  </a:lnTo>
                  <a:lnTo>
                    <a:pt x="160" y="289"/>
                  </a:lnTo>
                  <a:lnTo>
                    <a:pt x="172" y="272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3" y="225"/>
                  </a:lnTo>
                  <a:lnTo>
                    <a:pt x="227" y="210"/>
                  </a:lnTo>
                  <a:lnTo>
                    <a:pt x="242" y="196"/>
                  </a:lnTo>
                  <a:lnTo>
                    <a:pt x="258" y="182"/>
                  </a:lnTo>
                  <a:lnTo>
                    <a:pt x="282" y="160"/>
                  </a:lnTo>
                  <a:lnTo>
                    <a:pt x="308" y="140"/>
                  </a:lnTo>
                  <a:lnTo>
                    <a:pt x="334" y="120"/>
                  </a:lnTo>
                  <a:lnTo>
                    <a:pt x="361" y="103"/>
                  </a:lnTo>
                  <a:lnTo>
                    <a:pt x="389" y="87"/>
                  </a:lnTo>
                  <a:lnTo>
                    <a:pt x="418" y="72"/>
                  </a:lnTo>
                  <a:lnTo>
                    <a:pt x="447" y="58"/>
                  </a:lnTo>
                  <a:lnTo>
                    <a:pt x="478" y="46"/>
                  </a:lnTo>
                  <a:lnTo>
                    <a:pt x="508" y="36"/>
                  </a:lnTo>
                  <a:lnTo>
                    <a:pt x="540" y="25"/>
                  </a:lnTo>
                  <a:lnTo>
                    <a:pt x="571" y="18"/>
                  </a:lnTo>
                  <a:lnTo>
                    <a:pt x="604" y="11"/>
                  </a:lnTo>
                  <a:lnTo>
                    <a:pt x="636" y="6"/>
                  </a:lnTo>
                  <a:lnTo>
                    <a:pt x="670" y="3"/>
                  </a:lnTo>
                  <a:lnTo>
                    <a:pt x="703" y="1"/>
                  </a:lnTo>
                  <a:lnTo>
                    <a:pt x="73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77080" y="1324080"/>
              <a:ext cx="342720" cy="463320"/>
            </a:xfrm>
            <a:custGeom>
              <a:avLst/>
              <a:gdLst/>
              <a:ahLst/>
              <a:rect l="l" t="t" r="r" b="b"/>
              <a:pathLst>
                <a:path w="1084" h="1461">
                  <a:moveTo>
                    <a:pt x="0" y="1461"/>
                  </a:moveTo>
                  <a:lnTo>
                    <a:pt x="0" y="0"/>
                  </a:lnTo>
                  <a:lnTo>
                    <a:pt x="165" y="0"/>
                  </a:lnTo>
                  <a:lnTo>
                    <a:pt x="707" y="640"/>
                  </a:lnTo>
                  <a:lnTo>
                    <a:pt x="707" y="0"/>
                  </a:lnTo>
                  <a:lnTo>
                    <a:pt x="1084" y="0"/>
                  </a:lnTo>
                  <a:lnTo>
                    <a:pt x="1084" y="1461"/>
                  </a:lnTo>
                  <a:lnTo>
                    <a:pt x="913" y="1461"/>
                  </a:lnTo>
                  <a:lnTo>
                    <a:pt x="376" y="827"/>
                  </a:lnTo>
                  <a:lnTo>
                    <a:pt x="376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653560" y="2286000"/>
            <a:ext cx="3100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1: Awake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16480" y="2914560"/>
            <a:ext cx="330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2: Denial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59240" y="3544920"/>
            <a:ext cx="4066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3: Aggress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79400" y="4175280"/>
            <a:ext cx="4158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4: Negotiat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56360" y="4805280"/>
            <a:ext cx="4078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5: Depress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02800" y="5435640"/>
            <a:ext cx="4091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6: Acceptance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57:14Z</dcterms:modified>
  <cp:revision>172</cp:revision>
  <dc:subject/>
  <dc:title>No Slide Title</dc:title>
</cp:coreProperties>
</file>