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EA9-5577-4849-894C-951BC5E2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488-A752-4724-B852-8E18F200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15A4-F83E-4993-9DBC-31805410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74D3-42E4-4184-9190-87F31CB7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6175-E722-479C-9D8A-66A943D6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829-372D-4321-A6EE-22A15F1A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FC84-0A4D-47A4-ACBF-2775CE6E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B37-4C08-4300-B796-BB74CC87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DD32-6EBE-4E5A-A359-BC2DEB96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DFE-7E67-42A6-B7BD-811AE234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5C6-F62F-4026-ACE9-6EFB5085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D24-A900-4D65-A9BC-4283515C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4B47-AC97-4E04-80F0-997741E49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373720"/>
          <a:ext cx="1054080" cy="12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73720"/>
                    <a:ext cx="10540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523880" y="3276720"/>
            <a:ext cx="65534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uggestions f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urch Involv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39000" y="665280"/>
            <a:ext cx="81784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700" spc="-1" strike="noStrike">
                <a:solidFill>
                  <a:srgbClr val="902444"/>
                </a:solidFill>
                <a:latin typeface="Geometr231 Hv BT"/>
              </a:rPr>
              <a:t>CHURCH INVOLVEMENT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133720"/>
            <a:ext cx="61722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1. Preven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2. Education /Train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3. Care-Giv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74520" y="4584600"/>
            <a:ext cx="659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28200" y="5494320"/>
            <a:ext cx="165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38:10Z</dcterms:modified>
  <cp:revision>263</cp:revision>
  <dc:subject/>
  <dc:title>No Slide Title</dc:title>
</cp:coreProperties>
</file>